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6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FF46-57CC-407B-8D37-B43DF2DF9B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75CC-8ABF-48A9-9BBA-BC2BAD0BA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F038-A767-4542-B203-723989164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5D1-78C8-4151-81AB-8A7BC8931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F07-011A-47EF-990D-13A1D0B7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FC5-1179-49BA-919D-671EFF4C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2EA-56A2-411F-879B-ABFF3B22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BA5-A4F1-4C8B-89EA-475D2222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4D8C-C2E5-45EF-B325-878DFF3A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7BF6-CF5A-42CE-BA49-0ED9148A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BF61-5CAA-4E6F-9837-4DF997C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751D-B946-41DA-8DFF-735A19DF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64FA-E346-4740-B21D-E5B5B2D8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5712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AD5D-5622-42AB-ACAC-B0E8BC91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109A-AC77-4496-B9A9-64F05C1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338-C383-460F-A9C4-6319F7E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9FD2-F2A8-4DFA-AB1A-13C16207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55F-D983-40C1-982F-06D9FDE9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02A4-7565-4ECD-A6FA-ABE9FF6C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F9A-833D-40DA-B1C3-D8E30107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B34E-6197-4AFF-B918-78938368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6E1C-2A4E-4531-B4A9-1FB48C6D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A276-1673-4DC1-9CCB-DAD414B3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4E84-020E-462C-8D4C-E5098588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65F0-2810-4C5F-89BF-E7DB6769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C114-35B3-4C8A-AD18-46A4B7F8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4DB-49C8-49F9-98F3-9E789517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5712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660E-DC24-4F46-B5CC-18901B08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0C18-1422-45C7-9406-8C61065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3714-B86D-49C8-8B2E-A7EA4EB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D3F1-1747-4C51-8C74-20AD1874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5DB0-8ACE-45EF-84CA-4D83427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E182-12E5-4D34-A4C0-66F11EED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9B79-1B56-4A34-94DE-08853108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06D-939A-4457-9155-8656DFAA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807-AE0C-4213-88B6-7E7BEEBE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712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B43-6E63-4025-970E-92E6B668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8CE-2B8A-4C64-AC93-B526215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C3A-086B-4748-B076-7C96CD45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A54-D59B-49F2-A738-529BAFD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2560" y="6428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-12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14440" y="64209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914-3466-4236-8379-A6A23B8D47A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9360" y="-9360"/>
            <a:ext cx="1096920" cy="304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"/>
          <p:cNvPicPr/>
          <p:nvPr/>
        </p:nvPicPr>
        <p:blipFill>
          <a:blip r:embed="rId3"/>
          <a:stretch/>
        </p:blipFill>
        <p:spPr>
          <a:xfrm>
            <a:off x="6143760" y="0"/>
            <a:ext cx="1609560" cy="3477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" descr=""/>
          <p:cNvPicPr/>
          <p:nvPr/>
        </p:nvPicPr>
        <p:blipFill>
          <a:blip r:embed="rId4"/>
          <a:stretch/>
        </p:blipFill>
        <p:spPr>
          <a:xfrm>
            <a:off x="1000080" y="6550200"/>
            <a:ext cx="3505320" cy="3171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5"/>
          <a:stretch/>
        </p:blipFill>
        <p:spPr>
          <a:xfrm>
            <a:off x="1046160" y="-11160"/>
            <a:ext cx="355140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-9360" y="-9360"/>
            <a:ext cx="109692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143760" y="0"/>
            <a:ext cx="1609560" cy="3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1000080" y="6550200"/>
            <a:ext cx="3505320" cy="31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5"/>
          <a:stretch/>
        </p:blipFill>
        <p:spPr>
          <a:xfrm>
            <a:off x="1046160" y="-11160"/>
            <a:ext cx="3551400" cy="3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6"/>
          <a:stretch/>
        </p:blipFill>
        <p:spPr>
          <a:xfrm>
            <a:off x="-19080" y="-9360"/>
            <a:ext cx="46641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4568760" y="-9360"/>
            <a:ext cx="4584600" cy="87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8"/>
          <a:stretch/>
        </p:blipFill>
        <p:spPr>
          <a:xfrm>
            <a:off x="4786200" y="0"/>
            <a:ext cx="4127760" cy="865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42560" y="6428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-12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214440" y="64209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BD5A-4CC5-4D14-ACB5-E6E6B92679C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-9360" y="-9360"/>
            <a:ext cx="109692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143760" y="0"/>
            <a:ext cx="1609560" cy="34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1000080" y="6550200"/>
            <a:ext cx="3505320" cy="31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5"/>
          <a:stretch/>
        </p:blipFill>
        <p:spPr>
          <a:xfrm>
            <a:off x="1046160" y="-11160"/>
            <a:ext cx="3551400" cy="30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6"/>
          <a:stretch/>
        </p:blipFill>
        <p:spPr>
          <a:xfrm>
            <a:off x="-6480" y="-648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2560" y="6428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-12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214440" y="64209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8A87-5BC0-40E4-B891-9B84EFFCADD0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DPharmacology@akf.umcn.n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harmacokinetic considerations in special patient populations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ging, ARVs, HCV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31640" y="472392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vid Burger, PharmD, P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fessor of Clinical Pharm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adboud University Nijmegen Medical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3d168b"/>
                </a:solidFill>
                <a:uFillTx/>
                <a:latin typeface="Arial"/>
                <a:hlinkClick r:id="rId1"/>
              </a:rPr>
              <a:t>IDPharmacology@akf.umcn.n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kstvak 3"/>
          <p:cNvSpPr/>
          <p:nvPr/>
        </p:nvSpPr>
        <p:spPr>
          <a:xfrm>
            <a:off x="2939400" y="357336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Jan 16-18, 2013, Bangkok,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Afbeelding 4" descr="16th-Bangkok-International-Symposium.png"/>
          <p:cNvPicPr/>
          <p:nvPr/>
        </p:nvPicPr>
        <p:blipFill>
          <a:blip r:embed="rId2"/>
          <a:stretch/>
        </p:blipFill>
        <p:spPr>
          <a:xfrm>
            <a:off x="324000" y="2421000"/>
            <a:ext cx="24127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kstvak 2"/>
          <p:cNvSpPr/>
          <p:nvPr/>
        </p:nvSpPr>
        <p:spPr>
          <a:xfrm>
            <a:off x="6419520" y="6308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zolini et al. JAC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12008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1501920" y="3213000"/>
            <a:ext cx="73911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2"/>
          <p:cNvSpPr/>
          <p:nvPr/>
        </p:nvSpPr>
        <p:spPr>
          <a:xfrm>
            <a:off x="6419520" y="6308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zolini et al. JAC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103400" y="981000"/>
            <a:ext cx="66373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kstvak 2"/>
          <p:cNvSpPr/>
          <p:nvPr/>
        </p:nvSpPr>
        <p:spPr>
          <a:xfrm>
            <a:off x="6419520" y="6308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zolini et al. JAC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403280" y="539640"/>
            <a:ext cx="6327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wly diagnosed HIV+ patient presents with non-Hodgkin lymph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eatment of NHL: CHOP (cyclophosphamide, doxorubicin, vincristin, predni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V doctor wants to start ARVs one week after start of C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Question 2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hich ARV regimen to choos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DV/3TC, N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3TC, N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3TC, ATV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FTC, 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Question 2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hich ARV regimen to choos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DV/3TC, NVP: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ZDV: bone marrow suppression; NVP: increases elimination of C, O,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3TC, NVP: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NVP: increases elimination of C, O,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3TC, ATV/r: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NVP: reduces elimination of C, O,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FTC, RAL: </a:t>
            </a:r>
            <a:r>
              <a:rPr b="0" lang="nl-NL" sz="2400" spc="-1" strike="noStrike">
                <a:solidFill>
                  <a:srgbClr val="00b050"/>
                </a:solidFill>
                <a:latin typeface="Arial"/>
              </a:rPr>
              <a:t>no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92240" y="1484280"/>
            <a:ext cx="84754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8820000" cy="308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867280" y="6308640"/>
            <a:ext cx="2524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Question 3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hich ARV regimen to choose if RAL is not availab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3TC, N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3TC, NVP; don’t administer NVP on days of C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3TC, ATV/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FTC, ATV/r; don’t administer ATV/r on days of C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ent with HIV/HCV co-infection, geno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 Acting Antivirals for HCV (telaprevir, boceprevir) are added to Peg-IFN + ribav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e 3a: DAA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e 3b: Patient is willing to pay/travel to 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e 1: an HIV-1 infected patient of 65-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e 2: An HIV-infected patient with a malign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e 3: an HIV/HCV co-infected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3a: HCV treatment = Peg IFN + RBV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hich ARVs should not be combined with RBV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3a: HCV treatment = Peg IFN + RBV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hich ARVs should not be combined with RBV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DV: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bone marrow su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TC: </a:t>
            </a:r>
            <a:r>
              <a:rPr b="0" lang="nl-NL" sz="2400" spc="-1" strike="noStrike">
                <a:solidFill>
                  <a:srgbClr val="00b050"/>
                </a:solidFill>
                <a:latin typeface="Arial"/>
              </a:rPr>
              <a:t>no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4T: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ctic acidosis (potentially fa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DI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: lactic acidosis (potentially fa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3b: HCV treatment = Peg IFN, RBV, telaprev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1052640"/>
          <a:ext cx="7559640" cy="5303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747800"/>
                <a:gridCol w="1963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V dr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42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 on ARV A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42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 on TVR A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42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us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42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428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V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Heeswijk et al. CROI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uda et 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 PK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uda et 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 PK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V/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Heeswijk et al. CROI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V/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Heeswijk et al. CROI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V/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Heeswijk et al. CROI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V/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Heeswijk et al. CROI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Heeswijk et al. ICAAC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 Heeswijk et al. ICAAC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9"/>
                    </a:solidFill>
                  </a:tcPr>
                </a:tc>
              </a:tr>
            </a:tbl>
          </a:graphicData>
        </a:graphic>
      </p:graphicFrame>
      <p:sp>
        <p:nvSpPr>
          <p:cNvPr id="225" name="Tekstvak 5"/>
          <p:cNvSpPr/>
          <p:nvPr/>
        </p:nvSpPr>
        <p:spPr>
          <a:xfrm>
            <a:off x="4858920" y="655020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*TVR dose 1125mg q8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clusions (4 A’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ways check co-m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ways ask for medication prescribed by other physicians or bought at drug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ways consider alternatives over adding new agents to treat advers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ways make complete overview of co-medications in patient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5-yr, ♂, medication list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elodipin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Ca-entry block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ldenafi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iag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rvast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bapen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oxe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DF/FTC, ATV/r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Question 1: </a:t>
            </a:r>
            <a:br>
              <a:rPr sz="24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hich of the following drugs does not cause a drug intera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bapen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rvast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ldena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elo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Question 1: </a:t>
            </a:r>
            <a:br>
              <a:rPr sz="24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hich of the following drugs does not cause a drug intera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b050"/>
                </a:solidFill>
                <a:latin typeface="Arial"/>
              </a:rPr>
              <a:t>Gabapen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Atorvast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Sildena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e3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Felo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4"/>
          <p:cNvSpPr/>
          <p:nvPr/>
        </p:nvSpPr>
        <p:spPr>
          <a:xfrm>
            <a:off x="1357200" y="274680"/>
            <a:ext cx="7391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 distribution of HIV patients in care in the Netherlands (1986-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7" descr=""/>
          <p:cNvPicPr/>
          <p:nvPr/>
        </p:nvPicPr>
        <p:blipFill>
          <a:blip r:embed="rId1"/>
          <a:stretch/>
        </p:blipFill>
        <p:spPr>
          <a:xfrm>
            <a:off x="977760" y="1270080"/>
            <a:ext cx="7697880" cy="5124240"/>
          </a:xfrm>
          <a:prstGeom prst="rect">
            <a:avLst/>
          </a:prstGeom>
          <a:ln w="0">
            <a:noFill/>
          </a:ln>
        </p:spPr>
      </p:pic>
      <p:sp>
        <p:nvSpPr>
          <p:cNvPr id="160" name="Tekstvak 1"/>
          <p:cNvSpPr/>
          <p:nvPr/>
        </p:nvSpPr>
        <p:spPr>
          <a:xfrm>
            <a:off x="1346760" y="6507000"/>
            <a:ext cx="24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Slide courtesy Luuk G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6" descr="logo_shm"/>
          <p:cNvPicPr/>
          <p:nvPr/>
        </p:nvPicPr>
        <p:blipFill>
          <a:blip r:embed="rId2"/>
          <a:stretch/>
        </p:blipFill>
        <p:spPr>
          <a:xfrm>
            <a:off x="8502480" y="5638680"/>
            <a:ext cx="641520" cy="762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090916schetsPP14"/>
          <p:cNvPicPr/>
          <p:nvPr/>
        </p:nvPicPr>
        <p:blipFill>
          <a:blip r:embed="rId3"/>
          <a:stretch/>
        </p:blipFill>
        <p:spPr>
          <a:xfrm>
            <a:off x="0" y="0"/>
            <a:ext cx="114156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41160" y="75960"/>
            <a:ext cx="72831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n the setting of HIV infection these co-morbidities seem to be more common even after adjusting for age and other known tradition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the ageing process be accelerated in H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8"/>
          <p:cNvSpPr/>
          <p:nvPr/>
        </p:nvSpPr>
        <p:spPr>
          <a:xfrm>
            <a:off x="455760" y="1600200"/>
            <a:ext cx="71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Aft>
                <a:spcPts val="901"/>
              </a:spcAft>
              <a:buClr>
                <a:srgbClr val="9098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2581200" y="3049560"/>
            <a:ext cx="4213440" cy="2678040"/>
          </a:xfrm>
          <a:custGeom>
            <a:avLst/>
            <a:gdLst>
              <a:gd name="textAreaLeft" fmla="*/ 0 w 4213440"/>
              <a:gd name="textAreaRight" fmla="*/ 4213800 w 4213440"/>
              <a:gd name="textAreaTop" fmla="*/ 0 h 2678040"/>
              <a:gd name="textAreaBottom" fmla="*/ 2678400 h 2678040"/>
            </a:gdLst>
            <a:ahLst/>
            <a:rect l="textAreaLeft" t="textAreaTop" r="textAreaRight" b="textAreaBottom"/>
            <a:pathLst>
              <a:path w="2448" h="1687">
                <a:moveTo>
                  <a:pt x="0" y="1680"/>
                </a:moveTo>
                <a:cubicBezTo>
                  <a:pt x="252" y="1683"/>
                  <a:pt x="504" y="1687"/>
                  <a:pt x="672" y="1680"/>
                </a:cubicBezTo>
                <a:cubicBezTo>
                  <a:pt x="839" y="1672"/>
                  <a:pt x="864" y="1679"/>
                  <a:pt x="1008" y="1632"/>
                </a:cubicBezTo>
                <a:cubicBezTo>
                  <a:pt x="1151" y="1584"/>
                  <a:pt x="1384" y="1487"/>
                  <a:pt x="1536" y="1392"/>
                </a:cubicBezTo>
                <a:cubicBezTo>
                  <a:pt x="1687" y="1296"/>
                  <a:pt x="1808" y="1199"/>
                  <a:pt x="1920" y="1056"/>
                </a:cubicBezTo>
                <a:cubicBezTo>
                  <a:pt x="2031" y="912"/>
                  <a:pt x="2120" y="704"/>
                  <a:pt x="2208" y="528"/>
                </a:cubicBezTo>
                <a:cubicBezTo>
                  <a:pt x="2296" y="352"/>
                  <a:pt x="2372" y="176"/>
                  <a:pt x="244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2529000" y="2666880"/>
            <a:ext cx="0" cy="304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041280" y="5715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 rot="16200000">
            <a:off x="1072800" y="38782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4483080" y="319896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3419640" y="3049560"/>
            <a:ext cx="4555800" cy="2678040"/>
          </a:xfrm>
          <a:custGeom>
            <a:avLst/>
            <a:gdLst>
              <a:gd name="textAreaLeft" fmla="*/ 0 w 4555800"/>
              <a:gd name="textAreaRight" fmla="*/ 4556160 w 4555800"/>
              <a:gd name="textAreaTop" fmla="*/ 0 h 2678040"/>
              <a:gd name="textAreaBottom" fmla="*/ 2678400 h 2678040"/>
            </a:gdLst>
            <a:ahLst/>
            <a:rect l="textAreaLeft" t="textAreaTop" r="textAreaRight" b="textAreaBottom"/>
            <a:pathLst>
              <a:path w="2448" h="1687">
                <a:moveTo>
                  <a:pt x="0" y="1680"/>
                </a:moveTo>
                <a:cubicBezTo>
                  <a:pt x="252" y="1683"/>
                  <a:pt x="504" y="1687"/>
                  <a:pt x="672" y="1680"/>
                </a:cubicBezTo>
                <a:cubicBezTo>
                  <a:pt x="839" y="1672"/>
                  <a:pt x="864" y="1679"/>
                  <a:pt x="1008" y="1632"/>
                </a:cubicBezTo>
                <a:cubicBezTo>
                  <a:pt x="1151" y="1584"/>
                  <a:pt x="1384" y="1487"/>
                  <a:pt x="1536" y="1392"/>
                </a:cubicBezTo>
                <a:cubicBezTo>
                  <a:pt x="1687" y="1296"/>
                  <a:pt x="1808" y="1199"/>
                  <a:pt x="1920" y="1056"/>
                </a:cubicBezTo>
                <a:cubicBezTo>
                  <a:pt x="2031" y="912"/>
                  <a:pt x="2120" y="704"/>
                  <a:pt x="2208" y="528"/>
                </a:cubicBezTo>
                <a:cubicBezTo>
                  <a:pt x="2296" y="352"/>
                  <a:pt x="2372" y="176"/>
                  <a:pt x="244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5499000" y="322416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36"/>
          <p:cNvSpPr/>
          <p:nvPr/>
        </p:nvSpPr>
        <p:spPr>
          <a:xfrm>
            <a:off x="5335560" y="573876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285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37"/>
          <p:cNvSpPr/>
          <p:nvPr/>
        </p:nvSpPr>
        <p:spPr>
          <a:xfrm>
            <a:off x="4332240" y="573876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285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38"/>
          <p:cNvSpPr/>
          <p:nvPr/>
        </p:nvSpPr>
        <p:spPr>
          <a:xfrm>
            <a:off x="4005360" y="2827440"/>
            <a:ext cx="637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285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IV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39"/>
          <p:cNvSpPr/>
          <p:nvPr/>
        </p:nvSpPr>
        <p:spPr>
          <a:xfrm>
            <a:off x="5155200" y="2814480"/>
            <a:ext cx="586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285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V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2530440" y="573876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090916schetsPP19"/>
          <p:cNvPicPr/>
          <p:nvPr/>
        </p:nvPicPr>
        <p:blipFill>
          <a:blip r:embed="rId1"/>
          <a:stretch/>
        </p:blipFill>
        <p:spPr>
          <a:xfrm>
            <a:off x="0" y="0"/>
            <a:ext cx="114156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oronary-atherosclerosis"/>
          <p:cNvPicPr/>
          <p:nvPr/>
        </p:nvPicPr>
        <p:blipFill>
          <a:blip r:embed="rId1"/>
          <a:stretch/>
        </p:blipFill>
        <p:spPr>
          <a:xfrm>
            <a:off x="73080" y="2668680"/>
            <a:ext cx="2411280" cy="1839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LIVERcir"/>
          <p:cNvPicPr/>
          <p:nvPr/>
        </p:nvPicPr>
        <p:blipFill>
          <a:blip r:embed="rId2"/>
          <a:stretch/>
        </p:blipFill>
        <p:spPr>
          <a:xfrm>
            <a:off x="71280" y="4724280"/>
            <a:ext cx="2556000" cy="1725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case58-3"/>
          <p:cNvPicPr/>
          <p:nvPr/>
        </p:nvPicPr>
        <p:blipFill>
          <a:blip r:embed="rId3"/>
          <a:stretch/>
        </p:blipFill>
        <p:spPr>
          <a:xfrm>
            <a:off x="6647040" y="216000"/>
            <a:ext cx="2376360" cy="2133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osteoporosis"/>
          <p:cNvPicPr/>
          <p:nvPr/>
        </p:nvPicPr>
        <p:blipFill>
          <a:blip r:embed="rId4"/>
          <a:stretch/>
        </p:blipFill>
        <p:spPr>
          <a:xfrm>
            <a:off x="5508720" y="189000"/>
            <a:ext cx="1353960" cy="21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mages-2"/>
          <p:cNvPicPr/>
          <p:nvPr/>
        </p:nvPicPr>
        <p:blipFill>
          <a:blip r:embed="rId5"/>
          <a:stretch/>
        </p:blipFill>
        <p:spPr>
          <a:xfrm>
            <a:off x="2881440" y="216000"/>
            <a:ext cx="2411280" cy="2133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10_AC0244_04B"/>
          <p:cNvPicPr/>
          <p:nvPr/>
        </p:nvPicPr>
        <p:blipFill>
          <a:blip r:embed="rId6"/>
          <a:stretch/>
        </p:blipFill>
        <p:spPr>
          <a:xfrm>
            <a:off x="73080" y="249120"/>
            <a:ext cx="2411280" cy="2171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trepanationimage"/>
          <p:cNvPicPr/>
          <p:nvPr/>
        </p:nvPicPr>
        <p:blipFill>
          <a:blip r:embed="rId7"/>
          <a:stretch/>
        </p:blipFill>
        <p:spPr>
          <a:xfrm>
            <a:off x="5724360" y="2492280"/>
            <a:ext cx="3203640" cy="2343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elderly_59328"/>
          <p:cNvPicPr/>
          <p:nvPr/>
        </p:nvPicPr>
        <p:blipFill>
          <a:blip r:embed="rId8"/>
          <a:stretch/>
        </p:blipFill>
        <p:spPr>
          <a:xfrm>
            <a:off x="2916360" y="2492280"/>
            <a:ext cx="2377800" cy="2378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picture1315"/>
          <p:cNvPicPr/>
          <p:nvPr/>
        </p:nvPicPr>
        <p:blipFill>
          <a:blip r:embed="rId9"/>
          <a:stretch/>
        </p:blipFill>
        <p:spPr>
          <a:xfrm>
            <a:off x="5724360" y="4941720"/>
            <a:ext cx="2632320" cy="1792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images"/>
          <p:cNvPicPr/>
          <p:nvPr/>
        </p:nvPicPr>
        <p:blipFill>
          <a:blip r:embed="rId10"/>
          <a:stretch/>
        </p:blipFill>
        <p:spPr>
          <a:xfrm>
            <a:off x="3276720" y="4941720"/>
            <a:ext cx="2447640" cy="1802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3"/>
          <p:cNvSpPr/>
          <p:nvPr/>
        </p:nvSpPr>
        <p:spPr>
          <a:xfrm>
            <a:off x="0" y="640080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 liver dis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6035760" y="435600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nitive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873520" y="2239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Aids can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5636880" y="6404040"/>
            <a:ext cx="28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 renal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214760" y="1700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897840" y="18795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969280" y="44593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i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500520" y="24559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141120" y="404028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82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10:40:18Z</dcterms:created>
  <dc:creator>z147100</dc:creator>
  <dc:description/>
  <dc:language>en-US</dc:language>
  <cp:lastModifiedBy>z147100</cp:lastModifiedBy>
  <dcterms:modified xsi:type="dcterms:W3CDTF">2013-01-02T09:59:46Z</dcterms:modified>
  <cp:revision>18</cp:revision>
  <dc:subject/>
  <dc:title>Pharmacokinetics/pharmacogenomics: Is it time for personalized medicine?</dc:title>
</cp:coreProperties>
</file>