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48E-7983-4933-A565-1CAA6271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AC7-40A5-4714-B8AA-82C4361B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952-F2F3-4EE2-B480-C6DF548E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FF9-FC87-494E-87C7-AF78B1C6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840-ACD8-4791-85FB-C6A9670F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4A42-EBD8-4899-9E9B-1241D3C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4917-E44F-4746-90EA-3547151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847-92C3-45B2-84D5-E63C022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9859-FA33-43A2-A4B2-1C52EE77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E64-C76F-4E61-8EF2-8D4B090D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B9C-5852-408F-9F48-FCFA121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FB2-9ADE-4DB6-8C38-494EC22E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B450-D347-46DD-8213-AAA5C48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932E-5E76-49C6-B596-961BE38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53E2-7720-4A42-91E4-2FB77A2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411-1AB9-43C8-BD86-0356475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478F-C2F0-4804-9CAA-C0042377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BB43-4D72-4F92-9922-2CF2AB23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F0A6-A0E5-4CCB-9306-3CE5B87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4666-91FC-4A38-AE8F-255DA22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296C-A4A1-4AC9-B4CF-CF6BEC2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265B-C48C-4CA8-BFC1-2563C739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4CB-6A43-4FEB-B881-BDAFAD3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BD59-D3EA-4033-BDD2-C3F4DD6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D35A-72A2-4F69-BDC2-93C0CD4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F5DF-1191-45D1-B258-8A08AFF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84C3-863E-4827-A79B-4BB7635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5285-E3F6-4963-A131-0199B357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873D-66CC-453A-95ED-74BB16B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216F-5E18-489A-B98E-B7A5212F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088-1F22-47B1-8601-F1247385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367-CE95-440C-95DD-22E734B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712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A0D-9FD5-443A-8B7C-1F673A49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09-0000-456B-92C7-080DCA9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CF5-3277-45DE-8175-D85FAB2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B17-7CD5-4DF1-8781-02B5D14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89C1-20D0-43CD-B65D-584D09BC8ED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6"/>
          <a:stretch/>
        </p:blipFill>
        <p:spPr>
          <a:xfrm>
            <a:off x="-19080" y="-9360"/>
            <a:ext cx="46641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4568760" y="-9360"/>
            <a:ext cx="4584600" cy="87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8"/>
          <a:stretch/>
        </p:blipFill>
        <p:spPr>
          <a:xfrm>
            <a:off x="4786200" y="0"/>
            <a:ext cx="412776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38FC-649B-4CAE-836E-40E7F88146C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-9360" y="-9360"/>
            <a:ext cx="1096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143760" y="0"/>
            <a:ext cx="1609560" cy="3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1000080" y="6550200"/>
            <a:ext cx="3505320" cy="31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1046160" y="-11160"/>
            <a:ext cx="3551400" cy="30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6"/>
          <a:stretch/>
        </p:blipFill>
        <p:spPr>
          <a:xfrm>
            <a:off x="-6480" y="-648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2560" y="6428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-12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214440" y="64209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E33-3D62-4525-8A90-ED3A9D31AFC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DPharmacology@akf.umcn.n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dical_mode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harmacokinetics/pharmacogenomics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s it time for personalized medicin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vid Burger, PharmD, P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fessor of Clinical Pharm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adboud University Nijmegen Medical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3d168b"/>
                </a:solidFill>
                <a:uFillTx/>
                <a:latin typeface="Arial"/>
                <a:hlinkClick r:id="rId1"/>
              </a:rPr>
              <a:t>IDPharmacology@akf.umcn.n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kstvak 3"/>
          <p:cNvSpPr/>
          <p:nvPr/>
        </p:nvSpPr>
        <p:spPr>
          <a:xfrm>
            <a:off x="2939400" y="357336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Jan 16-18, 2013,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Afbeelding 4" descr="16th-Bangkok-International-Symposium.png"/>
          <p:cNvPicPr/>
          <p:nvPr/>
        </p:nvPicPr>
        <p:blipFill>
          <a:blip r:embed="rId2"/>
          <a:stretch/>
        </p:blipFill>
        <p:spPr>
          <a:xfrm>
            <a:off x="324000" y="2421000"/>
            <a:ext cx="2412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771640" y="642960"/>
            <a:ext cx="3095640" cy="479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5508720" y="6453360"/>
            <a:ext cx="3381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508720" y="6453360"/>
            <a:ext cx="3381120" cy="20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56000" y="857160"/>
            <a:ext cx="3483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5508720" y="6453360"/>
            <a:ext cx="3381120" cy="20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46450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5508720" y="6453360"/>
            <a:ext cx="3381120" cy="2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-4680" y="1844640"/>
            <a:ext cx="8945640" cy="3097080"/>
          </a:xfrm>
          <a:prstGeom prst="rect">
            <a:avLst/>
          </a:prstGeom>
          <a:ln w="0">
            <a:noFill/>
          </a:ln>
        </p:spPr>
      </p:pic>
      <p:sp>
        <p:nvSpPr>
          <p:cNvPr id="177" name="Rechthoek 5"/>
          <p:cNvSpPr/>
          <p:nvPr/>
        </p:nvSpPr>
        <p:spPr>
          <a:xfrm>
            <a:off x="1332000" y="4437000"/>
            <a:ext cx="2952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1: Patient K. (♀, 45 year, 48k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s treatment with rilpivirine (new NNRTI; better tolerated than EF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er 2 weeks: complains about headache, dizziness, ECG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lpivirine intox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DM of rilpivir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ek 2" descr=""/>
          <p:cNvPicPr/>
          <p:nvPr/>
        </p:nvPicPr>
        <p:blipFill>
          <a:blip r:embed="rId1"/>
          <a:stretch/>
        </p:blipFill>
        <p:spPr>
          <a:xfrm>
            <a:off x="822240" y="1139760"/>
            <a:ext cx="7284960" cy="5389560"/>
          </a:xfrm>
          <a:prstGeom prst="rect">
            <a:avLst/>
          </a:prstGeom>
          <a:ln w="0">
            <a:noFill/>
          </a:ln>
        </p:spPr>
      </p:pic>
      <p:cxnSp>
        <p:nvCxnSpPr>
          <p:cNvPr id="182" name="Rechte verbindingslijn met pijl 4"/>
          <p:cNvCxnSpPr/>
          <p:nvPr/>
        </p:nvCxnSpPr>
        <p:spPr>
          <a:xfrm flipH="1">
            <a:off x="7450920" y="3357720"/>
            <a:ext cx="505800" cy="288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83" name="Tekstvak 7"/>
          <p:cNvSpPr/>
          <p:nvPr/>
        </p:nvSpPr>
        <p:spPr>
          <a:xfrm>
            <a:off x="7888320" y="3141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t.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DM of rilpivir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Grafiek 2" descr=""/>
          <p:cNvPicPr/>
          <p:nvPr/>
        </p:nvPicPr>
        <p:blipFill>
          <a:blip r:embed="rId1"/>
          <a:stretch/>
        </p:blipFill>
        <p:spPr>
          <a:xfrm>
            <a:off x="822240" y="1139760"/>
            <a:ext cx="7284960" cy="5389560"/>
          </a:xfrm>
          <a:prstGeom prst="rect">
            <a:avLst/>
          </a:prstGeom>
          <a:ln w="0">
            <a:noFill/>
          </a:ln>
        </p:spPr>
      </p:pic>
      <p:cxnSp>
        <p:nvCxnSpPr>
          <p:cNvPr id="186" name="Rechte verbindingslijn met pijl 4"/>
          <p:cNvCxnSpPr/>
          <p:nvPr/>
        </p:nvCxnSpPr>
        <p:spPr>
          <a:xfrm flipH="1">
            <a:off x="7450920" y="3357720"/>
            <a:ext cx="505800" cy="288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87" name="Tekstvak 7"/>
          <p:cNvSpPr/>
          <p:nvPr/>
        </p:nvSpPr>
        <p:spPr>
          <a:xfrm>
            <a:off x="7888320" y="3141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t.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Rechte verbindingslijn met pijl 5"/>
          <p:cNvCxnSpPr/>
          <p:nvPr/>
        </p:nvCxnSpPr>
        <p:spPr>
          <a:xfrm flipH="1">
            <a:off x="6659280" y="3213000"/>
            <a:ext cx="505440" cy="288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89" name="Tekstvak 6"/>
          <p:cNvSpPr/>
          <p:nvPr/>
        </p:nvSpPr>
        <p:spPr>
          <a:xfrm>
            <a:off x="7096320" y="2924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t.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ase 2: TB/HIV co-inf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6-year, ♂, from West-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B treatment contains rifampin: strong enzyme inducer of CY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virenz is a first-line ARV &amp; CY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450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at is the right dose of efavirenz?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normally: 600mg Q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tient weighs 50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fampin reduces efavirenz levels by 22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e3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avirenz levels often higher in non-Caucasian patient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urger et al. Br J Clin Pharmacol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724040" y="747720"/>
            <a:ext cx="5369040" cy="1889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6804000" y="6381720"/>
            <a:ext cx="2019240" cy="285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619280" y="3500280"/>
            <a:ext cx="6278400" cy="2237040"/>
          </a:xfrm>
          <a:prstGeom prst="rect">
            <a:avLst/>
          </a:prstGeom>
          <a:ln w="0">
            <a:noFill/>
          </a:ln>
        </p:spPr>
      </p:pic>
      <p:sp>
        <p:nvSpPr>
          <p:cNvPr id="195" name="Rechte verbindingslijn 7"/>
          <p:cNvSpPr/>
          <p:nvPr/>
        </p:nvSpPr>
        <p:spPr>
          <a:xfrm>
            <a:off x="1908000" y="4724280"/>
            <a:ext cx="453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506592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4"/>
          <p:cNvSpPr/>
          <p:nvPr/>
        </p:nvSpPr>
        <p:spPr>
          <a:xfrm>
            <a:off x="6179400" y="630864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uin et al. AIDS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18728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ent could not tolerate standard dose EFV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6732720" y="29242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172 T&gt;A mutant in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YP2B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177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nalized medicine: a hot top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ot anymor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nalized medicine in HIV treatment: pharmaco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nalized medicine in HIV treatment: pharmaco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tient C: 55-year old ♂ with HIV and COP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V regimen: TDF/FTC + DRV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PD treatment: Symbicort (budesonide 2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 + formoterol 6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ug-drug interaction: DRV/rtv inhibits budesonide metabolism, potentially leading to Cushing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4600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nalized medicine = Individualized HIV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agnostic marker: information to be known prior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 of ARV treatment after star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TDM, drug interactions, adverse even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rastructure (genetic testing, TDM) available at centralized hospitals + 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e3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nalized medicine: a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539640" y="234936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400" spc="-1" strike="noStrike" u="sng">
                <a:solidFill>
                  <a:srgbClr val="3d168b"/>
                </a:solidFill>
                <a:uFillTx/>
                <a:latin typeface="Arial"/>
                <a:hlinkClick r:id="rId1"/>
              </a:rPr>
              <a:t>medical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proposes the customization of healthcare, with decisions and practices being tailored to the individual patient by use of genetic or other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6235200" y="6381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e verbindingslijn 5"/>
          <p:cNvSpPr/>
          <p:nvPr/>
        </p:nvSpPr>
        <p:spPr>
          <a:xfrm>
            <a:off x="3635280" y="3500280"/>
            <a:ext cx="432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majority of drugs does not work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40360" cy="4381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003640" y="6453360"/>
            <a:ext cx="3886200" cy="290520"/>
          </a:xfrm>
          <a:prstGeom prst="rect">
            <a:avLst/>
          </a:prstGeom>
          <a:ln w="0">
            <a:noFill/>
          </a:ln>
        </p:spPr>
      </p:pic>
      <p:cxnSp>
        <p:nvCxnSpPr>
          <p:cNvPr id="152" name="Rechte verbindingslijn met pijl 7"/>
          <p:cNvCxnSpPr/>
          <p:nvPr/>
        </p:nvCxnSpPr>
        <p:spPr>
          <a:xfrm>
            <a:off x="1476360" y="494136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3" name="Rechthoek 8"/>
          <p:cNvSpPr/>
          <p:nvPr/>
        </p:nvSpPr>
        <p:spPr>
          <a:xfrm>
            <a:off x="5219640" y="4797360"/>
            <a:ext cx="2890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nalized medicine in oncology (diagnosti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58656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572000" y="6308640"/>
            <a:ext cx="4400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77440" cy="2579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3995640" y="6093000"/>
            <a:ext cx="48960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nalized HIV medicine: a more positive view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572000" y="6381720"/>
            <a:ext cx="2124000" cy="24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4572000" y="6629400"/>
            <a:ext cx="4095720" cy="228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nalized HIV medicine: a more positive view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09800" y="1995480"/>
            <a:ext cx="7124400" cy="28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7020000" y="6453360"/>
            <a:ext cx="212400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nalized HIV medicine: a more positive view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315200" cy="5064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5508720" y="6453360"/>
            <a:ext cx="3381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10:40:18Z</dcterms:created>
  <dc:creator>z147100</dc:creator>
  <dc:description/>
  <dc:language>en-US</dc:language>
  <cp:lastModifiedBy>z147100</cp:lastModifiedBy>
  <dcterms:modified xsi:type="dcterms:W3CDTF">2013-01-02T07:18:09Z</dcterms:modified>
  <cp:revision>11</cp:revision>
  <dc:subject/>
  <dc:title>Pharmacokinetics/pharmacogenomics: Is it time for personalized medicine?</dc:title>
</cp:coreProperties>
</file>