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E85C-02D1-4C68-ABD4-521DEFC4CB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8406-77E3-4AFB-BA83-102C1BD04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6987-E20F-426D-B74F-483F9343C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Kirby_TitlePage_PowerPoint.jpg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96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KirbyInstitute_Logo_UNSWCompostite_FullCol.jpg"/>
          <p:cNvPicPr/>
          <p:nvPr/>
        </p:nvPicPr>
        <p:blipFill>
          <a:blip r:embed="rId2"/>
          <a:stretch/>
        </p:blipFill>
        <p:spPr>
          <a:xfrm>
            <a:off x="4876920" y="5675400"/>
            <a:ext cx="4114800" cy="110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6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KirbyInstitute_Logo_UNSWCompostite_FullCol.jpg"/>
          <p:cNvPicPr/>
          <p:nvPr/>
        </p:nvPicPr>
        <p:blipFill>
          <a:blip r:embed="rId2"/>
          <a:stretch/>
        </p:blipFill>
        <p:spPr>
          <a:xfrm>
            <a:off x="6683400" y="152280"/>
            <a:ext cx="2266920" cy="6098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6"/>
          <p:cNvSpPr/>
          <p:nvPr/>
        </p:nvSpPr>
        <p:spPr>
          <a:xfrm>
            <a:off x="762120" y="153504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KirbyInstitute_Logo_UNSWCompostite_FullCol.jpg"/>
          <p:cNvPicPr/>
          <p:nvPr/>
        </p:nvPicPr>
        <p:blipFill>
          <a:blip r:embed="rId2"/>
          <a:stretch/>
        </p:blipFill>
        <p:spPr>
          <a:xfrm>
            <a:off x="6683400" y="152280"/>
            <a:ext cx="226692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6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KirbyInstitute_Logo_UNSWCompostite_FullCol.jpg"/>
          <p:cNvPicPr/>
          <p:nvPr/>
        </p:nvPicPr>
        <p:blipFill>
          <a:blip r:embed="rId2"/>
          <a:stretch/>
        </p:blipFill>
        <p:spPr>
          <a:xfrm>
            <a:off x="6683400" y="152280"/>
            <a:ext cx="226692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6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KirbyInstitute_Logo_UNSWCompostite_FullCol.jpg"/>
          <p:cNvPicPr/>
          <p:nvPr/>
        </p:nvPicPr>
        <p:blipFill>
          <a:blip r:embed="rId2"/>
          <a:stretch/>
        </p:blipFill>
        <p:spPr>
          <a:xfrm>
            <a:off x="6683400" y="152280"/>
            <a:ext cx="226692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6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KirbyInstitute_Logo_UNSWCompostite_FullCol.jpg"/>
          <p:cNvPicPr/>
          <p:nvPr/>
        </p:nvPicPr>
        <p:blipFill>
          <a:blip r:embed="rId2"/>
          <a:stretch/>
        </p:blipFill>
        <p:spPr>
          <a:xfrm>
            <a:off x="6683400" y="152280"/>
            <a:ext cx="226692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ftr" idx="1"/>
          </p:nvPr>
        </p:nvSpPr>
        <p:spPr>
          <a:xfrm>
            <a:off x="6171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16765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YOUNG M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19051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1077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se 1: Young M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62120" y="1752480"/>
            <a:ext cx="777240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ed pt by SMS on several occa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d to “drop in” when convenient with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oint of cont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worker who speaks fluent Spa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ers can be problematical, as seen as  possibly declaring status to the minority ethnic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engagement of pati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ually introduce nurse educ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referred  to  support group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terested in eng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ed plasticity in appointmen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appts require Doctor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se 1: Young M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440" y="19051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ars compliant with PCP prophylaxis (Bactrim) supplied free of charge by cli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4 count stable at 200-250 CD4+ cells/µ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s to start AR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want to pay for dru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ried about where to store medications at home (shared accommod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ried about friends finding out about him being gay and being HIV+ve, remains isolated, however has disclosed to parents in Pe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s wel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difficultly  believing that he needs thera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completely trustful of advice from “old m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1077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se 1: Young M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762120" y="18399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61760" y="2601720"/>
            <a:ext cx="800100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iting start of clinical trial for therapy naï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CD4 count every 6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ing ≈ every second app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sured that no authorities will be tol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ointments organised around education course an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: remains engaged and under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: still not on ART despite CD4 T cell count &lt;&lt; 350cells/µ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2120" y="1077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se 2: Young MSM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KR:  aged 19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762120" y="1676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ay 20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761760" y="2057400"/>
            <a:ext cx="800100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s  to Emergency dept of teaching hospital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wk history of fevers, drenching night sweats, weight loss, dry cough of increasing frequency and seve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-10 day hx of  right iliac fossa pain, crampy, intermittent +/- reb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diagnosed: 2009, CD4 count: 520 cells/µ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ed from current gay 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x: &lt; 3months TDV/FTC/EFV stopped due to dizziness, headaches, mental clo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ustralia for 7 yrs, from Bangladesh, English g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ed to Bangladesh for death of father 4 yrs ag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ed to Australia in 2009 seeking gender reassignment  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2120" y="1077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se 2: Young M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762120" y="18399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62120" y="2601720"/>
            <a:ext cx="777240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x of depression and suicidal ideation since age 7y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ittent periods of anx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ittent engagement with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sychiatr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gender couns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residency in 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 120Km from clinic, has clinics closer to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2120" y="1077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se 2: Young MS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62120" y="1752480"/>
            <a:ext cx="777240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 with partner, older man, abusive relationshi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aunties in 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unemployment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queen, sells 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ICE to keep weight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ies IV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ims to be having safe sex only, not interested in starting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/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ebr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er RIF, some guar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uinal and submandibular lymphadenopa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1077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se 2: Young M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762120" y="1600200"/>
            <a:ext cx="777240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4 count: 342 cells/µ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VL 312,000 copies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inal Ultrasound: lymphadenopathy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differential diagnosi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Appendic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non-Hodgkins lymph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P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Pulmonary/extrapulmonary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lymphoid hyperpl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onl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4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)  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 2, 4,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2120" y="1077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se 2: Young M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62120" y="1828800"/>
            <a:ext cx="777240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tted for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ed sputum: PCP -ve, AFB-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feron: -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STI screen and work up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l and throat PCR +ve  for Chlamydia, Gono –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philis serology VDRL+, TPPA+, FTA-ABS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pB s ab and C ab: +ve, Sag: -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pC ab: -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V: IgG+ve, Toxo: IgG –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NA submandibular n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10+ polyclonal B cells c/w reactive hyperpl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B, fungi:  -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2120" y="1077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se 2: Young M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62120" y="1904760"/>
            <a:ext cx="777240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inal pain settles without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arrange laparot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arrange Drug and Alcohol and Psychiatric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arrange Lumbar Pun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start 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treat Chlamydia and Syphilis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onl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2, 3 and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and 5 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)  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 4,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1077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se 2: Young M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1676160"/>
            <a:ext cx="777240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 morose, withdrawn, unwilling to engage with HIV medical or nursing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engages with Drug and Alcohol team, and agrees to speak to psychiat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ar Puncture organ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F Syphilis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ology negative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F HIV viral load 16,900 copies/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sed CSF: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globu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x: Syphillis  and chlamy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s to give up 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s to go to Bangladesh for undisclosed family reas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not consider ART until after return from Banglad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1077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se 1: Mr M.C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ged 1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ign, health services student from Peru, very poor English, arrived in Australia Octo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x HIV +ve shortly after arriving in Australia: Dec 2011, by low case load GP doing sexual health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+ve for Chlamydia trachoma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 exposure with HIV+ve man in Peru in Octo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+ve western blo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4+ T cell cou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25 cells/µ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al lo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4,000 copies/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1077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se 2: Young M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762120" y="18399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62120" y="2601720"/>
            <a:ext cx="777240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inal pain settled in hospital, no fe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har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phili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eated with 1.8 g IMI x 3 weeks benzyl penicillin and is compliant with vi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mydia treated with azithromy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red to Outpatient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sychiatr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will not engage with HIV specific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ppointment  for HIV outpatient service on return from Banglade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1077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se 2: young M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762120" y="1981080"/>
            <a:ext cx="777240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es outpatient appoin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ed by SMS with new appoin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ust 2012: Returns to cli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regarding ART because of previous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4 coun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6 cells/µ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al loa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9,000 copies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stopped taking Ice, still selling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d with D and A, not with Psychiatric servic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not discuss gender reassignmen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62120" y="1077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se 2: young M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762120" y="18399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62120" y="260172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arrange for follow-up closer to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demand he has a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re-commence education regarding 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attempt to increase engagement with Gay and lesbian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follow CD4 T cell count and viral load care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and 2 onl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5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)  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and 5 on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2120" y="1077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se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62120" y="18399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ctober 201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762120" y="2286000"/>
            <a:ext cx="777240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to cli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d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ud he has stopped taking 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s in education  re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s to commence 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ced on Tenofovir, FTC, Rilpivirine, (Eviplera) late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 November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4 count 434 cells/µl, viral load 580 copies/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 he is compli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ars eng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ssues with young M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762120" y="1839960"/>
            <a:ext cx="777240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ority of minorities: young Gay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very iso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om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ity: Fore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financial resources, often no health in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ustful of engagement that might result in disclosure especially within ethnic  communities, interpreters often mistr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support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teady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eak outlook for establishing relationship because of HIV positivit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poor self esteem, made worse by diagnosis of STIs and H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2120" y="1077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ssues with young M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762120" y="1992240"/>
            <a:ext cx="777240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poor knowledge base regarding H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trust or understand or want to engage with health car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 difficult to estab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ointments clash with life style, work, education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trustful of advice from “old’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mistrustful of “counsel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1077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pproach to young M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762120" y="1676160"/>
            <a:ext cx="777240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tle encour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obtrusive contact eg: 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ual engagem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tle caj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e point person to engage, not 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appoin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individuals to break guidelines to maintain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tim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 Rx is often too much too s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2120" y="1077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nagagement and establishing trusting relation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762120" y="18399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ost importa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62120" y="2601720"/>
            <a:ext cx="777240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pite these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 of new presentations are Lost to Long term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tions for health care of 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tions for control of inf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tions for test and t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1077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se 1: young M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762120" y="1904760"/>
            <a:ext cx="777240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ry visa, not covered by Universal 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Insurance only covers acute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ies IVDU, other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ish very poor: Native tongue Spa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as Dishwasher, earns $700AUD/w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 in shared accommo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y but not out, No one knows HIV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of HIV difficult to gauge, appears 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 sexual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symptoms are lethargy and occasional night sw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1077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se 1:  young M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62120" y="1676160"/>
            <a:ext cx="777240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amydia infection treated with azithromy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t CD4 count 205 Cells /µl viral load 50,000 copies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GP What would would you have don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refer to specialist cli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advise patient he must start 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organise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organise edu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explore options for ART, start PCP prophyl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2 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all of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5 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) 1, 3,4  and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1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1077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se 1: Young M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762120" y="2057400"/>
            <a:ext cx="777240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mmediate referral, Chlamydia treated, no education re H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red for TSST for  as part of qualification for health services course, no comment on HIV status in refer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mm, consistent with previous BCG, CXR 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d he must have Measles/Mumps/rubella vaccine as part of the qualification for health services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2012 GP refers Pt to Specialist immunologist for opinion re live vac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1077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t Specialist clin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762120" y="2133360"/>
            <a:ext cx="777240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poor englis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work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4+ T cell count: 250Cells/µ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al load 32,000 copies/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VIgG+, Toxo IgG-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pBsAb + HepBcAb -v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p C Ab -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phillis serology –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no and Chlamydia PCR -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 genotype: fully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2120" y="1077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se 1: Young M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62120" y="18399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762120" y="2601720"/>
            <a:ext cx="777240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do as the special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get an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refer back to GP with letter saying he shouldn’t have live vacc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refer to social wor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start ART without further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start PCP prophylaxis and education re HIV and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2 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all of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4 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) 1, 2, 3,  and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1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1077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se 1: Young MSM, Specialist clin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09480" y="1676160"/>
            <a:ext cx="777240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ed interpreter, who was also social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ral to support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ced education of p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PCP prophyl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d 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d options for paying for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ed for clinical trial: ineligible for all current naive trials, (X4 using virus) (CD4 count: 2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d options for charitable provision of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therapy not provided by any charitable organisation ( fully commit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d personal importation of ART via inter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does not want to/refuses pay for drugs  himself (approx $130/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2120" y="1077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se 1: Young M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762120" y="1981080"/>
            <a:ext cx="777240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es several booked appointments at cl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Ignore pat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Tell patient  ART is non negot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Engage patient in negotiation and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Tell immigration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 Maintain contact with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2 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all of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5 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) 3  and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1 and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1T22:44:30Z</dcterms:created>
  <dc:creator>Fon Charernsook</dc:creator>
  <dc:description/>
  <dc:language>en-US</dc:language>
  <cp:lastModifiedBy>Tony Kelleher</cp:lastModifiedBy>
  <dcterms:modified xsi:type="dcterms:W3CDTF">2013-01-01T00:43:58Z</dcterms:modified>
  <cp:revision>208</cp:revision>
  <dc:subject/>
  <dc:title>PowerPoint Presentation</dc:title>
</cp:coreProperties>
</file>