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4.jpeg" ContentType="image/jpeg"/>
  <Override PartName="/ppt/media/image25.jpeg" ContentType="image/jpeg"/>
  <Override PartName="/ppt/media/image3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26.png" ContentType="image/png"/>
  <Override PartName="/ppt/media/image17.jpeg" ContentType="image/jpeg"/>
  <Override PartName="/ppt/media/image14.png" ContentType="image/png"/>
  <Override PartName="/ppt/media/image15.jpeg" ContentType="image/jpeg"/>
  <Override PartName="/ppt/media/image5.png" ContentType="image/png"/>
  <Override PartName="/ppt/media/image10.png" ContentType="image/pn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F58FA-7855-45F6-9DAD-57133C033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CE08E-FEBB-4FFD-9508-160AA62BD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836E1-B336-43E3-B4BE-71457E9D8EE3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4D1BE-F7B7-446E-9149-0E4AA59E1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29412-86A0-4EF4-9DA5-087EA2A7AC06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Espace réservé du numéro de diapositiv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D8917-36CC-4371-B77D-B570E7C2633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2D786-A6B9-4193-8DB7-E1173EC4CB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822960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47D30-5355-4419-ABD8-11040C2C6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401580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6280"/>
            <a:ext cx="401580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9CEFA-65A6-4F8A-A7DF-D395BFCE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264960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6280"/>
            <a:ext cx="264960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6280"/>
            <a:ext cx="264960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FF104-944E-48EB-BA82-E533EF3F04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6280"/>
            <a:ext cx="8229600" cy="47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26E50-758B-4479-906D-680A74F10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822960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00746-F342-40C7-BA99-26055E3D5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401580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6280"/>
            <a:ext cx="401580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3D03E-D040-472E-81CA-1F98970E6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4163E-B434-45FA-9693-1795847D0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7600"/>
            <a:ext cx="82296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F9C40-5D24-4EF6-AD73-80719B39F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401580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6280"/>
            <a:ext cx="401580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8C33C-E2D2-446B-848F-007CB3CB9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401580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6280"/>
            <a:ext cx="401580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AF194-2970-4453-BAD8-75F733198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401580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6280"/>
            <a:ext cx="401580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D1B3F-3517-4581-9A14-8C7178AA2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HeaderRed"/>
          <p:cNvPicPr/>
          <p:nvPr/>
        </p:nvPicPr>
        <p:blipFill>
          <a:blip r:embed="rId2"/>
          <a:stretch/>
        </p:blipFill>
        <p:spPr>
          <a:xfrm>
            <a:off x="0" y="0"/>
            <a:ext cx="9175680" cy="127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376280"/>
            <a:ext cx="822960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2027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1939D-876D-41B6-8F2C-7DBD250696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8.jpe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1" descr="CoverPageBlankRed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2130480"/>
            <a:ext cx="7772400" cy="327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AU" sz="4000" spc="-1" strike="noStrike">
                <a:solidFill>
                  <a:srgbClr val="ffffff"/>
                </a:solidFill>
                <a:latin typeface="Arial"/>
              </a:rPr>
              <a:t>Sharon R Lewin</a:t>
            </a:r>
            <a:br>
              <a:rPr sz="4000"/>
            </a:b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Director, Infectious Disease Unit,  Alfred Hospital</a:t>
            </a:r>
            <a:br>
              <a:rPr sz="2400"/>
            </a:b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Professor, Department of Medicine, Monash University</a:t>
            </a:r>
            <a:br>
              <a:rPr sz="2400"/>
            </a:b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Co-head, Centre for Virology, Burnet Institute, Melbourne, Australia</a:t>
            </a:r>
            <a:br>
              <a:rPr sz="2400"/>
            </a:br>
            <a:br>
              <a:rPr sz="2400"/>
            </a:b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16</a:t>
            </a:r>
            <a:r>
              <a:rPr b="0" lang="en-AU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Bangkok International Symposium on HIV Medicine, Bangkok, January 2013</a:t>
            </a:r>
            <a:br>
              <a:rPr sz="2400"/>
            </a:br>
            <a:br>
              <a:rPr sz="36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Box 1"/>
          <p:cNvSpPr/>
          <p:nvPr/>
        </p:nvSpPr>
        <p:spPr>
          <a:xfrm>
            <a:off x="365760" y="1014480"/>
            <a:ext cx="8692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6000" spc="-1" strike="noStrike">
                <a:solidFill>
                  <a:srgbClr val="ffffff"/>
                </a:solidFill>
                <a:latin typeface="Arial"/>
              </a:rPr>
              <a:t>HIV Cure: fact or fi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4" descr="ChapterPageTemplateRed"/>
          <p:cNvPicPr/>
          <p:nvPr/>
        </p:nvPicPr>
        <p:blipFill>
          <a:blip r:embed="rId1"/>
          <a:stretch/>
        </p:blipFill>
        <p:spPr>
          <a:xfrm>
            <a:off x="-31680" y="0"/>
            <a:ext cx="9175680" cy="687240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AU" sz="4800" spc="-1" strike="noStrike">
                <a:solidFill>
                  <a:srgbClr val="ffffff"/>
                </a:solidFill>
                <a:latin typeface="Arial"/>
              </a:rPr>
              <a:t>what are the major </a:t>
            </a:r>
            <a:r>
              <a:rPr b="1" lang="en-AU" sz="7200" spc="-1" strike="noStrike">
                <a:solidFill>
                  <a:srgbClr val="ffffff"/>
                </a:solidFill>
                <a:latin typeface="Arial"/>
              </a:rPr>
              <a:t>barriers</a:t>
            </a:r>
            <a:r>
              <a:rPr b="1" lang="en-AU" sz="4800" spc="-1" strike="noStrike">
                <a:solidFill>
                  <a:srgbClr val="ffffff"/>
                </a:solidFill>
                <a:latin typeface="Arial"/>
              </a:rPr>
              <a:t> to cure?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29"/>
          <p:cNvSpPr/>
          <p:nvPr/>
        </p:nvSpPr>
        <p:spPr>
          <a:xfrm>
            <a:off x="1547640" y="1668600"/>
            <a:ext cx="4550040" cy="4020840"/>
          </a:xfrm>
          <a:prstGeom prst="rect">
            <a:avLst/>
          </a:prstGeom>
          <a:solidFill>
            <a:srgbClr val="f56c1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traight Connector 47"/>
          <p:cNvSpPr/>
          <p:nvPr/>
        </p:nvSpPr>
        <p:spPr>
          <a:xfrm>
            <a:off x="1204920" y="4581360"/>
            <a:ext cx="6680160" cy="0"/>
          </a:xfrm>
          <a:prstGeom prst="line">
            <a:avLst/>
          </a:prstGeom>
          <a:ln w="19080">
            <a:solidFill>
              <a:srgbClr val="f417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"/>
          <p:cNvSpPr/>
          <p:nvPr/>
        </p:nvSpPr>
        <p:spPr>
          <a:xfrm rot="16200000">
            <a:off x="-235080" y="347832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41700"/>
                </a:solidFill>
                <a:latin typeface="Arial"/>
              </a:rPr>
              <a:t>HIV 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1235160" y="1384200"/>
            <a:ext cx="0" cy="432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20"/>
          <p:cNvSpPr/>
          <p:nvPr/>
        </p:nvSpPr>
        <p:spPr>
          <a:xfrm>
            <a:off x="768960" y="43974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417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26"/>
          <p:cNvSpPr/>
          <p:nvPr/>
        </p:nvSpPr>
        <p:spPr>
          <a:xfrm>
            <a:off x="1258920" y="1989000"/>
            <a:ext cx="288720" cy="0"/>
          </a:xfrm>
          <a:prstGeom prst="line">
            <a:avLst/>
          </a:prstGeom>
          <a:ln w="38160">
            <a:solidFill>
              <a:srgbClr val="a700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Virus persists in all patients on cAR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3236040" y="587700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Years on c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7"/>
          <p:cNvSpPr/>
          <p:nvPr/>
        </p:nvSpPr>
        <p:spPr>
          <a:xfrm flipH="1">
            <a:off x="1528920" y="568800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1368360" y="5767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traight Connector 45"/>
          <p:cNvSpPr/>
          <p:nvPr/>
        </p:nvSpPr>
        <p:spPr>
          <a:xfrm flipV="1">
            <a:off x="1235160" y="5684760"/>
            <a:ext cx="6602400" cy="2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7"/>
          <p:cNvSpPr/>
          <p:nvPr/>
        </p:nvSpPr>
        <p:spPr>
          <a:xfrm flipH="1">
            <a:off x="1978200" y="568944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0"/>
          <p:cNvSpPr/>
          <p:nvPr/>
        </p:nvSpPr>
        <p:spPr>
          <a:xfrm>
            <a:off x="1801800" y="5769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49"/>
          <p:cNvGrpSpPr/>
          <p:nvPr/>
        </p:nvGrpSpPr>
        <p:grpSpPr>
          <a:xfrm>
            <a:off x="2268000" y="5624640"/>
            <a:ext cx="252360" cy="144360"/>
            <a:chOff x="2268000" y="5624640"/>
            <a:chExt cx="252360" cy="144360"/>
          </a:xfrm>
        </p:grpSpPr>
        <p:sp>
          <p:nvSpPr>
            <p:cNvPr id="342" name="Line 50"/>
            <p:cNvSpPr/>
            <p:nvPr/>
          </p:nvSpPr>
          <p:spPr>
            <a:xfrm flipH="1">
              <a:off x="2268000" y="5624640"/>
              <a:ext cx="176760" cy="14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51"/>
            <p:cNvSpPr/>
            <p:nvPr/>
          </p:nvSpPr>
          <p:spPr>
            <a:xfrm flipH="1">
              <a:off x="2343600" y="5624640"/>
              <a:ext cx="176760" cy="14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19"/>
          <p:cNvGrpSpPr/>
          <p:nvPr/>
        </p:nvGrpSpPr>
        <p:grpSpPr>
          <a:xfrm>
            <a:off x="1511280" y="1988640"/>
            <a:ext cx="4549680" cy="2592720"/>
            <a:chOff x="1511280" y="1988640"/>
            <a:chExt cx="4549680" cy="2592720"/>
          </a:xfrm>
        </p:grpSpPr>
        <p:sp>
          <p:nvSpPr>
            <p:cNvPr id="345" name="Line 31"/>
            <p:cNvSpPr/>
            <p:nvPr/>
          </p:nvSpPr>
          <p:spPr>
            <a:xfrm>
              <a:off x="1979640" y="4581360"/>
              <a:ext cx="4081320" cy="0"/>
            </a:xfrm>
            <a:prstGeom prst="line">
              <a:avLst/>
            </a:prstGeom>
            <a:ln w="38160">
              <a:solidFill>
                <a:srgbClr val="f417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37"/>
            <p:cNvSpPr/>
            <p:nvPr/>
          </p:nvSpPr>
          <p:spPr>
            <a:xfrm rot="16200000">
              <a:off x="439560" y="3060000"/>
              <a:ext cx="2592360" cy="449280"/>
            </a:xfrm>
            <a:custGeom>
              <a:avLst/>
              <a:gdLst>
                <a:gd name="textAreaLeft" fmla="*/ 0 w 2592360"/>
                <a:gd name="textAreaRight" fmla="*/ 2592720 w 259236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4739784" h="2320312">
                  <a:moveTo>
                    <a:pt x="0" y="2320312"/>
                  </a:moveTo>
                  <a:cubicBezTo>
                    <a:pt x="290967" y="2053621"/>
                    <a:pt x="1233779" y="698241"/>
                    <a:pt x="1998889" y="348343"/>
                  </a:cubicBezTo>
                  <a:cubicBezTo>
                    <a:pt x="2763999" y="0"/>
                    <a:pt x="4282968" y="114615"/>
                    <a:pt x="4739784" y="67869"/>
                  </a:cubicBezTo>
                </a:path>
              </a:pathLst>
            </a:custGeom>
            <a:noFill/>
            <a:ln w="38160">
              <a:solidFill>
                <a:srgbClr val="f41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Group 37"/>
          <p:cNvGrpSpPr/>
          <p:nvPr/>
        </p:nvGrpSpPr>
        <p:grpSpPr>
          <a:xfrm>
            <a:off x="892440" y="5257800"/>
            <a:ext cx="6991200" cy="368280"/>
            <a:chOff x="892440" y="5257800"/>
            <a:chExt cx="6991200" cy="368280"/>
          </a:xfrm>
        </p:grpSpPr>
        <p:sp>
          <p:nvSpPr>
            <p:cNvPr id="348" name="Straight Connector 50"/>
            <p:cNvSpPr/>
            <p:nvPr/>
          </p:nvSpPr>
          <p:spPr>
            <a:xfrm flipV="1">
              <a:off x="1258920" y="5412960"/>
              <a:ext cx="6624720" cy="27000"/>
            </a:xfrm>
            <a:prstGeom prst="line">
              <a:avLst/>
            </a:prstGeom>
            <a:ln w="19080">
              <a:solidFill>
                <a:srgbClr val="f417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20"/>
            <p:cNvSpPr/>
            <p:nvPr/>
          </p:nvSpPr>
          <p:spPr>
            <a:xfrm>
              <a:off x="892440" y="5257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417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Text Box 32"/>
          <p:cNvSpPr/>
          <p:nvPr/>
        </p:nvSpPr>
        <p:spPr>
          <a:xfrm>
            <a:off x="-360" y="6273720"/>
            <a:ext cx="9027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Chun et al., </a:t>
            </a:r>
            <a:r>
              <a:rPr b="0" i="1" lang="en-AU" sz="1400" spc="-1" strike="noStrike">
                <a:solidFill>
                  <a:srgbClr val="000000"/>
                </a:solidFill>
                <a:latin typeface="Arial"/>
              </a:rPr>
              <a:t>Nature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1997; 387: 183;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Lewin et al., </a:t>
            </a:r>
            <a:r>
              <a:rPr b="0" i="1" lang="en-AU" sz="1400" spc="-1" strike="noStrike">
                <a:solidFill>
                  <a:srgbClr val="000000"/>
                </a:solidFill>
                <a:latin typeface="Arial"/>
              </a:rPr>
              <a:t>J Virol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1999; 73:6099; Palmer et al., </a:t>
            </a:r>
            <a:r>
              <a:rPr b="0" i="1" lang="en-AU" sz="1400" spc="-1" strike="noStrike">
                <a:solidFill>
                  <a:srgbClr val="000000"/>
                </a:solidFill>
                <a:latin typeface="Arial"/>
              </a:rPr>
              <a:t>Proc Natl Acad Sci U S A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2008;105:3879; Chun et al., </a:t>
            </a:r>
            <a:r>
              <a:rPr b="0" i="1" lang="en-AU" sz="1400" spc="-1" strike="noStrike">
                <a:solidFill>
                  <a:srgbClr val="000000"/>
                </a:solidFill>
                <a:latin typeface="Arial"/>
              </a:rPr>
              <a:t>J Infect Dis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1997;195:1762; Yukl </a:t>
            </a:r>
            <a:r>
              <a:rPr b="0" i="1" lang="en-AU" sz="1400" spc="-1" strike="noStrike">
                <a:solidFill>
                  <a:srgbClr val="000000"/>
                </a:solidFill>
                <a:latin typeface="Arial"/>
              </a:rPr>
              <a:t>J Infect Dis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2010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Group 28"/>
          <p:cNvGrpSpPr/>
          <p:nvPr/>
        </p:nvGrpSpPr>
        <p:grpSpPr>
          <a:xfrm>
            <a:off x="1498680" y="2046240"/>
            <a:ext cx="7454160" cy="1960560"/>
            <a:chOff x="1498680" y="2046240"/>
            <a:chExt cx="7454160" cy="1960560"/>
          </a:xfrm>
        </p:grpSpPr>
        <p:sp>
          <p:nvSpPr>
            <p:cNvPr id="352" name="Freeform 39"/>
            <p:cNvSpPr/>
            <p:nvPr/>
          </p:nvSpPr>
          <p:spPr>
            <a:xfrm>
              <a:off x="1498680" y="2046240"/>
              <a:ext cx="4529160" cy="1778040"/>
            </a:xfrm>
            <a:custGeom>
              <a:avLst/>
              <a:gdLst>
                <a:gd name="textAreaLeft" fmla="*/ 0 w 4529160"/>
                <a:gd name="textAreaRight" fmla="*/ 4529520 w 4529160"/>
                <a:gd name="textAreaTop" fmla="*/ 0 h 1778040"/>
                <a:gd name="textAreaBottom" fmla="*/ 1778400 h 1778040"/>
              </a:gdLst>
              <a:ahLst/>
              <a:rect l="textAreaLeft" t="textAreaTop" r="textAreaRight" b="textAreaBottom"/>
              <a:pathLst>
                <a:path w="934616" h="2677886">
                  <a:moveTo>
                    <a:pt x="1555" y="0"/>
                  </a:moveTo>
                  <a:cubicBezTo>
                    <a:pt x="777" y="372447"/>
                    <a:pt x="0" y="744894"/>
                    <a:pt x="10886" y="1054359"/>
                  </a:cubicBezTo>
                  <a:cubicBezTo>
                    <a:pt x="21772" y="1363824"/>
                    <a:pt x="27992" y="1640633"/>
                    <a:pt x="66869" y="1856792"/>
                  </a:cubicBezTo>
                  <a:cubicBezTo>
                    <a:pt x="105746" y="2072951"/>
                    <a:pt x="137703" y="2222933"/>
                    <a:pt x="244151" y="2351314"/>
                  </a:cubicBezTo>
                  <a:cubicBezTo>
                    <a:pt x="350599" y="2479695"/>
                    <a:pt x="538065" y="2617237"/>
                    <a:pt x="934616" y="2677886"/>
                  </a:cubicBezTo>
                </a:path>
              </a:pathLst>
            </a:cu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 Box 33"/>
            <p:cNvSpPr/>
            <p:nvPr/>
          </p:nvSpPr>
          <p:spPr>
            <a:xfrm>
              <a:off x="6236280" y="3638520"/>
              <a:ext cx="2716560" cy="368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ffffff"/>
                  </a:solidFill>
                  <a:latin typeface="Arial"/>
                </a:rPr>
                <a:t>Cell associated HIV R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49"/>
          <p:cNvGrpSpPr/>
          <p:nvPr/>
        </p:nvGrpSpPr>
        <p:grpSpPr>
          <a:xfrm>
            <a:off x="1960560" y="4581360"/>
            <a:ext cx="7081200" cy="827280"/>
            <a:chOff x="1960560" y="4581360"/>
            <a:chExt cx="7081200" cy="827280"/>
          </a:xfrm>
        </p:grpSpPr>
        <p:sp>
          <p:nvSpPr>
            <p:cNvPr id="355" name="Freeform 40"/>
            <p:cNvSpPr/>
            <p:nvPr/>
          </p:nvSpPr>
          <p:spPr>
            <a:xfrm>
              <a:off x="1960560" y="4581360"/>
              <a:ext cx="4067280" cy="827280"/>
            </a:xfrm>
            <a:custGeom>
              <a:avLst/>
              <a:gdLst>
                <a:gd name="textAreaLeft" fmla="*/ 0 w 4067280"/>
                <a:gd name="textAreaRight" fmla="*/ 4067640 w 406728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3582955" h="60649">
                  <a:moveTo>
                    <a:pt x="0" y="0"/>
                  </a:moveTo>
                  <a:cubicBezTo>
                    <a:pt x="396551" y="60649"/>
                    <a:pt x="1091682" y="31102"/>
                    <a:pt x="1688841" y="37322"/>
                  </a:cubicBezTo>
                  <a:lnTo>
                    <a:pt x="3582955" y="37322"/>
                  </a:lnTo>
                </a:path>
              </a:pathLst>
            </a:custGeom>
            <a:noFill/>
            <a:ln w="38160">
              <a:solidFill>
                <a:srgbClr val="f41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33"/>
            <p:cNvSpPr/>
            <p:nvPr/>
          </p:nvSpPr>
          <p:spPr>
            <a:xfrm>
              <a:off x="6236640" y="4869000"/>
              <a:ext cx="2805120" cy="368280"/>
            </a:xfrm>
            <a:prstGeom prst="rect">
              <a:avLst/>
            </a:prstGeom>
            <a:solidFill>
              <a:srgbClr val="f41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ffffff"/>
                  </a:solidFill>
                  <a:latin typeface="Arial"/>
                </a:rPr>
                <a:t>Plasma single copy ass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32"/>
          <p:cNvGrpSpPr/>
          <p:nvPr/>
        </p:nvGrpSpPr>
        <p:grpSpPr>
          <a:xfrm>
            <a:off x="1547640" y="2060640"/>
            <a:ext cx="7400160" cy="1369800"/>
            <a:chOff x="1547640" y="2060640"/>
            <a:chExt cx="7400160" cy="1369800"/>
          </a:xfrm>
        </p:grpSpPr>
        <p:sp>
          <p:nvSpPr>
            <p:cNvPr id="358" name="Text Box 33"/>
            <p:cNvSpPr/>
            <p:nvPr/>
          </p:nvSpPr>
          <p:spPr>
            <a:xfrm>
              <a:off x="6231240" y="3062160"/>
              <a:ext cx="2716560" cy="368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ffffff"/>
                  </a:solidFill>
                  <a:latin typeface="Arial"/>
                </a:rPr>
                <a:t>Cell associated HIV D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39"/>
            <p:cNvSpPr/>
            <p:nvPr/>
          </p:nvSpPr>
          <p:spPr>
            <a:xfrm>
              <a:off x="1547640" y="2060640"/>
              <a:ext cx="4529160" cy="1224000"/>
            </a:xfrm>
            <a:custGeom>
              <a:avLst/>
              <a:gdLst>
                <a:gd name="textAreaLeft" fmla="*/ 0 w 4529160"/>
                <a:gd name="textAreaRight" fmla="*/ 4529520 w 4529160"/>
                <a:gd name="textAreaTop" fmla="*/ 0 h 1224000"/>
                <a:gd name="textAreaBottom" fmla="*/ 1224000 h 1224000"/>
              </a:gdLst>
              <a:ahLst/>
              <a:rect l="textAreaLeft" t="textAreaTop" r="textAreaRight" b="textAreaBottom"/>
              <a:pathLst>
                <a:path w="934616" h="2677886">
                  <a:moveTo>
                    <a:pt x="1555" y="0"/>
                  </a:moveTo>
                  <a:cubicBezTo>
                    <a:pt x="777" y="372447"/>
                    <a:pt x="0" y="744894"/>
                    <a:pt x="10886" y="1054359"/>
                  </a:cubicBezTo>
                  <a:cubicBezTo>
                    <a:pt x="21772" y="1363824"/>
                    <a:pt x="27992" y="1640633"/>
                    <a:pt x="66869" y="1856792"/>
                  </a:cubicBezTo>
                  <a:cubicBezTo>
                    <a:pt x="105746" y="2072951"/>
                    <a:pt x="137703" y="2222933"/>
                    <a:pt x="244151" y="2351314"/>
                  </a:cubicBezTo>
                  <a:cubicBezTo>
                    <a:pt x="350599" y="2479695"/>
                    <a:pt x="538065" y="2617237"/>
                    <a:pt x="934616" y="2677886"/>
                  </a:cubicBezTo>
                </a:path>
              </a:pathLst>
            </a:cu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Group 48"/>
          <p:cNvGrpSpPr/>
          <p:nvPr/>
        </p:nvGrpSpPr>
        <p:grpSpPr>
          <a:xfrm>
            <a:off x="1498680" y="2046240"/>
            <a:ext cx="7222320" cy="2463840"/>
            <a:chOff x="1498680" y="2046240"/>
            <a:chExt cx="7222320" cy="2463840"/>
          </a:xfrm>
        </p:grpSpPr>
        <p:sp>
          <p:nvSpPr>
            <p:cNvPr id="361" name="Freeform 39"/>
            <p:cNvSpPr/>
            <p:nvPr/>
          </p:nvSpPr>
          <p:spPr>
            <a:xfrm>
              <a:off x="1498680" y="2046240"/>
              <a:ext cx="4605120" cy="2351160"/>
            </a:xfrm>
            <a:custGeom>
              <a:avLst/>
              <a:gdLst>
                <a:gd name="textAreaLeft" fmla="*/ 0 w 4605120"/>
                <a:gd name="textAreaRight" fmla="*/ 4605480 w 4605120"/>
                <a:gd name="textAreaTop" fmla="*/ 0 h 2351160"/>
                <a:gd name="textAreaBottom" fmla="*/ 2351520 h 2351160"/>
              </a:gdLst>
              <a:ahLst/>
              <a:rect l="textAreaLeft" t="textAreaTop" r="textAreaRight" b="textAreaBottom"/>
              <a:pathLst>
                <a:path w="934616" h="2677886">
                  <a:moveTo>
                    <a:pt x="1555" y="0"/>
                  </a:moveTo>
                  <a:cubicBezTo>
                    <a:pt x="777" y="372447"/>
                    <a:pt x="0" y="744894"/>
                    <a:pt x="10886" y="1054359"/>
                  </a:cubicBezTo>
                  <a:cubicBezTo>
                    <a:pt x="21772" y="1363824"/>
                    <a:pt x="27992" y="1640633"/>
                    <a:pt x="66869" y="1856792"/>
                  </a:cubicBezTo>
                  <a:cubicBezTo>
                    <a:pt x="105746" y="2072951"/>
                    <a:pt x="137703" y="2222933"/>
                    <a:pt x="244151" y="2351314"/>
                  </a:cubicBezTo>
                  <a:cubicBezTo>
                    <a:pt x="350599" y="2479695"/>
                    <a:pt x="538065" y="2617237"/>
                    <a:pt x="934616" y="2677886"/>
                  </a:cubicBezTo>
                </a:path>
              </a:pathLst>
            </a:custGeom>
            <a:noFill/>
            <a:ln w="38160">
              <a:solidFill>
                <a:srgbClr val="eca2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33"/>
            <p:cNvSpPr/>
            <p:nvPr/>
          </p:nvSpPr>
          <p:spPr>
            <a:xfrm>
              <a:off x="6229800" y="4141800"/>
              <a:ext cx="2491200" cy="368280"/>
            </a:xfrm>
            <a:prstGeom prst="rect">
              <a:avLst/>
            </a:prstGeom>
            <a:solidFill>
              <a:srgbClr val="e78d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ffffff"/>
                  </a:solidFill>
                  <a:latin typeface="Arial"/>
                </a:rPr>
                <a:t>Infectious virus (IUP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Text Box 36"/>
          <p:cNvSpPr/>
          <p:nvPr/>
        </p:nvSpPr>
        <p:spPr>
          <a:xfrm>
            <a:off x="2250360" y="1757520"/>
            <a:ext cx="1090440" cy="520560"/>
          </a:xfrm>
          <a:prstGeom prst="rect">
            <a:avLst/>
          </a:prstGeom>
          <a:solidFill>
            <a:srgbClr val="f56c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l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Group 57"/>
          <p:cNvGrpSpPr/>
          <p:nvPr/>
        </p:nvGrpSpPr>
        <p:grpSpPr>
          <a:xfrm>
            <a:off x="3851280" y="1681200"/>
            <a:ext cx="5292720" cy="4016160"/>
            <a:chOff x="3851280" y="1681200"/>
            <a:chExt cx="5292720" cy="4016160"/>
          </a:xfrm>
        </p:grpSpPr>
        <p:sp>
          <p:nvSpPr>
            <p:cNvPr id="365" name="Rectangle 38"/>
            <p:cNvSpPr/>
            <p:nvPr/>
          </p:nvSpPr>
          <p:spPr>
            <a:xfrm>
              <a:off x="3911760" y="1681200"/>
              <a:ext cx="2244600" cy="4016160"/>
            </a:xfrm>
            <a:prstGeom prst="rect">
              <a:avLst/>
            </a:prstGeom>
            <a:solidFill>
              <a:srgbClr val="f56c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6" name="Group 56"/>
            <p:cNvGrpSpPr/>
            <p:nvPr/>
          </p:nvGrpSpPr>
          <p:grpSpPr>
            <a:xfrm>
              <a:off x="3851280" y="1751040"/>
              <a:ext cx="5292720" cy="3873600"/>
              <a:chOff x="3851280" y="1751040"/>
              <a:chExt cx="5292720" cy="3873600"/>
            </a:xfrm>
          </p:grpSpPr>
          <p:sp>
            <p:nvSpPr>
              <p:cNvPr id="367" name="Text Box 39"/>
              <p:cNvSpPr/>
              <p:nvPr/>
            </p:nvSpPr>
            <p:spPr>
              <a:xfrm>
                <a:off x="4350960" y="1751040"/>
                <a:ext cx="1229400" cy="520560"/>
              </a:xfrm>
              <a:prstGeom prst="rect">
                <a:avLst/>
              </a:prstGeom>
              <a:solidFill>
                <a:srgbClr val="f56c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2800" spc="-1" strike="noStrike">
                    <a:solidFill>
                      <a:srgbClr val="ffffff"/>
                    </a:solidFill>
                    <a:latin typeface="Arial"/>
                  </a:rPr>
                  <a:t>Tissu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8" name="Group 54"/>
              <p:cNvGrpSpPr/>
              <p:nvPr/>
            </p:nvGrpSpPr>
            <p:grpSpPr>
              <a:xfrm>
                <a:off x="3851280" y="2357280"/>
                <a:ext cx="5292720" cy="3267360"/>
                <a:chOff x="3851280" y="2357280"/>
                <a:chExt cx="5292720" cy="3267360"/>
              </a:xfrm>
            </p:grpSpPr>
            <p:grpSp>
              <p:nvGrpSpPr>
                <p:cNvPr id="369" name="Group 40"/>
                <p:cNvGrpSpPr/>
                <p:nvPr/>
              </p:nvGrpSpPr>
              <p:grpSpPr>
                <a:xfrm>
                  <a:off x="3851280" y="2457000"/>
                  <a:ext cx="2244600" cy="755640"/>
                  <a:chOff x="3851280" y="2457000"/>
                  <a:chExt cx="2244600" cy="755640"/>
                </a:xfrm>
              </p:grpSpPr>
              <p:sp>
                <p:nvSpPr>
                  <p:cNvPr id="370" name="Line 41"/>
                  <p:cNvSpPr/>
                  <p:nvPr/>
                </p:nvSpPr>
                <p:spPr>
                  <a:xfrm flipV="1">
                    <a:off x="3898800" y="2457000"/>
                    <a:ext cx="0" cy="755640"/>
                  </a:xfrm>
                  <a:prstGeom prst="line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Freeform 42"/>
                  <p:cNvSpPr/>
                  <p:nvPr/>
                </p:nvSpPr>
                <p:spPr>
                  <a:xfrm>
                    <a:off x="3851280" y="2457360"/>
                    <a:ext cx="224460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1414" h="106">
                        <a:moveTo>
                          <a:pt x="15" y="0"/>
                        </a:moveTo>
                        <a:cubicBezTo>
                          <a:pt x="30" y="0"/>
                          <a:pt x="533" y="76"/>
                          <a:pt x="764" y="91"/>
                        </a:cubicBezTo>
                        <a:cubicBezTo>
                          <a:pt x="995" y="106"/>
                          <a:pt x="1414" y="91"/>
                          <a:pt x="1399" y="91"/>
                        </a:cubicBezTo>
                        <a:cubicBezTo>
                          <a:pt x="1384" y="91"/>
                          <a:pt x="904" y="106"/>
                          <a:pt x="673" y="91"/>
                        </a:cubicBezTo>
                        <a:cubicBezTo>
                          <a:pt x="442" y="76"/>
                          <a:pt x="0" y="0"/>
                          <a:pt x="15" y="0"/>
                        </a:cubicBezTo>
                        <a:close/>
                      </a:path>
                    </a:pathLst>
                  </a:custGeom>
                  <a:solidFill>
                    <a:srgbClr val="bbe0e3"/>
                  </a:solidFill>
                  <a:ln w="3816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2" name="Group 43"/>
                <p:cNvGrpSpPr/>
                <p:nvPr/>
              </p:nvGrpSpPr>
              <p:grpSpPr>
                <a:xfrm>
                  <a:off x="3898800" y="2997000"/>
                  <a:ext cx="2305080" cy="756000"/>
                  <a:chOff x="3898800" y="2997000"/>
                  <a:chExt cx="2305080" cy="756000"/>
                </a:xfrm>
              </p:grpSpPr>
              <p:grpSp>
                <p:nvGrpSpPr>
                  <p:cNvPr id="373" name="Group 44"/>
                  <p:cNvGrpSpPr/>
                  <p:nvPr/>
                </p:nvGrpSpPr>
                <p:grpSpPr>
                  <a:xfrm>
                    <a:off x="3959280" y="2997000"/>
                    <a:ext cx="2244600" cy="755640"/>
                    <a:chOff x="3959280" y="2997000"/>
                    <a:chExt cx="2244600" cy="755640"/>
                  </a:xfrm>
                </p:grpSpPr>
                <p:sp>
                  <p:nvSpPr>
                    <p:cNvPr id="374" name="Line 45"/>
                    <p:cNvSpPr/>
                    <p:nvPr/>
                  </p:nvSpPr>
                  <p:spPr>
                    <a:xfrm flipV="1">
                      <a:off x="4006800" y="2997000"/>
                      <a:ext cx="0" cy="755640"/>
                    </a:xfrm>
                    <a:prstGeom prst="line">
                      <a:avLst/>
                    </a:prstGeom>
                    <a:ln w="3816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5" name="Freeform 46"/>
                    <p:cNvSpPr/>
                    <p:nvPr/>
                  </p:nvSpPr>
                  <p:spPr>
                    <a:xfrm>
                      <a:off x="3959280" y="2997360"/>
                      <a:ext cx="2244600" cy="16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14" h="106">
                          <a:moveTo>
                            <a:pt x="15" y="0"/>
                          </a:moveTo>
                          <a:cubicBezTo>
                            <a:pt x="30" y="0"/>
                            <a:pt x="533" y="76"/>
                            <a:pt x="764" y="91"/>
                          </a:cubicBezTo>
                          <a:cubicBezTo>
                            <a:pt x="995" y="106"/>
                            <a:pt x="1414" y="91"/>
                            <a:pt x="1399" y="91"/>
                          </a:cubicBezTo>
                          <a:cubicBezTo>
                            <a:pt x="1384" y="91"/>
                            <a:pt x="904" y="106"/>
                            <a:pt x="673" y="91"/>
                          </a:cubicBezTo>
                          <a:cubicBezTo>
                            <a:pt x="442" y="76"/>
                            <a:pt x="0" y="0"/>
                            <a:pt x="15" y="0"/>
                          </a:cubicBezTo>
                          <a:close/>
                        </a:path>
                      </a:pathLst>
                    </a:custGeom>
                    <a:solidFill>
                      <a:srgbClr val="bbe0e3"/>
                    </a:solidFill>
                    <a:ln w="38160">
                      <a:solidFill>
                        <a:srgbClr val="80808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6" name="Line 47"/>
                  <p:cNvSpPr/>
                  <p:nvPr/>
                </p:nvSpPr>
                <p:spPr>
                  <a:xfrm>
                    <a:off x="3898800" y="3753000"/>
                    <a:ext cx="108000" cy="0"/>
                  </a:xfrm>
                  <a:prstGeom prst="line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7" name="Group 53"/>
                <p:cNvGrpSpPr/>
                <p:nvPr/>
              </p:nvGrpSpPr>
              <p:grpSpPr>
                <a:xfrm>
                  <a:off x="6192720" y="2357280"/>
                  <a:ext cx="2951280" cy="3267360"/>
                  <a:chOff x="6192720" y="2357280"/>
                  <a:chExt cx="2951280" cy="3267360"/>
                </a:xfrm>
              </p:grpSpPr>
              <p:sp>
                <p:nvSpPr>
                  <p:cNvPr id="378" name="Text Box 50"/>
                  <p:cNvSpPr/>
                  <p:nvPr/>
                </p:nvSpPr>
                <p:spPr>
                  <a:xfrm>
                    <a:off x="6244200" y="2357280"/>
                    <a:ext cx="2716560" cy="368280"/>
                  </a:xfrm>
                  <a:prstGeom prst="rect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800" spc="-1" strike="noStrike">
                        <a:solidFill>
                          <a:srgbClr val="ffffff"/>
                        </a:solidFill>
                        <a:latin typeface="Arial"/>
                      </a:rPr>
                      <a:t>Cell associated HIV DN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Text Box 51"/>
                  <p:cNvSpPr/>
                  <p:nvPr/>
                </p:nvSpPr>
                <p:spPr>
                  <a:xfrm>
                    <a:off x="6244200" y="2882880"/>
                    <a:ext cx="2716560" cy="368280"/>
                  </a:xfrm>
                  <a:prstGeom prst="rect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800" spc="-1" strike="noStrike">
                        <a:solidFill>
                          <a:srgbClr val="ffffff"/>
                        </a:solidFill>
                        <a:latin typeface="Arial"/>
                      </a:rPr>
                      <a:t>Cell associated HIV RN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Rectangle 52"/>
                  <p:cNvSpPr/>
                  <p:nvPr/>
                </p:nvSpPr>
                <p:spPr>
                  <a:xfrm>
                    <a:off x="6192720" y="3244680"/>
                    <a:ext cx="2951280" cy="237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Barriers to c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8229600" cy="47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2027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Latently infected T-ce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2027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Residual viral re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2027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Anatomical reservoi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"/>
          <p:cNvSpPr/>
          <p:nvPr/>
        </p:nvSpPr>
        <p:spPr>
          <a:xfrm>
            <a:off x="216000" y="1773360"/>
            <a:ext cx="8677080" cy="1260360"/>
          </a:xfrm>
          <a:prstGeom prst="rect">
            <a:avLst/>
          </a:prstGeom>
          <a:noFill/>
          <a:ln w="25560">
            <a:solidFill>
              <a:srgbClr val="cc20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How is latency maintain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Group 328"/>
          <p:cNvGrpSpPr/>
          <p:nvPr/>
        </p:nvGrpSpPr>
        <p:grpSpPr>
          <a:xfrm>
            <a:off x="179280" y="1376280"/>
            <a:ext cx="8942760" cy="1200240"/>
            <a:chOff x="179280" y="1376280"/>
            <a:chExt cx="8942760" cy="1200240"/>
          </a:xfrm>
        </p:grpSpPr>
        <p:sp>
          <p:nvSpPr>
            <p:cNvPr id="386" name="Rectangle 1445"/>
            <p:cNvSpPr/>
            <p:nvPr/>
          </p:nvSpPr>
          <p:spPr>
            <a:xfrm>
              <a:off x="179280" y="1382760"/>
              <a:ext cx="5435640" cy="1193760"/>
            </a:xfrm>
            <a:prstGeom prst="rect">
              <a:avLst/>
            </a:prstGeom>
            <a:solidFill>
              <a:srgbClr val="d9d9d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Group 612"/>
            <p:cNvGrpSpPr/>
            <p:nvPr/>
          </p:nvGrpSpPr>
          <p:grpSpPr>
            <a:xfrm>
              <a:off x="258840" y="1555920"/>
              <a:ext cx="823680" cy="822240"/>
              <a:chOff x="258840" y="1555920"/>
              <a:chExt cx="823680" cy="822240"/>
            </a:xfrm>
          </p:grpSpPr>
          <p:sp>
            <p:nvSpPr>
              <p:cNvPr id="388" name="Oval 3"/>
              <p:cNvSpPr/>
              <p:nvPr/>
            </p:nvSpPr>
            <p:spPr>
              <a:xfrm>
                <a:off x="258840" y="1555920"/>
                <a:ext cx="823680" cy="822240"/>
              </a:xfrm>
              <a:prstGeom prst="ellipse">
                <a:avLst/>
              </a:pr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Line 4"/>
              <p:cNvSpPr/>
              <p:nvPr/>
            </p:nvSpPr>
            <p:spPr>
              <a:xfrm>
                <a:off x="419040" y="1956960"/>
                <a:ext cx="5187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Rectangle 5"/>
              <p:cNvSpPr/>
              <p:nvPr/>
            </p:nvSpPr>
            <p:spPr>
              <a:xfrm>
                <a:off x="549000" y="1892880"/>
                <a:ext cx="227160" cy="127080"/>
              </a:xfrm>
              <a:prstGeom prst="rect">
                <a:avLst/>
              </a:prstGeom>
              <a:solidFill>
                <a:srgbClr val="f41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1" name="Group 612"/>
            <p:cNvGrpSpPr/>
            <p:nvPr/>
          </p:nvGrpSpPr>
          <p:grpSpPr>
            <a:xfrm>
              <a:off x="4294080" y="1549440"/>
              <a:ext cx="824040" cy="822240"/>
              <a:chOff x="4294080" y="1549440"/>
              <a:chExt cx="824040" cy="822240"/>
            </a:xfrm>
          </p:grpSpPr>
          <p:sp>
            <p:nvSpPr>
              <p:cNvPr id="392" name="Oval 3"/>
              <p:cNvSpPr/>
              <p:nvPr/>
            </p:nvSpPr>
            <p:spPr>
              <a:xfrm>
                <a:off x="4294080" y="1549440"/>
                <a:ext cx="824040" cy="822240"/>
              </a:xfrm>
              <a:prstGeom prst="ellipse">
                <a:avLst/>
              </a:pr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Line 4"/>
              <p:cNvSpPr/>
              <p:nvPr/>
            </p:nvSpPr>
            <p:spPr>
              <a:xfrm>
                <a:off x="4454280" y="1950480"/>
                <a:ext cx="5187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Rectangle 5"/>
              <p:cNvSpPr/>
              <p:nvPr/>
            </p:nvSpPr>
            <p:spPr>
              <a:xfrm>
                <a:off x="4584240" y="1886400"/>
                <a:ext cx="227160" cy="127080"/>
              </a:xfrm>
              <a:prstGeom prst="rect">
                <a:avLst/>
              </a:prstGeom>
              <a:solidFill>
                <a:srgbClr val="f41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"/>
            <p:cNvSpPr/>
            <p:nvPr/>
          </p:nvSpPr>
          <p:spPr>
            <a:xfrm>
              <a:off x="1260360" y="1960560"/>
              <a:ext cx="2880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 Box 622"/>
            <p:cNvSpPr/>
            <p:nvPr/>
          </p:nvSpPr>
          <p:spPr>
            <a:xfrm>
              <a:off x="1260360" y="2139840"/>
              <a:ext cx="2664000" cy="2854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400" spc="-1" strike="noStrike">
                  <a:solidFill>
                    <a:srgbClr val="ffffff"/>
                  </a:solidFill>
                  <a:latin typeface="Arial"/>
                </a:rPr>
                <a:t>Survival (long half-lif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1281"/>
            <p:cNvSpPr/>
            <p:nvPr/>
          </p:nvSpPr>
          <p:spPr>
            <a:xfrm>
              <a:off x="187560" y="137628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324"/>
            <p:cNvSpPr/>
            <p:nvPr/>
          </p:nvSpPr>
          <p:spPr>
            <a:xfrm>
              <a:off x="5736600" y="1541520"/>
              <a:ext cx="3385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Repressed transcripti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"/>
                </a:rPr>
                <a:t>e.g.,</a:t>
              </a:r>
              <a:r>
                <a:rPr b="0" lang="en-AU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</a:t>
              </a:r>
              <a:r>
                <a:rPr b="0" lang="en-AU" sz="1800" spc="-1" strike="noStrike">
                  <a:solidFill>
                    <a:srgbClr val="000000"/>
                  </a:solidFill>
                  <a:latin typeface="Arial"/>
                </a:rPr>
                <a:t> acetylation, </a:t>
              </a:r>
              <a:r>
                <a:rPr b="0" lang="en-AU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0" lang="en-AU" sz="1800" spc="-1" strike="noStrike">
                  <a:solidFill>
                    <a:srgbClr val="000000"/>
                  </a:solidFill>
                  <a:latin typeface="Arial"/>
                </a:rPr>
                <a:t> methylation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"/>
                </a:rPr>
                <a:t>transcriptional interfer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329"/>
          <p:cNvGrpSpPr/>
          <p:nvPr/>
        </p:nvGrpSpPr>
        <p:grpSpPr>
          <a:xfrm>
            <a:off x="179280" y="2619360"/>
            <a:ext cx="8491680" cy="2305080"/>
            <a:chOff x="179280" y="2619360"/>
            <a:chExt cx="8491680" cy="2305080"/>
          </a:xfrm>
        </p:grpSpPr>
        <p:sp>
          <p:nvSpPr>
            <p:cNvPr id="400" name="Rectangle 841"/>
            <p:cNvSpPr/>
            <p:nvPr/>
          </p:nvSpPr>
          <p:spPr>
            <a:xfrm>
              <a:off x="179280" y="2684520"/>
              <a:ext cx="5435640" cy="2239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622"/>
            <p:cNvSpPr/>
            <p:nvPr/>
          </p:nvSpPr>
          <p:spPr>
            <a:xfrm>
              <a:off x="331920" y="3909960"/>
              <a:ext cx="1149120" cy="498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400" spc="-1" strike="noStrike">
                  <a:solidFill>
                    <a:srgbClr val="ffffff"/>
                  </a:solidFill>
                  <a:latin typeface="Arial"/>
                </a:rPr>
                <a:t>Homeostatic prolifer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Group 285"/>
            <p:cNvGrpSpPr/>
            <p:nvPr/>
          </p:nvGrpSpPr>
          <p:grpSpPr>
            <a:xfrm>
              <a:off x="2273400" y="4035600"/>
              <a:ext cx="822240" cy="809280"/>
              <a:chOff x="2273400" y="4035600"/>
              <a:chExt cx="822240" cy="809280"/>
            </a:xfrm>
          </p:grpSpPr>
          <p:sp>
            <p:nvSpPr>
              <p:cNvPr id="403" name="Oval 4"/>
              <p:cNvSpPr/>
              <p:nvPr/>
            </p:nvSpPr>
            <p:spPr>
              <a:xfrm>
                <a:off x="2273400" y="4035600"/>
                <a:ext cx="822240" cy="809280"/>
              </a:xfrm>
              <a:prstGeom prst="ellipse">
                <a:avLst/>
              </a:pr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4" name="Group 284"/>
              <p:cNvGrpSpPr/>
              <p:nvPr/>
            </p:nvGrpSpPr>
            <p:grpSpPr>
              <a:xfrm>
                <a:off x="2433240" y="4367160"/>
                <a:ext cx="518400" cy="124920"/>
                <a:chOff x="2433240" y="4367160"/>
                <a:chExt cx="518400" cy="124920"/>
              </a:xfrm>
            </p:grpSpPr>
            <p:sp>
              <p:nvSpPr>
                <p:cNvPr id="405" name="Line 5"/>
                <p:cNvSpPr/>
                <p:nvPr/>
              </p:nvSpPr>
              <p:spPr>
                <a:xfrm>
                  <a:off x="2433240" y="4430160"/>
                  <a:ext cx="5184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Rectangle 6"/>
                <p:cNvSpPr/>
                <p:nvPr/>
              </p:nvSpPr>
              <p:spPr>
                <a:xfrm>
                  <a:off x="2563200" y="4367160"/>
                  <a:ext cx="227160" cy="1249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07" name="Group 285"/>
            <p:cNvGrpSpPr/>
            <p:nvPr/>
          </p:nvGrpSpPr>
          <p:grpSpPr>
            <a:xfrm>
              <a:off x="4294080" y="2797200"/>
              <a:ext cx="822600" cy="809640"/>
              <a:chOff x="4294080" y="2797200"/>
              <a:chExt cx="822600" cy="809640"/>
            </a:xfrm>
          </p:grpSpPr>
          <p:sp>
            <p:nvSpPr>
              <p:cNvPr id="408" name="Oval 4"/>
              <p:cNvSpPr/>
              <p:nvPr/>
            </p:nvSpPr>
            <p:spPr>
              <a:xfrm>
                <a:off x="4294080" y="2797200"/>
                <a:ext cx="822600" cy="809640"/>
              </a:xfrm>
              <a:prstGeom prst="ellipse">
                <a:avLst/>
              </a:pr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9" name="Group 284"/>
              <p:cNvGrpSpPr/>
              <p:nvPr/>
            </p:nvGrpSpPr>
            <p:grpSpPr>
              <a:xfrm>
                <a:off x="4453920" y="3128760"/>
                <a:ext cx="518400" cy="124920"/>
                <a:chOff x="4453920" y="3128760"/>
                <a:chExt cx="518400" cy="124920"/>
              </a:xfrm>
            </p:grpSpPr>
            <p:sp>
              <p:nvSpPr>
                <p:cNvPr id="410" name="Line 5"/>
                <p:cNvSpPr/>
                <p:nvPr/>
              </p:nvSpPr>
              <p:spPr>
                <a:xfrm>
                  <a:off x="4453920" y="3191760"/>
                  <a:ext cx="5184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Rectangle 6"/>
                <p:cNvSpPr/>
                <p:nvPr/>
              </p:nvSpPr>
              <p:spPr>
                <a:xfrm>
                  <a:off x="4583880" y="3128760"/>
                  <a:ext cx="227160" cy="1249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2" name="Group 612"/>
            <p:cNvGrpSpPr/>
            <p:nvPr/>
          </p:nvGrpSpPr>
          <p:grpSpPr>
            <a:xfrm>
              <a:off x="250920" y="2948040"/>
              <a:ext cx="823680" cy="822240"/>
              <a:chOff x="250920" y="2948040"/>
              <a:chExt cx="823680" cy="822240"/>
            </a:xfrm>
          </p:grpSpPr>
          <p:sp>
            <p:nvSpPr>
              <p:cNvPr id="413" name="Oval 3"/>
              <p:cNvSpPr/>
              <p:nvPr/>
            </p:nvSpPr>
            <p:spPr>
              <a:xfrm>
                <a:off x="250920" y="2948040"/>
                <a:ext cx="823680" cy="822240"/>
              </a:xfrm>
              <a:prstGeom prst="ellipse">
                <a:avLst/>
              </a:pr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Line 4"/>
              <p:cNvSpPr/>
              <p:nvPr/>
            </p:nvSpPr>
            <p:spPr>
              <a:xfrm>
                <a:off x="411120" y="3349080"/>
                <a:ext cx="5187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Rectangle 5"/>
              <p:cNvSpPr/>
              <p:nvPr/>
            </p:nvSpPr>
            <p:spPr>
              <a:xfrm>
                <a:off x="541080" y="3285000"/>
                <a:ext cx="227160" cy="127080"/>
              </a:xfrm>
              <a:prstGeom prst="rect">
                <a:avLst/>
              </a:prstGeom>
              <a:solidFill>
                <a:srgbClr val="f41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6" name="Line 598"/>
            <p:cNvSpPr/>
            <p:nvPr/>
          </p:nvSpPr>
          <p:spPr>
            <a:xfrm>
              <a:off x="1170000" y="3201840"/>
              <a:ext cx="1008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Line 599"/>
            <p:cNvSpPr/>
            <p:nvPr/>
          </p:nvSpPr>
          <p:spPr>
            <a:xfrm>
              <a:off x="1186560" y="3219480"/>
              <a:ext cx="1008360" cy="1152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Group 612"/>
            <p:cNvGrpSpPr/>
            <p:nvPr/>
          </p:nvGrpSpPr>
          <p:grpSpPr>
            <a:xfrm>
              <a:off x="2273400" y="2790720"/>
              <a:ext cx="822240" cy="822600"/>
              <a:chOff x="2273400" y="2790720"/>
              <a:chExt cx="822240" cy="822600"/>
            </a:xfrm>
          </p:grpSpPr>
          <p:sp>
            <p:nvSpPr>
              <p:cNvPr id="419" name="Oval 3"/>
              <p:cNvSpPr/>
              <p:nvPr/>
            </p:nvSpPr>
            <p:spPr>
              <a:xfrm>
                <a:off x="2273400" y="2790720"/>
                <a:ext cx="822240" cy="822600"/>
              </a:xfrm>
              <a:prstGeom prst="ellipse">
                <a:avLst/>
              </a:pr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Line 4"/>
              <p:cNvSpPr/>
              <p:nvPr/>
            </p:nvSpPr>
            <p:spPr>
              <a:xfrm>
                <a:off x="2433240" y="3191760"/>
                <a:ext cx="5176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Rectangle 5"/>
              <p:cNvSpPr/>
              <p:nvPr/>
            </p:nvSpPr>
            <p:spPr>
              <a:xfrm>
                <a:off x="2562840" y="3127680"/>
                <a:ext cx="226800" cy="127080"/>
              </a:xfrm>
              <a:prstGeom prst="rect">
                <a:avLst/>
              </a:prstGeom>
              <a:solidFill>
                <a:srgbClr val="f41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608"/>
            <p:cNvGrpSpPr/>
            <p:nvPr/>
          </p:nvGrpSpPr>
          <p:grpSpPr>
            <a:xfrm>
              <a:off x="5219640" y="2862360"/>
              <a:ext cx="138240" cy="414360"/>
              <a:chOff x="5219640" y="2862360"/>
              <a:chExt cx="138240" cy="414360"/>
            </a:xfrm>
          </p:grpSpPr>
          <p:sp>
            <p:nvSpPr>
              <p:cNvPr id="423" name="Line 609"/>
              <p:cNvSpPr/>
              <p:nvPr/>
            </p:nvSpPr>
            <p:spPr>
              <a:xfrm>
                <a:off x="5288040" y="2862360"/>
                <a:ext cx="0" cy="41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Line 610"/>
              <p:cNvSpPr/>
              <p:nvPr/>
            </p:nvSpPr>
            <p:spPr>
              <a:xfrm>
                <a:off x="5219640" y="2987640"/>
                <a:ext cx="138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611"/>
            <p:cNvGrpSpPr/>
            <p:nvPr/>
          </p:nvGrpSpPr>
          <p:grpSpPr>
            <a:xfrm>
              <a:off x="3281400" y="2862360"/>
              <a:ext cx="138240" cy="414360"/>
              <a:chOff x="3281400" y="2862360"/>
              <a:chExt cx="138240" cy="414360"/>
            </a:xfrm>
          </p:grpSpPr>
          <p:sp>
            <p:nvSpPr>
              <p:cNvPr id="426" name="Line 612"/>
              <p:cNvSpPr/>
              <p:nvPr/>
            </p:nvSpPr>
            <p:spPr>
              <a:xfrm>
                <a:off x="3349800" y="2862360"/>
                <a:ext cx="0" cy="41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Line 613"/>
              <p:cNvSpPr/>
              <p:nvPr/>
            </p:nvSpPr>
            <p:spPr>
              <a:xfrm>
                <a:off x="3281400" y="2987640"/>
                <a:ext cx="138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Group 285"/>
            <p:cNvGrpSpPr/>
            <p:nvPr/>
          </p:nvGrpSpPr>
          <p:grpSpPr>
            <a:xfrm>
              <a:off x="4294080" y="4035600"/>
              <a:ext cx="822600" cy="809280"/>
              <a:chOff x="4294080" y="4035600"/>
              <a:chExt cx="822600" cy="809280"/>
            </a:xfrm>
          </p:grpSpPr>
          <p:sp>
            <p:nvSpPr>
              <p:cNvPr id="429" name="Oval 4"/>
              <p:cNvSpPr/>
              <p:nvPr/>
            </p:nvSpPr>
            <p:spPr>
              <a:xfrm>
                <a:off x="4294080" y="4035600"/>
                <a:ext cx="822600" cy="809280"/>
              </a:xfrm>
              <a:prstGeom prst="ellipse">
                <a:avLst/>
              </a:pr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0" name="Group 284"/>
              <p:cNvGrpSpPr/>
              <p:nvPr/>
            </p:nvGrpSpPr>
            <p:grpSpPr>
              <a:xfrm>
                <a:off x="4453920" y="4367160"/>
                <a:ext cx="518400" cy="124920"/>
                <a:chOff x="4453920" y="4367160"/>
                <a:chExt cx="518400" cy="124920"/>
              </a:xfrm>
            </p:grpSpPr>
            <p:sp>
              <p:nvSpPr>
                <p:cNvPr id="431" name="Line 5"/>
                <p:cNvSpPr/>
                <p:nvPr/>
              </p:nvSpPr>
              <p:spPr>
                <a:xfrm>
                  <a:off x="4453920" y="4430160"/>
                  <a:ext cx="5184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Rectangle 6"/>
                <p:cNvSpPr/>
                <p:nvPr/>
              </p:nvSpPr>
              <p:spPr>
                <a:xfrm>
                  <a:off x="4583880" y="4367160"/>
                  <a:ext cx="227160" cy="1249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3" name="Line 598"/>
            <p:cNvSpPr/>
            <p:nvPr/>
          </p:nvSpPr>
          <p:spPr>
            <a:xfrm flipV="1">
              <a:off x="3203640" y="3293640"/>
              <a:ext cx="1008000" cy="1149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599"/>
            <p:cNvSpPr/>
            <p:nvPr/>
          </p:nvSpPr>
          <p:spPr>
            <a:xfrm>
              <a:off x="3186000" y="4443480"/>
              <a:ext cx="1008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1282"/>
            <p:cNvSpPr/>
            <p:nvPr/>
          </p:nvSpPr>
          <p:spPr>
            <a:xfrm>
              <a:off x="187560" y="261936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Text Box 325"/>
            <p:cNvSpPr/>
            <p:nvPr/>
          </p:nvSpPr>
          <p:spPr>
            <a:xfrm>
              <a:off x="5721120" y="3435480"/>
              <a:ext cx="294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Homeostatic prolife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"/>
                </a:rPr>
                <a:t>e.g., IL-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Group 334"/>
          <p:cNvGrpSpPr/>
          <p:nvPr/>
        </p:nvGrpSpPr>
        <p:grpSpPr>
          <a:xfrm>
            <a:off x="179280" y="5049720"/>
            <a:ext cx="5435640" cy="1697040"/>
            <a:chOff x="179280" y="5049720"/>
            <a:chExt cx="5435640" cy="1697040"/>
          </a:xfrm>
        </p:grpSpPr>
        <p:grpSp>
          <p:nvGrpSpPr>
            <p:cNvPr id="438" name="Group 332"/>
            <p:cNvGrpSpPr/>
            <p:nvPr/>
          </p:nvGrpSpPr>
          <p:grpSpPr>
            <a:xfrm>
              <a:off x="179280" y="5049720"/>
              <a:ext cx="5435640" cy="1697040"/>
              <a:chOff x="179280" y="5049720"/>
              <a:chExt cx="5435640" cy="1697040"/>
            </a:xfrm>
          </p:grpSpPr>
          <p:sp>
            <p:nvSpPr>
              <p:cNvPr id="439" name="Rectangle 840"/>
              <p:cNvSpPr/>
              <p:nvPr/>
            </p:nvSpPr>
            <p:spPr>
              <a:xfrm>
                <a:off x="179280" y="5049720"/>
                <a:ext cx="5435640" cy="1697040"/>
              </a:xfrm>
              <a:prstGeom prst="rect">
                <a:avLst/>
              </a:prstGeom>
              <a:solidFill>
                <a:srgbClr val="d9d9d9"/>
              </a:solidFill>
              <a:ln w="255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0" name="Group 331"/>
              <p:cNvGrpSpPr/>
              <p:nvPr/>
            </p:nvGrpSpPr>
            <p:grpSpPr>
              <a:xfrm>
                <a:off x="250920" y="5265000"/>
                <a:ext cx="5233680" cy="1224720"/>
                <a:chOff x="250920" y="5265000"/>
                <a:chExt cx="5233680" cy="1224720"/>
              </a:xfrm>
            </p:grpSpPr>
            <p:grpSp>
              <p:nvGrpSpPr>
                <p:cNvPr id="441" name="Group 17"/>
                <p:cNvGrpSpPr/>
                <p:nvPr/>
              </p:nvGrpSpPr>
              <p:grpSpPr>
                <a:xfrm>
                  <a:off x="4294080" y="5265000"/>
                  <a:ext cx="1190520" cy="1224720"/>
                  <a:chOff x="4294080" y="5265000"/>
                  <a:chExt cx="1190520" cy="1224720"/>
                </a:xfrm>
              </p:grpSpPr>
              <p:grpSp>
                <p:nvGrpSpPr>
                  <p:cNvPr id="442" name="Group 526"/>
                  <p:cNvGrpSpPr/>
                  <p:nvPr/>
                </p:nvGrpSpPr>
                <p:grpSpPr>
                  <a:xfrm>
                    <a:off x="4628520" y="5265000"/>
                    <a:ext cx="338040" cy="352080"/>
                    <a:chOff x="4628520" y="5265000"/>
                    <a:chExt cx="338040" cy="352080"/>
                  </a:xfrm>
                </p:grpSpPr>
                <p:sp>
                  <p:nvSpPr>
                    <p:cNvPr id="443" name="Oval 527"/>
                    <p:cNvSpPr/>
                    <p:nvPr/>
                  </p:nvSpPr>
                  <p:spPr>
                    <a:xfrm flipV="1" rot="21360000">
                      <a:off x="4779000" y="5541480"/>
                      <a:ext cx="45360" cy="522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666699"/>
                        </a:gs>
                        <a:gs pos="100000">
                          <a:srgbClr val="424267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720" bIns="-9720" anchor="ctr" rot="10800000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AutoShape 528"/>
                    <p:cNvSpPr/>
                    <p:nvPr/>
                  </p:nvSpPr>
                  <p:spPr>
                    <a:xfrm flipV="1" rot="21360000">
                      <a:off x="4811760" y="5555520"/>
                      <a:ext cx="21240" cy="18360"/>
                    </a:xfrm>
                    <a:custGeom>
                      <a:avLst/>
                      <a:gdLst>
                        <a:gd name="textAreaLeft" fmla="*/ 12960 w 21240"/>
                        <a:gd name="textAreaRight" fmla="*/ 13680 w 21240"/>
                        <a:gd name="textAreaTop" fmla="*/ 720 h 18360"/>
                        <a:gd name="textAreaBottom" fmla="*/ 17640 h 183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7719" y="2482"/>
                            <a:pt x="13837" y="5080"/>
                            <a:pt x="13837" y="10800"/>
                          </a:cubicBezTo>
                          <a:cubicBezTo>
                            <a:pt x="13837" y="16520"/>
                            <a:pt x="17719" y="19118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880" bIns="-29880" anchor="ctr" rot="10800000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5" name="Freeform 529"/>
                    <p:cNvSpPr/>
                    <p:nvPr/>
                  </p:nvSpPr>
                  <p:spPr>
                    <a:xfrm flipV="1" rot="297000">
                      <a:off x="4792680" y="5592240"/>
                      <a:ext cx="10440" cy="23040"/>
                    </a:xfrm>
                    <a:custGeom>
                      <a:avLst/>
                      <a:gdLst>
                        <a:gd name="textAreaLeft" fmla="*/ 0 w 10440"/>
                        <a:gd name="textAreaRight" fmla="*/ 10800 w 10440"/>
                        <a:gd name="textAreaTop" fmla="*/ 360 h 23040"/>
                        <a:gd name="textAreaBottom" fmla="*/ 23760 h 23040"/>
                      </a:gdLst>
                      <a:ahLst/>
                      <a:rect l="textAreaLeft" t="textAreaTop" r="textAreaRight" b="textAreaBottom"/>
                      <a:pathLst>
                        <a:path w="90" h="181">
                          <a:moveTo>
                            <a:pt x="45" y="181"/>
                          </a:moveTo>
                          <a:cubicBezTo>
                            <a:pt x="30" y="181"/>
                            <a:pt x="0" y="120"/>
                            <a:pt x="0" y="90"/>
                          </a:cubicBezTo>
                          <a:cubicBezTo>
                            <a:pt x="0" y="60"/>
                            <a:pt x="30" y="0"/>
                            <a:pt x="45" y="0"/>
                          </a:cubicBezTo>
                          <a:cubicBezTo>
                            <a:pt x="60" y="0"/>
                            <a:pt x="90" y="60"/>
                            <a:pt x="90" y="90"/>
                          </a:cubicBezTo>
                          <a:cubicBezTo>
                            <a:pt x="90" y="120"/>
                            <a:pt x="60" y="181"/>
                            <a:pt x="45" y="181"/>
                          </a:cubicBezTo>
                          <a:close/>
                        </a:path>
                      </a:pathLst>
                    </a:custGeom>
                    <a:noFill/>
                    <a:ln w="6480">
                      <a:solidFill>
                        <a:srgbClr val="cc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 rot="10800000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6" name="Freeform 530"/>
                    <p:cNvSpPr/>
                    <p:nvPr/>
                  </p:nvSpPr>
                  <p:spPr>
                    <a:xfrm flipV="1" rot="20640600">
                      <a:off x="4796280" y="5591880"/>
                      <a:ext cx="10800" cy="23400"/>
                    </a:xfrm>
                    <a:custGeom>
                      <a:avLst/>
                      <a:gdLst>
                        <a:gd name="textAreaLeft" fmla="*/ 0 w 10800"/>
                        <a:gd name="textAreaRight" fmla="*/ 11160 w 10800"/>
                        <a:gd name="textAreaTop" fmla="*/ -360 h 23400"/>
                        <a:gd name="textAreaBottom" fmla="*/ 23400 h 23400"/>
                      </a:gdLst>
                      <a:ahLst/>
                      <a:rect l="textAreaLeft" t="textAreaTop" r="textAreaRight" b="textAreaBottom"/>
                      <a:pathLst>
                        <a:path w="90" h="181">
                          <a:moveTo>
                            <a:pt x="45" y="181"/>
                          </a:moveTo>
                          <a:cubicBezTo>
                            <a:pt x="30" y="181"/>
                            <a:pt x="0" y="120"/>
                            <a:pt x="0" y="90"/>
                          </a:cubicBezTo>
                          <a:cubicBezTo>
                            <a:pt x="0" y="60"/>
                            <a:pt x="30" y="0"/>
                            <a:pt x="45" y="0"/>
                          </a:cubicBezTo>
                          <a:cubicBezTo>
                            <a:pt x="60" y="0"/>
                            <a:pt x="90" y="60"/>
                            <a:pt x="90" y="90"/>
                          </a:cubicBezTo>
                          <a:cubicBezTo>
                            <a:pt x="90" y="120"/>
                            <a:pt x="60" y="181"/>
                            <a:pt x="45" y="181"/>
                          </a:cubicBezTo>
                          <a:close/>
                        </a:path>
                      </a:pathLst>
                    </a:custGeom>
                    <a:noFill/>
                    <a:ln w="6480">
                      <a:solidFill>
                        <a:srgbClr val="cc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 rot="10800000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7" name="Freeform 531"/>
                    <p:cNvSpPr/>
                    <p:nvPr/>
                  </p:nvSpPr>
                  <p:spPr>
                    <a:xfrm flipH="1" flipV="1" rot="16437600">
                      <a:off x="4814280" y="5581440"/>
                      <a:ext cx="9720" cy="24840"/>
                    </a:xfrm>
                    <a:custGeom>
                      <a:avLst/>
                      <a:gdLst>
                        <a:gd name="textAreaLeft" fmla="*/ -360 w 9720"/>
                        <a:gd name="textAreaRight" fmla="*/ 9720 w 9720"/>
                        <a:gd name="textAreaTop" fmla="*/ -360 h 24840"/>
                        <a:gd name="textAreaBottom" fmla="*/ 24840 h 24840"/>
                      </a:gdLst>
                      <a:ahLst/>
                      <a:rect l="textAreaLeft" t="textAreaTop" r="textAreaRight" b="textAreaBottom"/>
                      <a:pathLst>
                        <a:path w="90" h="181">
                          <a:moveTo>
                            <a:pt x="45" y="181"/>
                          </a:moveTo>
                          <a:cubicBezTo>
                            <a:pt x="30" y="181"/>
                            <a:pt x="0" y="120"/>
                            <a:pt x="0" y="90"/>
                          </a:cubicBezTo>
                          <a:cubicBezTo>
                            <a:pt x="0" y="60"/>
                            <a:pt x="30" y="0"/>
                            <a:pt x="45" y="0"/>
                          </a:cubicBezTo>
                          <a:cubicBezTo>
                            <a:pt x="60" y="0"/>
                            <a:pt x="90" y="60"/>
                            <a:pt x="90" y="90"/>
                          </a:cubicBezTo>
                          <a:cubicBezTo>
                            <a:pt x="90" y="120"/>
                            <a:pt x="60" y="181"/>
                            <a:pt x="45" y="181"/>
                          </a:cubicBezTo>
                          <a:close/>
                        </a:path>
                      </a:pathLst>
                    </a:custGeom>
                    <a:noFill/>
                    <a:ln w="6480">
                      <a:solidFill>
                        <a:srgbClr val="cc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 rot="10800000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8" name="Freeform 532"/>
                    <p:cNvSpPr/>
                    <p:nvPr/>
                  </p:nvSpPr>
                  <p:spPr>
                    <a:xfrm flipH="1" flipV="1" rot="17543400">
                      <a:off x="4815000" y="5583240"/>
                      <a:ext cx="9720" cy="24840"/>
                    </a:xfrm>
                    <a:custGeom>
                      <a:avLst/>
                      <a:gdLst>
                        <a:gd name="textAreaLeft" fmla="*/ -360 w 9720"/>
                        <a:gd name="textAreaRight" fmla="*/ 9720 w 9720"/>
                        <a:gd name="textAreaTop" fmla="*/ -360 h 24840"/>
                        <a:gd name="textAreaBottom" fmla="*/ 24840 h 24840"/>
                      </a:gdLst>
                      <a:ahLst/>
                      <a:rect l="textAreaLeft" t="textAreaTop" r="textAreaRight" b="textAreaBottom"/>
                      <a:pathLst>
                        <a:path w="90" h="181">
                          <a:moveTo>
                            <a:pt x="45" y="181"/>
                          </a:moveTo>
                          <a:cubicBezTo>
                            <a:pt x="30" y="181"/>
                            <a:pt x="0" y="120"/>
                            <a:pt x="0" y="90"/>
                          </a:cubicBezTo>
                          <a:cubicBezTo>
                            <a:pt x="0" y="60"/>
                            <a:pt x="30" y="0"/>
                            <a:pt x="45" y="0"/>
                          </a:cubicBezTo>
                          <a:cubicBezTo>
                            <a:pt x="60" y="0"/>
                            <a:pt x="90" y="60"/>
                            <a:pt x="90" y="90"/>
                          </a:cubicBezTo>
                          <a:cubicBezTo>
                            <a:pt x="90" y="120"/>
                            <a:pt x="60" y="181"/>
                            <a:pt x="45" y="181"/>
                          </a:cubicBezTo>
                          <a:close/>
                        </a:path>
                      </a:pathLst>
                    </a:custGeom>
                    <a:noFill/>
                    <a:ln w="6480">
                      <a:solidFill>
                        <a:srgbClr val="cc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 rot="10800000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9" name="Freeform 533"/>
                    <p:cNvSpPr/>
                    <p:nvPr/>
                  </p:nvSpPr>
                  <p:spPr>
                    <a:xfrm flipH="1" flipV="1" rot="18799800">
                      <a:off x="4811400" y="5587560"/>
                      <a:ext cx="10080" cy="24840"/>
                    </a:xfrm>
                    <a:custGeom>
                      <a:avLst/>
                      <a:gdLst>
                        <a:gd name="textAreaLeft" fmla="*/ 360 w 10080"/>
                        <a:gd name="textAreaRight" fmla="*/ 10800 w 10080"/>
                        <a:gd name="textAreaTop" fmla="*/ -360 h 24840"/>
                        <a:gd name="textAreaBottom" fmla="*/ 24840 h 24840"/>
                      </a:gdLst>
                      <a:ahLst/>
                      <a:rect l="textAreaLeft" t="textAreaTop" r="textAreaRight" b="textAreaBottom"/>
                      <a:pathLst>
                        <a:path w="90" h="181">
                          <a:moveTo>
                            <a:pt x="45" y="181"/>
                          </a:moveTo>
                          <a:cubicBezTo>
                            <a:pt x="30" y="181"/>
                            <a:pt x="0" y="120"/>
                            <a:pt x="0" y="90"/>
                          </a:cubicBezTo>
                          <a:cubicBezTo>
                            <a:pt x="0" y="60"/>
                            <a:pt x="30" y="0"/>
                            <a:pt x="45" y="0"/>
                          </a:cubicBezTo>
                          <a:cubicBezTo>
                            <a:pt x="60" y="0"/>
                            <a:pt x="90" y="60"/>
                            <a:pt x="90" y="90"/>
                          </a:cubicBezTo>
                          <a:cubicBezTo>
                            <a:pt x="90" y="120"/>
                            <a:pt x="60" y="181"/>
                            <a:pt x="45" y="181"/>
                          </a:cubicBezTo>
                          <a:close/>
                        </a:path>
                      </a:pathLst>
                    </a:custGeom>
                    <a:noFill/>
                    <a:ln w="6480">
                      <a:solidFill>
                        <a:srgbClr val="cc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 rot="10800000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0" name="Freeform 534"/>
                    <p:cNvSpPr/>
                    <p:nvPr/>
                  </p:nvSpPr>
                  <p:spPr>
                    <a:xfrm flipV="1" rot="21360000">
                      <a:off x="4793040" y="5523840"/>
                      <a:ext cx="9000" cy="15480"/>
                    </a:xfrm>
                    <a:custGeom>
                      <a:avLst/>
                      <a:gdLst>
                        <a:gd name="textAreaLeft" fmla="*/ 0 w 9000"/>
                        <a:gd name="textAreaRight" fmla="*/ 9360 w 9000"/>
                        <a:gd name="textAreaTop" fmla="*/ -360 h 15480"/>
                        <a:gd name="textAreaBottom" fmla="*/ 15480 h 15480"/>
                      </a:gdLst>
                      <a:ahLst/>
                      <a:rect l="textAreaLeft" t="textAreaTop" r="textAreaRight" b="textAreaBottom"/>
                      <a:pathLst>
                        <a:path w="36" h="68">
                          <a:moveTo>
                            <a:pt x="9" y="0"/>
                          </a:moveTo>
                          <a:cubicBezTo>
                            <a:pt x="10" y="0"/>
                            <a:pt x="30" y="5"/>
                            <a:pt x="24" y="12"/>
                          </a:cubicBezTo>
                          <a:cubicBezTo>
                            <a:pt x="20" y="17"/>
                            <a:pt x="6" y="18"/>
                            <a:pt x="6" y="18"/>
                          </a:cubicBezTo>
                          <a:cubicBezTo>
                            <a:pt x="8" y="21"/>
                            <a:pt x="9" y="25"/>
                            <a:pt x="12" y="27"/>
                          </a:cubicBezTo>
                          <a:cubicBezTo>
                            <a:pt x="22" y="35"/>
                            <a:pt x="32" y="35"/>
                            <a:pt x="6" y="42"/>
                          </a:cubicBezTo>
                          <a:cubicBezTo>
                            <a:pt x="36" y="52"/>
                            <a:pt x="23" y="55"/>
                            <a:pt x="0" y="60"/>
                          </a:cubicBezTo>
                          <a:cubicBezTo>
                            <a:pt x="13" y="68"/>
                            <a:pt x="8" y="63"/>
                            <a:pt x="21" y="6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6633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 rot="10800000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1" name="Freeform 535"/>
                    <p:cNvSpPr/>
                    <p:nvPr/>
                  </p:nvSpPr>
                  <p:spPr>
                    <a:xfrm flipV="1" rot="21360000">
                      <a:off x="4798440" y="5523120"/>
                      <a:ext cx="9000" cy="15480"/>
                    </a:xfrm>
                    <a:custGeom>
                      <a:avLst/>
                      <a:gdLst>
                        <a:gd name="textAreaLeft" fmla="*/ 0 w 9000"/>
                        <a:gd name="textAreaRight" fmla="*/ 9360 w 9000"/>
                        <a:gd name="textAreaTop" fmla="*/ -360 h 15480"/>
                        <a:gd name="textAreaBottom" fmla="*/ 15480 h 15480"/>
                      </a:gdLst>
                      <a:ahLst/>
                      <a:rect l="textAreaLeft" t="textAreaTop" r="textAreaRight" b="textAreaBottom"/>
                      <a:pathLst>
                        <a:path w="36" h="68">
                          <a:moveTo>
                            <a:pt x="9" y="0"/>
                          </a:moveTo>
                          <a:cubicBezTo>
                            <a:pt x="10" y="0"/>
                            <a:pt x="30" y="5"/>
                            <a:pt x="24" y="12"/>
                          </a:cubicBezTo>
                          <a:cubicBezTo>
                            <a:pt x="20" y="17"/>
                            <a:pt x="6" y="18"/>
                            <a:pt x="6" y="18"/>
                          </a:cubicBezTo>
                          <a:cubicBezTo>
                            <a:pt x="8" y="21"/>
                            <a:pt x="9" y="25"/>
                            <a:pt x="12" y="27"/>
                          </a:cubicBezTo>
                          <a:cubicBezTo>
                            <a:pt x="22" y="35"/>
                            <a:pt x="32" y="35"/>
                            <a:pt x="6" y="42"/>
                          </a:cubicBezTo>
                          <a:cubicBezTo>
                            <a:pt x="36" y="52"/>
                            <a:pt x="23" y="55"/>
                            <a:pt x="0" y="60"/>
                          </a:cubicBezTo>
                          <a:cubicBezTo>
                            <a:pt x="13" y="68"/>
                            <a:pt x="8" y="63"/>
                            <a:pt x="21" y="6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6633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 rot="10800000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2" name="Oval 536"/>
                    <p:cNvSpPr/>
                    <p:nvPr/>
                  </p:nvSpPr>
                  <p:spPr>
                    <a:xfrm flipV="1" rot="21360000">
                      <a:off x="4793040" y="5514480"/>
                      <a:ext cx="5400" cy="10440"/>
                    </a:xfrm>
                    <a:prstGeom prst="ellipse">
                      <a:avLst/>
                    </a:prstGeom>
                    <a:solidFill>
                      <a:srgbClr val="663366"/>
                    </a:solidFill>
                    <a:ln w="9360">
                      <a:solidFill>
                        <a:srgbClr val="66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ctr" rot="10800000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3" name="Oval 537"/>
                    <p:cNvSpPr/>
                    <p:nvPr/>
                  </p:nvSpPr>
                  <p:spPr>
                    <a:xfrm flipV="1" rot="21360000">
                      <a:off x="4798080" y="5513400"/>
                      <a:ext cx="5760" cy="10440"/>
                    </a:xfrm>
                    <a:prstGeom prst="ellipse">
                      <a:avLst/>
                    </a:prstGeom>
                    <a:solidFill>
                      <a:srgbClr val="663366"/>
                    </a:solidFill>
                    <a:ln w="9360">
                      <a:solidFill>
                        <a:srgbClr val="66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ctr" rot="10800000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4" name="Freeform 538"/>
                    <p:cNvSpPr/>
                    <p:nvPr/>
                  </p:nvSpPr>
                  <p:spPr>
                    <a:xfrm flipV="1" rot="1402800">
                      <a:off x="4789800" y="5592240"/>
                      <a:ext cx="10800" cy="23040"/>
                    </a:xfrm>
                    <a:custGeom>
                      <a:avLst/>
                      <a:gdLst>
                        <a:gd name="textAreaLeft" fmla="*/ 0 w 10800"/>
                        <a:gd name="textAreaRight" fmla="*/ 11160 w 10800"/>
                        <a:gd name="textAreaTop" fmla="*/ 360 h 23040"/>
                        <a:gd name="textAreaBottom" fmla="*/ 23760 h 23040"/>
                      </a:gdLst>
                      <a:ahLst/>
                      <a:rect l="textAreaLeft" t="textAreaTop" r="textAreaRight" b="textAreaBottom"/>
                      <a:pathLst>
                        <a:path w="90" h="181">
                          <a:moveTo>
                            <a:pt x="45" y="181"/>
                          </a:moveTo>
                          <a:cubicBezTo>
                            <a:pt x="30" y="181"/>
                            <a:pt x="0" y="120"/>
                            <a:pt x="0" y="90"/>
                          </a:cubicBezTo>
                          <a:cubicBezTo>
                            <a:pt x="0" y="60"/>
                            <a:pt x="30" y="0"/>
                            <a:pt x="45" y="0"/>
                          </a:cubicBezTo>
                          <a:cubicBezTo>
                            <a:pt x="60" y="0"/>
                            <a:pt x="90" y="60"/>
                            <a:pt x="90" y="90"/>
                          </a:cubicBezTo>
                          <a:cubicBezTo>
                            <a:pt x="90" y="120"/>
                            <a:pt x="60" y="181"/>
                            <a:pt x="45" y="181"/>
                          </a:cubicBezTo>
                          <a:close/>
                        </a:path>
                      </a:pathLst>
                    </a:custGeom>
                    <a:noFill/>
                    <a:ln w="6480">
                      <a:solidFill>
                        <a:srgbClr val="cc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 rot="10800000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5" name="Oval 539"/>
                    <p:cNvSpPr/>
                    <p:nvPr/>
                  </p:nvSpPr>
                  <p:spPr>
                    <a:xfrm rot="720000">
                      <a:off x="4775400" y="5560560"/>
                      <a:ext cx="16560" cy="15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56" name="Group 540"/>
                    <p:cNvGrpSpPr/>
                    <p:nvPr/>
                  </p:nvGrpSpPr>
                  <p:grpSpPr>
                    <a:xfrm>
                      <a:off x="4628520" y="5265000"/>
                      <a:ext cx="338040" cy="289440"/>
                      <a:chOff x="4628520" y="5265000"/>
                      <a:chExt cx="338040" cy="289440"/>
                    </a:xfrm>
                  </p:grpSpPr>
                  <p:sp>
                    <p:nvSpPr>
                      <p:cNvPr id="457" name="Oval 541"/>
                      <p:cNvSpPr/>
                      <p:nvPr/>
                    </p:nvSpPr>
                    <p:spPr>
                      <a:xfrm>
                        <a:off x="4696920" y="5337720"/>
                        <a:ext cx="216000" cy="201240"/>
                      </a:xfrm>
                      <a:prstGeom prst="ellipse">
                        <a:avLst/>
                      </a:prstGeom>
                      <a:solidFill>
                        <a:srgbClr val="666699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8" name="Oval 542"/>
                      <p:cNvSpPr/>
                      <p:nvPr/>
                    </p:nvSpPr>
                    <p:spPr>
                      <a:xfrm>
                        <a:off x="4714920" y="5354280"/>
                        <a:ext cx="180000" cy="167760"/>
                      </a:xfrm>
                      <a:prstGeom prst="ellipse">
                        <a:avLst/>
                      </a:prstGeom>
                      <a:solidFill>
                        <a:srgbClr val="666699">
                          <a:alpha val="5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9" name="Oval 543"/>
                      <p:cNvSpPr/>
                      <p:nvPr/>
                    </p:nvSpPr>
                    <p:spPr>
                      <a:xfrm>
                        <a:off x="4781880" y="5285160"/>
                        <a:ext cx="45000" cy="5256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666699"/>
                          </a:gs>
                          <a:gs pos="100000">
                            <a:srgbClr val="424267"/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360" bIns="-936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0" name="AutoShape 544"/>
                      <p:cNvSpPr/>
                      <p:nvPr/>
                    </p:nvSpPr>
                    <p:spPr>
                      <a:xfrm flipH="1">
                        <a:off x="4773600" y="5302440"/>
                        <a:ext cx="20880" cy="18360"/>
                      </a:xfrm>
                      <a:custGeom>
                        <a:avLst/>
                        <a:gdLst>
                          <a:gd name="textAreaLeft" fmla="*/ 13320 w 20880"/>
                          <a:gd name="textAreaRight" fmla="*/ 13680 w 20880"/>
                          <a:gd name="textAreaTop" fmla="*/ 720 h 18360"/>
                          <a:gd name="textAreaBottom" fmla="*/ 17640 h 1836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7719" y="2482"/>
                              <a:pt x="13837" y="5080"/>
                              <a:pt x="13837" y="10800"/>
                            </a:cubicBezTo>
                            <a:cubicBezTo>
                              <a:pt x="13837" y="16520"/>
                              <a:pt x="17719" y="19118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880" bIns="-2988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1" name="AutoShape 545"/>
                      <p:cNvSpPr/>
                      <p:nvPr/>
                    </p:nvSpPr>
                    <p:spPr>
                      <a:xfrm>
                        <a:off x="4814280" y="5302440"/>
                        <a:ext cx="20880" cy="18360"/>
                      </a:xfrm>
                      <a:custGeom>
                        <a:avLst/>
                        <a:gdLst>
                          <a:gd name="textAreaLeft" fmla="*/ 12960 w 20880"/>
                          <a:gd name="textAreaRight" fmla="*/ 13320 w 20880"/>
                          <a:gd name="textAreaTop" fmla="*/ 720 h 18360"/>
                          <a:gd name="textAreaBottom" fmla="*/ 17640 h 1836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7719" y="2482"/>
                              <a:pt x="13837" y="5080"/>
                              <a:pt x="13837" y="10800"/>
                            </a:cubicBezTo>
                            <a:cubicBezTo>
                              <a:pt x="13837" y="16520"/>
                              <a:pt x="17719" y="19118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880" bIns="-2988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2" name="Freeform 546"/>
                      <p:cNvSpPr/>
                      <p:nvPr/>
                    </p:nvSpPr>
                    <p:spPr>
                      <a:xfrm rot="16677600">
                        <a:off x="4780440" y="5270040"/>
                        <a:ext cx="10440" cy="24840"/>
                      </a:xfrm>
                      <a:custGeom>
                        <a:avLst/>
                        <a:gdLst>
                          <a:gd name="textAreaLeft" fmla="*/ 0 w 10440"/>
                          <a:gd name="textAreaRight" fmla="*/ 10800 w 10440"/>
                          <a:gd name="textAreaTop" fmla="*/ 0 h 24840"/>
                          <a:gd name="textAreaBottom" fmla="*/ 25200 h 24840"/>
                        </a:gdLst>
                        <a:ahLst/>
                        <a:rect l="textAreaLeft" t="textAreaTop" r="textAreaRight" b="textAreaBottom"/>
                        <a:pathLst>
                          <a:path w="90" h="181">
                            <a:moveTo>
                              <a:pt x="45" y="181"/>
                            </a:moveTo>
                            <a:cubicBezTo>
                              <a:pt x="30" y="181"/>
                              <a:pt x="0" y="120"/>
                              <a:pt x="0" y="90"/>
                            </a:cubicBezTo>
                            <a:cubicBezTo>
                              <a:pt x="0" y="60"/>
                              <a:pt x="30" y="0"/>
                              <a:pt x="45" y="0"/>
                            </a:cubicBezTo>
                            <a:cubicBezTo>
                              <a:pt x="60" y="0"/>
                              <a:pt x="90" y="60"/>
                              <a:pt x="90" y="90"/>
                            </a:cubicBezTo>
                            <a:cubicBezTo>
                              <a:pt x="90" y="120"/>
                              <a:pt x="60" y="181"/>
                              <a:pt x="45" y="181"/>
                            </a:cubicBezTo>
                            <a:close/>
                          </a:path>
                        </a:pathLst>
                      </a:custGeom>
                      <a:noFill/>
                      <a:ln w="6480">
                        <a:solidFill>
                          <a:srgbClr val="cc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0" bIns="-21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3" name="Freeform 547"/>
                      <p:cNvSpPr/>
                      <p:nvPr/>
                    </p:nvSpPr>
                    <p:spPr>
                      <a:xfrm rot="17784000">
                        <a:off x="4781880" y="5267520"/>
                        <a:ext cx="9720" cy="24840"/>
                      </a:xfrm>
                      <a:custGeom>
                        <a:avLst/>
                        <a:gdLst>
                          <a:gd name="textAreaLeft" fmla="*/ 0 w 9720"/>
                          <a:gd name="textAreaRight" fmla="*/ 10080 w 9720"/>
                          <a:gd name="textAreaTop" fmla="*/ 0 h 24840"/>
                          <a:gd name="textAreaBottom" fmla="*/ 25200 h 24840"/>
                        </a:gdLst>
                        <a:ahLst/>
                        <a:rect l="textAreaLeft" t="textAreaTop" r="textAreaRight" b="textAreaBottom"/>
                        <a:pathLst>
                          <a:path w="90" h="181">
                            <a:moveTo>
                              <a:pt x="45" y="181"/>
                            </a:moveTo>
                            <a:cubicBezTo>
                              <a:pt x="30" y="181"/>
                              <a:pt x="0" y="120"/>
                              <a:pt x="0" y="90"/>
                            </a:cubicBezTo>
                            <a:cubicBezTo>
                              <a:pt x="0" y="60"/>
                              <a:pt x="30" y="0"/>
                              <a:pt x="45" y="0"/>
                            </a:cubicBezTo>
                            <a:cubicBezTo>
                              <a:pt x="60" y="0"/>
                              <a:pt x="90" y="60"/>
                              <a:pt x="90" y="90"/>
                            </a:cubicBezTo>
                            <a:cubicBezTo>
                              <a:pt x="90" y="120"/>
                              <a:pt x="60" y="181"/>
                              <a:pt x="45" y="181"/>
                            </a:cubicBezTo>
                            <a:close/>
                          </a:path>
                        </a:pathLst>
                      </a:custGeom>
                      <a:noFill/>
                      <a:ln w="6480">
                        <a:solidFill>
                          <a:srgbClr val="cc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0" bIns="-21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4" name="Freeform 548"/>
                      <p:cNvSpPr/>
                      <p:nvPr/>
                    </p:nvSpPr>
                    <p:spPr>
                      <a:xfrm rot="19039800">
                        <a:off x="4783680" y="5265720"/>
                        <a:ext cx="10800" cy="23040"/>
                      </a:xfrm>
                      <a:custGeom>
                        <a:avLst/>
                        <a:gdLst>
                          <a:gd name="textAreaLeft" fmla="*/ 0 w 10800"/>
                          <a:gd name="textAreaRight" fmla="*/ 11160 w 10800"/>
                          <a:gd name="textAreaTop" fmla="*/ 0 h 23040"/>
                          <a:gd name="textAreaBottom" fmla="*/ 23400 h 23040"/>
                        </a:gdLst>
                        <a:ahLst/>
                        <a:rect l="textAreaLeft" t="textAreaTop" r="textAreaRight" b="textAreaBottom"/>
                        <a:pathLst>
                          <a:path w="90" h="181">
                            <a:moveTo>
                              <a:pt x="45" y="181"/>
                            </a:moveTo>
                            <a:cubicBezTo>
                              <a:pt x="30" y="181"/>
                              <a:pt x="0" y="120"/>
                              <a:pt x="0" y="90"/>
                            </a:cubicBezTo>
                            <a:cubicBezTo>
                              <a:pt x="0" y="60"/>
                              <a:pt x="30" y="0"/>
                              <a:pt x="45" y="0"/>
                            </a:cubicBezTo>
                            <a:cubicBezTo>
                              <a:pt x="60" y="0"/>
                              <a:pt x="90" y="60"/>
                              <a:pt x="90" y="90"/>
                            </a:cubicBezTo>
                            <a:cubicBezTo>
                              <a:pt x="90" y="120"/>
                              <a:pt x="60" y="181"/>
                              <a:pt x="45" y="181"/>
                            </a:cubicBezTo>
                            <a:close/>
                          </a:path>
                        </a:pathLst>
                      </a:custGeom>
                      <a:noFill/>
                      <a:ln w="6480">
                        <a:solidFill>
                          <a:srgbClr val="cc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5" name="Freeform 549"/>
                      <p:cNvSpPr/>
                      <p:nvPr/>
                    </p:nvSpPr>
                    <p:spPr>
                      <a:xfrm flipH="1" rot="4922400">
                        <a:off x="4814280" y="5270400"/>
                        <a:ext cx="10440" cy="24480"/>
                      </a:xfrm>
                      <a:custGeom>
                        <a:avLst/>
                        <a:gdLst>
                          <a:gd name="textAreaLeft" fmla="*/ -360 w 10440"/>
                          <a:gd name="textAreaRight" fmla="*/ 10440 w 10440"/>
                          <a:gd name="textAreaTop" fmla="*/ 0 h 24480"/>
                          <a:gd name="textAreaBottom" fmla="*/ 24840 h 24480"/>
                        </a:gdLst>
                        <a:ahLst/>
                        <a:rect l="textAreaLeft" t="textAreaTop" r="textAreaRight" b="textAreaBottom"/>
                        <a:pathLst>
                          <a:path w="90" h="181">
                            <a:moveTo>
                              <a:pt x="45" y="181"/>
                            </a:moveTo>
                            <a:cubicBezTo>
                              <a:pt x="30" y="181"/>
                              <a:pt x="0" y="120"/>
                              <a:pt x="0" y="90"/>
                            </a:cubicBezTo>
                            <a:cubicBezTo>
                              <a:pt x="0" y="60"/>
                              <a:pt x="30" y="0"/>
                              <a:pt x="45" y="0"/>
                            </a:cubicBezTo>
                            <a:cubicBezTo>
                              <a:pt x="60" y="0"/>
                              <a:pt x="90" y="60"/>
                              <a:pt x="90" y="90"/>
                            </a:cubicBezTo>
                            <a:cubicBezTo>
                              <a:pt x="90" y="120"/>
                              <a:pt x="60" y="181"/>
                              <a:pt x="45" y="181"/>
                            </a:cubicBezTo>
                            <a:close/>
                          </a:path>
                        </a:pathLst>
                      </a:custGeom>
                      <a:noFill/>
                      <a:ln w="6480">
                        <a:solidFill>
                          <a:srgbClr val="cc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960" bIns="-21960" anchor="t" rot="10800000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6" name="Freeform 550"/>
                      <p:cNvSpPr/>
                      <p:nvPr/>
                    </p:nvSpPr>
                    <p:spPr>
                      <a:xfrm flipH="1" rot="3816000">
                        <a:off x="4813920" y="5267880"/>
                        <a:ext cx="9720" cy="24480"/>
                      </a:xfrm>
                      <a:custGeom>
                        <a:avLst/>
                        <a:gdLst>
                          <a:gd name="textAreaLeft" fmla="*/ -360 w 9720"/>
                          <a:gd name="textAreaRight" fmla="*/ 9720 w 9720"/>
                          <a:gd name="textAreaTop" fmla="*/ 0 h 24480"/>
                          <a:gd name="textAreaBottom" fmla="*/ 24840 h 24480"/>
                        </a:gdLst>
                        <a:ahLst/>
                        <a:rect l="textAreaLeft" t="textAreaTop" r="textAreaRight" b="textAreaBottom"/>
                        <a:pathLst>
                          <a:path w="90" h="181">
                            <a:moveTo>
                              <a:pt x="45" y="181"/>
                            </a:moveTo>
                            <a:cubicBezTo>
                              <a:pt x="30" y="181"/>
                              <a:pt x="0" y="120"/>
                              <a:pt x="0" y="90"/>
                            </a:cubicBezTo>
                            <a:cubicBezTo>
                              <a:pt x="0" y="60"/>
                              <a:pt x="30" y="0"/>
                              <a:pt x="45" y="0"/>
                            </a:cubicBezTo>
                            <a:cubicBezTo>
                              <a:pt x="60" y="0"/>
                              <a:pt x="90" y="60"/>
                              <a:pt x="90" y="90"/>
                            </a:cubicBezTo>
                            <a:cubicBezTo>
                              <a:pt x="90" y="120"/>
                              <a:pt x="60" y="181"/>
                              <a:pt x="45" y="181"/>
                            </a:cubicBezTo>
                            <a:close/>
                          </a:path>
                        </a:pathLst>
                      </a:custGeom>
                      <a:noFill/>
                      <a:ln w="6480">
                        <a:solidFill>
                          <a:srgbClr val="cc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960" bIns="-21960" anchor="t" rot="10800000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7" name="Freeform 551"/>
                      <p:cNvSpPr/>
                      <p:nvPr/>
                    </p:nvSpPr>
                    <p:spPr>
                      <a:xfrm flipH="1" rot="2560200">
                        <a:off x="4811040" y="5265360"/>
                        <a:ext cx="10440" cy="23040"/>
                      </a:xfrm>
                      <a:custGeom>
                        <a:avLst/>
                        <a:gdLst>
                          <a:gd name="textAreaLeft" fmla="*/ -360 w 10440"/>
                          <a:gd name="textAreaRight" fmla="*/ 10440 w 10440"/>
                          <a:gd name="textAreaTop" fmla="*/ 0 h 23040"/>
                          <a:gd name="textAreaBottom" fmla="*/ 23400 h 23040"/>
                        </a:gdLst>
                        <a:ahLst/>
                        <a:rect l="textAreaLeft" t="textAreaTop" r="textAreaRight" b="textAreaBottom"/>
                        <a:pathLst>
                          <a:path w="90" h="181">
                            <a:moveTo>
                              <a:pt x="45" y="181"/>
                            </a:moveTo>
                            <a:cubicBezTo>
                              <a:pt x="30" y="181"/>
                              <a:pt x="0" y="120"/>
                              <a:pt x="0" y="90"/>
                            </a:cubicBezTo>
                            <a:cubicBezTo>
                              <a:pt x="0" y="60"/>
                              <a:pt x="30" y="0"/>
                              <a:pt x="45" y="0"/>
                            </a:cubicBezTo>
                            <a:cubicBezTo>
                              <a:pt x="60" y="0"/>
                              <a:pt x="90" y="60"/>
                              <a:pt x="90" y="90"/>
                            </a:cubicBezTo>
                            <a:cubicBezTo>
                              <a:pt x="90" y="120"/>
                              <a:pt x="60" y="181"/>
                              <a:pt x="45" y="181"/>
                            </a:cubicBezTo>
                            <a:close/>
                          </a:path>
                        </a:pathLst>
                      </a:custGeom>
                      <a:noFill/>
                      <a:ln w="6480">
                        <a:solidFill>
                          <a:srgbClr val="cc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8" name="Freeform 552"/>
                      <p:cNvSpPr/>
                      <p:nvPr/>
                    </p:nvSpPr>
                    <p:spPr>
                      <a:xfrm>
                        <a:off x="4798440" y="5338800"/>
                        <a:ext cx="8640" cy="15840"/>
                      </a:xfrm>
                      <a:custGeom>
                        <a:avLst/>
                        <a:gdLst>
                          <a:gd name="textAreaLeft" fmla="*/ 0 w 8640"/>
                          <a:gd name="textAreaRight" fmla="*/ 9000 w 8640"/>
                          <a:gd name="textAreaTop" fmla="*/ 0 h 15840"/>
                          <a:gd name="textAreaBottom" fmla="*/ 16200 h 15840"/>
                        </a:gdLst>
                        <a:ahLst/>
                        <a:rect l="textAreaLeft" t="textAreaTop" r="textAreaRight" b="textAreaBottom"/>
                        <a:pathLst>
                          <a:path w="36" h="68">
                            <a:moveTo>
                              <a:pt x="9" y="0"/>
                            </a:moveTo>
                            <a:cubicBezTo>
                              <a:pt x="10" y="0"/>
                              <a:pt x="30" y="5"/>
                              <a:pt x="24" y="12"/>
                            </a:cubicBezTo>
                            <a:cubicBezTo>
                              <a:pt x="20" y="17"/>
                              <a:pt x="6" y="18"/>
                              <a:pt x="6" y="18"/>
                            </a:cubicBezTo>
                            <a:cubicBezTo>
                              <a:pt x="8" y="21"/>
                              <a:pt x="9" y="25"/>
                              <a:pt x="12" y="27"/>
                            </a:cubicBezTo>
                            <a:cubicBezTo>
                              <a:pt x="22" y="35"/>
                              <a:pt x="32" y="35"/>
                              <a:pt x="6" y="42"/>
                            </a:cubicBezTo>
                            <a:cubicBezTo>
                              <a:pt x="36" y="52"/>
                              <a:pt x="23" y="55"/>
                              <a:pt x="0" y="60"/>
                            </a:cubicBezTo>
                            <a:cubicBezTo>
                              <a:pt x="13" y="68"/>
                              <a:pt x="8" y="63"/>
                              <a:pt x="21" y="63"/>
                            </a:cubicBezTo>
                          </a:path>
                        </a:pathLst>
                      </a:custGeom>
                      <a:solidFill>
                        <a:srgbClr val="663366"/>
                      </a:solidFill>
                      <a:ln w="9360">
                        <a:solidFill>
                          <a:srgbClr val="6633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600" bIns="-30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9" name="Freeform 553"/>
                      <p:cNvSpPr/>
                      <p:nvPr/>
                    </p:nvSpPr>
                    <p:spPr>
                      <a:xfrm>
                        <a:off x="4803840" y="5339160"/>
                        <a:ext cx="8640" cy="15480"/>
                      </a:xfrm>
                      <a:custGeom>
                        <a:avLst/>
                        <a:gdLst>
                          <a:gd name="textAreaLeft" fmla="*/ 0 w 8640"/>
                          <a:gd name="textAreaRight" fmla="*/ 9000 w 8640"/>
                          <a:gd name="textAreaTop" fmla="*/ 0 h 15480"/>
                          <a:gd name="textAreaBottom" fmla="*/ 15840 h 15480"/>
                        </a:gdLst>
                        <a:ahLst/>
                        <a:rect l="textAreaLeft" t="textAreaTop" r="textAreaRight" b="textAreaBottom"/>
                        <a:pathLst>
                          <a:path w="36" h="68">
                            <a:moveTo>
                              <a:pt x="9" y="0"/>
                            </a:moveTo>
                            <a:cubicBezTo>
                              <a:pt x="10" y="0"/>
                              <a:pt x="30" y="5"/>
                              <a:pt x="24" y="12"/>
                            </a:cubicBezTo>
                            <a:cubicBezTo>
                              <a:pt x="20" y="17"/>
                              <a:pt x="6" y="18"/>
                              <a:pt x="6" y="18"/>
                            </a:cubicBezTo>
                            <a:cubicBezTo>
                              <a:pt x="8" y="21"/>
                              <a:pt x="9" y="25"/>
                              <a:pt x="12" y="27"/>
                            </a:cubicBezTo>
                            <a:cubicBezTo>
                              <a:pt x="22" y="35"/>
                              <a:pt x="32" y="35"/>
                              <a:pt x="6" y="42"/>
                            </a:cubicBezTo>
                            <a:cubicBezTo>
                              <a:pt x="36" y="52"/>
                              <a:pt x="23" y="55"/>
                              <a:pt x="0" y="60"/>
                            </a:cubicBezTo>
                            <a:cubicBezTo>
                              <a:pt x="13" y="68"/>
                              <a:pt x="8" y="63"/>
                              <a:pt x="21" y="63"/>
                            </a:cubicBezTo>
                          </a:path>
                        </a:pathLst>
                      </a:custGeom>
                      <a:solidFill>
                        <a:srgbClr val="663366"/>
                      </a:solidFill>
                      <a:ln w="9360">
                        <a:solidFill>
                          <a:srgbClr val="6633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0" name="Oval 554"/>
                      <p:cNvSpPr/>
                      <p:nvPr/>
                    </p:nvSpPr>
                    <p:spPr>
                      <a:xfrm>
                        <a:off x="4799160" y="5354640"/>
                        <a:ext cx="5400" cy="10440"/>
                      </a:xfrm>
                      <a:prstGeom prst="ellipse">
                        <a:avLst/>
                      </a:prstGeom>
                      <a:solidFill>
                        <a:srgbClr val="663366"/>
                      </a:solidFill>
                      <a:ln w="9360">
                        <a:solidFill>
                          <a:srgbClr val="66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1" name="Oval 555"/>
                      <p:cNvSpPr/>
                      <p:nvPr/>
                    </p:nvSpPr>
                    <p:spPr>
                      <a:xfrm>
                        <a:off x="4804200" y="5355000"/>
                        <a:ext cx="5400" cy="10440"/>
                      </a:xfrm>
                      <a:prstGeom prst="ellipse">
                        <a:avLst/>
                      </a:prstGeom>
                      <a:solidFill>
                        <a:srgbClr val="663366"/>
                      </a:solidFill>
                      <a:ln w="9360">
                        <a:solidFill>
                          <a:srgbClr val="66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2" name="Oval 556"/>
                      <p:cNvSpPr/>
                      <p:nvPr/>
                    </p:nvSpPr>
                    <p:spPr>
                      <a:xfrm rot="3348000">
                        <a:off x="4896000" y="5339160"/>
                        <a:ext cx="41760" cy="5616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666699"/>
                          </a:gs>
                          <a:gs pos="100000">
                            <a:srgbClr val="424267"/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6480" bIns="-6480" anchor="t" anchorCtr="1" vert="eaVert" rot="10800000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3" name="AutoShape 557"/>
                      <p:cNvSpPr/>
                      <p:nvPr/>
                    </p:nvSpPr>
                    <p:spPr>
                      <a:xfrm flipH="1" rot="3348000">
                        <a:off x="4894920" y="5342040"/>
                        <a:ext cx="19800" cy="19440"/>
                      </a:xfrm>
                      <a:custGeom>
                        <a:avLst/>
                        <a:gdLst>
                          <a:gd name="textAreaLeft" fmla="*/ 12240 w 19800"/>
                          <a:gd name="textAreaRight" fmla="*/ 12600 w 19800"/>
                          <a:gd name="textAreaTop" fmla="*/ 720 h 19440"/>
                          <a:gd name="textAreaBottom" fmla="*/ 18720 h 1944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7719" y="2482"/>
                              <a:pt x="13837" y="5080"/>
                              <a:pt x="13837" y="10800"/>
                            </a:cubicBezTo>
                            <a:cubicBezTo>
                              <a:pt x="13837" y="16520"/>
                              <a:pt x="17719" y="19118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0" bIns="-28800" anchor="t" anchorCtr="1" vert="eaVert" rot="10800000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4" name="AutoShape 558"/>
                      <p:cNvSpPr/>
                      <p:nvPr/>
                    </p:nvSpPr>
                    <p:spPr>
                      <a:xfrm rot="3348000">
                        <a:off x="4917960" y="5373360"/>
                        <a:ext cx="19440" cy="19440"/>
                      </a:xfrm>
                      <a:custGeom>
                        <a:avLst/>
                        <a:gdLst>
                          <a:gd name="textAreaLeft" fmla="*/ 11880 w 19440"/>
                          <a:gd name="textAreaRight" fmla="*/ 12600 w 19440"/>
                          <a:gd name="textAreaTop" fmla="*/ 720 h 19440"/>
                          <a:gd name="textAreaBottom" fmla="*/ 18720 h 1944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7719" y="2482"/>
                              <a:pt x="13837" y="5080"/>
                              <a:pt x="13837" y="10800"/>
                            </a:cubicBezTo>
                            <a:cubicBezTo>
                              <a:pt x="13837" y="16520"/>
                              <a:pt x="17719" y="19118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0" bIns="-28800" anchor="t" anchorCtr="1" vert="eaVert" rot="10800000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5" name="Freeform 559"/>
                      <p:cNvSpPr/>
                      <p:nvPr/>
                    </p:nvSpPr>
                    <p:spPr>
                      <a:xfrm rot="20025600">
                        <a:off x="4925520" y="5325840"/>
                        <a:ext cx="10800" cy="23040"/>
                      </a:xfrm>
                      <a:custGeom>
                        <a:avLst/>
                        <a:gdLst>
                          <a:gd name="textAreaLeft" fmla="*/ 0 w 10800"/>
                          <a:gd name="textAreaRight" fmla="*/ 11160 w 10800"/>
                          <a:gd name="textAreaTop" fmla="*/ 0 h 23040"/>
                          <a:gd name="textAreaBottom" fmla="*/ 23400 h 23040"/>
                        </a:gdLst>
                        <a:ahLst/>
                        <a:rect l="textAreaLeft" t="textAreaTop" r="textAreaRight" b="textAreaBottom"/>
                        <a:pathLst>
                          <a:path w="90" h="181">
                            <a:moveTo>
                              <a:pt x="45" y="181"/>
                            </a:moveTo>
                            <a:cubicBezTo>
                              <a:pt x="30" y="181"/>
                              <a:pt x="0" y="120"/>
                              <a:pt x="0" y="90"/>
                            </a:cubicBezTo>
                            <a:cubicBezTo>
                              <a:pt x="0" y="60"/>
                              <a:pt x="30" y="0"/>
                              <a:pt x="45" y="0"/>
                            </a:cubicBezTo>
                            <a:cubicBezTo>
                              <a:pt x="60" y="0"/>
                              <a:pt x="90" y="60"/>
                              <a:pt x="90" y="90"/>
                            </a:cubicBezTo>
                            <a:cubicBezTo>
                              <a:pt x="90" y="120"/>
                              <a:pt x="60" y="181"/>
                              <a:pt x="45" y="181"/>
                            </a:cubicBezTo>
                            <a:close/>
                          </a:path>
                        </a:pathLst>
                      </a:custGeom>
                      <a:noFill/>
                      <a:ln w="6480">
                        <a:solidFill>
                          <a:srgbClr val="cc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6" name="Freeform 560"/>
                      <p:cNvSpPr/>
                      <p:nvPr/>
                    </p:nvSpPr>
                    <p:spPr>
                      <a:xfrm rot="21131400">
                        <a:off x="4929120" y="5324760"/>
                        <a:ext cx="10440" cy="23400"/>
                      </a:xfrm>
                      <a:custGeom>
                        <a:avLst/>
                        <a:gdLst>
                          <a:gd name="textAreaLeft" fmla="*/ 0 w 10440"/>
                          <a:gd name="textAreaRight" fmla="*/ 10800 w 10440"/>
                          <a:gd name="textAreaTop" fmla="*/ 0 h 23400"/>
                          <a:gd name="textAreaBottom" fmla="*/ 23760 h 23400"/>
                        </a:gdLst>
                        <a:ahLst/>
                        <a:rect l="textAreaLeft" t="textAreaTop" r="textAreaRight" b="textAreaBottom"/>
                        <a:pathLst>
                          <a:path w="90" h="181">
                            <a:moveTo>
                              <a:pt x="45" y="181"/>
                            </a:moveTo>
                            <a:cubicBezTo>
                              <a:pt x="30" y="181"/>
                              <a:pt x="0" y="120"/>
                              <a:pt x="0" y="90"/>
                            </a:cubicBezTo>
                            <a:cubicBezTo>
                              <a:pt x="0" y="60"/>
                              <a:pt x="30" y="0"/>
                              <a:pt x="45" y="0"/>
                            </a:cubicBezTo>
                            <a:cubicBezTo>
                              <a:pt x="60" y="0"/>
                              <a:pt x="90" y="60"/>
                              <a:pt x="90" y="90"/>
                            </a:cubicBezTo>
                            <a:cubicBezTo>
                              <a:pt x="90" y="120"/>
                              <a:pt x="60" y="181"/>
                              <a:pt x="45" y="181"/>
                            </a:cubicBezTo>
                            <a:close/>
                          </a:path>
                        </a:pathLst>
                      </a:custGeom>
                      <a:noFill/>
                      <a:ln w="6480">
                        <a:solidFill>
                          <a:srgbClr val="cc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7" name="Freeform 561"/>
                      <p:cNvSpPr/>
                      <p:nvPr/>
                    </p:nvSpPr>
                    <p:spPr>
                      <a:xfrm rot="787800">
                        <a:off x="4932720" y="5325120"/>
                        <a:ext cx="10800" cy="22680"/>
                      </a:xfrm>
                      <a:custGeom>
                        <a:avLst/>
                        <a:gdLst>
                          <a:gd name="textAreaLeft" fmla="*/ 0 w 10800"/>
                          <a:gd name="textAreaRight" fmla="*/ 11160 w 10800"/>
                          <a:gd name="textAreaTop" fmla="*/ 0 h 22680"/>
                          <a:gd name="textAreaBottom" fmla="*/ 23040 h 22680"/>
                        </a:gdLst>
                        <a:ahLst/>
                        <a:rect l="textAreaLeft" t="textAreaTop" r="textAreaRight" b="textAreaBottom"/>
                        <a:pathLst>
                          <a:path w="90" h="181">
                            <a:moveTo>
                              <a:pt x="45" y="181"/>
                            </a:moveTo>
                            <a:cubicBezTo>
                              <a:pt x="30" y="181"/>
                              <a:pt x="0" y="120"/>
                              <a:pt x="0" y="90"/>
                            </a:cubicBezTo>
                            <a:cubicBezTo>
                              <a:pt x="0" y="60"/>
                              <a:pt x="30" y="0"/>
                              <a:pt x="45" y="0"/>
                            </a:cubicBezTo>
                            <a:cubicBezTo>
                              <a:pt x="60" y="0"/>
                              <a:pt x="90" y="60"/>
                              <a:pt x="90" y="90"/>
                            </a:cubicBezTo>
                            <a:cubicBezTo>
                              <a:pt x="90" y="120"/>
                              <a:pt x="60" y="181"/>
                              <a:pt x="45" y="181"/>
                            </a:cubicBezTo>
                            <a:close/>
                          </a:path>
                        </a:pathLst>
                      </a:custGeom>
                      <a:noFill/>
                      <a:ln w="6480">
                        <a:solidFill>
                          <a:srgbClr val="cc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8" name="Freeform 562"/>
                      <p:cNvSpPr/>
                      <p:nvPr/>
                    </p:nvSpPr>
                    <p:spPr>
                      <a:xfrm flipH="1" rot="8269800">
                        <a:off x="4945320" y="5352840"/>
                        <a:ext cx="10800" cy="23040"/>
                      </a:xfrm>
                      <a:custGeom>
                        <a:avLst/>
                        <a:gdLst>
                          <a:gd name="textAreaLeft" fmla="*/ 360 w 10800"/>
                          <a:gd name="textAreaRight" fmla="*/ 11520 w 10800"/>
                          <a:gd name="textAreaTop" fmla="*/ 0 h 23040"/>
                          <a:gd name="textAreaBottom" fmla="*/ 23400 h 23040"/>
                        </a:gdLst>
                        <a:ahLst/>
                        <a:rect l="textAreaLeft" t="textAreaTop" r="textAreaRight" b="textAreaBottom"/>
                        <a:pathLst>
                          <a:path w="90" h="181">
                            <a:moveTo>
                              <a:pt x="45" y="181"/>
                            </a:moveTo>
                            <a:cubicBezTo>
                              <a:pt x="30" y="181"/>
                              <a:pt x="0" y="120"/>
                              <a:pt x="0" y="90"/>
                            </a:cubicBezTo>
                            <a:cubicBezTo>
                              <a:pt x="0" y="60"/>
                              <a:pt x="30" y="0"/>
                              <a:pt x="45" y="0"/>
                            </a:cubicBezTo>
                            <a:cubicBezTo>
                              <a:pt x="60" y="0"/>
                              <a:pt x="90" y="60"/>
                              <a:pt x="90" y="90"/>
                            </a:cubicBezTo>
                            <a:cubicBezTo>
                              <a:pt x="90" y="120"/>
                              <a:pt x="60" y="181"/>
                              <a:pt x="45" y="181"/>
                            </a:cubicBezTo>
                            <a:close/>
                          </a:path>
                        </a:pathLst>
                      </a:custGeom>
                      <a:noFill/>
                      <a:ln w="6480">
                        <a:solidFill>
                          <a:srgbClr val="cc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 rot="10800000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9" name="Freeform 563"/>
                      <p:cNvSpPr/>
                      <p:nvPr/>
                    </p:nvSpPr>
                    <p:spPr>
                      <a:xfrm flipH="1" rot="7163400">
                        <a:off x="4948200" y="5349600"/>
                        <a:ext cx="9720" cy="25200"/>
                      </a:xfrm>
                      <a:custGeom>
                        <a:avLst/>
                        <a:gdLst>
                          <a:gd name="textAreaLeft" fmla="*/ -360 w 9720"/>
                          <a:gd name="textAreaRight" fmla="*/ 9720 w 9720"/>
                          <a:gd name="textAreaTop" fmla="*/ 0 h 25200"/>
                          <a:gd name="textAreaBottom" fmla="*/ 25560 h 25200"/>
                        </a:gdLst>
                        <a:ahLst/>
                        <a:rect l="textAreaLeft" t="textAreaTop" r="textAreaRight" b="textAreaBottom"/>
                        <a:pathLst>
                          <a:path w="90" h="181">
                            <a:moveTo>
                              <a:pt x="45" y="181"/>
                            </a:moveTo>
                            <a:cubicBezTo>
                              <a:pt x="30" y="181"/>
                              <a:pt x="0" y="120"/>
                              <a:pt x="0" y="90"/>
                            </a:cubicBezTo>
                            <a:cubicBezTo>
                              <a:pt x="0" y="60"/>
                              <a:pt x="30" y="0"/>
                              <a:pt x="45" y="0"/>
                            </a:cubicBezTo>
                            <a:cubicBezTo>
                              <a:pt x="60" y="0"/>
                              <a:pt x="90" y="60"/>
                              <a:pt x="90" y="90"/>
                            </a:cubicBezTo>
                            <a:cubicBezTo>
                              <a:pt x="90" y="120"/>
                              <a:pt x="60" y="181"/>
                              <a:pt x="45" y="181"/>
                            </a:cubicBezTo>
                            <a:close/>
                          </a:path>
                        </a:pathLst>
                      </a:custGeom>
                      <a:noFill/>
                      <a:ln w="6480">
                        <a:solidFill>
                          <a:srgbClr val="cc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240" bIns="-21240" anchor="t" rot="10800000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0" name="Freeform 564"/>
                      <p:cNvSpPr/>
                      <p:nvPr/>
                    </p:nvSpPr>
                    <p:spPr>
                      <a:xfrm flipH="1" rot="5907600">
                        <a:off x="4948200" y="5346000"/>
                        <a:ext cx="10080" cy="24480"/>
                      </a:xfrm>
                      <a:custGeom>
                        <a:avLst/>
                        <a:gdLst>
                          <a:gd name="textAreaLeft" fmla="*/ 360 w 10080"/>
                          <a:gd name="textAreaRight" fmla="*/ 10800 w 10080"/>
                          <a:gd name="textAreaTop" fmla="*/ 0 h 24480"/>
                          <a:gd name="textAreaBottom" fmla="*/ 24840 h 24480"/>
                        </a:gdLst>
                        <a:ahLst/>
                        <a:rect l="textAreaLeft" t="textAreaTop" r="textAreaRight" b="textAreaBottom"/>
                        <a:pathLst>
                          <a:path w="90" h="181">
                            <a:moveTo>
                              <a:pt x="45" y="181"/>
                            </a:moveTo>
                            <a:cubicBezTo>
                              <a:pt x="30" y="181"/>
                              <a:pt x="0" y="120"/>
                              <a:pt x="0" y="90"/>
                            </a:cubicBezTo>
                            <a:cubicBezTo>
                              <a:pt x="0" y="60"/>
                              <a:pt x="30" y="0"/>
                              <a:pt x="45" y="0"/>
                            </a:cubicBezTo>
                            <a:cubicBezTo>
                              <a:pt x="60" y="0"/>
                              <a:pt x="90" y="60"/>
                              <a:pt x="90" y="90"/>
                            </a:cubicBezTo>
                            <a:cubicBezTo>
                              <a:pt x="90" y="120"/>
                              <a:pt x="60" y="181"/>
                              <a:pt x="45" y="181"/>
                            </a:cubicBezTo>
                            <a:close/>
                          </a:path>
                        </a:pathLst>
                      </a:custGeom>
                      <a:noFill/>
                      <a:ln w="6480">
                        <a:solidFill>
                          <a:srgbClr val="cc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960" bIns="-21960" anchor="t" rot="10800000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1" name="Freeform 565"/>
                      <p:cNvSpPr/>
                      <p:nvPr/>
                    </p:nvSpPr>
                    <p:spPr>
                      <a:xfrm rot="3348000">
                        <a:off x="4880880" y="5377680"/>
                        <a:ext cx="8280" cy="16560"/>
                      </a:xfrm>
                      <a:custGeom>
                        <a:avLst/>
                        <a:gdLst>
                          <a:gd name="textAreaLeft" fmla="*/ 0 w 8280"/>
                          <a:gd name="textAreaRight" fmla="*/ 8640 w 8280"/>
                          <a:gd name="textAreaTop" fmla="*/ 0 h 16560"/>
                          <a:gd name="textAreaBottom" fmla="*/ 16920 h 16560"/>
                        </a:gdLst>
                        <a:ahLst/>
                        <a:rect l="textAreaLeft" t="textAreaTop" r="textAreaRight" b="textAreaBottom"/>
                        <a:pathLst>
                          <a:path w="36" h="68">
                            <a:moveTo>
                              <a:pt x="9" y="0"/>
                            </a:moveTo>
                            <a:cubicBezTo>
                              <a:pt x="10" y="0"/>
                              <a:pt x="30" y="5"/>
                              <a:pt x="24" y="12"/>
                            </a:cubicBezTo>
                            <a:cubicBezTo>
                              <a:pt x="20" y="17"/>
                              <a:pt x="6" y="18"/>
                              <a:pt x="6" y="18"/>
                            </a:cubicBezTo>
                            <a:cubicBezTo>
                              <a:pt x="8" y="21"/>
                              <a:pt x="9" y="25"/>
                              <a:pt x="12" y="27"/>
                            </a:cubicBezTo>
                            <a:cubicBezTo>
                              <a:pt x="22" y="35"/>
                              <a:pt x="32" y="35"/>
                              <a:pt x="6" y="42"/>
                            </a:cubicBezTo>
                            <a:cubicBezTo>
                              <a:pt x="36" y="52"/>
                              <a:pt x="23" y="55"/>
                              <a:pt x="0" y="60"/>
                            </a:cubicBezTo>
                            <a:cubicBezTo>
                              <a:pt x="13" y="68"/>
                              <a:pt x="8" y="63"/>
                              <a:pt x="21" y="63"/>
                            </a:cubicBezTo>
                          </a:path>
                        </a:pathLst>
                      </a:custGeom>
                      <a:solidFill>
                        <a:srgbClr val="663366"/>
                      </a:solidFill>
                      <a:ln w="9360">
                        <a:solidFill>
                          <a:srgbClr val="6633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880" bIns="-29880" anchor="t" rot="10800000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2" name="Freeform 566"/>
                      <p:cNvSpPr/>
                      <p:nvPr/>
                    </p:nvSpPr>
                    <p:spPr>
                      <a:xfrm rot="3348000">
                        <a:off x="4884120" y="5382720"/>
                        <a:ext cx="7920" cy="16560"/>
                      </a:xfrm>
                      <a:custGeom>
                        <a:avLst/>
                        <a:gdLst>
                          <a:gd name="textAreaLeft" fmla="*/ 0 w 7920"/>
                          <a:gd name="textAreaRight" fmla="*/ 8280 w 7920"/>
                          <a:gd name="textAreaTop" fmla="*/ 0 h 16560"/>
                          <a:gd name="textAreaBottom" fmla="*/ 16920 h 16560"/>
                        </a:gdLst>
                        <a:ahLst/>
                        <a:rect l="textAreaLeft" t="textAreaTop" r="textAreaRight" b="textAreaBottom"/>
                        <a:pathLst>
                          <a:path w="36" h="68">
                            <a:moveTo>
                              <a:pt x="9" y="0"/>
                            </a:moveTo>
                            <a:cubicBezTo>
                              <a:pt x="10" y="0"/>
                              <a:pt x="30" y="5"/>
                              <a:pt x="24" y="12"/>
                            </a:cubicBezTo>
                            <a:cubicBezTo>
                              <a:pt x="20" y="17"/>
                              <a:pt x="6" y="18"/>
                              <a:pt x="6" y="18"/>
                            </a:cubicBezTo>
                            <a:cubicBezTo>
                              <a:pt x="8" y="21"/>
                              <a:pt x="9" y="25"/>
                              <a:pt x="12" y="27"/>
                            </a:cubicBezTo>
                            <a:cubicBezTo>
                              <a:pt x="22" y="35"/>
                              <a:pt x="32" y="35"/>
                              <a:pt x="6" y="42"/>
                            </a:cubicBezTo>
                            <a:cubicBezTo>
                              <a:pt x="36" y="52"/>
                              <a:pt x="23" y="55"/>
                              <a:pt x="0" y="60"/>
                            </a:cubicBezTo>
                            <a:cubicBezTo>
                              <a:pt x="13" y="68"/>
                              <a:pt x="8" y="63"/>
                              <a:pt x="21" y="63"/>
                            </a:cubicBezTo>
                          </a:path>
                        </a:pathLst>
                      </a:custGeom>
                      <a:solidFill>
                        <a:srgbClr val="663366"/>
                      </a:solidFill>
                      <a:ln w="9360">
                        <a:solidFill>
                          <a:srgbClr val="6633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880" bIns="-29880" anchor="t" rot="10800000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3" name="Oval 567"/>
                      <p:cNvSpPr/>
                      <p:nvPr/>
                    </p:nvSpPr>
                    <p:spPr>
                      <a:xfrm rot="3348000">
                        <a:off x="4870080" y="5387400"/>
                        <a:ext cx="5040" cy="11160"/>
                      </a:xfrm>
                      <a:prstGeom prst="ellipse">
                        <a:avLst/>
                      </a:prstGeom>
                      <a:solidFill>
                        <a:srgbClr val="663366"/>
                      </a:solidFill>
                      <a:ln w="9360">
                        <a:solidFill>
                          <a:srgbClr val="66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 anchorCtr="1" vert="eaVert" rot="10800000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4" name="Oval 568"/>
                      <p:cNvSpPr/>
                      <p:nvPr/>
                    </p:nvSpPr>
                    <p:spPr>
                      <a:xfrm rot="3348000">
                        <a:off x="4872960" y="5391720"/>
                        <a:ext cx="5040" cy="11160"/>
                      </a:xfrm>
                      <a:prstGeom prst="ellipse">
                        <a:avLst/>
                      </a:prstGeom>
                      <a:solidFill>
                        <a:srgbClr val="663366"/>
                      </a:solidFill>
                      <a:ln w="9360">
                        <a:solidFill>
                          <a:srgbClr val="66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 anchorCtr="1" vert="eaVert" rot="10800000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5" name="Oval 569"/>
                      <p:cNvSpPr/>
                      <p:nvPr/>
                    </p:nvSpPr>
                    <p:spPr>
                      <a:xfrm flipH="1" rot="18252000">
                        <a:off x="4668840" y="5335200"/>
                        <a:ext cx="42120" cy="5616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666699"/>
                          </a:gs>
                          <a:gs pos="100000">
                            <a:srgbClr val="424267"/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6480" bIns="-6480" anchor="t" anchorCtr="1" vert="eaVer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6" name="AutoShape 570"/>
                      <p:cNvSpPr/>
                      <p:nvPr/>
                    </p:nvSpPr>
                    <p:spPr>
                      <a:xfrm rot="18252000">
                        <a:off x="4692600" y="5337720"/>
                        <a:ext cx="19440" cy="19440"/>
                      </a:xfrm>
                      <a:custGeom>
                        <a:avLst/>
                        <a:gdLst>
                          <a:gd name="textAreaLeft" fmla="*/ 11880 w 19440"/>
                          <a:gd name="textAreaRight" fmla="*/ 12600 w 19440"/>
                          <a:gd name="textAreaTop" fmla="*/ 720 h 19440"/>
                          <a:gd name="textAreaBottom" fmla="*/ 18720 h 1944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7719" y="2482"/>
                              <a:pt x="13837" y="5080"/>
                              <a:pt x="13837" y="10800"/>
                            </a:cubicBezTo>
                            <a:cubicBezTo>
                              <a:pt x="13837" y="16520"/>
                              <a:pt x="17719" y="19118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0" bIns="-28800" anchor="t" anchorCtr="1" vert="eaVer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7" name="AutoShape 571"/>
                      <p:cNvSpPr/>
                      <p:nvPr/>
                    </p:nvSpPr>
                    <p:spPr>
                      <a:xfrm flipH="1" rot="18252000">
                        <a:off x="4668840" y="5369400"/>
                        <a:ext cx="19440" cy="19080"/>
                      </a:xfrm>
                      <a:custGeom>
                        <a:avLst/>
                        <a:gdLst>
                          <a:gd name="textAreaLeft" fmla="*/ 11880 w 19440"/>
                          <a:gd name="textAreaRight" fmla="*/ 12600 w 19440"/>
                          <a:gd name="textAreaTop" fmla="*/ 720 h 19080"/>
                          <a:gd name="textAreaBottom" fmla="*/ 18360 h 1908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7719" y="2482"/>
                              <a:pt x="13837" y="5080"/>
                              <a:pt x="13837" y="10800"/>
                            </a:cubicBezTo>
                            <a:cubicBezTo>
                              <a:pt x="13837" y="16520"/>
                              <a:pt x="17719" y="19118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 anchorCtr="1" vert="eaVer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8" name="Freeform 572"/>
                      <p:cNvSpPr/>
                      <p:nvPr/>
                    </p:nvSpPr>
                    <p:spPr>
                      <a:xfrm flipH="1" rot="1574400">
                        <a:off x="4669560" y="5321520"/>
                        <a:ext cx="10800" cy="23040"/>
                      </a:xfrm>
                      <a:custGeom>
                        <a:avLst/>
                        <a:gdLst>
                          <a:gd name="textAreaLeft" fmla="*/ 360 w 10800"/>
                          <a:gd name="textAreaRight" fmla="*/ 11520 w 10800"/>
                          <a:gd name="textAreaTop" fmla="*/ 0 h 23040"/>
                          <a:gd name="textAreaBottom" fmla="*/ 23400 h 23040"/>
                        </a:gdLst>
                        <a:ahLst/>
                        <a:rect l="textAreaLeft" t="textAreaTop" r="textAreaRight" b="textAreaBottom"/>
                        <a:pathLst>
                          <a:path w="90" h="181">
                            <a:moveTo>
                              <a:pt x="45" y="181"/>
                            </a:moveTo>
                            <a:cubicBezTo>
                              <a:pt x="30" y="181"/>
                              <a:pt x="0" y="120"/>
                              <a:pt x="0" y="90"/>
                            </a:cubicBezTo>
                            <a:cubicBezTo>
                              <a:pt x="0" y="60"/>
                              <a:pt x="30" y="0"/>
                              <a:pt x="45" y="0"/>
                            </a:cubicBezTo>
                            <a:cubicBezTo>
                              <a:pt x="60" y="0"/>
                              <a:pt x="90" y="60"/>
                              <a:pt x="90" y="90"/>
                            </a:cubicBezTo>
                            <a:cubicBezTo>
                              <a:pt x="90" y="120"/>
                              <a:pt x="60" y="181"/>
                              <a:pt x="45" y="181"/>
                            </a:cubicBezTo>
                            <a:close/>
                          </a:path>
                        </a:pathLst>
                      </a:custGeom>
                      <a:noFill/>
                      <a:ln w="6480">
                        <a:solidFill>
                          <a:srgbClr val="cc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9" name="Freeform 573"/>
                      <p:cNvSpPr/>
                      <p:nvPr/>
                    </p:nvSpPr>
                    <p:spPr>
                      <a:xfrm flipH="1" rot="468600">
                        <a:off x="4667400" y="5320440"/>
                        <a:ext cx="10440" cy="23040"/>
                      </a:xfrm>
                      <a:custGeom>
                        <a:avLst/>
                        <a:gdLst>
                          <a:gd name="textAreaLeft" fmla="*/ -360 w 10440"/>
                          <a:gd name="textAreaRight" fmla="*/ 10440 w 10440"/>
                          <a:gd name="textAreaTop" fmla="*/ 0 h 23040"/>
                          <a:gd name="textAreaBottom" fmla="*/ 23400 h 23040"/>
                        </a:gdLst>
                        <a:ahLst/>
                        <a:rect l="textAreaLeft" t="textAreaTop" r="textAreaRight" b="textAreaBottom"/>
                        <a:pathLst>
                          <a:path w="90" h="181">
                            <a:moveTo>
                              <a:pt x="45" y="181"/>
                            </a:moveTo>
                            <a:cubicBezTo>
                              <a:pt x="30" y="181"/>
                              <a:pt x="0" y="120"/>
                              <a:pt x="0" y="90"/>
                            </a:cubicBezTo>
                            <a:cubicBezTo>
                              <a:pt x="0" y="60"/>
                              <a:pt x="30" y="0"/>
                              <a:pt x="45" y="0"/>
                            </a:cubicBezTo>
                            <a:cubicBezTo>
                              <a:pt x="60" y="0"/>
                              <a:pt x="90" y="60"/>
                              <a:pt x="90" y="90"/>
                            </a:cubicBezTo>
                            <a:cubicBezTo>
                              <a:pt x="90" y="120"/>
                              <a:pt x="60" y="181"/>
                              <a:pt x="45" y="181"/>
                            </a:cubicBezTo>
                            <a:close/>
                          </a:path>
                        </a:pathLst>
                      </a:custGeom>
                      <a:noFill/>
                      <a:ln w="6480">
                        <a:solidFill>
                          <a:srgbClr val="cc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0" name="Freeform 574"/>
                      <p:cNvSpPr/>
                      <p:nvPr/>
                    </p:nvSpPr>
                    <p:spPr>
                      <a:xfrm flipH="1" rot="20812200">
                        <a:off x="4663440" y="5320800"/>
                        <a:ext cx="10800" cy="22680"/>
                      </a:xfrm>
                      <a:custGeom>
                        <a:avLst/>
                        <a:gdLst>
                          <a:gd name="textAreaLeft" fmla="*/ 360 w 10800"/>
                          <a:gd name="textAreaRight" fmla="*/ 11520 w 10800"/>
                          <a:gd name="textAreaTop" fmla="*/ 0 h 22680"/>
                          <a:gd name="textAreaBottom" fmla="*/ 23040 h 22680"/>
                        </a:gdLst>
                        <a:ahLst/>
                        <a:rect l="textAreaLeft" t="textAreaTop" r="textAreaRight" b="textAreaBottom"/>
                        <a:pathLst>
                          <a:path w="90" h="181">
                            <a:moveTo>
                              <a:pt x="45" y="181"/>
                            </a:moveTo>
                            <a:cubicBezTo>
                              <a:pt x="30" y="181"/>
                              <a:pt x="0" y="120"/>
                              <a:pt x="0" y="90"/>
                            </a:cubicBezTo>
                            <a:cubicBezTo>
                              <a:pt x="0" y="60"/>
                              <a:pt x="30" y="0"/>
                              <a:pt x="45" y="0"/>
                            </a:cubicBezTo>
                            <a:cubicBezTo>
                              <a:pt x="60" y="0"/>
                              <a:pt x="90" y="60"/>
                              <a:pt x="90" y="90"/>
                            </a:cubicBezTo>
                            <a:cubicBezTo>
                              <a:pt x="90" y="120"/>
                              <a:pt x="60" y="181"/>
                              <a:pt x="45" y="181"/>
                            </a:cubicBezTo>
                            <a:close/>
                          </a:path>
                        </a:pathLst>
                      </a:custGeom>
                      <a:noFill/>
                      <a:ln w="6480">
                        <a:solidFill>
                          <a:srgbClr val="cc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1" name="Freeform 575"/>
                      <p:cNvSpPr/>
                      <p:nvPr/>
                    </p:nvSpPr>
                    <p:spPr>
                      <a:xfrm rot="13330200">
                        <a:off x="4651200" y="5348520"/>
                        <a:ext cx="10800" cy="23040"/>
                      </a:xfrm>
                      <a:custGeom>
                        <a:avLst/>
                        <a:gdLst>
                          <a:gd name="textAreaLeft" fmla="*/ 0 w 10800"/>
                          <a:gd name="textAreaRight" fmla="*/ 11160 w 10800"/>
                          <a:gd name="textAreaTop" fmla="*/ 0 h 23040"/>
                          <a:gd name="textAreaBottom" fmla="*/ 23400 h 23040"/>
                        </a:gdLst>
                        <a:ahLst/>
                        <a:rect l="textAreaLeft" t="textAreaTop" r="textAreaRight" b="textAreaBottom"/>
                        <a:pathLst>
                          <a:path w="90" h="181">
                            <a:moveTo>
                              <a:pt x="45" y="181"/>
                            </a:moveTo>
                            <a:cubicBezTo>
                              <a:pt x="30" y="181"/>
                              <a:pt x="0" y="120"/>
                              <a:pt x="0" y="90"/>
                            </a:cubicBezTo>
                            <a:cubicBezTo>
                              <a:pt x="0" y="60"/>
                              <a:pt x="30" y="0"/>
                              <a:pt x="45" y="0"/>
                            </a:cubicBezTo>
                            <a:cubicBezTo>
                              <a:pt x="60" y="0"/>
                              <a:pt x="90" y="60"/>
                              <a:pt x="90" y="90"/>
                            </a:cubicBezTo>
                            <a:cubicBezTo>
                              <a:pt x="90" y="120"/>
                              <a:pt x="60" y="181"/>
                              <a:pt x="45" y="181"/>
                            </a:cubicBezTo>
                            <a:close/>
                          </a:path>
                        </a:pathLst>
                      </a:custGeom>
                      <a:noFill/>
                      <a:ln w="6480">
                        <a:solidFill>
                          <a:srgbClr val="cc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 rot="10800000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2" name="Freeform 576"/>
                      <p:cNvSpPr/>
                      <p:nvPr/>
                    </p:nvSpPr>
                    <p:spPr>
                      <a:xfrm rot="14436600">
                        <a:off x="4649400" y="5345280"/>
                        <a:ext cx="9720" cy="25200"/>
                      </a:xfrm>
                      <a:custGeom>
                        <a:avLst/>
                        <a:gdLst>
                          <a:gd name="textAreaLeft" fmla="*/ 0 w 9720"/>
                          <a:gd name="textAreaRight" fmla="*/ 10080 w 9720"/>
                          <a:gd name="textAreaTop" fmla="*/ 0 h 25200"/>
                          <a:gd name="textAreaBottom" fmla="*/ 25560 h 25200"/>
                        </a:gdLst>
                        <a:ahLst/>
                        <a:rect l="textAreaLeft" t="textAreaTop" r="textAreaRight" b="textAreaBottom"/>
                        <a:pathLst>
                          <a:path w="90" h="181">
                            <a:moveTo>
                              <a:pt x="45" y="181"/>
                            </a:moveTo>
                            <a:cubicBezTo>
                              <a:pt x="30" y="181"/>
                              <a:pt x="0" y="120"/>
                              <a:pt x="0" y="90"/>
                            </a:cubicBezTo>
                            <a:cubicBezTo>
                              <a:pt x="0" y="60"/>
                              <a:pt x="30" y="0"/>
                              <a:pt x="45" y="0"/>
                            </a:cubicBezTo>
                            <a:cubicBezTo>
                              <a:pt x="60" y="0"/>
                              <a:pt x="90" y="60"/>
                              <a:pt x="90" y="90"/>
                            </a:cubicBezTo>
                            <a:cubicBezTo>
                              <a:pt x="90" y="120"/>
                              <a:pt x="60" y="181"/>
                              <a:pt x="45" y="181"/>
                            </a:cubicBezTo>
                            <a:close/>
                          </a:path>
                        </a:pathLst>
                      </a:custGeom>
                      <a:noFill/>
                      <a:ln w="6480">
                        <a:solidFill>
                          <a:srgbClr val="cc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240" bIns="-212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3" name="Freeform 577"/>
                      <p:cNvSpPr/>
                      <p:nvPr/>
                    </p:nvSpPr>
                    <p:spPr>
                      <a:xfrm rot="15692400">
                        <a:off x="4647960" y="5342040"/>
                        <a:ext cx="10080" cy="24480"/>
                      </a:xfrm>
                      <a:custGeom>
                        <a:avLst/>
                        <a:gdLst>
                          <a:gd name="textAreaLeft" fmla="*/ 0 w 10080"/>
                          <a:gd name="textAreaRight" fmla="*/ 10440 w 10080"/>
                          <a:gd name="textAreaTop" fmla="*/ 0 h 24480"/>
                          <a:gd name="textAreaBottom" fmla="*/ 24840 h 24480"/>
                        </a:gdLst>
                        <a:ahLst/>
                        <a:rect l="textAreaLeft" t="textAreaTop" r="textAreaRight" b="textAreaBottom"/>
                        <a:pathLst>
                          <a:path w="90" h="181">
                            <a:moveTo>
                              <a:pt x="45" y="181"/>
                            </a:moveTo>
                            <a:cubicBezTo>
                              <a:pt x="30" y="181"/>
                              <a:pt x="0" y="120"/>
                              <a:pt x="0" y="90"/>
                            </a:cubicBezTo>
                            <a:cubicBezTo>
                              <a:pt x="0" y="60"/>
                              <a:pt x="30" y="0"/>
                              <a:pt x="45" y="0"/>
                            </a:cubicBezTo>
                            <a:cubicBezTo>
                              <a:pt x="60" y="0"/>
                              <a:pt x="90" y="60"/>
                              <a:pt x="90" y="90"/>
                            </a:cubicBezTo>
                            <a:cubicBezTo>
                              <a:pt x="90" y="120"/>
                              <a:pt x="60" y="181"/>
                              <a:pt x="45" y="181"/>
                            </a:cubicBezTo>
                            <a:close/>
                          </a:path>
                        </a:pathLst>
                      </a:custGeom>
                      <a:noFill/>
                      <a:ln w="6480">
                        <a:solidFill>
                          <a:srgbClr val="cc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960" bIns="-21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4" name="Freeform 578"/>
                      <p:cNvSpPr/>
                      <p:nvPr/>
                    </p:nvSpPr>
                    <p:spPr>
                      <a:xfrm flipH="1" rot="18252000">
                        <a:off x="4718520" y="5373720"/>
                        <a:ext cx="8280" cy="16560"/>
                      </a:xfrm>
                      <a:custGeom>
                        <a:avLst/>
                        <a:gdLst>
                          <a:gd name="textAreaLeft" fmla="*/ -360 w 8280"/>
                          <a:gd name="textAreaRight" fmla="*/ 8280 w 8280"/>
                          <a:gd name="textAreaTop" fmla="*/ 0 h 16560"/>
                          <a:gd name="textAreaBottom" fmla="*/ 16920 h 16560"/>
                        </a:gdLst>
                        <a:ahLst/>
                        <a:rect l="textAreaLeft" t="textAreaTop" r="textAreaRight" b="textAreaBottom"/>
                        <a:pathLst>
                          <a:path w="36" h="68">
                            <a:moveTo>
                              <a:pt x="9" y="0"/>
                            </a:moveTo>
                            <a:cubicBezTo>
                              <a:pt x="10" y="0"/>
                              <a:pt x="30" y="5"/>
                              <a:pt x="24" y="12"/>
                            </a:cubicBezTo>
                            <a:cubicBezTo>
                              <a:pt x="20" y="17"/>
                              <a:pt x="6" y="18"/>
                              <a:pt x="6" y="18"/>
                            </a:cubicBezTo>
                            <a:cubicBezTo>
                              <a:pt x="8" y="21"/>
                              <a:pt x="9" y="25"/>
                              <a:pt x="12" y="27"/>
                            </a:cubicBezTo>
                            <a:cubicBezTo>
                              <a:pt x="22" y="35"/>
                              <a:pt x="32" y="35"/>
                              <a:pt x="6" y="42"/>
                            </a:cubicBezTo>
                            <a:cubicBezTo>
                              <a:pt x="36" y="52"/>
                              <a:pt x="23" y="55"/>
                              <a:pt x="0" y="60"/>
                            </a:cubicBezTo>
                            <a:cubicBezTo>
                              <a:pt x="13" y="68"/>
                              <a:pt x="8" y="63"/>
                              <a:pt x="21" y="63"/>
                            </a:cubicBezTo>
                          </a:path>
                        </a:pathLst>
                      </a:custGeom>
                      <a:solidFill>
                        <a:srgbClr val="663366"/>
                      </a:solidFill>
                      <a:ln w="9360">
                        <a:solidFill>
                          <a:srgbClr val="6633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880" bIns="-29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5" name="Freeform 579"/>
                      <p:cNvSpPr/>
                      <p:nvPr/>
                    </p:nvSpPr>
                    <p:spPr>
                      <a:xfrm flipH="1" rot="18252000">
                        <a:off x="4715640" y="5378040"/>
                        <a:ext cx="8280" cy="16560"/>
                      </a:xfrm>
                      <a:custGeom>
                        <a:avLst/>
                        <a:gdLst>
                          <a:gd name="textAreaLeft" fmla="*/ -360 w 8280"/>
                          <a:gd name="textAreaRight" fmla="*/ 8280 w 8280"/>
                          <a:gd name="textAreaTop" fmla="*/ 0 h 16560"/>
                          <a:gd name="textAreaBottom" fmla="*/ 16920 h 16560"/>
                        </a:gdLst>
                        <a:ahLst/>
                        <a:rect l="textAreaLeft" t="textAreaTop" r="textAreaRight" b="textAreaBottom"/>
                        <a:pathLst>
                          <a:path w="36" h="68">
                            <a:moveTo>
                              <a:pt x="9" y="0"/>
                            </a:moveTo>
                            <a:cubicBezTo>
                              <a:pt x="10" y="0"/>
                              <a:pt x="30" y="5"/>
                              <a:pt x="24" y="12"/>
                            </a:cubicBezTo>
                            <a:cubicBezTo>
                              <a:pt x="20" y="17"/>
                              <a:pt x="6" y="18"/>
                              <a:pt x="6" y="18"/>
                            </a:cubicBezTo>
                            <a:cubicBezTo>
                              <a:pt x="8" y="21"/>
                              <a:pt x="9" y="25"/>
                              <a:pt x="12" y="27"/>
                            </a:cubicBezTo>
                            <a:cubicBezTo>
                              <a:pt x="22" y="35"/>
                              <a:pt x="32" y="35"/>
                              <a:pt x="6" y="42"/>
                            </a:cubicBezTo>
                            <a:cubicBezTo>
                              <a:pt x="36" y="52"/>
                              <a:pt x="23" y="55"/>
                              <a:pt x="0" y="60"/>
                            </a:cubicBezTo>
                            <a:cubicBezTo>
                              <a:pt x="13" y="68"/>
                              <a:pt x="8" y="63"/>
                              <a:pt x="21" y="63"/>
                            </a:cubicBezTo>
                          </a:path>
                        </a:pathLst>
                      </a:custGeom>
                      <a:solidFill>
                        <a:srgbClr val="663366"/>
                      </a:solidFill>
                      <a:ln w="9360">
                        <a:solidFill>
                          <a:srgbClr val="6633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880" bIns="-29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6" name="Oval 580"/>
                      <p:cNvSpPr/>
                      <p:nvPr/>
                    </p:nvSpPr>
                    <p:spPr>
                      <a:xfrm flipH="1" rot="18252000">
                        <a:off x="4732200" y="5382720"/>
                        <a:ext cx="5040" cy="11160"/>
                      </a:xfrm>
                      <a:prstGeom prst="ellipse">
                        <a:avLst/>
                      </a:prstGeom>
                      <a:solidFill>
                        <a:srgbClr val="663366"/>
                      </a:solidFill>
                      <a:ln w="9360">
                        <a:solidFill>
                          <a:srgbClr val="66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 anchorCtr="1" vert="eaVer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7" name="Oval 581"/>
                      <p:cNvSpPr/>
                      <p:nvPr/>
                    </p:nvSpPr>
                    <p:spPr>
                      <a:xfrm flipH="1" rot="18252000">
                        <a:off x="4728960" y="5387040"/>
                        <a:ext cx="5040" cy="11160"/>
                      </a:xfrm>
                      <a:prstGeom prst="ellipse">
                        <a:avLst/>
                      </a:prstGeom>
                      <a:solidFill>
                        <a:srgbClr val="663366"/>
                      </a:solidFill>
                      <a:ln w="9360">
                        <a:solidFill>
                          <a:srgbClr val="66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 anchorCtr="1" vert="eaVer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8" name="Oval 582"/>
                      <p:cNvSpPr/>
                      <p:nvPr/>
                    </p:nvSpPr>
                    <p:spPr>
                      <a:xfrm flipV="1" rot="18252000">
                        <a:off x="4894560" y="5483160"/>
                        <a:ext cx="42120" cy="5616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666699"/>
                          </a:gs>
                          <a:gs pos="100000">
                            <a:srgbClr val="424267"/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6480" bIns="-6480" anchor="t" anchorCtr="1" vert="eaVert" rot="10800000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9" name="AutoShape 583"/>
                      <p:cNvSpPr/>
                      <p:nvPr/>
                    </p:nvSpPr>
                    <p:spPr>
                      <a:xfrm flipH="1" flipV="1" rot="18252000">
                        <a:off x="4893480" y="5517720"/>
                        <a:ext cx="19440" cy="19080"/>
                      </a:xfrm>
                      <a:custGeom>
                        <a:avLst/>
                        <a:gdLst>
                          <a:gd name="textAreaLeft" fmla="*/ 11880 w 19440"/>
                          <a:gd name="textAreaRight" fmla="*/ 12600 w 19440"/>
                          <a:gd name="textAreaTop" fmla="*/ 720 h 19080"/>
                          <a:gd name="textAreaBottom" fmla="*/ 18360 h 1908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7719" y="2482"/>
                              <a:pt x="13837" y="5080"/>
                              <a:pt x="13837" y="10800"/>
                            </a:cubicBezTo>
                            <a:cubicBezTo>
                              <a:pt x="13837" y="16520"/>
                              <a:pt x="17719" y="19118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 anchorCtr="1" vert="eaVert" rot="10800000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0" name="AutoShape 584"/>
                      <p:cNvSpPr/>
                      <p:nvPr/>
                    </p:nvSpPr>
                    <p:spPr>
                      <a:xfrm flipV="1" rot="18252000">
                        <a:off x="4916520" y="5486400"/>
                        <a:ext cx="19440" cy="18720"/>
                      </a:xfrm>
                      <a:custGeom>
                        <a:avLst/>
                        <a:gdLst>
                          <a:gd name="textAreaLeft" fmla="*/ 11880 w 19440"/>
                          <a:gd name="textAreaRight" fmla="*/ 12600 w 19440"/>
                          <a:gd name="textAreaTop" fmla="*/ 720 h 18720"/>
                          <a:gd name="textAreaBottom" fmla="*/ 18000 h 1872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7719" y="2482"/>
                              <a:pt x="13837" y="5080"/>
                              <a:pt x="13837" y="10800"/>
                            </a:cubicBezTo>
                            <a:cubicBezTo>
                              <a:pt x="13837" y="16520"/>
                              <a:pt x="17719" y="19118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 anchorCtr="1" vert="eaVert" rot="10800000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1" name="Freeform 585"/>
                      <p:cNvSpPr/>
                      <p:nvPr/>
                    </p:nvSpPr>
                    <p:spPr>
                      <a:xfrm flipV="1" rot="1574400">
                        <a:off x="4924080" y="5529600"/>
                        <a:ext cx="10800" cy="23400"/>
                      </a:xfrm>
                      <a:custGeom>
                        <a:avLst/>
                        <a:gdLst>
                          <a:gd name="textAreaLeft" fmla="*/ 0 w 10800"/>
                          <a:gd name="textAreaRight" fmla="*/ 11160 w 10800"/>
                          <a:gd name="textAreaTop" fmla="*/ -360 h 23400"/>
                          <a:gd name="textAreaBottom" fmla="*/ 23400 h 23400"/>
                        </a:gdLst>
                        <a:ahLst/>
                        <a:rect l="textAreaLeft" t="textAreaTop" r="textAreaRight" b="textAreaBottom"/>
                        <a:pathLst>
                          <a:path w="90" h="181">
                            <a:moveTo>
                              <a:pt x="45" y="181"/>
                            </a:moveTo>
                            <a:cubicBezTo>
                              <a:pt x="30" y="181"/>
                              <a:pt x="0" y="120"/>
                              <a:pt x="0" y="90"/>
                            </a:cubicBezTo>
                            <a:cubicBezTo>
                              <a:pt x="0" y="60"/>
                              <a:pt x="30" y="0"/>
                              <a:pt x="45" y="0"/>
                            </a:cubicBezTo>
                            <a:cubicBezTo>
                              <a:pt x="60" y="0"/>
                              <a:pt x="90" y="60"/>
                              <a:pt x="90" y="90"/>
                            </a:cubicBezTo>
                            <a:cubicBezTo>
                              <a:pt x="90" y="120"/>
                              <a:pt x="60" y="181"/>
                              <a:pt x="45" y="181"/>
                            </a:cubicBezTo>
                            <a:close/>
                          </a:path>
                        </a:pathLst>
                      </a:custGeom>
                      <a:noFill/>
                      <a:ln w="6480">
                        <a:solidFill>
                          <a:srgbClr val="cc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 rot="10800000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2" name="Freeform 586"/>
                      <p:cNvSpPr/>
                      <p:nvPr/>
                    </p:nvSpPr>
                    <p:spPr>
                      <a:xfrm flipV="1" rot="468600">
                        <a:off x="4927320" y="5529960"/>
                        <a:ext cx="10440" cy="23040"/>
                      </a:xfrm>
                      <a:custGeom>
                        <a:avLst/>
                        <a:gdLst>
                          <a:gd name="textAreaLeft" fmla="*/ 0 w 10440"/>
                          <a:gd name="textAreaRight" fmla="*/ 10800 w 10440"/>
                          <a:gd name="textAreaTop" fmla="*/ 360 h 23040"/>
                          <a:gd name="textAreaBottom" fmla="*/ 23760 h 23040"/>
                        </a:gdLst>
                        <a:ahLst/>
                        <a:rect l="textAreaLeft" t="textAreaTop" r="textAreaRight" b="textAreaBottom"/>
                        <a:pathLst>
                          <a:path w="90" h="181">
                            <a:moveTo>
                              <a:pt x="45" y="181"/>
                            </a:moveTo>
                            <a:cubicBezTo>
                              <a:pt x="30" y="181"/>
                              <a:pt x="0" y="120"/>
                              <a:pt x="0" y="90"/>
                            </a:cubicBezTo>
                            <a:cubicBezTo>
                              <a:pt x="0" y="60"/>
                              <a:pt x="30" y="0"/>
                              <a:pt x="45" y="0"/>
                            </a:cubicBezTo>
                            <a:cubicBezTo>
                              <a:pt x="60" y="0"/>
                              <a:pt x="90" y="60"/>
                              <a:pt x="90" y="90"/>
                            </a:cubicBezTo>
                            <a:cubicBezTo>
                              <a:pt x="90" y="120"/>
                              <a:pt x="60" y="181"/>
                              <a:pt x="45" y="181"/>
                            </a:cubicBezTo>
                            <a:close/>
                          </a:path>
                        </a:pathLst>
                      </a:custGeom>
                      <a:noFill/>
                      <a:ln w="6480">
                        <a:solidFill>
                          <a:srgbClr val="cc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 rot="10800000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3" name="Freeform 587"/>
                      <p:cNvSpPr/>
                      <p:nvPr/>
                    </p:nvSpPr>
                    <p:spPr>
                      <a:xfrm flipV="1" rot="20812200">
                        <a:off x="4931280" y="5530680"/>
                        <a:ext cx="10800" cy="22680"/>
                      </a:xfrm>
                      <a:custGeom>
                        <a:avLst/>
                        <a:gdLst>
                          <a:gd name="textAreaLeft" fmla="*/ 0 w 10800"/>
                          <a:gd name="textAreaRight" fmla="*/ 11160 w 10800"/>
                          <a:gd name="textAreaTop" fmla="*/ -360 h 22680"/>
                          <a:gd name="textAreaBottom" fmla="*/ 22680 h 22680"/>
                        </a:gdLst>
                        <a:ahLst/>
                        <a:rect l="textAreaLeft" t="textAreaTop" r="textAreaRight" b="textAreaBottom"/>
                        <a:pathLst>
                          <a:path w="90" h="181">
                            <a:moveTo>
                              <a:pt x="45" y="181"/>
                            </a:moveTo>
                            <a:cubicBezTo>
                              <a:pt x="30" y="181"/>
                              <a:pt x="0" y="120"/>
                              <a:pt x="0" y="90"/>
                            </a:cubicBezTo>
                            <a:cubicBezTo>
                              <a:pt x="0" y="60"/>
                              <a:pt x="30" y="0"/>
                              <a:pt x="45" y="0"/>
                            </a:cubicBezTo>
                            <a:cubicBezTo>
                              <a:pt x="60" y="0"/>
                              <a:pt x="90" y="60"/>
                              <a:pt x="90" y="90"/>
                            </a:cubicBezTo>
                            <a:cubicBezTo>
                              <a:pt x="90" y="120"/>
                              <a:pt x="60" y="181"/>
                              <a:pt x="45" y="181"/>
                            </a:cubicBezTo>
                            <a:close/>
                          </a:path>
                        </a:pathLst>
                      </a:custGeom>
                      <a:noFill/>
                      <a:ln w="6480">
                        <a:solidFill>
                          <a:srgbClr val="cc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 rot="10800000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4" name="Freeform 588"/>
                      <p:cNvSpPr/>
                      <p:nvPr/>
                    </p:nvSpPr>
                    <p:spPr>
                      <a:xfrm flipH="1" flipV="1" rot="13330200">
                        <a:off x="4944600" y="5502600"/>
                        <a:ext cx="10080" cy="23040"/>
                      </a:xfrm>
                      <a:custGeom>
                        <a:avLst/>
                        <a:gdLst>
                          <a:gd name="textAreaLeft" fmla="*/ 360 w 10080"/>
                          <a:gd name="textAreaRight" fmla="*/ 10800 w 10080"/>
                          <a:gd name="textAreaTop" fmla="*/ 360 h 23040"/>
                          <a:gd name="textAreaBottom" fmla="*/ 23760 h 23040"/>
                        </a:gdLst>
                        <a:ahLst/>
                        <a:rect l="textAreaLeft" t="textAreaTop" r="textAreaRight" b="textAreaBottom"/>
                        <a:pathLst>
                          <a:path w="90" h="181">
                            <a:moveTo>
                              <a:pt x="45" y="181"/>
                            </a:moveTo>
                            <a:cubicBezTo>
                              <a:pt x="30" y="181"/>
                              <a:pt x="0" y="120"/>
                              <a:pt x="0" y="90"/>
                            </a:cubicBezTo>
                            <a:cubicBezTo>
                              <a:pt x="0" y="60"/>
                              <a:pt x="30" y="0"/>
                              <a:pt x="45" y="0"/>
                            </a:cubicBezTo>
                            <a:cubicBezTo>
                              <a:pt x="60" y="0"/>
                              <a:pt x="90" y="60"/>
                              <a:pt x="90" y="90"/>
                            </a:cubicBezTo>
                            <a:cubicBezTo>
                              <a:pt x="90" y="120"/>
                              <a:pt x="60" y="181"/>
                              <a:pt x="45" y="181"/>
                            </a:cubicBezTo>
                            <a:close/>
                          </a:path>
                        </a:pathLst>
                      </a:custGeom>
                      <a:noFill/>
                      <a:ln w="6480">
                        <a:solidFill>
                          <a:srgbClr val="cc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5" name="Freeform 589"/>
                      <p:cNvSpPr/>
                      <p:nvPr/>
                    </p:nvSpPr>
                    <p:spPr>
                      <a:xfrm flipH="1" flipV="1" rot="14436600">
                        <a:off x="4945680" y="5504040"/>
                        <a:ext cx="9720" cy="25200"/>
                      </a:xfrm>
                      <a:custGeom>
                        <a:avLst/>
                        <a:gdLst>
                          <a:gd name="textAreaLeft" fmla="*/ -360 w 9720"/>
                          <a:gd name="textAreaRight" fmla="*/ 9720 w 9720"/>
                          <a:gd name="textAreaTop" fmla="*/ 360 h 25200"/>
                          <a:gd name="textAreaBottom" fmla="*/ 25920 h 25200"/>
                        </a:gdLst>
                        <a:ahLst/>
                        <a:rect l="textAreaLeft" t="textAreaTop" r="textAreaRight" b="textAreaBottom"/>
                        <a:pathLst>
                          <a:path w="90" h="181">
                            <a:moveTo>
                              <a:pt x="45" y="181"/>
                            </a:moveTo>
                            <a:cubicBezTo>
                              <a:pt x="30" y="181"/>
                              <a:pt x="0" y="120"/>
                              <a:pt x="0" y="90"/>
                            </a:cubicBezTo>
                            <a:cubicBezTo>
                              <a:pt x="0" y="60"/>
                              <a:pt x="30" y="0"/>
                              <a:pt x="45" y="0"/>
                            </a:cubicBezTo>
                            <a:cubicBezTo>
                              <a:pt x="60" y="0"/>
                              <a:pt x="90" y="60"/>
                              <a:pt x="90" y="90"/>
                            </a:cubicBezTo>
                            <a:cubicBezTo>
                              <a:pt x="90" y="120"/>
                              <a:pt x="60" y="181"/>
                              <a:pt x="45" y="181"/>
                            </a:cubicBezTo>
                            <a:close/>
                          </a:path>
                        </a:pathLst>
                      </a:custGeom>
                      <a:noFill/>
                      <a:ln w="6480">
                        <a:solidFill>
                          <a:srgbClr val="cc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240" bIns="-21240" anchor="t" rot="10800000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6" name="Freeform 590"/>
                      <p:cNvSpPr/>
                      <p:nvPr/>
                    </p:nvSpPr>
                    <p:spPr>
                      <a:xfrm flipH="1" flipV="1" rot="15692400">
                        <a:off x="4947120" y="5507640"/>
                        <a:ext cx="9720" cy="24480"/>
                      </a:xfrm>
                      <a:custGeom>
                        <a:avLst/>
                        <a:gdLst>
                          <a:gd name="textAreaLeft" fmla="*/ -360 w 9720"/>
                          <a:gd name="textAreaRight" fmla="*/ 9720 w 9720"/>
                          <a:gd name="textAreaTop" fmla="*/ 360 h 24480"/>
                          <a:gd name="textAreaBottom" fmla="*/ 25200 h 24480"/>
                        </a:gdLst>
                        <a:ahLst/>
                        <a:rect l="textAreaLeft" t="textAreaTop" r="textAreaRight" b="textAreaBottom"/>
                        <a:pathLst>
                          <a:path w="90" h="181">
                            <a:moveTo>
                              <a:pt x="45" y="181"/>
                            </a:moveTo>
                            <a:cubicBezTo>
                              <a:pt x="30" y="181"/>
                              <a:pt x="0" y="120"/>
                              <a:pt x="0" y="90"/>
                            </a:cubicBezTo>
                            <a:cubicBezTo>
                              <a:pt x="0" y="60"/>
                              <a:pt x="30" y="0"/>
                              <a:pt x="45" y="0"/>
                            </a:cubicBezTo>
                            <a:cubicBezTo>
                              <a:pt x="60" y="0"/>
                              <a:pt x="90" y="60"/>
                              <a:pt x="90" y="90"/>
                            </a:cubicBezTo>
                            <a:cubicBezTo>
                              <a:pt x="90" y="120"/>
                              <a:pt x="60" y="181"/>
                              <a:pt x="45" y="181"/>
                            </a:cubicBezTo>
                            <a:close/>
                          </a:path>
                        </a:pathLst>
                      </a:custGeom>
                      <a:noFill/>
                      <a:ln w="6480">
                        <a:solidFill>
                          <a:srgbClr val="cc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960" bIns="-21960" anchor="t" rot="10800000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7" name="Freeform 591"/>
                      <p:cNvSpPr/>
                      <p:nvPr/>
                    </p:nvSpPr>
                    <p:spPr>
                      <a:xfrm flipV="1" rot="18252000">
                        <a:off x="4879080" y="5484960"/>
                        <a:ext cx="8640" cy="16560"/>
                      </a:xfrm>
                      <a:custGeom>
                        <a:avLst/>
                        <a:gdLst>
                          <a:gd name="textAreaLeft" fmla="*/ 0 w 8640"/>
                          <a:gd name="textAreaRight" fmla="*/ 9000 w 8640"/>
                          <a:gd name="textAreaTop" fmla="*/ 360 h 16560"/>
                          <a:gd name="textAreaBottom" fmla="*/ 17280 h 16560"/>
                        </a:gdLst>
                        <a:ahLst/>
                        <a:rect l="textAreaLeft" t="textAreaTop" r="textAreaRight" b="textAreaBottom"/>
                        <a:pathLst>
                          <a:path w="36" h="68">
                            <a:moveTo>
                              <a:pt x="9" y="0"/>
                            </a:moveTo>
                            <a:cubicBezTo>
                              <a:pt x="10" y="0"/>
                              <a:pt x="30" y="5"/>
                              <a:pt x="24" y="12"/>
                            </a:cubicBezTo>
                            <a:cubicBezTo>
                              <a:pt x="20" y="17"/>
                              <a:pt x="6" y="18"/>
                              <a:pt x="6" y="18"/>
                            </a:cubicBezTo>
                            <a:cubicBezTo>
                              <a:pt x="8" y="21"/>
                              <a:pt x="9" y="25"/>
                              <a:pt x="12" y="27"/>
                            </a:cubicBezTo>
                            <a:cubicBezTo>
                              <a:pt x="22" y="35"/>
                              <a:pt x="32" y="35"/>
                              <a:pt x="6" y="42"/>
                            </a:cubicBezTo>
                            <a:cubicBezTo>
                              <a:pt x="36" y="52"/>
                              <a:pt x="23" y="55"/>
                              <a:pt x="0" y="60"/>
                            </a:cubicBezTo>
                            <a:cubicBezTo>
                              <a:pt x="13" y="68"/>
                              <a:pt x="8" y="63"/>
                              <a:pt x="21" y="63"/>
                            </a:cubicBezTo>
                          </a:path>
                        </a:pathLst>
                      </a:custGeom>
                      <a:solidFill>
                        <a:srgbClr val="663366"/>
                      </a:solidFill>
                      <a:ln w="9360">
                        <a:solidFill>
                          <a:srgbClr val="6633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880" bIns="-29880" anchor="t" rot="10800000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8" name="Freeform 592"/>
                      <p:cNvSpPr/>
                      <p:nvPr/>
                    </p:nvSpPr>
                    <p:spPr>
                      <a:xfrm flipV="1" rot="18252000">
                        <a:off x="4882680" y="5480280"/>
                        <a:ext cx="8280" cy="16560"/>
                      </a:xfrm>
                      <a:custGeom>
                        <a:avLst/>
                        <a:gdLst>
                          <a:gd name="textAreaLeft" fmla="*/ 0 w 8280"/>
                          <a:gd name="textAreaRight" fmla="*/ 8640 w 8280"/>
                          <a:gd name="textAreaTop" fmla="*/ 360 h 16560"/>
                          <a:gd name="textAreaBottom" fmla="*/ 17280 h 16560"/>
                        </a:gdLst>
                        <a:ahLst/>
                        <a:rect l="textAreaLeft" t="textAreaTop" r="textAreaRight" b="textAreaBottom"/>
                        <a:pathLst>
                          <a:path w="36" h="68">
                            <a:moveTo>
                              <a:pt x="9" y="0"/>
                            </a:moveTo>
                            <a:cubicBezTo>
                              <a:pt x="10" y="0"/>
                              <a:pt x="30" y="5"/>
                              <a:pt x="24" y="12"/>
                            </a:cubicBezTo>
                            <a:cubicBezTo>
                              <a:pt x="20" y="17"/>
                              <a:pt x="6" y="18"/>
                              <a:pt x="6" y="18"/>
                            </a:cubicBezTo>
                            <a:cubicBezTo>
                              <a:pt x="8" y="21"/>
                              <a:pt x="9" y="25"/>
                              <a:pt x="12" y="27"/>
                            </a:cubicBezTo>
                            <a:cubicBezTo>
                              <a:pt x="22" y="35"/>
                              <a:pt x="32" y="35"/>
                              <a:pt x="6" y="42"/>
                            </a:cubicBezTo>
                            <a:cubicBezTo>
                              <a:pt x="36" y="52"/>
                              <a:pt x="23" y="55"/>
                              <a:pt x="0" y="60"/>
                            </a:cubicBezTo>
                            <a:cubicBezTo>
                              <a:pt x="13" y="68"/>
                              <a:pt x="8" y="63"/>
                              <a:pt x="21" y="63"/>
                            </a:cubicBezTo>
                          </a:path>
                        </a:pathLst>
                      </a:custGeom>
                      <a:solidFill>
                        <a:srgbClr val="663366"/>
                      </a:solidFill>
                      <a:ln w="9360">
                        <a:solidFill>
                          <a:srgbClr val="6633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880" bIns="-29880" anchor="t" rot="10800000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9" name="Oval 593"/>
                      <p:cNvSpPr/>
                      <p:nvPr/>
                    </p:nvSpPr>
                    <p:spPr>
                      <a:xfrm flipV="1" rot="18252000">
                        <a:off x="4868280" y="5480280"/>
                        <a:ext cx="5040" cy="11160"/>
                      </a:xfrm>
                      <a:prstGeom prst="ellipse">
                        <a:avLst/>
                      </a:prstGeom>
                      <a:solidFill>
                        <a:srgbClr val="663366"/>
                      </a:solidFill>
                      <a:ln w="9360">
                        <a:solidFill>
                          <a:srgbClr val="66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 anchorCtr="1" vert="eaVert" rot="10800000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0" name="Oval 594"/>
                      <p:cNvSpPr/>
                      <p:nvPr/>
                    </p:nvSpPr>
                    <p:spPr>
                      <a:xfrm flipV="1" rot="18252000">
                        <a:off x="4870800" y="5476680"/>
                        <a:ext cx="5040" cy="11160"/>
                      </a:xfrm>
                      <a:prstGeom prst="ellipse">
                        <a:avLst/>
                      </a:prstGeom>
                      <a:solidFill>
                        <a:srgbClr val="663366"/>
                      </a:solidFill>
                      <a:ln w="9360">
                        <a:solidFill>
                          <a:srgbClr val="66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 anchorCtr="1" vert="eaVert" rot="10800000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1" name="Oval 595"/>
                      <p:cNvSpPr/>
                      <p:nvPr/>
                    </p:nvSpPr>
                    <p:spPr>
                      <a:xfrm flipH="1" flipV="1" rot="3727800">
                        <a:off x="4658760" y="5460120"/>
                        <a:ext cx="41760" cy="5616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666699"/>
                          </a:gs>
                          <a:gs pos="100000">
                            <a:srgbClr val="424267"/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6480" bIns="-6480" anchor="t" anchorCtr="1" vert="eaVer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2" name="AutoShape 596"/>
                      <p:cNvSpPr/>
                      <p:nvPr/>
                    </p:nvSpPr>
                    <p:spPr>
                      <a:xfrm flipV="1" rot="3728400">
                        <a:off x="4680360" y="5495040"/>
                        <a:ext cx="19440" cy="19440"/>
                      </a:xfrm>
                      <a:custGeom>
                        <a:avLst/>
                        <a:gdLst>
                          <a:gd name="textAreaLeft" fmla="*/ 11880 w 19440"/>
                          <a:gd name="textAreaRight" fmla="*/ 12600 w 19440"/>
                          <a:gd name="textAreaTop" fmla="*/ 720 h 19440"/>
                          <a:gd name="textAreaBottom" fmla="*/ 18720 h 1944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7719" y="2482"/>
                              <a:pt x="13837" y="5080"/>
                              <a:pt x="13837" y="10800"/>
                            </a:cubicBezTo>
                            <a:cubicBezTo>
                              <a:pt x="13837" y="16520"/>
                              <a:pt x="17719" y="19118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0" bIns="-28800" anchor="t" anchorCtr="1" vert="eaVer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3" name="AutoShape 597"/>
                      <p:cNvSpPr/>
                      <p:nvPr/>
                    </p:nvSpPr>
                    <p:spPr>
                      <a:xfrm flipH="1" flipV="1" rot="3727800">
                        <a:off x="4659840" y="5461920"/>
                        <a:ext cx="19440" cy="19440"/>
                      </a:xfrm>
                      <a:custGeom>
                        <a:avLst/>
                        <a:gdLst>
                          <a:gd name="textAreaLeft" fmla="*/ 11880 w 19440"/>
                          <a:gd name="textAreaRight" fmla="*/ 12600 w 19440"/>
                          <a:gd name="textAreaTop" fmla="*/ 720 h 19440"/>
                          <a:gd name="textAreaBottom" fmla="*/ 18720 h 1944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7719" y="2482"/>
                              <a:pt x="13837" y="5080"/>
                              <a:pt x="13837" y="10800"/>
                            </a:cubicBezTo>
                            <a:cubicBezTo>
                              <a:pt x="13837" y="16520"/>
                              <a:pt x="17719" y="19118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0" bIns="-28800" anchor="t" anchorCtr="1" vert="eaVer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4" name="Freeform 598"/>
                      <p:cNvSpPr/>
                      <p:nvPr/>
                    </p:nvSpPr>
                    <p:spPr>
                      <a:xfrm flipH="1" flipV="1" rot="20406600">
                        <a:off x="4656600" y="5505120"/>
                        <a:ext cx="10800" cy="23400"/>
                      </a:xfrm>
                      <a:custGeom>
                        <a:avLst/>
                        <a:gdLst>
                          <a:gd name="textAreaLeft" fmla="*/ 360 w 10800"/>
                          <a:gd name="textAreaRight" fmla="*/ 11520 w 10800"/>
                          <a:gd name="textAreaTop" fmla="*/ -360 h 23400"/>
                          <a:gd name="textAreaBottom" fmla="*/ 23400 h 23400"/>
                        </a:gdLst>
                        <a:ahLst/>
                        <a:rect l="textAreaLeft" t="textAreaTop" r="textAreaRight" b="textAreaBottom"/>
                        <a:pathLst>
                          <a:path w="90" h="181">
                            <a:moveTo>
                              <a:pt x="45" y="181"/>
                            </a:moveTo>
                            <a:cubicBezTo>
                              <a:pt x="30" y="181"/>
                              <a:pt x="0" y="120"/>
                              <a:pt x="0" y="90"/>
                            </a:cubicBezTo>
                            <a:cubicBezTo>
                              <a:pt x="0" y="60"/>
                              <a:pt x="30" y="0"/>
                              <a:pt x="45" y="0"/>
                            </a:cubicBezTo>
                            <a:cubicBezTo>
                              <a:pt x="60" y="0"/>
                              <a:pt x="90" y="60"/>
                              <a:pt x="90" y="90"/>
                            </a:cubicBezTo>
                            <a:cubicBezTo>
                              <a:pt x="90" y="120"/>
                              <a:pt x="60" y="181"/>
                              <a:pt x="45" y="181"/>
                            </a:cubicBezTo>
                            <a:close/>
                          </a:path>
                        </a:pathLst>
                      </a:custGeom>
                      <a:noFill/>
                      <a:ln w="6480">
                        <a:solidFill>
                          <a:srgbClr val="cc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 rot="10800000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5" name="Freeform 599"/>
                      <p:cNvSpPr/>
                      <p:nvPr/>
                    </p:nvSpPr>
                    <p:spPr>
                      <a:xfrm flipH="1" flipV="1" rot="21512400">
                        <a:off x="4654080" y="5505120"/>
                        <a:ext cx="10800" cy="23040"/>
                      </a:xfrm>
                      <a:custGeom>
                        <a:avLst/>
                        <a:gdLst>
                          <a:gd name="textAreaLeft" fmla="*/ 360 w 10800"/>
                          <a:gd name="textAreaRight" fmla="*/ 11520 w 10800"/>
                          <a:gd name="textAreaTop" fmla="*/ 360 h 23040"/>
                          <a:gd name="textAreaBottom" fmla="*/ 23760 h 23040"/>
                        </a:gdLst>
                        <a:ahLst/>
                        <a:rect l="textAreaLeft" t="textAreaTop" r="textAreaRight" b="textAreaBottom"/>
                        <a:pathLst>
                          <a:path w="90" h="181">
                            <a:moveTo>
                              <a:pt x="45" y="181"/>
                            </a:moveTo>
                            <a:cubicBezTo>
                              <a:pt x="30" y="181"/>
                              <a:pt x="0" y="120"/>
                              <a:pt x="0" y="90"/>
                            </a:cubicBezTo>
                            <a:cubicBezTo>
                              <a:pt x="0" y="60"/>
                              <a:pt x="30" y="0"/>
                              <a:pt x="45" y="0"/>
                            </a:cubicBezTo>
                            <a:cubicBezTo>
                              <a:pt x="60" y="0"/>
                              <a:pt x="90" y="60"/>
                              <a:pt x="90" y="90"/>
                            </a:cubicBezTo>
                            <a:cubicBezTo>
                              <a:pt x="90" y="120"/>
                              <a:pt x="60" y="181"/>
                              <a:pt x="45" y="181"/>
                            </a:cubicBezTo>
                            <a:close/>
                          </a:path>
                        </a:pathLst>
                      </a:custGeom>
                      <a:noFill/>
                      <a:ln w="6480">
                        <a:solidFill>
                          <a:srgbClr val="cc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 rot="10800000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6" name="Freeform 600"/>
                      <p:cNvSpPr/>
                      <p:nvPr/>
                    </p:nvSpPr>
                    <p:spPr>
                      <a:xfrm flipH="1" flipV="1" rot="1168200">
                        <a:off x="4649400" y="5505840"/>
                        <a:ext cx="10800" cy="23040"/>
                      </a:xfrm>
                      <a:custGeom>
                        <a:avLst/>
                        <a:gdLst>
                          <a:gd name="textAreaLeft" fmla="*/ 360 w 10800"/>
                          <a:gd name="textAreaRight" fmla="*/ 11520 w 10800"/>
                          <a:gd name="textAreaTop" fmla="*/ 360 h 23040"/>
                          <a:gd name="textAreaBottom" fmla="*/ 23760 h 23040"/>
                        </a:gdLst>
                        <a:ahLst/>
                        <a:rect l="textAreaLeft" t="textAreaTop" r="textAreaRight" b="textAreaBottom"/>
                        <a:pathLst>
                          <a:path w="90" h="181">
                            <a:moveTo>
                              <a:pt x="45" y="181"/>
                            </a:moveTo>
                            <a:cubicBezTo>
                              <a:pt x="30" y="181"/>
                              <a:pt x="0" y="120"/>
                              <a:pt x="0" y="90"/>
                            </a:cubicBezTo>
                            <a:cubicBezTo>
                              <a:pt x="0" y="60"/>
                              <a:pt x="30" y="0"/>
                              <a:pt x="45" y="0"/>
                            </a:cubicBezTo>
                            <a:cubicBezTo>
                              <a:pt x="60" y="0"/>
                              <a:pt x="90" y="60"/>
                              <a:pt x="90" y="90"/>
                            </a:cubicBezTo>
                            <a:cubicBezTo>
                              <a:pt x="90" y="120"/>
                              <a:pt x="60" y="181"/>
                              <a:pt x="45" y="181"/>
                            </a:cubicBezTo>
                            <a:close/>
                          </a:path>
                        </a:pathLst>
                      </a:custGeom>
                      <a:noFill/>
                      <a:ln w="6480">
                        <a:solidFill>
                          <a:srgbClr val="cc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 rot="10800000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7" name="Freeform 601"/>
                      <p:cNvSpPr/>
                      <p:nvPr/>
                    </p:nvSpPr>
                    <p:spPr>
                      <a:xfrm flipV="1" rot="8649600">
                        <a:off x="4640040" y="5476680"/>
                        <a:ext cx="10800" cy="23040"/>
                      </a:xfrm>
                      <a:custGeom>
                        <a:avLst/>
                        <a:gdLst>
                          <a:gd name="textAreaLeft" fmla="*/ 0 w 10800"/>
                          <a:gd name="textAreaRight" fmla="*/ 11160 w 10800"/>
                          <a:gd name="textAreaTop" fmla="*/ 360 h 23040"/>
                          <a:gd name="textAreaBottom" fmla="*/ 23760 h 23040"/>
                        </a:gdLst>
                        <a:ahLst/>
                        <a:rect l="textAreaLeft" t="textAreaTop" r="textAreaRight" b="textAreaBottom"/>
                        <a:pathLst>
                          <a:path w="90" h="181">
                            <a:moveTo>
                              <a:pt x="45" y="181"/>
                            </a:moveTo>
                            <a:cubicBezTo>
                              <a:pt x="30" y="181"/>
                              <a:pt x="0" y="120"/>
                              <a:pt x="0" y="90"/>
                            </a:cubicBezTo>
                            <a:cubicBezTo>
                              <a:pt x="0" y="60"/>
                              <a:pt x="30" y="0"/>
                              <a:pt x="45" y="0"/>
                            </a:cubicBezTo>
                            <a:cubicBezTo>
                              <a:pt x="60" y="0"/>
                              <a:pt x="90" y="60"/>
                              <a:pt x="90" y="90"/>
                            </a:cubicBezTo>
                            <a:cubicBezTo>
                              <a:pt x="90" y="120"/>
                              <a:pt x="60" y="181"/>
                              <a:pt x="45" y="181"/>
                            </a:cubicBezTo>
                            <a:close/>
                          </a:path>
                        </a:pathLst>
                      </a:custGeom>
                      <a:noFill/>
                      <a:ln w="6480">
                        <a:solidFill>
                          <a:srgbClr val="cc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8" name="Freeform 602"/>
                      <p:cNvSpPr/>
                      <p:nvPr/>
                    </p:nvSpPr>
                    <p:spPr>
                      <a:xfrm flipV="1" rot="7544400">
                        <a:off x="4638240" y="5477760"/>
                        <a:ext cx="9720" cy="24840"/>
                      </a:xfrm>
                      <a:custGeom>
                        <a:avLst/>
                        <a:gdLst>
                          <a:gd name="textAreaLeft" fmla="*/ 0 w 9720"/>
                          <a:gd name="textAreaRight" fmla="*/ 10080 w 9720"/>
                          <a:gd name="textAreaTop" fmla="*/ -360 h 24840"/>
                          <a:gd name="textAreaBottom" fmla="*/ 24840 h 24840"/>
                        </a:gdLst>
                        <a:ahLst/>
                        <a:rect l="textAreaLeft" t="textAreaTop" r="textAreaRight" b="textAreaBottom"/>
                        <a:pathLst>
                          <a:path w="90" h="181">
                            <a:moveTo>
                              <a:pt x="45" y="181"/>
                            </a:moveTo>
                            <a:cubicBezTo>
                              <a:pt x="30" y="181"/>
                              <a:pt x="0" y="120"/>
                              <a:pt x="0" y="90"/>
                            </a:cubicBezTo>
                            <a:cubicBezTo>
                              <a:pt x="0" y="60"/>
                              <a:pt x="30" y="0"/>
                              <a:pt x="45" y="0"/>
                            </a:cubicBezTo>
                            <a:cubicBezTo>
                              <a:pt x="60" y="0"/>
                              <a:pt x="90" y="60"/>
                              <a:pt x="90" y="90"/>
                            </a:cubicBezTo>
                            <a:cubicBezTo>
                              <a:pt x="90" y="120"/>
                              <a:pt x="60" y="181"/>
                              <a:pt x="45" y="181"/>
                            </a:cubicBezTo>
                            <a:close/>
                          </a:path>
                        </a:pathLst>
                      </a:custGeom>
                      <a:noFill/>
                      <a:ln w="6480">
                        <a:solidFill>
                          <a:srgbClr val="cc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0" bIns="-21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9" name="Freeform 603"/>
                      <p:cNvSpPr/>
                      <p:nvPr/>
                    </p:nvSpPr>
                    <p:spPr>
                      <a:xfrm flipV="1" rot="6288000">
                        <a:off x="4636440" y="5481720"/>
                        <a:ext cx="9720" cy="24480"/>
                      </a:xfrm>
                      <a:custGeom>
                        <a:avLst/>
                        <a:gdLst>
                          <a:gd name="textAreaLeft" fmla="*/ 0 w 9720"/>
                          <a:gd name="textAreaRight" fmla="*/ 10080 w 9720"/>
                          <a:gd name="textAreaTop" fmla="*/ 360 h 24480"/>
                          <a:gd name="textAreaBottom" fmla="*/ 25200 h 24480"/>
                        </a:gdLst>
                        <a:ahLst/>
                        <a:rect l="textAreaLeft" t="textAreaTop" r="textAreaRight" b="textAreaBottom"/>
                        <a:pathLst>
                          <a:path w="90" h="181">
                            <a:moveTo>
                              <a:pt x="45" y="181"/>
                            </a:moveTo>
                            <a:cubicBezTo>
                              <a:pt x="30" y="181"/>
                              <a:pt x="0" y="120"/>
                              <a:pt x="0" y="90"/>
                            </a:cubicBezTo>
                            <a:cubicBezTo>
                              <a:pt x="0" y="60"/>
                              <a:pt x="30" y="0"/>
                              <a:pt x="45" y="0"/>
                            </a:cubicBezTo>
                            <a:cubicBezTo>
                              <a:pt x="60" y="0"/>
                              <a:pt x="90" y="60"/>
                              <a:pt x="90" y="90"/>
                            </a:cubicBezTo>
                            <a:cubicBezTo>
                              <a:pt x="90" y="120"/>
                              <a:pt x="60" y="181"/>
                              <a:pt x="45" y="181"/>
                            </a:cubicBezTo>
                            <a:close/>
                          </a:path>
                        </a:pathLst>
                      </a:custGeom>
                      <a:noFill/>
                      <a:ln w="6480">
                        <a:solidFill>
                          <a:srgbClr val="cc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960" bIns="-21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0" name="Freeform 604"/>
                      <p:cNvSpPr/>
                      <p:nvPr/>
                    </p:nvSpPr>
                    <p:spPr>
                      <a:xfrm flipH="1" flipV="1" rot="3727800">
                        <a:off x="4710240" y="5464800"/>
                        <a:ext cx="8280" cy="16920"/>
                      </a:xfrm>
                      <a:custGeom>
                        <a:avLst/>
                        <a:gdLst>
                          <a:gd name="textAreaLeft" fmla="*/ -360 w 8280"/>
                          <a:gd name="textAreaRight" fmla="*/ 8280 w 8280"/>
                          <a:gd name="textAreaTop" fmla="*/ -360 h 16920"/>
                          <a:gd name="textAreaBottom" fmla="*/ 16920 h 16920"/>
                        </a:gdLst>
                        <a:ahLst/>
                        <a:rect l="textAreaLeft" t="textAreaTop" r="textAreaRight" b="textAreaBottom"/>
                        <a:pathLst>
                          <a:path w="36" h="68">
                            <a:moveTo>
                              <a:pt x="9" y="0"/>
                            </a:moveTo>
                            <a:cubicBezTo>
                              <a:pt x="10" y="0"/>
                              <a:pt x="30" y="5"/>
                              <a:pt x="24" y="12"/>
                            </a:cubicBezTo>
                            <a:cubicBezTo>
                              <a:pt x="20" y="17"/>
                              <a:pt x="6" y="18"/>
                              <a:pt x="6" y="18"/>
                            </a:cubicBezTo>
                            <a:cubicBezTo>
                              <a:pt x="8" y="21"/>
                              <a:pt x="9" y="25"/>
                              <a:pt x="12" y="27"/>
                            </a:cubicBezTo>
                            <a:cubicBezTo>
                              <a:pt x="22" y="35"/>
                              <a:pt x="32" y="35"/>
                              <a:pt x="6" y="42"/>
                            </a:cubicBezTo>
                            <a:cubicBezTo>
                              <a:pt x="36" y="52"/>
                              <a:pt x="23" y="55"/>
                              <a:pt x="0" y="60"/>
                            </a:cubicBezTo>
                            <a:cubicBezTo>
                              <a:pt x="13" y="68"/>
                              <a:pt x="8" y="63"/>
                              <a:pt x="21" y="63"/>
                            </a:cubicBezTo>
                          </a:path>
                        </a:pathLst>
                      </a:custGeom>
                      <a:solidFill>
                        <a:srgbClr val="663366"/>
                      </a:solidFill>
                      <a:ln w="9360">
                        <a:solidFill>
                          <a:srgbClr val="6633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1" name="Freeform 605"/>
                      <p:cNvSpPr/>
                      <p:nvPr/>
                    </p:nvSpPr>
                    <p:spPr>
                      <a:xfrm flipH="1" flipV="1" rot="3727800">
                        <a:off x="4707360" y="5461200"/>
                        <a:ext cx="7560" cy="16560"/>
                      </a:xfrm>
                      <a:custGeom>
                        <a:avLst/>
                        <a:gdLst>
                          <a:gd name="textAreaLeft" fmla="*/ -360 w 7560"/>
                          <a:gd name="textAreaRight" fmla="*/ 7560 w 7560"/>
                          <a:gd name="textAreaTop" fmla="*/ 360 h 16560"/>
                          <a:gd name="textAreaBottom" fmla="*/ 17280 h 16560"/>
                        </a:gdLst>
                        <a:ahLst/>
                        <a:rect l="textAreaLeft" t="textAreaTop" r="textAreaRight" b="textAreaBottom"/>
                        <a:pathLst>
                          <a:path w="36" h="68">
                            <a:moveTo>
                              <a:pt x="9" y="0"/>
                            </a:moveTo>
                            <a:cubicBezTo>
                              <a:pt x="10" y="0"/>
                              <a:pt x="30" y="5"/>
                              <a:pt x="24" y="12"/>
                            </a:cubicBezTo>
                            <a:cubicBezTo>
                              <a:pt x="20" y="17"/>
                              <a:pt x="6" y="18"/>
                              <a:pt x="6" y="18"/>
                            </a:cubicBezTo>
                            <a:cubicBezTo>
                              <a:pt x="8" y="21"/>
                              <a:pt x="9" y="25"/>
                              <a:pt x="12" y="27"/>
                            </a:cubicBezTo>
                            <a:cubicBezTo>
                              <a:pt x="22" y="35"/>
                              <a:pt x="32" y="35"/>
                              <a:pt x="6" y="42"/>
                            </a:cubicBezTo>
                            <a:cubicBezTo>
                              <a:pt x="36" y="52"/>
                              <a:pt x="23" y="55"/>
                              <a:pt x="0" y="60"/>
                            </a:cubicBezTo>
                            <a:cubicBezTo>
                              <a:pt x="13" y="68"/>
                              <a:pt x="8" y="63"/>
                              <a:pt x="21" y="63"/>
                            </a:cubicBezTo>
                          </a:path>
                        </a:pathLst>
                      </a:custGeom>
                      <a:solidFill>
                        <a:srgbClr val="663366"/>
                      </a:solidFill>
                      <a:ln w="9360">
                        <a:solidFill>
                          <a:srgbClr val="6633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880" bIns="-29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2" name="Oval 606"/>
                      <p:cNvSpPr/>
                      <p:nvPr/>
                    </p:nvSpPr>
                    <p:spPr>
                      <a:xfrm flipH="1" flipV="1" rot="3727800">
                        <a:off x="4724640" y="5463360"/>
                        <a:ext cx="5040" cy="11520"/>
                      </a:xfrm>
                      <a:prstGeom prst="ellipse">
                        <a:avLst/>
                      </a:prstGeom>
                      <a:solidFill>
                        <a:srgbClr val="663366"/>
                      </a:solidFill>
                      <a:ln w="9360">
                        <a:solidFill>
                          <a:srgbClr val="66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 anchorCtr="1" vert="eaVer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3" name="Oval 607"/>
                      <p:cNvSpPr/>
                      <p:nvPr/>
                    </p:nvSpPr>
                    <p:spPr>
                      <a:xfrm flipH="1" flipV="1" rot="3727800">
                        <a:off x="4721400" y="5458680"/>
                        <a:ext cx="5400" cy="10800"/>
                      </a:xfrm>
                      <a:prstGeom prst="ellipse">
                        <a:avLst/>
                      </a:prstGeom>
                      <a:solidFill>
                        <a:srgbClr val="663366"/>
                      </a:solidFill>
                      <a:ln w="9360">
                        <a:solidFill>
                          <a:srgbClr val="66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 anchorCtr="1" vert="eaVer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4" name="AutoShape 608"/>
                      <p:cNvSpPr/>
                      <p:nvPr/>
                    </p:nvSpPr>
                    <p:spPr>
                      <a:xfrm flipH="1" flipV="1">
                        <a:off x="4941360" y="5525640"/>
                        <a:ext cx="20520" cy="18360"/>
                      </a:xfrm>
                      <a:custGeom>
                        <a:avLst/>
                        <a:gdLst>
                          <a:gd name="textAreaLeft" fmla="*/ 12240 w 20520"/>
                          <a:gd name="textAreaRight" fmla="*/ 12960 w 20520"/>
                          <a:gd name="textAreaTop" fmla="*/ 720 h 18360"/>
                          <a:gd name="textAreaBottom" fmla="*/ 17640 h 1836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7719" y="2482"/>
                              <a:pt x="13837" y="5080"/>
                              <a:pt x="13837" y="10800"/>
                            </a:cubicBezTo>
                            <a:cubicBezTo>
                              <a:pt x="13837" y="16520"/>
                              <a:pt x="17719" y="19118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9360">
                        <a:solidFill>
                          <a:srgbClr val="cc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880" bIns="-29880" anchor="ctr" rot="10800000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5" name="Freeform 609"/>
                      <p:cNvSpPr/>
                      <p:nvPr/>
                    </p:nvSpPr>
                    <p:spPr>
                      <a:xfrm rot="444000">
                        <a:off x="4769640" y="5384880"/>
                        <a:ext cx="71280" cy="115560"/>
                      </a:xfrm>
                      <a:custGeom>
                        <a:avLst/>
                        <a:gdLst>
                          <a:gd name="textAreaLeft" fmla="*/ 0 w 71280"/>
                          <a:gd name="textAreaRight" fmla="*/ 71640 w 71280"/>
                          <a:gd name="textAreaTop" fmla="*/ 0 h 115560"/>
                          <a:gd name="textAreaBottom" fmla="*/ 115920 h 115560"/>
                        </a:gdLst>
                        <a:ahLst/>
                        <a:rect l="textAreaLeft" t="textAreaTop" r="textAreaRight" b="textAreaBottom"/>
                        <a:pathLst>
                          <a:path w="196" h="430">
                            <a:moveTo>
                              <a:pt x="15" y="60"/>
                            </a:moveTo>
                            <a:cubicBezTo>
                              <a:pt x="30" y="0"/>
                              <a:pt x="76" y="7"/>
                              <a:pt x="106" y="14"/>
                            </a:cubicBezTo>
                            <a:cubicBezTo>
                              <a:pt x="136" y="21"/>
                              <a:pt x="196" y="45"/>
                              <a:pt x="196" y="105"/>
                            </a:cubicBezTo>
                            <a:cubicBezTo>
                              <a:pt x="196" y="165"/>
                              <a:pt x="136" y="332"/>
                              <a:pt x="106" y="377"/>
                            </a:cubicBezTo>
                            <a:cubicBezTo>
                              <a:pt x="76" y="422"/>
                              <a:pt x="30" y="430"/>
                              <a:pt x="15" y="377"/>
                            </a:cubicBezTo>
                            <a:cubicBezTo>
                              <a:pt x="0" y="324"/>
                              <a:pt x="0" y="120"/>
                              <a:pt x="15" y="60"/>
                            </a:cubicBezTo>
                            <a:close/>
                          </a:path>
                        </a:pathLst>
                      </a:custGeom>
                      <a:blipFill rotWithShape="0">
                        <a:blip r:embed="rId1"/>
                        <a:srcRect/>
                        <a:tile tx="0" ty="0" sx="100000" sy="100000" algn="ctr"/>
                      </a:blipFill>
                      <a:ln w="9360">
                        <a:solidFill>
                          <a:srgbClr val="6666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26" name="Group 526"/>
                  <p:cNvGrpSpPr/>
                  <p:nvPr/>
                </p:nvGrpSpPr>
                <p:grpSpPr>
                  <a:xfrm>
                    <a:off x="5146560" y="5912640"/>
                    <a:ext cx="338040" cy="352080"/>
                    <a:chOff x="5146560" y="5912640"/>
                    <a:chExt cx="338040" cy="352080"/>
                  </a:xfrm>
                </p:grpSpPr>
                <p:sp>
                  <p:nvSpPr>
                    <p:cNvPr id="527" name="Oval 527"/>
                    <p:cNvSpPr/>
                    <p:nvPr/>
                  </p:nvSpPr>
                  <p:spPr>
                    <a:xfrm flipV="1" rot="21360000">
                      <a:off x="5297040" y="6189120"/>
                      <a:ext cx="45360" cy="522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666699"/>
                        </a:gs>
                        <a:gs pos="100000">
                          <a:srgbClr val="424267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720" bIns="-9720" anchor="ctr" rot="10800000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8" name="AutoShape 528"/>
                    <p:cNvSpPr/>
                    <p:nvPr/>
                  </p:nvSpPr>
                  <p:spPr>
                    <a:xfrm flipV="1" rot="21360000">
                      <a:off x="5329800" y="6203160"/>
                      <a:ext cx="21240" cy="18360"/>
                    </a:xfrm>
                    <a:custGeom>
                      <a:avLst/>
                      <a:gdLst>
                        <a:gd name="textAreaLeft" fmla="*/ 12960 w 21240"/>
                        <a:gd name="textAreaRight" fmla="*/ 13680 w 21240"/>
                        <a:gd name="textAreaTop" fmla="*/ 720 h 18360"/>
                        <a:gd name="textAreaBottom" fmla="*/ 17640 h 183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7719" y="2482"/>
                            <a:pt x="13837" y="5080"/>
                            <a:pt x="13837" y="10800"/>
                          </a:cubicBezTo>
                          <a:cubicBezTo>
                            <a:pt x="13837" y="16520"/>
                            <a:pt x="17719" y="19118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880" bIns="-29880" anchor="ctr" rot="10800000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9" name="Freeform 529"/>
                    <p:cNvSpPr/>
                    <p:nvPr/>
                  </p:nvSpPr>
                  <p:spPr>
                    <a:xfrm flipV="1" rot="297000">
                      <a:off x="5310720" y="6239880"/>
                      <a:ext cx="10440" cy="23040"/>
                    </a:xfrm>
                    <a:custGeom>
                      <a:avLst/>
                      <a:gdLst>
                        <a:gd name="textAreaLeft" fmla="*/ 0 w 10440"/>
                        <a:gd name="textAreaRight" fmla="*/ 10800 w 10440"/>
                        <a:gd name="textAreaTop" fmla="*/ 360 h 23040"/>
                        <a:gd name="textAreaBottom" fmla="*/ 23760 h 23040"/>
                      </a:gdLst>
                      <a:ahLst/>
                      <a:rect l="textAreaLeft" t="textAreaTop" r="textAreaRight" b="textAreaBottom"/>
                      <a:pathLst>
                        <a:path w="90" h="181">
                          <a:moveTo>
                            <a:pt x="45" y="181"/>
                          </a:moveTo>
                          <a:cubicBezTo>
                            <a:pt x="30" y="181"/>
                            <a:pt x="0" y="120"/>
                            <a:pt x="0" y="90"/>
                          </a:cubicBezTo>
                          <a:cubicBezTo>
                            <a:pt x="0" y="60"/>
                            <a:pt x="30" y="0"/>
                            <a:pt x="45" y="0"/>
                          </a:cubicBezTo>
                          <a:cubicBezTo>
                            <a:pt x="60" y="0"/>
                            <a:pt x="90" y="60"/>
                            <a:pt x="90" y="90"/>
                          </a:cubicBezTo>
                          <a:cubicBezTo>
                            <a:pt x="90" y="120"/>
                            <a:pt x="60" y="181"/>
                            <a:pt x="45" y="181"/>
                          </a:cubicBezTo>
                          <a:close/>
                        </a:path>
                      </a:pathLst>
                    </a:custGeom>
                    <a:noFill/>
                    <a:ln w="6480">
                      <a:solidFill>
                        <a:srgbClr val="cc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 rot="10800000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0" name="Freeform 530"/>
                    <p:cNvSpPr/>
                    <p:nvPr/>
                  </p:nvSpPr>
                  <p:spPr>
                    <a:xfrm flipV="1" rot="20640600">
                      <a:off x="5314320" y="6239520"/>
                      <a:ext cx="10800" cy="23400"/>
                    </a:xfrm>
                    <a:custGeom>
                      <a:avLst/>
                      <a:gdLst>
                        <a:gd name="textAreaLeft" fmla="*/ 0 w 10800"/>
                        <a:gd name="textAreaRight" fmla="*/ 11160 w 10800"/>
                        <a:gd name="textAreaTop" fmla="*/ -360 h 23400"/>
                        <a:gd name="textAreaBottom" fmla="*/ 23400 h 23400"/>
                      </a:gdLst>
                      <a:ahLst/>
                      <a:rect l="textAreaLeft" t="textAreaTop" r="textAreaRight" b="textAreaBottom"/>
                      <a:pathLst>
                        <a:path w="90" h="181">
                          <a:moveTo>
                            <a:pt x="45" y="181"/>
                          </a:moveTo>
                          <a:cubicBezTo>
                            <a:pt x="30" y="181"/>
                            <a:pt x="0" y="120"/>
                            <a:pt x="0" y="90"/>
                          </a:cubicBezTo>
                          <a:cubicBezTo>
                            <a:pt x="0" y="60"/>
                            <a:pt x="30" y="0"/>
                            <a:pt x="45" y="0"/>
                          </a:cubicBezTo>
                          <a:cubicBezTo>
                            <a:pt x="60" y="0"/>
                            <a:pt x="90" y="60"/>
                            <a:pt x="90" y="90"/>
                          </a:cubicBezTo>
                          <a:cubicBezTo>
                            <a:pt x="90" y="120"/>
                            <a:pt x="60" y="181"/>
                            <a:pt x="45" y="181"/>
                          </a:cubicBezTo>
                          <a:close/>
                        </a:path>
                      </a:pathLst>
                    </a:custGeom>
                    <a:noFill/>
                    <a:ln w="6480">
                      <a:solidFill>
                        <a:srgbClr val="cc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 rot="10800000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1" name="Freeform 531"/>
                    <p:cNvSpPr/>
                    <p:nvPr/>
                  </p:nvSpPr>
                  <p:spPr>
                    <a:xfrm flipH="1" flipV="1" rot="16437600">
                      <a:off x="5332320" y="6229080"/>
                      <a:ext cx="9720" cy="24840"/>
                    </a:xfrm>
                    <a:custGeom>
                      <a:avLst/>
                      <a:gdLst>
                        <a:gd name="textAreaLeft" fmla="*/ -360 w 9720"/>
                        <a:gd name="textAreaRight" fmla="*/ 9720 w 9720"/>
                        <a:gd name="textAreaTop" fmla="*/ -360 h 24840"/>
                        <a:gd name="textAreaBottom" fmla="*/ 24840 h 24840"/>
                      </a:gdLst>
                      <a:ahLst/>
                      <a:rect l="textAreaLeft" t="textAreaTop" r="textAreaRight" b="textAreaBottom"/>
                      <a:pathLst>
                        <a:path w="90" h="181">
                          <a:moveTo>
                            <a:pt x="45" y="181"/>
                          </a:moveTo>
                          <a:cubicBezTo>
                            <a:pt x="30" y="181"/>
                            <a:pt x="0" y="120"/>
                            <a:pt x="0" y="90"/>
                          </a:cubicBezTo>
                          <a:cubicBezTo>
                            <a:pt x="0" y="60"/>
                            <a:pt x="30" y="0"/>
                            <a:pt x="45" y="0"/>
                          </a:cubicBezTo>
                          <a:cubicBezTo>
                            <a:pt x="60" y="0"/>
                            <a:pt x="90" y="60"/>
                            <a:pt x="90" y="90"/>
                          </a:cubicBezTo>
                          <a:cubicBezTo>
                            <a:pt x="90" y="120"/>
                            <a:pt x="60" y="181"/>
                            <a:pt x="45" y="181"/>
                          </a:cubicBezTo>
                          <a:close/>
                        </a:path>
                      </a:pathLst>
                    </a:custGeom>
                    <a:noFill/>
                    <a:ln w="6480">
                      <a:solidFill>
                        <a:srgbClr val="cc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 rot="10800000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2" name="Freeform 532"/>
                    <p:cNvSpPr/>
                    <p:nvPr/>
                  </p:nvSpPr>
                  <p:spPr>
                    <a:xfrm flipH="1" flipV="1" rot="17543400">
                      <a:off x="5333040" y="6230880"/>
                      <a:ext cx="9720" cy="24840"/>
                    </a:xfrm>
                    <a:custGeom>
                      <a:avLst/>
                      <a:gdLst>
                        <a:gd name="textAreaLeft" fmla="*/ -360 w 9720"/>
                        <a:gd name="textAreaRight" fmla="*/ 9720 w 9720"/>
                        <a:gd name="textAreaTop" fmla="*/ -360 h 24840"/>
                        <a:gd name="textAreaBottom" fmla="*/ 24840 h 24840"/>
                      </a:gdLst>
                      <a:ahLst/>
                      <a:rect l="textAreaLeft" t="textAreaTop" r="textAreaRight" b="textAreaBottom"/>
                      <a:pathLst>
                        <a:path w="90" h="181">
                          <a:moveTo>
                            <a:pt x="45" y="181"/>
                          </a:moveTo>
                          <a:cubicBezTo>
                            <a:pt x="30" y="181"/>
                            <a:pt x="0" y="120"/>
                            <a:pt x="0" y="90"/>
                          </a:cubicBezTo>
                          <a:cubicBezTo>
                            <a:pt x="0" y="60"/>
                            <a:pt x="30" y="0"/>
                            <a:pt x="45" y="0"/>
                          </a:cubicBezTo>
                          <a:cubicBezTo>
                            <a:pt x="60" y="0"/>
                            <a:pt x="90" y="60"/>
                            <a:pt x="90" y="90"/>
                          </a:cubicBezTo>
                          <a:cubicBezTo>
                            <a:pt x="90" y="120"/>
                            <a:pt x="60" y="181"/>
                            <a:pt x="45" y="181"/>
                          </a:cubicBezTo>
                          <a:close/>
                        </a:path>
                      </a:pathLst>
                    </a:custGeom>
                    <a:noFill/>
                    <a:ln w="6480">
                      <a:solidFill>
                        <a:srgbClr val="cc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 rot="10800000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3" name="Freeform 533"/>
                    <p:cNvSpPr/>
                    <p:nvPr/>
                  </p:nvSpPr>
                  <p:spPr>
                    <a:xfrm flipH="1" flipV="1" rot="18799800">
                      <a:off x="5329440" y="6235200"/>
                      <a:ext cx="10080" cy="24840"/>
                    </a:xfrm>
                    <a:custGeom>
                      <a:avLst/>
                      <a:gdLst>
                        <a:gd name="textAreaLeft" fmla="*/ 360 w 10080"/>
                        <a:gd name="textAreaRight" fmla="*/ 10800 w 10080"/>
                        <a:gd name="textAreaTop" fmla="*/ -360 h 24840"/>
                        <a:gd name="textAreaBottom" fmla="*/ 24840 h 24840"/>
                      </a:gdLst>
                      <a:ahLst/>
                      <a:rect l="textAreaLeft" t="textAreaTop" r="textAreaRight" b="textAreaBottom"/>
                      <a:pathLst>
                        <a:path w="90" h="181">
                          <a:moveTo>
                            <a:pt x="45" y="181"/>
                          </a:moveTo>
                          <a:cubicBezTo>
                            <a:pt x="30" y="181"/>
                            <a:pt x="0" y="120"/>
                            <a:pt x="0" y="90"/>
                          </a:cubicBezTo>
                          <a:cubicBezTo>
                            <a:pt x="0" y="60"/>
                            <a:pt x="30" y="0"/>
                            <a:pt x="45" y="0"/>
                          </a:cubicBezTo>
                          <a:cubicBezTo>
                            <a:pt x="60" y="0"/>
                            <a:pt x="90" y="60"/>
                            <a:pt x="90" y="90"/>
                          </a:cubicBezTo>
                          <a:cubicBezTo>
                            <a:pt x="90" y="120"/>
                            <a:pt x="60" y="181"/>
                            <a:pt x="45" y="181"/>
                          </a:cubicBezTo>
                          <a:close/>
                        </a:path>
                      </a:pathLst>
                    </a:custGeom>
                    <a:noFill/>
                    <a:ln w="6480">
                      <a:solidFill>
                        <a:srgbClr val="cc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 rot="10800000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4" name="Freeform 534"/>
                    <p:cNvSpPr/>
                    <p:nvPr/>
                  </p:nvSpPr>
                  <p:spPr>
                    <a:xfrm flipV="1" rot="21360000">
                      <a:off x="5311080" y="6171480"/>
                      <a:ext cx="9000" cy="15480"/>
                    </a:xfrm>
                    <a:custGeom>
                      <a:avLst/>
                      <a:gdLst>
                        <a:gd name="textAreaLeft" fmla="*/ 0 w 9000"/>
                        <a:gd name="textAreaRight" fmla="*/ 9360 w 9000"/>
                        <a:gd name="textAreaTop" fmla="*/ -360 h 15480"/>
                        <a:gd name="textAreaBottom" fmla="*/ 15480 h 15480"/>
                      </a:gdLst>
                      <a:ahLst/>
                      <a:rect l="textAreaLeft" t="textAreaTop" r="textAreaRight" b="textAreaBottom"/>
                      <a:pathLst>
                        <a:path w="36" h="68">
                          <a:moveTo>
                            <a:pt x="9" y="0"/>
                          </a:moveTo>
                          <a:cubicBezTo>
                            <a:pt x="10" y="0"/>
                            <a:pt x="30" y="5"/>
                            <a:pt x="24" y="12"/>
                          </a:cubicBezTo>
                          <a:cubicBezTo>
                            <a:pt x="20" y="17"/>
                            <a:pt x="6" y="18"/>
                            <a:pt x="6" y="18"/>
                          </a:cubicBezTo>
                          <a:cubicBezTo>
                            <a:pt x="8" y="21"/>
                            <a:pt x="9" y="25"/>
                            <a:pt x="12" y="27"/>
                          </a:cubicBezTo>
                          <a:cubicBezTo>
                            <a:pt x="22" y="35"/>
                            <a:pt x="32" y="35"/>
                            <a:pt x="6" y="42"/>
                          </a:cubicBezTo>
                          <a:cubicBezTo>
                            <a:pt x="36" y="52"/>
                            <a:pt x="23" y="55"/>
                            <a:pt x="0" y="60"/>
                          </a:cubicBezTo>
                          <a:cubicBezTo>
                            <a:pt x="13" y="68"/>
                            <a:pt x="8" y="63"/>
                            <a:pt x="21" y="6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6633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 rot="10800000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5" name="Freeform 535"/>
                    <p:cNvSpPr/>
                    <p:nvPr/>
                  </p:nvSpPr>
                  <p:spPr>
                    <a:xfrm flipV="1" rot="21360000">
                      <a:off x="5316480" y="6170760"/>
                      <a:ext cx="9000" cy="15480"/>
                    </a:xfrm>
                    <a:custGeom>
                      <a:avLst/>
                      <a:gdLst>
                        <a:gd name="textAreaLeft" fmla="*/ 0 w 9000"/>
                        <a:gd name="textAreaRight" fmla="*/ 9360 w 9000"/>
                        <a:gd name="textAreaTop" fmla="*/ -360 h 15480"/>
                        <a:gd name="textAreaBottom" fmla="*/ 15480 h 15480"/>
                      </a:gdLst>
                      <a:ahLst/>
                      <a:rect l="textAreaLeft" t="textAreaTop" r="textAreaRight" b="textAreaBottom"/>
                      <a:pathLst>
                        <a:path w="36" h="68">
                          <a:moveTo>
                            <a:pt x="9" y="0"/>
                          </a:moveTo>
                          <a:cubicBezTo>
                            <a:pt x="10" y="0"/>
                            <a:pt x="30" y="5"/>
                            <a:pt x="24" y="12"/>
                          </a:cubicBezTo>
                          <a:cubicBezTo>
                            <a:pt x="20" y="17"/>
                            <a:pt x="6" y="18"/>
                            <a:pt x="6" y="18"/>
                          </a:cubicBezTo>
                          <a:cubicBezTo>
                            <a:pt x="8" y="21"/>
                            <a:pt x="9" y="25"/>
                            <a:pt x="12" y="27"/>
                          </a:cubicBezTo>
                          <a:cubicBezTo>
                            <a:pt x="22" y="35"/>
                            <a:pt x="32" y="35"/>
                            <a:pt x="6" y="42"/>
                          </a:cubicBezTo>
                          <a:cubicBezTo>
                            <a:pt x="36" y="52"/>
                            <a:pt x="23" y="55"/>
                            <a:pt x="0" y="60"/>
                          </a:cubicBezTo>
                          <a:cubicBezTo>
                            <a:pt x="13" y="68"/>
                            <a:pt x="8" y="63"/>
                            <a:pt x="21" y="6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6633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 rot="10800000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6" name="Oval 536"/>
                    <p:cNvSpPr/>
                    <p:nvPr/>
                  </p:nvSpPr>
                  <p:spPr>
                    <a:xfrm flipV="1" rot="21360000">
                      <a:off x="5311080" y="6162120"/>
                      <a:ext cx="5400" cy="10440"/>
                    </a:xfrm>
                    <a:prstGeom prst="ellipse">
                      <a:avLst/>
                    </a:prstGeom>
                    <a:solidFill>
                      <a:srgbClr val="663366"/>
                    </a:solidFill>
                    <a:ln w="9360">
                      <a:solidFill>
                        <a:srgbClr val="66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ctr" rot="10800000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7" name="Oval 537"/>
                    <p:cNvSpPr/>
                    <p:nvPr/>
                  </p:nvSpPr>
                  <p:spPr>
                    <a:xfrm flipV="1" rot="21360000">
                      <a:off x="5316120" y="6161040"/>
                      <a:ext cx="5760" cy="10440"/>
                    </a:xfrm>
                    <a:prstGeom prst="ellipse">
                      <a:avLst/>
                    </a:prstGeom>
                    <a:solidFill>
                      <a:srgbClr val="663366"/>
                    </a:solidFill>
                    <a:ln w="9360">
                      <a:solidFill>
                        <a:srgbClr val="66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ctr" rot="10800000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8" name="Freeform 538"/>
                    <p:cNvSpPr/>
                    <p:nvPr/>
                  </p:nvSpPr>
                  <p:spPr>
                    <a:xfrm flipV="1" rot="1402800">
                      <a:off x="5307840" y="6239880"/>
                      <a:ext cx="10800" cy="23040"/>
                    </a:xfrm>
                    <a:custGeom>
                      <a:avLst/>
                      <a:gdLst>
                        <a:gd name="textAreaLeft" fmla="*/ 0 w 10800"/>
                        <a:gd name="textAreaRight" fmla="*/ 11160 w 10800"/>
                        <a:gd name="textAreaTop" fmla="*/ 360 h 23040"/>
                        <a:gd name="textAreaBottom" fmla="*/ 23760 h 23040"/>
                      </a:gdLst>
                      <a:ahLst/>
                      <a:rect l="textAreaLeft" t="textAreaTop" r="textAreaRight" b="textAreaBottom"/>
                      <a:pathLst>
                        <a:path w="90" h="181">
                          <a:moveTo>
                            <a:pt x="45" y="181"/>
                          </a:moveTo>
                          <a:cubicBezTo>
                            <a:pt x="30" y="181"/>
                            <a:pt x="0" y="120"/>
                            <a:pt x="0" y="90"/>
                          </a:cubicBezTo>
                          <a:cubicBezTo>
                            <a:pt x="0" y="60"/>
                            <a:pt x="30" y="0"/>
                            <a:pt x="45" y="0"/>
                          </a:cubicBezTo>
                          <a:cubicBezTo>
                            <a:pt x="60" y="0"/>
                            <a:pt x="90" y="60"/>
                            <a:pt x="90" y="90"/>
                          </a:cubicBezTo>
                          <a:cubicBezTo>
                            <a:pt x="90" y="120"/>
                            <a:pt x="60" y="181"/>
                            <a:pt x="45" y="181"/>
                          </a:cubicBezTo>
                          <a:close/>
                        </a:path>
                      </a:pathLst>
                    </a:custGeom>
                    <a:noFill/>
                    <a:ln w="6480">
                      <a:solidFill>
                        <a:srgbClr val="cc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 rot="10800000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9" name="Oval 539"/>
                    <p:cNvSpPr/>
                    <p:nvPr/>
                  </p:nvSpPr>
                  <p:spPr>
                    <a:xfrm rot="720000">
                      <a:off x="5293440" y="6208200"/>
                      <a:ext cx="16560" cy="15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540" name="Group 540"/>
                    <p:cNvGrpSpPr/>
                    <p:nvPr/>
                  </p:nvGrpSpPr>
                  <p:grpSpPr>
                    <a:xfrm>
                      <a:off x="5146560" y="5912640"/>
                      <a:ext cx="338040" cy="289440"/>
                      <a:chOff x="5146560" y="5912640"/>
                      <a:chExt cx="338040" cy="289440"/>
                    </a:xfrm>
                  </p:grpSpPr>
                  <p:sp>
                    <p:nvSpPr>
                      <p:cNvPr id="541" name="Oval 541"/>
                      <p:cNvSpPr/>
                      <p:nvPr/>
                    </p:nvSpPr>
                    <p:spPr>
                      <a:xfrm>
                        <a:off x="5214960" y="5985360"/>
                        <a:ext cx="216000" cy="201240"/>
                      </a:xfrm>
                      <a:prstGeom prst="ellipse">
                        <a:avLst/>
                      </a:prstGeom>
                      <a:solidFill>
                        <a:srgbClr val="666699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2" name="Oval 542"/>
                      <p:cNvSpPr/>
                      <p:nvPr/>
                    </p:nvSpPr>
                    <p:spPr>
                      <a:xfrm>
                        <a:off x="5232960" y="6001920"/>
                        <a:ext cx="180000" cy="167760"/>
                      </a:xfrm>
                      <a:prstGeom prst="ellipse">
                        <a:avLst/>
                      </a:prstGeom>
                      <a:solidFill>
                        <a:srgbClr val="666699">
                          <a:alpha val="5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3" name="Oval 543"/>
                      <p:cNvSpPr/>
                      <p:nvPr/>
                    </p:nvSpPr>
                    <p:spPr>
                      <a:xfrm>
                        <a:off x="5299920" y="5932800"/>
                        <a:ext cx="45000" cy="5256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666699"/>
                          </a:gs>
                          <a:gs pos="100000">
                            <a:srgbClr val="424267"/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360" bIns="-936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4" name="AutoShape 544"/>
                      <p:cNvSpPr/>
                      <p:nvPr/>
                    </p:nvSpPr>
                    <p:spPr>
                      <a:xfrm flipH="1">
                        <a:off x="5291640" y="5950080"/>
                        <a:ext cx="20880" cy="18360"/>
                      </a:xfrm>
                      <a:custGeom>
                        <a:avLst/>
                        <a:gdLst>
                          <a:gd name="textAreaLeft" fmla="*/ 13320 w 20880"/>
                          <a:gd name="textAreaRight" fmla="*/ 13680 w 20880"/>
                          <a:gd name="textAreaTop" fmla="*/ 720 h 18360"/>
                          <a:gd name="textAreaBottom" fmla="*/ 17640 h 1836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7719" y="2482"/>
                              <a:pt x="13837" y="5080"/>
                              <a:pt x="13837" y="10800"/>
                            </a:cubicBezTo>
                            <a:cubicBezTo>
                              <a:pt x="13837" y="16520"/>
                              <a:pt x="17719" y="19118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880" bIns="-2988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5" name="AutoShape 545"/>
                      <p:cNvSpPr/>
                      <p:nvPr/>
                    </p:nvSpPr>
                    <p:spPr>
                      <a:xfrm>
                        <a:off x="5332320" y="5950080"/>
                        <a:ext cx="20880" cy="18360"/>
                      </a:xfrm>
                      <a:custGeom>
                        <a:avLst/>
                        <a:gdLst>
                          <a:gd name="textAreaLeft" fmla="*/ 12960 w 20880"/>
                          <a:gd name="textAreaRight" fmla="*/ 13320 w 20880"/>
                          <a:gd name="textAreaTop" fmla="*/ 720 h 18360"/>
                          <a:gd name="textAreaBottom" fmla="*/ 17640 h 1836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7719" y="2482"/>
                              <a:pt x="13837" y="5080"/>
                              <a:pt x="13837" y="10800"/>
                            </a:cubicBezTo>
                            <a:cubicBezTo>
                              <a:pt x="13837" y="16520"/>
                              <a:pt x="17719" y="19118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880" bIns="-2988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6" name="Freeform 546"/>
                      <p:cNvSpPr/>
                      <p:nvPr/>
                    </p:nvSpPr>
                    <p:spPr>
                      <a:xfrm rot="16677600">
                        <a:off x="5298480" y="5917680"/>
                        <a:ext cx="10440" cy="24840"/>
                      </a:xfrm>
                      <a:custGeom>
                        <a:avLst/>
                        <a:gdLst>
                          <a:gd name="textAreaLeft" fmla="*/ 0 w 10440"/>
                          <a:gd name="textAreaRight" fmla="*/ 10800 w 10440"/>
                          <a:gd name="textAreaTop" fmla="*/ 0 h 24840"/>
                          <a:gd name="textAreaBottom" fmla="*/ 25200 h 24840"/>
                        </a:gdLst>
                        <a:ahLst/>
                        <a:rect l="textAreaLeft" t="textAreaTop" r="textAreaRight" b="textAreaBottom"/>
                        <a:pathLst>
                          <a:path w="90" h="181">
                            <a:moveTo>
                              <a:pt x="45" y="181"/>
                            </a:moveTo>
                            <a:cubicBezTo>
                              <a:pt x="30" y="181"/>
                              <a:pt x="0" y="120"/>
                              <a:pt x="0" y="90"/>
                            </a:cubicBezTo>
                            <a:cubicBezTo>
                              <a:pt x="0" y="60"/>
                              <a:pt x="30" y="0"/>
                              <a:pt x="45" y="0"/>
                            </a:cubicBezTo>
                            <a:cubicBezTo>
                              <a:pt x="60" y="0"/>
                              <a:pt x="90" y="60"/>
                              <a:pt x="90" y="90"/>
                            </a:cubicBezTo>
                            <a:cubicBezTo>
                              <a:pt x="90" y="120"/>
                              <a:pt x="60" y="181"/>
                              <a:pt x="45" y="181"/>
                            </a:cubicBezTo>
                            <a:close/>
                          </a:path>
                        </a:pathLst>
                      </a:custGeom>
                      <a:noFill/>
                      <a:ln w="6480">
                        <a:solidFill>
                          <a:srgbClr val="cc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0" bIns="-21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7" name="Freeform 547"/>
                      <p:cNvSpPr/>
                      <p:nvPr/>
                    </p:nvSpPr>
                    <p:spPr>
                      <a:xfrm rot="17784000">
                        <a:off x="5299920" y="5915160"/>
                        <a:ext cx="9720" cy="24840"/>
                      </a:xfrm>
                      <a:custGeom>
                        <a:avLst/>
                        <a:gdLst>
                          <a:gd name="textAreaLeft" fmla="*/ 0 w 9720"/>
                          <a:gd name="textAreaRight" fmla="*/ 10080 w 9720"/>
                          <a:gd name="textAreaTop" fmla="*/ 0 h 24840"/>
                          <a:gd name="textAreaBottom" fmla="*/ 25200 h 24840"/>
                        </a:gdLst>
                        <a:ahLst/>
                        <a:rect l="textAreaLeft" t="textAreaTop" r="textAreaRight" b="textAreaBottom"/>
                        <a:pathLst>
                          <a:path w="90" h="181">
                            <a:moveTo>
                              <a:pt x="45" y="181"/>
                            </a:moveTo>
                            <a:cubicBezTo>
                              <a:pt x="30" y="181"/>
                              <a:pt x="0" y="120"/>
                              <a:pt x="0" y="90"/>
                            </a:cubicBezTo>
                            <a:cubicBezTo>
                              <a:pt x="0" y="60"/>
                              <a:pt x="30" y="0"/>
                              <a:pt x="45" y="0"/>
                            </a:cubicBezTo>
                            <a:cubicBezTo>
                              <a:pt x="60" y="0"/>
                              <a:pt x="90" y="60"/>
                              <a:pt x="90" y="90"/>
                            </a:cubicBezTo>
                            <a:cubicBezTo>
                              <a:pt x="90" y="120"/>
                              <a:pt x="60" y="181"/>
                              <a:pt x="45" y="181"/>
                            </a:cubicBezTo>
                            <a:close/>
                          </a:path>
                        </a:pathLst>
                      </a:custGeom>
                      <a:noFill/>
                      <a:ln w="6480">
                        <a:solidFill>
                          <a:srgbClr val="cc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0" bIns="-21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8" name="Freeform 548"/>
                      <p:cNvSpPr/>
                      <p:nvPr/>
                    </p:nvSpPr>
                    <p:spPr>
                      <a:xfrm rot="19039800">
                        <a:off x="5301720" y="5913360"/>
                        <a:ext cx="10800" cy="23040"/>
                      </a:xfrm>
                      <a:custGeom>
                        <a:avLst/>
                        <a:gdLst>
                          <a:gd name="textAreaLeft" fmla="*/ 0 w 10800"/>
                          <a:gd name="textAreaRight" fmla="*/ 11160 w 10800"/>
                          <a:gd name="textAreaTop" fmla="*/ 0 h 23040"/>
                          <a:gd name="textAreaBottom" fmla="*/ 23400 h 23040"/>
                        </a:gdLst>
                        <a:ahLst/>
                        <a:rect l="textAreaLeft" t="textAreaTop" r="textAreaRight" b="textAreaBottom"/>
                        <a:pathLst>
                          <a:path w="90" h="181">
                            <a:moveTo>
                              <a:pt x="45" y="181"/>
                            </a:moveTo>
                            <a:cubicBezTo>
                              <a:pt x="30" y="181"/>
                              <a:pt x="0" y="120"/>
                              <a:pt x="0" y="90"/>
                            </a:cubicBezTo>
                            <a:cubicBezTo>
                              <a:pt x="0" y="60"/>
                              <a:pt x="30" y="0"/>
                              <a:pt x="45" y="0"/>
                            </a:cubicBezTo>
                            <a:cubicBezTo>
                              <a:pt x="60" y="0"/>
                              <a:pt x="90" y="60"/>
                              <a:pt x="90" y="90"/>
                            </a:cubicBezTo>
                            <a:cubicBezTo>
                              <a:pt x="90" y="120"/>
                              <a:pt x="60" y="181"/>
                              <a:pt x="45" y="181"/>
                            </a:cubicBezTo>
                            <a:close/>
                          </a:path>
                        </a:pathLst>
                      </a:custGeom>
                      <a:noFill/>
                      <a:ln w="6480">
                        <a:solidFill>
                          <a:srgbClr val="cc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9" name="Freeform 549"/>
                      <p:cNvSpPr/>
                      <p:nvPr/>
                    </p:nvSpPr>
                    <p:spPr>
                      <a:xfrm flipH="1" rot="4922400">
                        <a:off x="5332320" y="5918040"/>
                        <a:ext cx="10440" cy="24480"/>
                      </a:xfrm>
                      <a:custGeom>
                        <a:avLst/>
                        <a:gdLst>
                          <a:gd name="textAreaLeft" fmla="*/ -360 w 10440"/>
                          <a:gd name="textAreaRight" fmla="*/ 10440 w 10440"/>
                          <a:gd name="textAreaTop" fmla="*/ 0 h 24480"/>
                          <a:gd name="textAreaBottom" fmla="*/ 24840 h 24480"/>
                        </a:gdLst>
                        <a:ahLst/>
                        <a:rect l="textAreaLeft" t="textAreaTop" r="textAreaRight" b="textAreaBottom"/>
                        <a:pathLst>
                          <a:path w="90" h="181">
                            <a:moveTo>
                              <a:pt x="45" y="181"/>
                            </a:moveTo>
                            <a:cubicBezTo>
                              <a:pt x="30" y="181"/>
                              <a:pt x="0" y="120"/>
                              <a:pt x="0" y="90"/>
                            </a:cubicBezTo>
                            <a:cubicBezTo>
                              <a:pt x="0" y="60"/>
                              <a:pt x="30" y="0"/>
                              <a:pt x="45" y="0"/>
                            </a:cubicBezTo>
                            <a:cubicBezTo>
                              <a:pt x="60" y="0"/>
                              <a:pt x="90" y="60"/>
                              <a:pt x="90" y="90"/>
                            </a:cubicBezTo>
                            <a:cubicBezTo>
                              <a:pt x="90" y="120"/>
                              <a:pt x="60" y="181"/>
                              <a:pt x="45" y="181"/>
                            </a:cubicBezTo>
                            <a:close/>
                          </a:path>
                        </a:pathLst>
                      </a:custGeom>
                      <a:noFill/>
                      <a:ln w="6480">
                        <a:solidFill>
                          <a:srgbClr val="cc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960" bIns="-21960" anchor="t" rot="10800000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0" name="Freeform 550"/>
                      <p:cNvSpPr/>
                      <p:nvPr/>
                    </p:nvSpPr>
                    <p:spPr>
                      <a:xfrm flipH="1" rot="3816000">
                        <a:off x="5331960" y="5915520"/>
                        <a:ext cx="9720" cy="24480"/>
                      </a:xfrm>
                      <a:custGeom>
                        <a:avLst/>
                        <a:gdLst>
                          <a:gd name="textAreaLeft" fmla="*/ -360 w 9720"/>
                          <a:gd name="textAreaRight" fmla="*/ 9720 w 9720"/>
                          <a:gd name="textAreaTop" fmla="*/ 0 h 24480"/>
                          <a:gd name="textAreaBottom" fmla="*/ 24840 h 24480"/>
                        </a:gdLst>
                        <a:ahLst/>
                        <a:rect l="textAreaLeft" t="textAreaTop" r="textAreaRight" b="textAreaBottom"/>
                        <a:pathLst>
                          <a:path w="90" h="181">
                            <a:moveTo>
                              <a:pt x="45" y="181"/>
                            </a:moveTo>
                            <a:cubicBezTo>
                              <a:pt x="30" y="181"/>
                              <a:pt x="0" y="120"/>
                              <a:pt x="0" y="90"/>
                            </a:cubicBezTo>
                            <a:cubicBezTo>
                              <a:pt x="0" y="60"/>
                              <a:pt x="30" y="0"/>
                              <a:pt x="45" y="0"/>
                            </a:cubicBezTo>
                            <a:cubicBezTo>
                              <a:pt x="60" y="0"/>
                              <a:pt x="90" y="60"/>
                              <a:pt x="90" y="90"/>
                            </a:cubicBezTo>
                            <a:cubicBezTo>
                              <a:pt x="90" y="120"/>
                              <a:pt x="60" y="181"/>
                              <a:pt x="45" y="181"/>
                            </a:cubicBezTo>
                            <a:close/>
                          </a:path>
                        </a:pathLst>
                      </a:custGeom>
                      <a:noFill/>
                      <a:ln w="6480">
                        <a:solidFill>
                          <a:srgbClr val="cc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960" bIns="-21960" anchor="t" rot="10800000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1" name="Freeform 551"/>
                      <p:cNvSpPr/>
                      <p:nvPr/>
                    </p:nvSpPr>
                    <p:spPr>
                      <a:xfrm flipH="1" rot="2560200">
                        <a:off x="5329080" y="5913000"/>
                        <a:ext cx="10440" cy="23040"/>
                      </a:xfrm>
                      <a:custGeom>
                        <a:avLst/>
                        <a:gdLst>
                          <a:gd name="textAreaLeft" fmla="*/ -360 w 10440"/>
                          <a:gd name="textAreaRight" fmla="*/ 10440 w 10440"/>
                          <a:gd name="textAreaTop" fmla="*/ 0 h 23040"/>
                          <a:gd name="textAreaBottom" fmla="*/ 23400 h 23040"/>
                        </a:gdLst>
                        <a:ahLst/>
                        <a:rect l="textAreaLeft" t="textAreaTop" r="textAreaRight" b="textAreaBottom"/>
                        <a:pathLst>
                          <a:path w="90" h="181">
                            <a:moveTo>
                              <a:pt x="45" y="181"/>
                            </a:moveTo>
                            <a:cubicBezTo>
                              <a:pt x="30" y="181"/>
                              <a:pt x="0" y="120"/>
                              <a:pt x="0" y="90"/>
                            </a:cubicBezTo>
                            <a:cubicBezTo>
                              <a:pt x="0" y="60"/>
                              <a:pt x="30" y="0"/>
                              <a:pt x="45" y="0"/>
                            </a:cubicBezTo>
                            <a:cubicBezTo>
                              <a:pt x="60" y="0"/>
                              <a:pt x="90" y="60"/>
                              <a:pt x="90" y="90"/>
                            </a:cubicBezTo>
                            <a:cubicBezTo>
                              <a:pt x="90" y="120"/>
                              <a:pt x="60" y="181"/>
                              <a:pt x="45" y="181"/>
                            </a:cubicBezTo>
                            <a:close/>
                          </a:path>
                        </a:pathLst>
                      </a:custGeom>
                      <a:noFill/>
                      <a:ln w="6480">
                        <a:solidFill>
                          <a:srgbClr val="cc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2" name="Freeform 552"/>
                      <p:cNvSpPr/>
                      <p:nvPr/>
                    </p:nvSpPr>
                    <p:spPr>
                      <a:xfrm>
                        <a:off x="5316480" y="5986440"/>
                        <a:ext cx="8640" cy="15840"/>
                      </a:xfrm>
                      <a:custGeom>
                        <a:avLst/>
                        <a:gdLst>
                          <a:gd name="textAreaLeft" fmla="*/ 0 w 8640"/>
                          <a:gd name="textAreaRight" fmla="*/ 9000 w 8640"/>
                          <a:gd name="textAreaTop" fmla="*/ 0 h 15840"/>
                          <a:gd name="textAreaBottom" fmla="*/ 16200 h 15840"/>
                        </a:gdLst>
                        <a:ahLst/>
                        <a:rect l="textAreaLeft" t="textAreaTop" r="textAreaRight" b="textAreaBottom"/>
                        <a:pathLst>
                          <a:path w="36" h="68">
                            <a:moveTo>
                              <a:pt x="9" y="0"/>
                            </a:moveTo>
                            <a:cubicBezTo>
                              <a:pt x="10" y="0"/>
                              <a:pt x="30" y="5"/>
                              <a:pt x="24" y="12"/>
                            </a:cubicBezTo>
                            <a:cubicBezTo>
                              <a:pt x="20" y="17"/>
                              <a:pt x="6" y="18"/>
                              <a:pt x="6" y="18"/>
                            </a:cubicBezTo>
                            <a:cubicBezTo>
                              <a:pt x="8" y="21"/>
                              <a:pt x="9" y="25"/>
                              <a:pt x="12" y="27"/>
                            </a:cubicBezTo>
                            <a:cubicBezTo>
                              <a:pt x="22" y="35"/>
                              <a:pt x="32" y="35"/>
                              <a:pt x="6" y="42"/>
                            </a:cubicBezTo>
                            <a:cubicBezTo>
                              <a:pt x="36" y="52"/>
                              <a:pt x="23" y="55"/>
                              <a:pt x="0" y="60"/>
                            </a:cubicBezTo>
                            <a:cubicBezTo>
                              <a:pt x="13" y="68"/>
                              <a:pt x="8" y="63"/>
                              <a:pt x="21" y="63"/>
                            </a:cubicBezTo>
                          </a:path>
                        </a:pathLst>
                      </a:custGeom>
                      <a:solidFill>
                        <a:srgbClr val="663366"/>
                      </a:solidFill>
                      <a:ln w="9360">
                        <a:solidFill>
                          <a:srgbClr val="6633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600" bIns="-30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3" name="Freeform 553"/>
                      <p:cNvSpPr/>
                      <p:nvPr/>
                    </p:nvSpPr>
                    <p:spPr>
                      <a:xfrm>
                        <a:off x="5321880" y="5986800"/>
                        <a:ext cx="8640" cy="15480"/>
                      </a:xfrm>
                      <a:custGeom>
                        <a:avLst/>
                        <a:gdLst>
                          <a:gd name="textAreaLeft" fmla="*/ 0 w 8640"/>
                          <a:gd name="textAreaRight" fmla="*/ 9000 w 8640"/>
                          <a:gd name="textAreaTop" fmla="*/ 0 h 15480"/>
                          <a:gd name="textAreaBottom" fmla="*/ 15840 h 15480"/>
                        </a:gdLst>
                        <a:ahLst/>
                        <a:rect l="textAreaLeft" t="textAreaTop" r="textAreaRight" b="textAreaBottom"/>
                        <a:pathLst>
                          <a:path w="36" h="68">
                            <a:moveTo>
                              <a:pt x="9" y="0"/>
                            </a:moveTo>
                            <a:cubicBezTo>
                              <a:pt x="10" y="0"/>
                              <a:pt x="30" y="5"/>
                              <a:pt x="24" y="12"/>
                            </a:cubicBezTo>
                            <a:cubicBezTo>
                              <a:pt x="20" y="17"/>
                              <a:pt x="6" y="18"/>
                              <a:pt x="6" y="18"/>
                            </a:cubicBezTo>
                            <a:cubicBezTo>
                              <a:pt x="8" y="21"/>
                              <a:pt x="9" y="25"/>
                              <a:pt x="12" y="27"/>
                            </a:cubicBezTo>
                            <a:cubicBezTo>
                              <a:pt x="22" y="35"/>
                              <a:pt x="32" y="35"/>
                              <a:pt x="6" y="42"/>
                            </a:cubicBezTo>
                            <a:cubicBezTo>
                              <a:pt x="36" y="52"/>
                              <a:pt x="23" y="55"/>
                              <a:pt x="0" y="60"/>
                            </a:cubicBezTo>
                            <a:cubicBezTo>
                              <a:pt x="13" y="68"/>
                              <a:pt x="8" y="63"/>
                              <a:pt x="21" y="63"/>
                            </a:cubicBezTo>
                          </a:path>
                        </a:pathLst>
                      </a:custGeom>
                      <a:solidFill>
                        <a:srgbClr val="663366"/>
                      </a:solidFill>
                      <a:ln w="9360">
                        <a:solidFill>
                          <a:srgbClr val="6633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4" name="Oval 554"/>
                      <p:cNvSpPr/>
                      <p:nvPr/>
                    </p:nvSpPr>
                    <p:spPr>
                      <a:xfrm>
                        <a:off x="5317200" y="6002280"/>
                        <a:ext cx="5400" cy="10440"/>
                      </a:xfrm>
                      <a:prstGeom prst="ellipse">
                        <a:avLst/>
                      </a:prstGeom>
                      <a:solidFill>
                        <a:srgbClr val="663366"/>
                      </a:solidFill>
                      <a:ln w="9360">
                        <a:solidFill>
                          <a:srgbClr val="66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5" name="Oval 555"/>
                      <p:cNvSpPr/>
                      <p:nvPr/>
                    </p:nvSpPr>
                    <p:spPr>
                      <a:xfrm>
                        <a:off x="5322240" y="6002640"/>
                        <a:ext cx="5400" cy="10440"/>
                      </a:xfrm>
                      <a:prstGeom prst="ellipse">
                        <a:avLst/>
                      </a:prstGeom>
                      <a:solidFill>
                        <a:srgbClr val="663366"/>
                      </a:solidFill>
                      <a:ln w="9360">
                        <a:solidFill>
                          <a:srgbClr val="66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6" name="Oval 556"/>
                      <p:cNvSpPr/>
                      <p:nvPr/>
                    </p:nvSpPr>
                    <p:spPr>
                      <a:xfrm rot="3348000">
                        <a:off x="5414040" y="5986800"/>
                        <a:ext cx="41760" cy="5616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666699"/>
                          </a:gs>
                          <a:gs pos="100000">
                            <a:srgbClr val="424267"/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6480" bIns="-6480" anchor="t" anchorCtr="1" vert="eaVert" rot="10800000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7" name="AutoShape 557"/>
                      <p:cNvSpPr/>
                      <p:nvPr/>
                    </p:nvSpPr>
                    <p:spPr>
                      <a:xfrm flipH="1" rot="3348000">
                        <a:off x="5412960" y="5989680"/>
                        <a:ext cx="19800" cy="19440"/>
                      </a:xfrm>
                      <a:custGeom>
                        <a:avLst/>
                        <a:gdLst>
                          <a:gd name="textAreaLeft" fmla="*/ 12240 w 19800"/>
                          <a:gd name="textAreaRight" fmla="*/ 12600 w 19800"/>
                          <a:gd name="textAreaTop" fmla="*/ 720 h 19440"/>
                          <a:gd name="textAreaBottom" fmla="*/ 18720 h 1944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7719" y="2482"/>
                              <a:pt x="13837" y="5080"/>
                              <a:pt x="13837" y="10800"/>
                            </a:cubicBezTo>
                            <a:cubicBezTo>
                              <a:pt x="13837" y="16520"/>
                              <a:pt x="17719" y="19118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0" bIns="-28800" anchor="t" anchorCtr="1" vert="eaVert" rot="10800000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8" name="AutoShape 558"/>
                      <p:cNvSpPr/>
                      <p:nvPr/>
                    </p:nvSpPr>
                    <p:spPr>
                      <a:xfrm rot="3348000">
                        <a:off x="5436000" y="6021000"/>
                        <a:ext cx="19440" cy="19440"/>
                      </a:xfrm>
                      <a:custGeom>
                        <a:avLst/>
                        <a:gdLst>
                          <a:gd name="textAreaLeft" fmla="*/ 11880 w 19440"/>
                          <a:gd name="textAreaRight" fmla="*/ 12600 w 19440"/>
                          <a:gd name="textAreaTop" fmla="*/ 720 h 19440"/>
                          <a:gd name="textAreaBottom" fmla="*/ 18720 h 1944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7719" y="2482"/>
                              <a:pt x="13837" y="5080"/>
                              <a:pt x="13837" y="10800"/>
                            </a:cubicBezTo>
                            <a:cubicBezTo>
                              <a:pt x="13837" y="16520"/>
                              <a:pt x="17719" y="19118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0" bIns="-28800" anchor="t" anchorCtr="1" vert="eaVert" rot="10800000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9" name="Freeform 559"/>
                      <p:cNvSpPr/>
                      <p:nvPr/>
                    </p:nvSpPr>
                    <p:spPr>
                      <a:xfrm rot="20025600">
                        <a:off x="5443560" y="5973480"/>
                        <a:ext cx="10800" cy="23040"/>
                      </a:xfrm>
                      <a:custGeom>
                        <a:avLst/>
                        <a:gdLst>
                          <a:gd name="textAreaLeft" fmla="*/ 0 w 10800"/>
                          <a:gd name="textAreaRight" fmla="*/ 11160 w 10800"/>
                          <a:gd name="textAreaTop" fmla="*/ 0 h 23040"/>
                          <a:gd name="textAreaBottom" fmla="*/ 23400 h 23040"/>
                        </a:gdLst>
                        <a:ahLst/>
                        <a:rect l="textAreaLeft" t="textAreaTop" r="textAreaRight" b="textAreaBottom"/>
                        <a:pathLst>
                          <a:path w="90" h="181">
                            <a:moveTo>
                              <a:pt x="45" y="181"/>
                            </a:moveTo>
                            <a:cubicBezTo>
                              <a:pt x="30" y="181"/>
                              <a:pt x="0" y="120"/>
                              <a:pt x="0" y="90"/>
                            </a:cubicBezTo>
                            <a:cubicBezTo>
                              <a:pt x="0" y="60"/>
                              <a:pt x="30" y="0"/>
                              <a:pt x="45" y="0"/>
                            </a:cubicBezTo>
                            <a:cubicBezTo>
                              <a:pt x="60" y="0"/>
                              <a:pt x="90" y="60"/>
                              <a:pt x="90" y="90"/>
                            </a:cubicBezTo>
                            <a:cubicBezTo>
                              <a:pt x="90" y="120"/>
                              <a:pt x="60" y="181"/>
                              <a:pt x="45" y="181"/>
                            </a:cubicBezTo>
                            <a:close/>
                          </a:path>
                        </a:pathLst>
                      </a:custGeom>
                      <a:noFill/>
                      <a:ln w="6480">
                        <a:solidFill>
                          <a:srgbClr val="cc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60" name="Freeform 560"/>
                      <p:cNvSpPr/>
                      <p:nvPr/>
                    </p:nvSpPr>
                    <p:spPr>
                      <a:xfrm rot="21131400">
                        <a:off x="5447160" y="5972400"/>
                        <a:ext cx="10440" cy="23400"/>
                      </a:xfrm>
                      <a:custGeom>
                        <a:avLst/>
                        <a:gdLst>
                          <a:gd name="textAreaLeft" fmla="*/ 0 w 10440"/>
                          <a:gd name="textAreaRight" fmla="*/ 10800 w 10440"/>
                          <a:gd name="textAreaTop" fmla="*/ 0 h 23400"/>
                          <a:gd name="textAreaBottom" fmla="*/ 23760 h 23400"/>
                        </a:gdLst>
                        <a:ahLst/>
                        <a:rect l="textAreaLeft" t="textAreaTop" r="textAreaRight" b="textAreaBottom"/>
                        <a:pathLst>
                          <a:path w="90" h="181">
                            <a:moveTo>
                              <a:pt x="45" y="181"/>
                            </a:moveTo>
                            <a:cubicBezTo>
                              <a:pt x="30" y="181"/>
                              <a:pt x="0" y="120"/>
                              <a:pt x="0" y="90"/>
                            </a:cubicBezTo>
                            <a:cubicBezTo>
                              <a:pt x="0" y="60"/>
                              <a:pt x="30" y="0"/>
                              <a:pt x="45" y="0"/>
                            </a:cubicBezTo>
                            <a:cubicBezTo>
                              <a:pt x="60" y="0"/>
                              <a:pt x="90" y="60"/>
                              <a:pt x="90" y="90"/>
                            </a:cubicBezTo>
                            <a:cubicBezTo>
                              <a:pt x="90" y="120"/>
                              <a:pt x="60" y="181"/>
                              <a:pt x="45" y="181"/>
                            </a:cubicBezTo>
                            <a:close/>
                          </a:path>
                        </a:pathLst>
                      </a:custGeom>
                      <a:noFill/>
                      <a:ln w="6480">
                        <a:solidFill>
                          <a:srgbClr val="cc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61" name="Freeform 561"/>
                      <p:cNvSpPr/>
                      <p:nvPr/>
                    </p:nvSpPr>
                    <p:spPr>
                      <a:xfrm rot="787800">
                        <a:off x="5450760" y="5972760"/>
                        <a:ext cx="10800" cy="22680"/>
                      </a:xfrm>
                      <a:custGeom>
                        <a:avLst/>
                        <a:gdLst>
                          <a:gd name="textAreaLeft" fmla="*/ 0 w 10800"/>
                          <a:gd name="textAreaRight" fmla="*/ 11160 w 10800"/>
                          <a:gd name="textAreaTop" fmla="*/ 0 h 22680"/>
                          <a:gd name="textAreaBottom" fmla="*/ 23040 h 22680"/>
                        </a:gdLst>
                        <a:ahLst/>
                        <a:rect l="textAreaLeft" t="textAreaTop" r="textAreaRight" b="textAreaBottom"/>
                        <a:pathLst>
                          <a:path w="90" h="181">
                            <a:moveTo>
                              <a:pt x="45" y="181"/>
                            </a:moveTo>
                            <a:cubicBezTo>
                              <a:pt x="30" y="181"/>
                              <a:pt x="0" y="120"/>
                              <a:pt x="0" y="90"/>
                            </a:cubicBezTo>
                            <a:cubicBezTo>
                              <a:pt x="0" y="60"/>
                              <a:pt x="30" y="0"/>
                              <a:pt x="45" y="0"/>
                            </a:cubicBezTo>
                            <a:cubicBezTo>
                              <a:pt x="60" y="0"/>
                              <a:pt x="90" y="60"/>
                              <a:pt x="90" y="90"/>
                            </a:cubicBezTo>
                            <a:cubicBezTo>
                              <a:pt x="90" y="120"/>
                              <a:pt x="60" y="181"/>
                              <a:pt x="45" y="181"/>
                            </a:cubicBezTo>
                            <a:close/>
                          </a:path>
                        </a:pathLst>
                      </a:custGeom>
                      <a:noFill/>
                      <a:ln w="6480">
                        <a:solidFill>
                          <a:srgbClr val="cc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62" name="Freeform 562"/>
                      <p:cNvSpPr/>
                      <p:nvPr/>
                    </p:nvSpPr>
                    <p:spPr>
                      <a:xfrm flipH="1" rot="8269800">
                        <a:off x="5463360" y="6000480"/>
                        <a:ext cx="10800" cy="23040"/>
                      </a:xfrm>
                      <a:custGeom>
                        <a:avLst/>
                        <a:gdLst>
                          <a:gd name="textAreaLeft" fmla="*/ 360 w 10800"/>
                          <a:gd name="textAreaRight" fmla="*/ 11520 w 10800"/>
                          <a:gd name="textAreaTop" fmla="*/ 0 h 23040"/>
                          <a:gd name="textAreaBottom" fmla="*/ 23400 h 23040"/>
                        </a:gdLst>
                        <a:ahLst/>
                        <a:rect l="textAreaLeft" t="textAreaTop" r="textAreaRight" b="textAreaBottom"/>
                        <a:pathLst>
                          <a:path w="90" h="181">
                            <a:moveTo>
                              <a:pt x="45" y="181"/>
                            </a:moveTo>
                            <a:cubicBezTo>
                              <a:pt x="30" y="181"/>
                              <a:pt x="0" y="120"/>
                              <a:pt x="0" y="90"/>
                            </a:cubicBezTo>
                            <a:cubicBezTo>
                              <a:pt x="0" y="60"/>
                              <a:pt x="30" y="0"/>
                              <a:pt x="45" y="0"/>
                            </a:cubicBezTo>
                            <a:cubicBezTo>
                              <a:pt x="60" y="0"/>
                              <a:pt x="90" y="60"/>
                              <a:pt x="90" y="90"/>
                            </a:cubicBezTo>
                            <a:cubicBezTo>
                              <a:pt x="90" y="120"/>
                              <a:pt x="60" y="181"/>
                              <a:pt x="45" y="181"/>
                            </a:cubicBezTo>
                            <a:close/>
                          </a:path>
                        </a:pathLst>
                      </a:custGeom>
                      <a:noFill/>
                      <a:ln w="6480">
                        <a:solidFill>
                          <a:srgbClr val="cc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 rot="10800000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63" name="Freeform 563"/>
                      <p:cNvSpPr/>
                      <p:nvPr/>
                    </p:nvSpPr>
                    <p:spPr>
                      <a:xfrm flipH="1" rot="7163400">
                        <a:off x="5466240" y="5997240"/>
                        <a:ext cx="9720" cy="25200"/>
                      </a:xfrm>
                      <a:custGeom>
                        <a:avLst/>
                        <a:gdLst>
                          <a:gd name="textAreaLeft" fmla="*/ -360 w 9720"/>
                          <a:gd name="textAreaRight" fmla="*/ 9720 w 9720"/>
                          <a:gd name="textAreaTop" fmla="*/ 0 h 25200"/>
                          <a:gd name="textAreaBottom" fmla="*/ 25560 h 25200"/>
                        </a:gdLst>
                        <a:ahLst/>
                        <a:rect l="textAreaLeft" t="textAreaTop" r="textAreaRight" b="textAreaBottom"/>
                        <a:pathLst>
                          <a:path w="90" h="181">
                            <a:moveTo>
                              <a:pt x="45" y="181"/>
                            </a:moveTo>
                            <a:cubicBezTo>
                              <a:pt x="30" y="181"/>
                              <a:pt x="0" y="120"/>
                              <a:pt x="0" y="90"/>
                            </a:cubicBezTo>
                            <a:cubicBezTo>
                              <a:pt x="0" y="60"/>
                              <a:pt x="30" y="0"/>
                              <a:pt x="45" y="0"/>
                            </a:cubicBezTo>
                            <a:cubicBezTo>
                              <a:pt x="60" y="0"/>
                              <a:pt x="90" y="60"/>
                              <a:pt x="90" y="90"/>
                            </a:cubicBezTo>
                            <a:cubicBezTo>
                              <a:pt x="90" y="120"/>
                              <a:pt x="60" y="181"/>
                              <a:pt x="45" y="181"/>
                            </a:cubicBezTo>
                            <a:close/>
                          </a:path>
                        </a:pathLst>
                      </a:custGeom>
                      <a:noFill/>
                      <a:ln w="6480">
                        <a:solidFill>
                          <a:srgbClr val="cc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240" bIns="-21240" anchor="t" rot="10800000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64" name="Freeform 564"/>
                      <p:cNvSpPr/>
                      <p:nvPr/>
                    </p:nvSpPr>
                    <p:spPr>
                      <a:xfrm flipH="1" rot="5907600">
                        <a:off x="5466240" y="5993640"/>
                        <a:ext cx="10080" cy="24480"/>
                      </a:xfrm>
                      <a:custGeom>
                        <a:avLst/>
                        <a:gdLst>
                          <a:gd name="textAreaLeft" fmla="*/ 360 w 10080"/>
                          <a:gd name="textAreaRight" fmla="*/ 10800 w 10080"/>
                          <a:gd name="textAreaTop" fmla="*/ 0 h 24480"/>
                          <a:gd name="textAreaBottom" fmla="*/ 24840 h 24480"/>
                        </a:gdLst>
                        <a:ahLst/>
                        <a:rect l="textAreaLeft" t="textAreaTop" r="textAreaRight" b="textAreaBottom"/>
                        <a:pathLst>
                          <a:path w="90" h="181">
                            <a:moveTo>
                              <a:pt x="45" y="181"/>
                            </a:moveTo>
                            <a:cubicBezTo>
                              <a:pt x="30" y="181"/>
                              <a:pt x="0" y="120"/>
                              <a:pt x="0" y="90"/>
                            </a:cubicBezTo>
                            <a:cubicBezTo>
                              <a:pt x="0" y="60"/>
                              <a:pt x="30" y="0"/>
                              <a:pt x="45" y="0"/>
                            </a:cubicBezTo>
                            <a:cubicBezTo>
                              <a:pt x="60" y="0"/>
                              <a:pt x="90" y="60"/>
                              <a:pt x="90" y="90"/>
                            </a:cubicBezTo>
                            <a:cubicBezTo>
                              <a:pt x="90" y="120"/>
                              <a:pt x="60" y="181"/>
                              <a:pt x="45" y="181"/>
                            </a:cubicBezTo>
                            <a:close/>
                          </a:path>
                        </a:pathLst>
                      </a:custGeom>
                      <a:noFill/>
                      <a:ln w="6480">
                        <a:solidFill>
                          <a:srgbClr val="cc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960" bIns="-21960" anchor="t" rot="10800000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65" name="Freeform 565"/>
                      <p:cNvSpPr/>
                      <p:nvPr/>
                    </p:nvSpPr>
                    <p:spPr>
                      <a:xfrm rot="3348000">
                        <a:off x="5398920" y="6025320"/>
                        <a:ext cx="8280" cy="16560"/>
                      </a:xfrm>
                      <a:custGeom>
                        <a:avLst/>
                        <a:gdLst>
                          <a:gd name="textAreaLeft" fmla="*/ 0 w 8280"/>
                          <a:gd name="textAreaRight" fmla="*/ 8640 w 8280"/>
                          <a:gd name="textAreaTop" fmla="*/ 0 h 16560"/>
                          <a:gd name="textAreaBottom" fmla="*/ 16920 h 16560"/>
                        </a:gdLst>
                        <a:ahLst/>
                        <a:rect l="textAreaLeft" t="textAreaTop" r="textAreaRight" b="textAreaBottom"/>
                        <a:pathLst>
                          <a:path w="36" h="68">
                            <a:moveTo>
                              <a:pt x="9" y="0"/>
                            </a:moveTo>
                            <a:cubicBezTo>
                              <a:pt x="10" y="0"/>
                              <a:pt x="30" y="5"/>
                              <a:pt x="24" y="12"/>
                            </a:cubicBezTo>
                            <a:cubicBezTo>
                              <a:pt x="20" y="17"/>
                              <a:pt x="6" y="18"/>
                              <a:pt x="6" y="18"/>
                            </a:cubicBezTo>
                            <a:cubicBezTo>
                              <a:pt x="8" y="21"/>
                              <a:pt x="9" y="25"/>
                              <a:pt x="12" y="27"/>
                            </a:cubicBezTo>
                            <a:cubicBezTo>
                              <a:pt x="22" y="35"/>
                              <a:pt x="32" y="35"/>
                              <a:pt x="6" y="42"/>
                            </a:cubicBezTo>
                            <a:cubicBezTo>
                              <a:pt x="36" y="52"/>
                              <a:pt x="23" y="55"/>
                              <a:pt x="0" y="60"/>
                            </a:cubicBezTo>
                            <a:cubicBezTo>
                              <a:pt x="13" y="68"/>
                              <a:pt x="8" y="63"/>
                              <a:pt x="21" y="63"/>
                            </a:cubicBezTo>
                          </a:path>
                        </a:pathLst>
                      </a:custGeom>
                      <a:solidFill>
                        <a:srgbClr val="663366"/>
                      </a:solidFill>
                      <a:ln w="9360">
                        <a:solidFill>
                          <a:srgbClr val="6633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880" bIns="-29880" anchor="t" rot="10800000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66" name="Freeform 566"/>
                      <p:cNvSpPr/>
                      <p:nvPr/>
                    </p:nvSpPr>
                    <p:spPr>
                      <a:xfrm rot="3348000">
                        <a:off x="5402160" y="6030360"/>
                        <a:ext cx="7920" cy="16560"/>
                      </a:xfrm>
                      <a:custGeom>
                        <a:avLst/>
                        <a:gdLst>
                          <a:gd name="textAreaLeft" fmla="*/ 0 w 7920"/>
                          <a:gd name="textAreaRight" fmla="*/ 8280 w 7920"/>
                          <a:gd name="textAreaTop" fmla="*/ 0 h 16560"/>
                          <a:gd name="textAreaBottom" fmla="*/ 16920 h 16560"/>
                        </a:gdLst>
                        <a:ahLst/>
                        <a:rect l="textAreaLeft" t="textAreaTop" r="textAreaRight" b="textAreaBottom"/>
                        <a:pathLst>
                          <a:path w="36" h="68">
                            <a:moveTo>
                              <a:pt x="9" y="0"/>
                            </a:moveTo>
                            <a:cubicBezTo>
                              <a:pt x="10" y="0"/>
                              <a:pt x="30" y="5"/>
                              <a:pt x="24" y="12"/>
                            </a:cubicBezTo>
                            <a:cubicBezTo>
                              <a:pt x="20" y="17"/>
                              <a:pt x="6" y="18"/>
                              <a:pt x="6" y="18"/>
                            </a:cubicBezTo>
                            <a:cubicBezTo>
                              <a:pt x="8" y="21"/>
                              <a:pt x="9" y="25"/>
                              <a:pt x="12" y="27"/>
                            </a:cubicBezTo>
                            <a:cubicBezTo>
                              <a:pt x="22" y="35"/>
                              <a:pt x="32" y="35"/>
                              <a:pt x="6" y="42"/>
                            </a:cubicBezTo>
                            <a:cubicBezTo>
                              <a:pt x="36" y="52"/>
                              <a:pt x="23" y="55"/>
                              <a:pt x="0" y="60"/>
                            </a:cubicBezTo>
                            <a:cubicBezTo>
                              <a:pt x="13" y="68"/>
                              <a:pt x="8" y="63"/>
                              <a:pt x="21" y="63"/>
                            </a:cubicBezTo>
                          </a:path>
                        </a:pathLst>
                      </a:custGeom>
                      <a:solidFill>
                        <a:srgbClr val="663366"/>
                      </a:solidFill>
                      <a:ln w="9360">
                        <a:solidFill>
                          <a:srgbClr val="6633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880" bIns="-29880" anchor="t" rot="10800000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67" name="Oval 567"/>
                      <p:cNvSpPr/>
                      <p:nvPr/>
                    </p:nvSpPr>
                    <p:spPr>
                      <a:xfrm rot="3348000">
                        <a:off x="5388120" y="6035040"/>
                        <a:ext cx="5040" cy="11160"/>
                      </a:xfrm>
                      <a:prstGeom prst="ellipse">
                        <a:avLst/>
                      </a:prstGeom>
                      <a:solidFill>
                        <a:srgbClr val="663366"/>
                      </a:solidFill>
                      <a:ln w="9360">
                        <a:solidFill>
                          <a:srgbClr val="66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 anchorCtr="1" vert="eaVert" rot="10800000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68" name="Oval 568"/>
                      <p:cNvSpPr/>
                      <p:nvPr/>
                    </p:nvSpPr>
                    <p:spPr>
                      <a:xfrm rot="3348000">
                        <a:off x="5391000" y="6039360"/>
                        <a:ext cx="5040" cy="11160"/>
                      </a:xfrm>
                      <a:prstGeom prst="ellipse">
                        <a:avLst/>
                      </a:prstGeom>
                      <a:solidFill>
                        <a:srgbClr val="663366"/>
                      </a:solidFill>
                      <a:ln w="9360">
                        <a:solidFill>
                          <a:srgbClr val="66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 anchorCtr="1" vert="eaVert" rot="10800000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69" name="Oval 569"/>
                      <p:cNvSpPr/>
                      <p:nvPr/>
                    </p:nvSpPr>
                    <p:spPr>
                      <a:xfrm flipH="1" rot="18252000">
                        <a:off x="5186880" y="5982840"/>
                        <a:ext cx="42120" cy="5616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666699"/>
                          </a:gs>
                          <a:gs pos="100000">
                            <a:srgbClr val="424267"/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6480" bIns="-6480" anchor="t" anchorCtr="1" vert="eaVer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0" name="AutoShape 570"/>
                      <p:cNvSpPr/>
                      <p:nvPr/>
                    </p:nvSpPr>
                    <p:spPr>
                      <a:xfrm rot="18252000">
                        <a:off x="5210640" y="5985360"/>
                        <a:ext cx="19440" cy="19440"/>
                      </a:xfrm>
                      <a:custGeom>
                        <a:avLst/>
                        <a:gdLst>
                          <a:gd name="textAreaLeft" fmla="*/ 11880 w 19440"/>
                          <a:gd name="textAreaRight" fmla="*/ 12600 w 19440"/>
                          <a:gd name="textAreaTop" fmla="*/ 720 h 19440"/>
                          <a:gd name="textAreaBottom" fmla="*/ 18720 h 1944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7719" y="2482"/>
                              <a:pt x="13837" y="5080"/>
                              <a:pt x="13837" y="10800"/>
                            </a:cubicBezTo>
                            <a:cubicBezTo>
                              <a:pt x="13837" y="16520"/>
                              <a:pt x="17719" y="19118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0" bIns="-28800" anchor="t" anchorCtr="1" vert="eaVer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1" name="AutoShape 571"/>
                      <p:cNvSpPr/>
                      <p:nvPr/>
                    </p:nvSpPr>
                    <p:spPr>
                      <a:xfrm flipH="1" rot="18252000">
                        <a:off x="5186880" y="6017040"/>
                        <a:ext cx="19440" cy="19080"/>
                      </a:xfrm>
                      <a:custGeom>
                        <a:avLst/>
                        <a:gdLst>
                          <a:gd name="textAreaLeft" fmla="*/ 11880 w 19440"/>
                          <a:gd name="textAreaRight" fmla="*/ 12600 w 19440"/>
                          <a:gd name="textAreaTop" fmla="*/ 720 h 19080"/>
                          <a:gd name="textAreaBottom" fmla="*/ 18360 h 1908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7719" y="2482"/>
                              <a:pt x="13837" y="5080"/>
                              <a:pt x="13837" y="10800"/>
                            </a:cubicBezTo>
                            <a:cubicBezTo>
                              <a:pt x="13837" y="16520"/>
                              <a:pt x="17719" y="19118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 anchorCtr="1" vert="eaVer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2" name="Freeform 572"/>
                      <p:cNvSpPr/>
                      <p:nvPr/>
                    </p:nvSpPr>
                    <p:spPr>
                      <a:xfrm flipH="1" rot="1574400">
                        <a:off x="5187600" y="5969160"/>
                        <a:ext cx="10800" cy="23040"/>
                      </a:xfrm>
                      <a:custGeom>
                        <a:avLst/>
                        <a:gdLst>
                          <a:gd name="textAreaLeft" fmla="*/ 360 w 10800"/>
                          <a:gd name="textAreaRight" fmla="*/ 11520 w 10800"/>
                          <a:gd name="textAreaTop" fmla="*/ 0 h 23040"/>
                          <a:gd name="textAreaBottom" fmla="*/ 23400 h 23040"/>
                        </a:gdLst>
                        <a:ahLst/>
                        <a:rect l="textAreaLeft" t="textAreaTop" r="textAreaRight" b="textAreaBottom"/>
                        <a:pathLst>
                          <a:path w="90" h="181">
                            <a:moveTo>
                              <a:pt x="45" y="181"/>
                            </a:moveTo>
                            <a:cubicBezTo>
                              <a:pt x="30" y="181"/>
                              <a:pt x="0" y="120"/>
                              <a:pt x="0" y="90"/>
                            </a:cubicBezTo>
                            <a:cubicBezTo>
                              <a:pt x="0" y="60"/>
                              <a:pt x="30" y="0"/>
                              <a:pt x="45" y="0"/>
                            </a:cubicBezTo>
                            <a:cubicBezTo>
                              <a:pt x="60" y="0"/>
                              <a:pt x="90" y="60"/>
                              <a:pt x="90" y="90"/>
                            </a:cubicBezTo>
                            <a:cubicBezTo>
                              <a:pt x="90" y="120"/>
                              <a:pt x="60" y="181"/>
                              <a:pt x="45" y="181"/>
                            </a:cubicBezTo>
                            <a:close/>
                          </a:path>
                        </a:pathLst>
                      </a:custGeom>
                      <a:noFill/>
                      <a:ln w="6480">
                        <a:solidFill>
                          <a:srgbClr val="cc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3" name="Freeform 573"/>
                      <p:cNvSpPr/>
                      <p:nvPr/>
                    </p:nvSpPr>
                    <p:spPr>
                      <a:xfrm flipH="1" rot="468600">
                        <a:off x="5185440" y="5968080"/>
                        <a:ext cx="10440" cy="23040"/>
                      </a:xfrm>
                      <a:custGeom>
                        <a:avLst/>
                        <a:gdLst>
                          <a:gd name="textAreaLeft" fmla="*/ -360 w 10440"/>
                          <a:gd name="textAreaRight" fmla="*/ 10440 w 10440"/>
                          <a:gd name="textAreaTop" fmla="*/ 0 h 23040"/>
                          <a:gd name="textAreaBottom" fmla="*/ 23400 h 23040"/>
                        </a:gdLst>
                        <a:ahLst/>
                        <a:rect l="textAreaLeft" t="textAreaTop" r="textAreaRight" b="textAreaBottom"/>
                        <a:pathLst>
                          <a:path w="90" h="181">
                            <a:moveTo>
                              <a:pt x="45" y="181"/>
                            </a:moveTo>
                            <a:cubicBezTo>
                              <a:pt x="30" y="181"/>
                              <a:pt x="0" y="120"/>
                              <a:pt x="0" y="90"/>
                            </a:cubicBezTo>
                            <a:cubicBezTo>
                              <a:pt x="0" y="60"/>
                              <a:pt x="30" y="0"/>
                              <a:pt x="45" y="0"/>
                            </a:cubicBezTo>
                            <a:cubicBezTo>
                              <a:pt x="60" y="0"/>
                              <a:pt x="90" y="60"/>
                              <a:pt x="90" y="90"/>
                            </a:cubicBezTo>
                            <a:cubicBezTo>
                              <a:pt x="90" y="120"/>
                              <a:pt x="60" y="181"/>
                              <a:pt x="45" y="181"/>
                            </a:cubicBezTo>
                            <a:close/>
                          </a:path>
                        </a:pathLst>
                      </a:custGeom>
                      <a:noFill/>
                      <a:ln w="6480">
                        <a:solidFill>
                          <a:srgbClr val="cc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4" name="Freeform 574"/>
                      <p:cNvSpPr/>
                      <p:nvPr/>
                    </p:nvSpPr>
                    <p:spPr>
                      <a:xfrm flipH="1" rot="20812200">
                        <a:off x="5181480" y="5968440"/>
                        <a:ext cx="10800" cy="22680"/>
                      </a:xfrm>
                      <a:custGeom>
                        <a:avLst/>
                        <a:gdLst>
                          <a:gd name="textAreaLeft" fmla="*/ 360 w 10800"/>
                          <a:gd name="textAreaRight" fmla="*/ 11520 w 10800"/>
                          <a:gd name="textAreaTop" fmla="*/ 0 h 22680"/>
                          <a:gd name="textAreaBottom" fmla="*/ 23040 h 22680"/>
                        </a:gdLst>
                        <a:ahLst/>
                        <a:rect l="textAreaLeft" t="textAreaTop" r="textAreaRight" b="textAreaBottom"/>
                        <a:pathLst>
                          <a:path w="90" h="181">
                            <a:moveTo>
                              <a:pt x="45" y="181"/>
                            </a:moveTo>
                            <a:cubicBezTo>
                              <a:pt x="30" y="181"/>
                              <a:pt x="0" y="120"/>
                              <a:pt x="0" y="90"/>
                            </a:cubicBezTo>
                            <a:cubicBezTo>
                              <a:pt x="0" y="60"/>
                              <a:pt x="30" y="0"/>
                              <a:pt x="45" y="0"/>
                            </a:cubicBezTo>
                            <a:cubicBezTo>
                              <a:pt x="60" y="0"/>
                              <a:pt x="90" y="60"/>
                              <a:pt x="90" y="90"/>
                            </a:cubicBezTo>
                            <a:cubicBezTo>
                              <a:pt x="90" y="120"/>
                              <a:pt x="60" y="181"/>
                              <a:pt x="45" y="181"/>
                            </a:cubicBezTo>
                            <a:close/>
                          </a:path>
                        </a:pathLst>
                      </a:custGeom>
                      <a:noFill/>
                      <a:ln w="6480">
                        <a:solidFill>
                          <a:srgbClr val="cc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5" name="Freeform 575"/>
                      <p:cNvSpPr/>
                      <p:nvPr/>
                    </p:nvSpPr>
                    <p:spPr>
                      <a:xfrm rot="13330200">
                        <a:off x="5169240" y="5996160"/>
                        <a:ext cx="10800" cy="23040"/>
                      </a:xfrm>
                      <a:custGeom>
                        <a:avLst/>
                        <a:gdLst>
                          <a:gd name="textAreaLeft" fmla="*/ 0 w 10800"/>
                          <a:gd name="textAreaRight" fmla="*/ 11160 w 10800"/>
                          <a:gd name="textAreaTop" fmla="*/ 0 h 23040"/>
                          <a:gd name="textAreaBottom" fmla="*/ 23400 h 23040"/>
                        </a:gdLst>
                        <a:ahLst/>
                        <a:rect l="textAreaLeft" t="textAreaTop" r="textAreaRight" b="textAreaBottom"/>
                        <a:pathLst>
                          <a:path w="90" h="181">
                            <a:moveTo>
                              <a:pt x="45" y="181"/>
                            </a:moveTo>
                            <a:cubicBezTo>
                              <a:pt x="30" y="181"/>
                              <a:pt x="0" y="120"/>
                              <a:pt x="0" y="90"/>
                            </a:cubicBezTo>
                            <a:cubicBezTo>
                              <a:pt x="0" y="60"/>
                              <a:pt x="30" y="0"/>
                              <a:pt x="45" y="0"/>
                            </a:cubicBezTo>
                            <a:cubicBezTo>
                              <a:pt x="60" y="0"/>
                              <a:pt x="90" y="60"/>
                              <a:pt x="90" y="90"/>
                            </a:cubicBezTo>
                            <a:cubicBezTo>
                              <a:pt x="90" y="120"/>
                              <a:pt x="60" y="181"/>
                              <a:pt x="45" y="181"/>
                            </a:cubicBezTo>
                            <a:close/>
                          </a:path>
                        </a:pathLst>
                      </a:custGeom>
                      <a:noFill/>
                      <a:ln w="6480">
                        <a:solidFill>
                          <a:srgbClr val="cc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 rot="10800000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6" name="Freeform 576"/>
                      <p:cNvSpPr/>
                      <p:nvPr/>
                    </p:nvSpPr>
                    <p:spPr>
                      <a:xfrm rot="14436600">
                        <a:off x="5167440" y="5992920"/>
                        <a:ext cx="9720" cy="25200"/>
                      </a:xfrm>
                      <a:custGeom>
                        <a:avLst/>
                        <a:gdLst>
                          <a:gd name="textAreaLeft" fmla="*/ 0 w 9720"/>
                          <a:gd name="textAreaRight" fmla="*/ 10080 w 9720"/>
                          <a:gd name="textAreaTop" fmla="*/ 0 h 25200"/>
                          <a:gd name="textAreaBottom" fmla="*/ 25560 h 25200"/>
                        </a:gdLst>
                        <a:ahLst/>
                        <a:rect l="textAreaLeft" t="textAreaTop" r="textAreaRight" b="textAreaBottom"/>
                        <a:pathLst>
                          <a:path w="90" h="181">
                            <a:moveTo>
                              <a:pt x="45" y="181"/>
                            </a:moveTo>
                            <a:cubicBezTo>
                              <a:pt x="30" y="181"/>
                              <a:pt x="0" y="120"/>
                              <a:pt x="0" y="90"/>
                            </a:cubicBezTo>
                            <a:cubicBezTo>
                              <a:pt x="0" y="60"/>
                              <a:pt x="30" y="0"/>
                              <a:pt x="45" y="0"/>
                            </a:cubicBezTo>
                            <a:cubicBezTo>
                              <a:pt x="60" y="0"/>
                              <a:pt x="90" y="60"/>
                              <a:pt x="90" y="90"/>
                            </a:cubicBezTo>
                            <a:cubicBezTo>
                              <a:pt x="90" y="120"/>
                              <a:pt x="60" y="181"/>
                              <a:pt x="45" y="181"/>
                            </a:cubicBezTo>
                            <a:close/>
                          </a:path>
                        </a:pathLst>
                      </a:custGeom>
                      <a:noFill/>
                      <a:ln w="6480">
                        <a:solidFill>
                          <a:srgbClr val="cc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240" bIns="-212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7" name="Freeform 577"/>
                      <p:cNvSpPr/>
                      <p:nvPr/>
                    </p:nvSpPr>
                    <p:spPr>
                      <a:xfrm rot="15692400">
                        <a:off x="5166000" y="5989680"/>
                        <a:ext cx="10080" cy="24480"/>
                      </a:xfrm>
                      <a:custGeom>
                        <a:avLst/>
                        <a:gdLst>
                          <a:gd name="textAreaLeft" fmla="*/ 0 w 10080"/>
                          <a:gd name="textAreaRight" fmla="*/ 10440 w 10080"/>
                          <a:gd name="textAreaTop" fmla="*/ 0 h 24480"/>
                          <a:gd name="textAreaBottom" fmla="*/ 24840 h 24480"/>
                        </a:gdLst>
                        <a:ahLst/>
                        <a:rect l="textAreaLeft" t="textAreaTop" r="textAreaRight" b="textAreaBottom"/>
                        <a:pathLst>
                          <a:path w="90" h="181">
                            <a:moveTo>
                              <a:pt x="45" y="181"/>
                            </a:moveTo>
                            <a:cubicBezTo>
                              <a:pt x="30" y="181"/>
                              <a:pt x="0" y="120"/>
                              <a:pt x="0" y="90"/>
                            </a:cubicBezTo>
                            <a:cubicBezTo>
                              <a:pt x="0" y="60"/>
                              <a:pt x="30" y="0"/>
                              <a:pt x="45" y="0"/>
                            </a:cubicBezTo>
                            <a:cubicBezTo>
                              <a:pt x="60" y="0"/>
                              <a:pt x="90" y="60"/>
                              <a:pt x="90" y="90"/>
                            </a:cubicBezTo>
                            <a:cubicBezTo>
                              <a:pt x="90" y="120"/>
                              <a:pt x="60" y="181"/>
                              <a:pt x="45" y="181"/>
                            </a:cubicBezTo>
                            <a:close/>
                          </a:path>
                        </a:pathLst>
                      </a:custGeom>
                      <a:noFill/>
                      <a:ln w="6480">
                        <a:solidFill>
                          <a:srgbClr val="cc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960" bIns="-21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8" name="Freeform 578"/>
                      <p:cNvSpPr/>
                      <p:nvPr/>
                    </p:nvSpPr>
                    <p:spPr>
                      <a:xfrm flipH="1" rot="18252000">
                        <a:off x="5236560" y="6021360"/>
                        <a:ext cx="8280" cy="16560"/>
                      </a:xfrm>
                      <a:custGeom>
                        <a:avLst/>
                        <a:gdLst>
                          <a:gd name="textAreaLeft" fmla="*/ -360 w 8280"/>
                          <a:gd name="textAreaRight" fmla="*/ 8280 w 8280"/>
                          <a:gd name="textAreaTop" fmla="*/ 0 h 16560"/>
                          <a:gd name="textAreaBottom" fmla="*/ 16920 h 16560"/>
                        </a:gdLst>
                        <a:ahLst/>
                        <a:rect l="textAreaLeft" t="textAreaTop" r="textAreaRight" b="textAreaBottom"/>
                        <a:pathLst>
                          <a:path w="36" h="68">
                            <a:moveTo>
                              <a:pt x="9" y="0"/>
                            </a:moveTo>
                            <a:cubicBezTo>
                              <a:pt x="10" y="0"/>
                              <a:pt x="30" y="5"/>
                              <a:pt x="24" y="12"/>
                            </a:cubicBezTo>
                            <a:cubicBezTo>
                              <a:pt x="20" y="17"/>
                              <a:pt x="6" y="18"/>
                              <a:pt x="6" y="18"/>
                            </a:cubicBezTo>
                            <a:cubicBezTo>
                              <a:pt x="8" y="21"/>
                              <a:pt x="9" y="25"/>
                              <a:pt x="12" y="27"/>
                            </a:cubicBezTo>
                            <a:cubicBezTo>
                              <a:pt x="22" y="35"/>
                              <a:pt x="32" y="35"/>
                              <a:pt x="6" y="42"/>
                            </a:cubicBezTo>
                            <a:cubicBezTo>
                              <a:pt x="36" y="52"/>
                              <a:pt x="23" y="55"/>
                              <a:pt x="0" y="60"/>
                            </a:cubicBezTo>
                            <a:cubicBezTo>
                              <a:pt x="13" y="68"/>
                              <a:pt x="8" y="63"/>
                              <a:pt x="21" y="63"/>
                            </a:cubicBezTo>
                          </a:path>
                        </a:pathLst>
                      </a:custGeom>
                      <a:solidFill>
                        <a:srgbClr val="663366"/>
                      </a:solidFill>
                      <a:ln w="9360">
                        <a:solidFill>
                          <a:srgbClr val="6633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880" bIns="-29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9" name="Freeform 579"/>
                      <p:cNvSpPr/>
                      <p:nvPr/>
                    </p:nvSpPr>
                    <p:spPr>
                      <a:xfrm flipH="1" rot="18252000">
                        <a:off x="5233680" y="6025680"/>
                        <a:ext cx="8280" cy="16560"/>
                      </a:xfrm>
                      <a:custGeom>
                        <a:avLst/>
                        <a:gdLst>
                          <a:gd name="textAreaLeft" fmla="*/ -360 w 8280"/>
                          <a:gd name="textAreaRight" fmla="*/ 8280 w 8280"/>
                          <a:gd name="textAreaTop" fmla="*/ 0 h 16560"/>
                          <a:gd name="textAreaBottom" fmla="*/ 16920 h 16560"/>
                        </a:gdLst>
                        <a:ahLst/>
                        <a:rect l="textAreaLeft" t="textAreaTop" r="textAreaRight" b="textAreaBottom"/>
                        <a:pathLst>
                          <a:path w="36" h="68">
                            <a:moveTo>
                              <a:pt x="9" y="0"/>
                            </a:moveTo>
                            <a:cubicBezTo>
                              <a:pt x="10" y="0"/>
                              <a:pt x="30" y="5"/>
                              <a:pt x="24" y="12"/>
                            </a:cubicBezTo>
                            <a:cubicBezTo>
                              <a:pt x="20" y="17"/>
                              <a:pt x="6" y="18"/>
                              <a:pt x="6" y="18"/>
                            </a:cubicBezTo>
                            <a:cubicBezTo>
                              <a:pt x="8" y="21"/>
                              <a:pt x="9" y="25"/>
                              <a:pt x="12" y="27"/>
                            </a:cubicBezTo>
                            <a:cubicBezTo>
                              <a:pt x="22" y="35"/>
                              <a:pt x="32" y="35"/>
                              <a:pt x="6" y="42"/>
                            </a:cubicBezTo>
                            <a:cubicBezTo>
                              <a:pt x="36" y="52"/>
                              <a:pt x="23" y="55"/>
                              <a:pt x="0" y="60"/>
                            </a:cubicBezTo>
                            <a:cubicBezTo>
                              <a:pt x="13" y="68"/>
                              <a:pt x="8" y="63"/>
                              <a:pt x="21" y="63"/>
                            </a:cubicBezTo>
                          </a:path>
                        </a:pathLst>
                      </a:custGeom>
                      <a:solidFill>
                        <a:srgbClr val="663366"/>
                      </a:solidFill>
                      <a:ln w="9360">
                        <a:solidFill>
                          <a:srgbClr val="6633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880" bIns="-29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0" name="Oval 580"/>
                      <p:cNvSpPr/>
                      <p:nvPr/>
                    </p:nvSpPr>
                    <p:spPr>
                      <a:xfrm flipH="1" rot="18252000">
                        <a:off x="5250240" y="6030360"/>
                        <a:ext cx="5040" cy="11160"/>
                      </a:xfrm>
                      <a:prstGeom prst="ellipse">
                        <a:avLst/>
                      </a:prstGeom>
                      <a:solidFill>
                        <a:srgbClr val="663366"/>
                      </a:solidFill>
                      <a:ln w="9360">
                        <a:solidFill>
                          <a:srgbClr val="66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 anchorCtr="1" vert="eaVer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1" name="Oval 581"/>
                      <p:cNvSpPr/>
                      <p:nvPr/>
                    </p:nvSpPr>
                    <p:spPr>
                      <a:xfrm flipH="1" rot="18252000">
                        <a:off x="5247000" y="6034680"/>
                        <a:ext cx="5040" cy="11160"/>
                      </a:xfrm>
                      <a:prstGeom prst="ellipse">
                        <a:avLst/>
                      </a:prstGeom>
                      <a:solidFill>
                        <a:srgbClr val="663366"/>
                      </a:solidFill>
                      <a:ln w="9360">
                        <a:solidFill>
                          <a:srgbClr val="66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 anchorCtr="1" vert="eaVer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2" name="Oval 582"/>
                      <p:cNvSpPr/>
                      <p:nvPr/>
                    </p:nvSpPr>
                    <p:spPr>
                      <a:xfrm flipV="1" rot="18252000">
                        <a:off x="5412600" y="6130800"/>
                        <a:ext cx="42120" cy="5616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666699"/>
                          </a:gs>
                          <a:gs pos="100000">
                            <a:srgbClr val="424267"/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6480" bIns="-6480" anchor="t" anchorCtr="1" vert="eaVert" rot="10800000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3" name="AutoShape 583"/>
                      <p:cNvSpPr/>
                      <p:nvPr/>
                    </p:nvSpPr>
                    <p:spPr>
                      <a:xfrm flipH="1" flipV="1" rot="18252000">
                        <a:off x="5411520" y="6165360"/>
                        <a:ext cx="19440" cy="19080"/>
                      </a:xfrm>
                      <a:custGeom>
                        <a:avLst/>
                        <a:gdLst>
                          <a:gd name="textAreaLeft" fmla="*/ 11880 w 19440"/>
                          <a:gd name="textAreaRight" fmla="*/ 12600 w 19440"/>
                          <a:gd name="textAreaTop" fmla="*/ 720 h 19080"/>
                          <a:gd name="textAreaBottom" fmla="*/ 18360 h 1908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7719" y="2482"/>
                              <a:pt x="13837" y="5080"/>
                              <a:pt x="13837" y="10800"/>
                            </a:cubicBezTo>
                            <a:cubicBezTo>
                              <a:pt x="13837" y="16520"/>
                              <a:pt x="17719" y="19118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 anchorCtr="1" vert="eaVert" rot="10800000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4" name="AutoShape 584"/>
                      <p:cNvSpPr/>
                      <p:nvPr/>
                    </p:nvSpPr>
                    <p:spPr>
                      <a:xfrm flipV="1" rot="18252000">
                        <a:off x="5434560" y="6134040"/>
                        <a:ext cx="19440" cy="18720"/>
                      </a:xfrm>
                      <a:custGeom>
                        <a:avLst/>
                        <a:gdLst>
                          <a:gd name="textAreaLeft" fmla="*/ 11880 w 19440"/>
                          <a:gd name="textAreaRight" fmla="*/ 12600 w 19440"/>
                          <a:gd name="textAreaTop" fmla="*/ 720 h 18720"/>
                          <a:gd name="textAreaBottom" fmla="*/ 18000 h 1872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7719" y="2482"/>
                              <a:pt x="13837" y="5080"/>
                              <a:pt x="13837" y="10800"/>
                            </a:cubicBezTo>
                            <a:cubicBezTo>
                              <a:pt x="13837" y="16520"/>
                              <a:pt x="17719" y="19118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 anchorCtr="1" vert="eaVert" rot="10800000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5" name="Freeform 585"/>
                      <p:cNvSpPr/>
                      <p:nvPr/>
                    </p:nvSpPr>
                    <p:spPr>
                      <a:xfrm flipV="1" rot="1574400">
                        <a:off x="5442120" y="6177240"/>
                        <a:ext cx="10800" cy="23400"/>
                      </a:xfrm>
                      <a:custGeom>
                        <a:avLst/>
                        <a:gdLst>
                          <a:gd name="textAreaLeft" fmla="*/ 0 w 10800"/>
                          <a:gd name="textAreaRight" fmla="*/ 11160 w 10800"/>
                          <a:gd name="textAreaTop" fmla="*/ -360 h 23400"/>
                          <a:gd name="textAreaBottom" fmla="*/ 23400 h 23400"/>
                        </a:gdLst>
                        <a:ahLst/>
                        <a:rect l="textAreaLeft" t="textAreaTop" r="textAreaRight" b="textAreaBottom"/>
                        <a:pathLst>
                          <a:path w="90" h="181">
                            <a:moveTo>
                              <a:pt x="45" y="181"/>
                            </a:moveTo>
                            <a:cubicBezTo>
                              <a:pt x="30" y="181"/>
                              <a:pt x="0" y="120"/>
                              <a:pt x="0" y="90"/>
                            </a:cubicBezTo>
                            <a:cubicBezTo>
                              <a:pt x="0" y="60"/>
                              <a:pt x="30" y="0"/>
                              <a:pt x="45" y="0"/>
                            </a:cubicBezTo>
                            <a:cubicBezTo>
                              <a:pt x="60" y="0"/>
                              <a:pt x="90" y="60"/>
                              <a:pt x="90" y="90"/>
                            </a:cubicBezTo>
                            <a:cubicBezTo>
                              <a:pt x="90" y="120"/>
                              <a:pt x="60" y="181"/>
                              <a:pt x="45" y="181"/>
                            </a:cubicBezTo>
                            <a:close/>
                          </a:path>
                        </a:pathLst>
                      </a:custGeom>
                      <a:noFill/>
                      <a:ln w="6480">
                        <a:solidFill>
                          <a:srgbClr val="cc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 rot="10800000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6" name="Freeform 586"/>
                      <p:cNvSpPr/>
                      <p:nvPr/>
                    </p:nvSpPr>
                    <p:spPr>
                      <a:xfrm flipV="1" rot="468600">
                        <a:off x="5445360" y="6177600"/>
                        <a:ext cx="10440" cy="23040"/>
                      </a:xfrm>
                      <a:custGeom>
                        <a:avLst/>
                        <a:gdLst>
                          <a:gd name="textAreaLeft" fmla="*/ 0 w 10440"/>
                          <a:gd name="textAreaRight" fmla="*/ 10800 w 10440"/>
                          <a:gd name="textAreaTop" fmla="*/ 360 h 23040"/>
                          <a:gd name="textAreaBottom" fmla="*/ 23760 h 23040"/>
                        </a:gdLst>
                        <a:ahLst/>
                        <a:rect l="textAreaLeft" t="textAreaTop" r="textAreaRight" b="textAreaBottom"/>
                        <a:pathLst>
                          <a:path w="90" h="181">
                            <a:moveTo>
                              <a:pt x="45" y="181"/>
                            </a:moveTo>
                            <a:cubicBezTo>
                              <a:pt x="30" y="181"/>
                              <a:pt x="0" y="120"/>
                              <a:pt x="0" y="90"/>
                            </a:cubicBezTo>
                            <a:cubicBezTo>
                              <a:pt x="0" y="60"/>
                              <a:pt x="30" y="0"/>
                              <a:pt x="45" y="0"/>
                            </a:cubicBezTo>
                            <a:cubicBezTo>
                              <a:pt x="60" y="0"/>
                              <a:pt x="90" y="60"/>
                              <a:pt x="90" y="90"/>
                            </a:cubicBezTo>
                            <a:cubicBezTo>
                              <a:pt x="90" y="120"/>
                              <a:pt x="60" y="181"/>
                              <a:pt x="45" y="181"/>
                            </a:cubicBezTo>
                            <a:close/>
                          </a:path>
                        </a:pathLst>
                      </a:custGeom>
                      <a:noFill/>
                      <a:ln w="6480">
                        <a:solidFill>
                          <a:srgbClr val="cc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 rot="10800000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7" name="Freeform 587"/>
                      <p:cNvSpPr/>
                      <p:nvPr/>
                    </p:nvSpPr>
                    <p:spPr>
                      <a:xfrm flipV="1" rot="20812200">
                        <a:off x="5449320" y="6178320"/>
                        <a:ext cx="10800" cy="22680"/>
                      </a:xfrm>
                      <a:custGeom>
                        <a:avLst/>
                        <a:gdLst>
                          <a:gd name="textAreaLeft" fmla="*/ 0 w 10800"/>
                          <a:gd name="textAreaRight" fmla="*/ 11160 w 10800"/>
                          <a:gd name="textAreaTop" fmla="*/ -360 h 22680"/>
                          <a:gd name="textAreaBottom" fmla="*/ 22680 h 22680"/>
                        </a:gdLst>
                        <a:ahLst/>
                        <a:rect l="textAreaLeft" t="textAreaTop" r="textAreaRight" b="textAreaBottom"/>
                        <a:pathLst>
                          <a:path w="90" h="181">
                            <a:moveTo>
                              <a:pt x="45" y="181"/>
                            </a:moveTo>
                            <a:cubicBezTo>
                              <a:pt x="30" y="181"/>
                              <a:pt x="0" y="120"/>
                              <a:pt x="0" y="90"/>
                            </a:cubicBezTo>
                            <a:cubicBezTo>
                              <a:pt x="0" y="60"/>
                              <a:pt x="30" y="0"/>
                              <a:pt x="45" y="0"/>
                            </a:cubicBezTo>
                            <a:cubicBezTo>
                              <a:pt x="60" y="0"/>
                              <a:pt x="90" y="60"/>
                              <a:pt x="90" y="90"/>
                            </a:cubicBezTo>
                            <a:cubicBezTo>
                              <a:pt x="90" y="120"/>
                              <a:pt x="60" y="181"/>
                              <a:pt x="45" y="181"/>
                            </a:cubicBezTo>
                            <a:close/>
                          </a:path>
                        </a:pathLst>
                      </a:custGeom>
                      <a:noFill/>
                      <a:ln w="6480">
                        <a:solidFill>
                          <a:srgbClr val="cc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 rot="10800000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8" name="Freeform 588"/>
                      <p:cNvSpPr/>
                      <p:nvPr/>
                    </p:nvSpPr>
                    <p:spPr>
                      <a:xfrm flipH="1" flipV="1" rot="13330200">
                        <a:off x="5462640" y="6150240"/>
                        <a:ext cx="10080" cy="23040"/>
                      </a:xfrm>
                      <a:custGeom>
                        <a:avLst/>
                        <a:gdLst>
                          <a:gd name="textAreaLeft" fmla="*/ 360 w 10080"/>
                          <a:gd name="textAreaRight" fmla="*/ 10800 w 10080"/>
                          <a:gd name="textAreaTop" fmla="*/ 360 h 23040"/>
                          <a:gd name="textAreaBottom" fmla="*/ 23760 h 23040"/>
                        </a:gdLst>
                        <a:ahLst/>
                        <a:rect l="textAreaLeft" t="textAreaTop" r="textAreaRight" b="textAreaBottom"/>
                        <a:pathLst>
                          <a:path w="90" h="181">
                            <a:moveTo>
                              <a:pt x="45" y="181"/>
                            </a:moveTo>
                            <a:cubicBezTo>
                              <a:pt x="30" y="181"/>
                              <a:pt x="0" y="120"/>
                              <a:pt x="0" y="90"/>
                            </a:cubicBezTo>
                            <a:cubicBezTo>
                              <a:pt x="0" y="60"/>
                              <a:pt x="30" y="0"/>
                              <a:pt x="45" y="0"/>
                            </a:cubicBezTo>
                            <a:cubicBezTo>
                              <a:pt x="60" y="0"/>
                              <a:pt x="90" y="60"/>
                              <a:pt x="90" y="90"/>
                            </a:cubicBezTo>
                            <a:cubicBezTo>
                              <a:pt x="90" y="120"/>
                              <a:pt x="60" y="181"/>
                              <a:pt x="45" y="181"/>
                            </a:cubicBezTo>
                            <a:close/>
                          </a:path>
                        </a:pathLst>
                      </a:custGeom>
                      <a:noFill/>
                      <a:ln w="6480">
                        <a:solidFill>
                          <a:srgbClr val="cc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9" name="Freeform 589"/>
                      <p:cNvSpPr/>
                      <p:nvPr/>
                    </p:nvSpPr>
                    <p:spPr>
                      <a:xfrm flipH="1" flipV="1" rot="14436600">
                        <a:off x="5463720" y="6151680"/>
                        <a:ext cx="9720" cy="25200"/>
                      </a:xfrm>
                      <a:custGeom>
                        <a:avLst/>
                        <a:gdLst>
                          <a:gd name="textAreaLeft" fmla="*/ -360 w 9720"/>
                          <a:gd name="textAreaRight" fmla="*/ 9720 w 9720"/>
                          <a:gd name="textAreaTop" fmla="*/ 360 h 25200"/>
                          <a:gd name="textAreaBottom" fmla="*/ 25920 h 25200"/>
                        </a:gdLst>
                        <a:ahLst/>
                        <a:rect l="textAreaLeft" t="textAreaTop" r="textAreaRight" b="textAreaBottom"/>
                        <a:pathLst>
                          <a:path w="90" h="181">
                            <a:moveTo>
                              <a:pt x="45" y="181"/>
                            </a:moveTo>
                            <a:cubicBezTo>
                              <a:pt x="30" y="181"/>
                              <a:pt x="0" y="120"/>
                              <a:pt x="0" y="90"/>
                            </a:cubicBezTo>
                            <a:cubicBezTo>
                              <a:pt x="0" y="60"/>
                              <a:pt x="30" y="0"/>
                              <a:pt x="45" y="0"/>
                            </a:cubicBezTo>
                            <a:cubicBezTo>
                              <a:pt x="60" y="0"/>
                              <a:pt x="90" y="60"/>
                              <a:pt x="90" y="90"/>
                            </a:cubicBezTo>
                            <a:cubicBezTo>
                              <a:pt x="90" y="120"/>
                              <a:pt x="60" y="181"/>
                              <a:pt x="45" y="181"/>
                            </a:cubicBezTo>
                            <a:close/>
                          </a:path>
                        </a:pathLst>
                      </a:custGeom>
                      <a:noFill/>
                      <a:ln w="6480">
                        <a:solidFill>
                          <a:srgbClr val="cc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240" bIns="-21240" anchor="t" rot="10800000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0" name="Freeform 590"/>
                      <p:cNvSpPr/>
                      <p:nvPr/>
                    </p:nvSpPr>
                    <p:spPr>
                      <a:xfrm flipH="1" flipV="1" rot="15692400">
                        <a:off x="5465160" y="6155280"/>
                        <a:ext cx="9720" cy="24480"/>
                      </a:xfrm>
                      <a:custGeom>
                        <a:avLst/>
                        <a:gdLst>
                          <a:gd name="textAreaLeft" fmla="*/ -360 w 9720"/>
                          <a:gd name="textAreaRight" fmla="*/ 9720 w 9720"/>
                          <a:gd name="textAreaTop" fmla="*/ 360 h 24480"/>
                          <a:gd name="textAreaBottom" fmla="*/ 25200 h 24480"/>
                        </a:gdLst>
                        <a:ahLst/>
                        <a:rect l="textAreaLeft" t="textAreaTop" r="textAreaRight" b="textAreaBottom"/>
                        <a:pathLst>
                          <a:path w="90" h="181">
                            <a:moveTo>
                              <a:pt x="45" y="181"/>
                            </a:moveTo>
                            <a:cubicBezTo>
                              <a:pt x="30" y="181"/>
                              <a:pt x="0" y="120"/>
                              <a:pt x="0" y="90"/>
                            </a:cubicBezTo>
                            <a:cubicBezTo>
                              <a:pt x="0" y="60"/>
                              <a:pt x="30" y="0"/>
                              <a:pt x="45" y="0"/>
                            </a:cubicBezTo>
                            <a:cubicBezTo>
                              <a:pt x="60" y="0"/>
                              <a:pt x="90" y="60"/>
                              <a:pt x="90" y="90"/>
                            </a:cubicBezTo>
                            <a:cubicBezTo>
                              <a:pt x="90" y="120"/>
                              <a:pt x="60" y="181"/>
                              <a:pt x="45" y="181"/>
                            </a:cubicBezTo>
                            <a:close/>
                          </a:path>
                        </a:pathLst>
                      </a:custGeom>
                      <a:noFill/>
                      <a:ln w="6480">
                        <a:solidFill>
                          <a:srgbClr val="cc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960" bIns="-21960" anchor="t" rot="10800000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1" name="Freeform 591"/>
                      <p:cNvSpPr/>
                      <p:nvPr/>
                    </p:nvSpPr>
                    <p:spPr>
                      <a:xfrm flipV="1" rot="18252000">
                        <a:off x="5397120" y="6132600"/>
                        <a:ext cx="8640" cy="16560"/>
                      </a:xfrm>
                      <a:custGeom>
                        <a:avLst/>
                        <a:gdLst>
                          <a:gd name="textAreaLeft" fmla="*/ 0 w 8640"/>
                          <a:gd name="textAreaRight" fmla="*/ 9000 w 8640"/>
                          <a:gd name="textAreaTop" fmla="*/ 360 h 16560"/>
                          <a:gd name="textAreaBottom" fmla="*/ 17280 h 16560"/>
                        </a:gdLst>
                        <a:ahLst/>
                        <a:rect l="textAreaLeft" t="textAreaTop" r="textAreaRight" b="textAreaBottom"/>
                        <a:pathLst>
                          <a:path w="36" h="68">
                            <a:moveTo>
                              <a:pt x="9" y="0"/>
                            </a:moveTo>
                            <a:cubicBezTo>
                              <a:pt x="10" y="0"/>
                              <a:pt x="30" y="5"/>
                              <a:pt x="24" y="12"/>
                            </a:cubicBezTo>
                            <a:cubicBezTo>
                              <a:pt x="20" y="17"/>
                              <a:pt x="6" y="18"/>
                              <a:pt x="6" y="18"/>
                            </a:cubicBezTo>
                            <a:cubicBezTo>
                              <a:pt x="8" y="21"/>
                              <a:pt x="9" y="25"/>
                              <a:pt x="12" y="27"/>
                            </a:cubicBezTo>
                            <a:cubicBezTo>
                              <a:pt x="22" y="35"/>
                              <a:pt x="32" y="35"/>
                              <a:pt x="6" y="42"/>
                            </a:cubicBezTo>
                            <a:cubicBezTo>
                              <a:pt x="36" y="52"/>
                              <a:pt x="23" y="55"/>
                              <a:pt x="0" y="60"/>
                            </a:cubicBezTo>
                            <a:cubicBezTo>
                              <a:pt x="13" y="68"/>
                              <a:pt x="8" y="63"/>
                              <a:pt x="21" y="63"/>
                            </a:cubicBezTo>
                          </a:path>
                        </a:pathLst>
                      </a:custGeom>
                      <a:solidFill>
                        <a:srgbClr val="663366"/>
                      </a:solidFill>
                      <a:ln w="9360">
                        <a:solidFill>
                          <a:srgbClr val="6633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880" bIns="-29880" anchor="t" rot="10800000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2" name="Freeform 592"/>
                      <p:cNvSpPr/>
                      <p:nvPr/>
                    </p:nvSpPr>
                    <p:spPr>
                      <a:xfrm flipV="1" rot="18252000">
                        <a:off x="5400720" y="6127920"/>
                        <a:ext cx="8280" cy="16560"/>
                      </a:xfrm>
                      <a:custGeom>
                        <a:avLst/>
                        <a:gdLst>
                          <a:gd name="textAreaLeft" fmla="*/ 0 w 8280"/>
                          <a:gd name="textAreaRight" fmla="*/ 8640 w 8280"/>
                          <a:gd name="textAreaTop" fmla="*/ 360 h 16560"/>
                          <a:gd name="textAreaBottom" fmla="*/ 17280 h 16560"/>
                        </a:gdLst>
                        <a:ahLst/>
                        <a:rect l="textAreaLeft" t="textAreaTop" r="textAreaRight" b="textAreaBottom"/>
                        <a:pathLst>
                          <a:path w="36" h="68">
                            <a:moveTo>
                              <a:pt x="9" y="0"/>
                            </a:moveTo>
                            <a:cubicBezTo>
                              <a:pt x="10" y="0"/>
                              <a:pt x="30" y="5"/>
                              <a:pt x="24" y="12"/>
                            </a:cubicBezTo>
                            <a:cubicBezTo>
                              <a:pt x="20" y="17"/>
                              <a:pt x="6" y="18"/>
                              <a:pt x="6" y="18"/>
                            </a:cubicBezTo>
                            <a:cubicBezTo>
                              <a:pt x="8" y="21"/>
                              <a:pt x="9" y="25"/>
                              <a:pt x="12" y="27"/>
                            </a:cubicBezTo>
                            <a:cubicBezTo>
                              <a:pt x="22" y="35"/>
                              <a:pt x="32" y="35"/>
                              <a:pt x="6" y="42"/>
                            </a:cubicBezTo>
                            <a:cubicBezTo>
                              <a:pt x="36" y="52"/>
                              <a:pt x="23" y="55"/>
                              <a:pt x="0" y="60"/>
                            </a:cubicBezTo>
                            <a:cubicBezTo>
                              <a:pt x="13" y="68"/>
                              <a:pt x="8" y="63"/>
                              <a:pt x="21" y="63"/>
                            </a:cubicBezTo>
                          </a:path>
                        </a:pathLst>
                      </a:custGeom>
                      <a:solidFill>
                        <a:srgbClr val="663366"/>
                      </a:solidFill>
                      <a:ln w="9360">
                        <a:solidFill>
                          <a:srgbClr val="6633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880" bIns="-29880" anchor="t" rot="10800000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3" name="Oval 593"/>
                      <p:cNvSpPr/>
                      <p:nvPr/>
                    </p:nvSpPr>
                    <p:spPr>
                      <a:xfrm flipV="1" rot="18252000">
                        <a:off x="5386320" y="6127920"/>
                        <a:ext cx="5040" cy="11160"/>
                      </a:xfrm>
                      <a:prstGeom prst="ellipse">
                        <a:avLst/>
                      </a:prstGeom>
                      <a:solidFill>
                        <a:srgbClr val="663366"/>
                      </a:solidFill>
                      <a:ln w="9360">
                        <a:solidFill>
                          <a:srgbClr val="66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 anchorCtr="1" vert="eaVert" rot="10800000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4" name="Oval 594"/>
                      <p:cNvSpPr/>
                      <p:nvPr/>
                    </p:nvSpPr>
                    <p:spPr>
                      <a:xfrm flipV="1" rot="18252000">
                        <a:off x="5388840" y="6124320"/>
                        <a:ext cx="5040" cy="11160"/>
                      </a:xfrm>
                      <a:prstGeom prst="ellipse">
                        <a:avLst/>
                      </a:prstGeom>
                      <a:solidFill>
                        <a:srgbClr val="663366"/>
                      </a:solidFill>
                      <a:ln w="9360">
                        <a:solidFill>
                          <a:srgbClr val="66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 anchorCtr="1" vert="eaVert" rot="10800000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5" name="Oval 595"/>
                      <p:cNvSpPr/>
                      <p:nvPr/>
                    </p:nvSpPr>
                    <p:spPr>
                      <a:xfrm flipH="1" flipV="1" rot="3727800">
                        <a:off x="5176800" y="6107760"/>
                        <a:ext cx="41760" cy="5616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666699"/>
                          </a:gs>
                          <a:gs pos="100000">
                            <a:srgbClr val="424267"/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6480" bIns="-6480" anchor="t" anchorCtr="1" vert="eaVer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6" name="AutoShape 596"/>
                      <p:cNvSpPr/>
                      <p:nvPr/>
                    </p:nvSpPr>
                    <p:spPr>
                      <a:xfrm flipV="1" rot="3728400">
                        <a:off x="5198400" y="6142680"/>
                        <a:ext cx="19440" cy="19440"/>
                      </a:xfrm>
                      <a:custGeom>
                        <a:avLst/>
                        <a:gdLst>
                          <a:gd name="textAreaLeft" fmla="*/ 11880 w 19440"/>
                          <a:gd name="textAreaRight" fmla="*/ 12600 w 19440"/>
                          <a:gd name="textAreaTop" fmla="*/ 720 h 19440"/>
                          <a:gd name="textAreaBottom" fmla="*/ 18720 h 1944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7719" y="2482"/>
                              <a:pt x="13837" y="5080"/>
                              <a:pt x="13837" y="10800"/>
                            </a:cubicBezTo>
                            <a:cubicBezTo>
                              <a:pt x="13837" y="16520"/>
                              <a:pt x="17719" y="19118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0" bIns="-28800" anchor="t" anchorCtr="1" vert="eaVer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7" name="AutoShape 597"/>
                      <p:cNvSpPr/>
                      <p:nvPr/>
                    </p:nvSpPr>
                    <p:spPr>
                      <a:xfrm flipH="1" flipV="1" rot="3727800">
                        <a:off x="5177880" y="6109560"/>
                        <a:ext cx="19440" cy="19440"/>
                      </a:xfrm>
                      <a:custGeom>
                        <a:avLst/>
                        <a:gdLst>
                          <a:gd name="textAreaLeft" fmla="*/ 11880 w 19440"/>
                          <a:gd name="textAreaRight" fmla="*/ 12600 w 19440"/>
                          <a:gd name="textAreaTop" fmla="*/ 720 h 19440"/>
                          <a:gd name="textAreaBottom" fmla="*/ 18720 h 1944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7719" y="2482"/>
                              <a:pt x="13837" y="5080"/>
                              <a:pt x="13837" y="10800"/>
                            </a:cubicBezTo>
                            <a:cubicBezTo>
                              <a:pt x="13837" y="16520"/>
                              <a:pt x="17719" y="19118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0" bIns="-28800" anchor="t" anchorCtr="1" vert="eaVer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8" name="Freeform 598"/>
                      <p:cNvSpPr/>
                      <p:nvPr/>
                    </p:nvSpPr>
                    <p:spPr>
                      <a:xfrm flipH="1" flipV="1" rot="20406600">
                        <a:off x="5174640" y="6152760"/>
                        <a:ext cx="10800" cy="23400"/>
                      </a:xfrm>
                      <a:custGeom>
                        <a:avLst/>
                        <a:gdLst>
                          <a:gd name="textAreaLeft" fmla="*/ 360 w 10800"/>
                          <a:gd name="textAreaRight" fmla="*/ 11520 w 10800"/>
                          <a:gd name="textAreaTop" fmla="*/ -360 h 23400"/>
                          <a:gd name="textAreaBottom" fmla="*/ 23400 h 23400"/>
                        </a:gdLst>
                        <a:ahLst/>
                        <a:rect l="textAreaLeft" t="textAreaTop" r="textAreaRight" b="textAreaBottom"/>
                        <a:pathLst>
                          <a:path w="90" h="181">
                            <a:moveTo>
                              <a:pt x="45" y="181"/>
                            </a:moveTo>
                            <a:cubicBezTo>
                              <a:pt x="30" y="181"/>
                              <a:pt x="0" y="120"/>
                              <a:pt x="0" y="90"/>
                            </a:cubicBezTo>
                            <a:cubicBezTo>
                              <a:pt x="0" y="60"/>
                              <a:pt x="30" y="0"/>
                              <a:pt x="45" y="0"/>
                            </a:cubicBezTo>
                            <a:cubicBezTo>
                              <a:pt x="60" y="0"/>
                              <a:pt x="90" y="60"/>
                              <a:pt x="90" y="90"/>
                            </a:cubicBezTo>
                            <a:cubicBezTo>
                              <a:pt x="90" y="120"/>
                              <a:pt x="60" y="181"/>
                              <a:pt x="45" y="181"/>
                            </a:cubicBezTo>
                            <a:close/>
                          </a:path>
                        </a:pathLst>
                      </a:custGeom>
                      <a:noFill/>
                      <a:ln w="6480">
                        <a:solidFill>
                          <a:srgbClr val="cc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 rot="10800000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9" name="Freeform 599"/>
                      <p:cNvSpPr/>
                      <p:nvPr/>
                    </p:nvSpPr>
                    <p:spPr>
                      <a:xfrm flipH="1" flipV="1" rot="21512400">
                        <a:off x="5172120" y="6152760"/>
                        <a:ext cx="10800" cy="23040"/>
                      </a:xfrm>
                      <a:custGeom>
                        <a:avLst/>
                        <a:gdLst>
                          <a:gd name="textAreaLeft" fmla="*/ 360 w 10800"/>
                          <a:gd name="textAreaRight" fmla="*/ 11520 w 10800"/>
                          <a:gd name="textAreaTop" fmla="*/ 360 h 23040"/>
                          <a:gd name="textAreaBottom" fmla="*/ 23760 h 23040"/>
                        </a:gdLst>
                        <a:ahLst/>
                        <a:rect l="textAreaLeft" t="textAreaTop" r="textAreaRight" b="textAreaBottom"/>
                        <a:pathLst>
                          <a:path w="90" h="181">
                            <a:moveTo>
                              <a:pt x="45" y="181"/>
                            </a:moveTo>
                            <a:cubicBezTo>
                              <a:pt x="30" y="181"/>
                              <a:pt x="0" y="120"/>
                              <a:pt x="0" y="90"/>
                            </a:cubicBezTo>
                            <a:cubicBezTo>
                              <a:pt x="0" y="60"/>
                              <a:pt x="30" y="0"/>
                              <a:pt x="45" y="0"/>
                            </a:cubicBezTo>
                            <a:cubicBezTo>
                              <a:pt x="60" y="0"/>
                              <a:pt x="90" y="60"/>
                              <a:pt x="90" y="90"/>
                            </a:cubicBezTo>
                            <a:cubicBezTo>
                              <a:pt x="90" y="120"/>
                              <a:pt x="60" y="181"/>
                              <a:pt x="45" y="181"/>
                            </a:cubicBezTo>
                            <a:close/>
                          </a:path>
                        </a:pathLst>
                      </a:custGeom>
                      <a:noFill/>
                      <a:ln w="6480">
                        <a:solidFill>
                          <a:srgbClr val="cc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 rot="10800000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0" name="Freeform 600"/>
                      <p:cNvSpPr/>
                      <p:nvPr/>
                    </p:nvSpPr>
                    <p:spPr>
                      <a:xfrm flipH="1" flipV="1" rot="1168200">
                        <a:off x="5167440" y="6153480"/>
                        <a:ext cx="10800" cy="23040"/>
                      </a:xfrm>
                      <a:custGeom>
                        <a:avLst/>
                        <a:gdLst>
                          <a:gd name="textAreaLeft" fmla="*/ 360 w 10800"/>
                          <a:gd name="textAreaRight" fmla="*/ 11520 w 10800"/>
                          <a:gd name="textAreaTop" fmla="*/ 360 h 23040"/>
                          <a:gd name="textAreaBottom" fmla="*/ 23760 h 23040"/>
                        </a:gdLst>
                        <a:ahLst/>
                        <a:rect l="textAreaLeft" t="textAreaTop" r="textAreaRight" b="textAreaBottom"/>
                        <a:pathLst>
                          <a:path w="90" h="181">
                            <a:moveTo>
                              <a:pt x="45" y="181"/>
                            </a:moveTo>
                            <a:cubicBezTo>
                              <a:pt x="30" y="181"/>
                              <a:pt x="0" y="120"/>
                              <a:pt x="0" y="90"/>
                            </a:cubicBezTo>
                            <a:cubicBezTo>
                              <a:pt x="0" y="60"/>
                              <a:pt x="30" y="0"/>
                              <a:pt x="45" y="0"/>
                            </a:cubicBezTo>
                            <a:cubicBezTo>
                              <a:pt x="60" y="0"/>
                              <a:pt x="90" y="60"/>
                              <a:pt x="90" y="90"/>
                            </a:cubicBezTo>
                            <a:cubicBezTo>
                              <a:pt x="90" y="120"/>
                              <a:pt x="60" y="181"/>
                              <a:pt x="45" y="181"/>
                            </a:cubicBezTo>
                            <a:close/>
                          </a:path>
                        </a:pathLst>
                      </a:custGeom>
                      <a:noFill/>
                      <a:ln w="6480">
                        <a:solidFill>
                          <a:srgbClr val="cc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 rot="10800000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1" name="Freeform 601"/>
                      <p:cNvSpPr/>
                      <p:nvPr/>
                    </p:nvSpPr>
                    <p:spPr>
                      <a:xfrm flipV="1" rot="8649600">
                        <a:off x="5158080" y="6124320"/>
                        <a:ext cx="10800" cy="23040"/>
                      </a:xfrm>
                      <a:custGeom>
                        <a:avLst/>
                        <a:gdLst>
                          <a:gd name="textAreaLeft" fmla="*/ 0 w 10800"/>
                          <a:gd name="textAreaRight" fmla="*/ 11160 w 10800"/>
                          <a:gd name="textAreaTop" fmla="*/ 360 h 23040"/>
                          <a:gd name="textAreaBottom" fmla="*/ 23760 h 23040"/>
                        </a:gdLst>
                        <a:ahLst/>
                        <a:rect l="textAreaLeft" t="textAreaTop" r="textAreaRight" b="textAreaBottom"/>
                        <a:pathLst>
                          <a:path w="90" h="181">
                            <a:moveTo>
                              <a:pt x="45" y="181"/>
                            </a:moveTo>
                            <a:cubicBezTo>
                              <a:pt x="30" y="181"/>
                              <a:pt x="0" y="120"/>
                              <a:pt x="0" y="90"/>
                            </a:cubicBezTo>
                            <a:cubicBezTo>
                              <a:pt x="0" y="60"/>
                              <a:pt x="30" y="0"/>
                              <a:pt x="45" y="0"/>
                            </a:cubicBezTo>
                            <a:cubicBezTo>
                              <a:pt x="60" y="0"/>
                              <a:pt x="90" y="60"/>
                              <a:pt x="90" y="90"/>
                            </a:cubicBezTo>
                            <a:cubicBezTo>
                              <a:pt x="90" y="120"/>
                              <a:pt x="60" y="181"/>
                              <a:pt x="45" y="181"/>
                            </a:cubicBezTo>
                            <a:close/>
                          </a:path>
                        </a:pathLst>
                      </a:custGeom>
                      <a:noFill/>
                      <a:ln w="6480">
                        <a:solidFill>
                          <a:srgbClr val="cc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2" name="Freeform 602"/>
                      <p:cNvSpPr/>
                      <p:nvPr/>
                    </p:nvSpPr>
                    <p:spPr>
                      <a:xfrm flipV="1" rot="7544400">
                        <a:off x="5156280" y="6125400"/>
                        <a:ext cx="9720" cy="24840"/>
                      </a:xfrm>
                      <a:custGeom>
                        <a:avLst/>
                        <a:gdLst>
                          <a:gd name="textAreaLeft" fmla="*/ 0 w 9720"/>
                          <a:gd name="textAreaRight" fmla="*/ 10080 w 9720"/>
                          <a:gd name="textAreaTop" fmla="*/ -360 h 24840"/>
                          <a:gd name="textAreaBottom" fmla="*/ 24840 h 24840"/>
                        </a:gdLst>
                        <a:ahLst/>
                        <a:rect l="textAreaLeft" t="textAreaTop" r="textAreaRight" b="textAreaBottom"/>
                        <a:pathLst>
                          <a:path w="90" h="181">
                            <a:moveTo>
                              <a:pt x="45" y="181"/>
                            </a:moveTo>
                            <a:cubicBezTo>
                              <a:pt x="30" y="181"/>
                              <a:pt x="0" y="120"/>
                              <a:pt x="0" y="90"/>
                            </a:cubicBezTo>
                            <a:cubicBezTo>
                              <a:pt x="0" y="60"/>
                              <a:pt x="30" y="0"/>
                              <a:pt x="45" y="0"/>
                            </a:cubicBezTo>
                            <a:cubicBezTo>
                              <a:pt x="60" y="0"/>
                              <a:pt x="90" y="60"/>
                              <a:pt x="90" y="90"/>
                            </a:cubicBezTo>
                            <a:cubicBezTo>
                              <a:pt x="90" y="120"/>
                              <a:pt x="60" y="181"/>
                              <a:pt x="45" y="181"/>
                            </a:cubicBezTo>
                            <a:close/>
                          </a:path>
                        </a:pathLst>
                      </a:custGeom>
                      <a:noFill/>
                      <a:ln w="6480">
                        <a:solidFill>
                          <a:srgbClr val="cc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0" bIns="-21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3" name="Freeform 603"/>
                      <p:cNvSpPr/>
                      <p:nvPr/>
                    </p:nvSpPr>
                    <p:spPr>
                      <a:xfrm flipV="1" rot="6288000">
                        <a:off x="5154480" y="6129360"/>
                        <a:ext cx="9720" cy="24480"/>
                      </a:xfrm>
                      <a:custGeom>
                        <a:avLst/>
                        <a:gdLst>
                          <a:gd name="textAreaLeft" fmla="*/ 0 w 9720"/>
                          <a:gd name="textAreaRight" fmla="*/ 10080 w 9720"/>
                          <a:gd name="textAreaTop" fmla="*/ 360 h 24480"/>
                          <a:gd name="textAreaBottom" fmla="*/ 25200 h 24480"/>
                        </a:gdLst>
                        <a:ahLst/>
                        <a:rect l="textAreaLeft" t="textAreaTop" r="textAreaRight" b="textAreaBottom"/>
                        <a:pathLst>
                          <a:path w="90" h="181">
                            <a:moveTo>
                              <a:pt x="45" y="181"/>
                            </a:moveTo>
                            <a:cubicBezTo>
                              <a:pt x="30" y="181"/>
                              <a:pt x="0" y="120"/>
                              <a:pt x="0" y="90"/>
                            </a:cubicBezTo>
                            <a:cubicBezTo>
                              <a:pt x="0" y="60"/>
                              <a:pt x="30" y="0"/>
                              <a:pt x="45" y="0"/>
                            </a:cubicBezTo>
                            <a:cubicBezTo>
                              <a:pt x="60" y="0"/>
                              <a:pt x="90" y="60"/>
                              <a:pt x="90" y="90"/>
                            </a:cubicBezTo>
                            <a:cubicBezTo>
                              <a:pt x="90" y="120"/>
                              <a:pt x="60" y="181"/>
                              <a:pt x="45" y="181"/>
                            </a:cubicBezTo>
                            <a:close/>
                          </a:path>
                        </a:pathLst>
                      </a:custGeom>
                      <a:noFill/>
                      <a:ln w="6480">
                        <a:solidFill>
                          <a:srgbClr val="cc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960" bIns="-21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4" name="Freeform 604"/>
                      <p:cNvSpPr/>
                      <p:nvPr/>
                    </p:nvSpPr>
                    <p:spPr>
                      <a:xfrm flipH="1" flipV="1" rot="3727800">
                        <a:off x="5228280" y="6112440"/>
                        <a:ext cx="8280" cy="16920"/>
                      </a:xfrm>
                      <a:custGeom>
                        <a:avLst/>
                        <a:gdLst>
                          <a:gd name="textAreaLeft" fmla="*/ -360 w 8280"/>
                          <a:gd name="textAreaRight" fmla="*/ 8280 w 8280"/>
                          <a:gd name="textAreaTop" fmla="*/ -360 h 16920"/>
                          <a:gd name="textAreaBottom" fmla="*/ 16920 h 16920"/>
                        </a:gdLst>
                        <a:ahLst/>
                        <a:rect l="textAreaLeft" t="textAreaTop" r="textAreaRight" b="textAreaBottom"/>
                        <a:pathLst>
                          <a:path w="36" h="68">
                            <a:moveTo>
                              <a:pt x="9" y="0"/>
                            </a:moveTo>
                            <a:cubicBezTo>
                              <a:pt x="10" y="0"/>
                              <a:pt x="30" y="5"/>
                              <a:pt x="24" y="12"/>
                            </a:cubicBezTo>
                            <a:cubicBezTo>
                              <a:pt x="20" y="17"/>
                              <a:pt x="6" y="18"/>
                              <a:pt x="6" y="18"/>
                            </a:cubicBezTo>
                            <a:cubicBezTo>
                              <a:pt x="8" y="21"/>
                              <a:pt x="9" y="25"/>
                              <a:pt x="12" y="27"/>
                            </a:cubicBezTo>
                            <a:cubicBezTo>
                              <a:pt x="22" y="35"/>
                              <a:pt x="32" y="35"/>
                              <a:pt x="6" y="42"/>
                            </a:cubicBezTo>
                            <a:cubicBezTo>
                              <a:pt x="36" y="52"/>
                              <a:pt x="23" y="55"/>
                              <a:pt x="0" y="60"/>
                            </a:cubicBezTo>
                            <a:cubicBezTo>
                              <a:pt x="13" y="68"/>
                              <a:pt x="8" y="63"/>
                              <a:pt x="21" y="63"/>
                            </a:cubicBezTo>
                          </a:path>
                        </a:pathLst>
                      </a:custGeom>
                      <a:solidFill>
                        <a:srgbClr val="663366"/>
                      </a:solidFill>
                      <a:ln w="9360">
                        <a:solidFill>
                          <a:srgbClr val="6633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5" name="Freeform 605"/>
                      <p:cNvSpPr/>
                      <p:nvPr/>
                    </p:nvSpPr>
                    <p:spPr>
                      <a:xfrm flipH="1" flipV="1" rot="3727800">
                        <a:off x="5225400" y="6108840"/>
                        <a:ext cx="7560" cy="16560"/>
                      </a:xfrm>
                      <a:custGeom>
                        <a:avLst/>
                        <a:gdLst>
                          <a:gd name="textAreaLeft" fmla="*/ -360 w 7560"/>
                          <a:gd name="textAreaRight" fmla="*/ 7560 w 7560"/>
                          <a:gd name="textAreaTop" fmla="*/ 360 h 16560"/>
                          <a:gd name="textAreaBottom" fmla="*/ 17280 h 16560"/>
                        </a:gdLst>
                        <a:ahLst/>
                        <a:rect l="textAreaLeft" t="textAreaTop" r="textAreaRight" b="textAreaBottom"/>
                        <a:pathLst>
                          <a:path w="36" h="68">
                            <a:moveTo>
                              <a:pt x="9" y="0"/>
                            </a:moveTo>
                            <a:cubicBezTo>
                              <a:pt x="10" y="0"/>
                              <a:pt x="30" y="5"/>
                              <a:pt x="24" y="12"/>
                            </a:cubicBezTo>
                            <a:cubicBezTo>
                              <a:pt x="20" y="17"/>
                              <a:pt x="6" y="18"/>
                              <a:pt x="6" y="18"/>
                            </a:cubicBezTo>
                            <a:cubicBezTo>
                              <a:pt x="8" y="21"/>
                              <a:pt x="9" y="25"/>
                              <a:pt x="12" y="27"/>
                            </a:cubicBezTo>
                            <a:cubicBezTo>
                              <a:pt x="22" y="35"/>
                              <a:pt x="32" y="35"/>
                              <a:pt x="6" y="42"/>
                            </a:cubicBezTo>
                            <a:cubicBezTo>
                              <a:pt x="36" y="52"/>
                              <a:pt x="23" y="55"/>
                              <a:pt x="0" y="60"/>
                            </a:cubicBezTo>
                            <a:cubicBezTo>
                              <a:pt x="13" y="68"/>
                              <a:pt x="8" y="63"/>
                              <a:pt x="21" y="63"/>
                            </a:cubicBezTo>
                          </a:path>
                        </a:pathLst>
                      </a:custGeom>
                      <a:solidFill>
                        <a:srgbClr val="663366"/>
                      </a:solidFill>
                      <a:ln w="9360">
                        <a:solidFill>
                          <a:srgbClr val="6633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880" bIns="-29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6" name="Oval 606"/>
                      <p:cNvSpPr/>
                      <p:nvPr/>
                    </p:nvSpPr>
                    <p:spPr>
                      <a:xfrm flipH="1" flipV="1" rot="3727800">
                        <a:off x="5242680" y="6111000"/>
                        <a:ext cx="5040" cy="11520"/>
                      </a:xfrm>
                      <a:prstGeom prst="ellipse">
                        <a:avLst/>
                      </a:prstGeom>
                      <a:solidFill>
                        <a:srgbClr val="663366"/>
                      </a:solidFill>
                      <a:ln w="9360">
                        <a:solidFill>
                          <a:srgbClr val="66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 anchorCtr="1" vert="eaVer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7" name="Oval 607"/>
                      <p:cNvSpPr/>
                      <p:nvPr/>
                    </p:nvSpPr>
                    <p:spPr>
                      <a:xfrm flipH="1" flipV="1" rot="3727800">
                        <a:off x="5239440" y="6106320"/>
                        <a:ext cx="5400" cy="10800"/>
                      </a:xfrm>
                      <a:prstGeom prst="ellipse">
                        <a:avLst/>
                      </a:prstGeom>
                      <a:solidFill>
                        <a:srgbClr val="663366"/>
                      </a:solidFill>
                      <a:ln w="9360">
                        <a:solidFill>
                          <a:srgbClr val="66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 anchorCtr="1" vert="eaVer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8" name="AutoShape 608"/>
                      <p:cNvSpPr/>
                      <p:nvPr/>
                    </p:nvSpPr>
                    <p:spPr>
                      <a:xfrm flipH="1" flipV="1">
                        <a:off x="5459400" y="6173280"/>
                        <a:ext cx="20520" cy="18360"/>
                      </a:xfrm>
                      <a:custGeom>
                        <a:avLst/>
                        <a:gdLst>
                          <a:gd name="textAreaLeft" fmla="*/ 12240 w 20520"/>
                          <a:gd name="textAreaRight" fmla="*/ 12960 w 20520"/>
                          <a:gd name="textAreaTop" fmla="*/ 720 h 18360"/>
                          <a:gd name="textAreaBottom" fmla="*/ 17640 h 1836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7719" y="2482"/>
                              <a:pt x="13837" y="5080"/>
                              <a:pt x="13837" y="10800"/>
                            </a:cubicBezTo>
                            <a:cubicBezTo>
                              <a:pt x="13837" y="16520"/>
                              <a:pt x="17719" y="19118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9360">
                        <a:solidFill>
                          <a:srgbClr val="cc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880" bIns="-29880" anchor="ctr" rot="10800000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9" name="Freeform 609"/>
                      <p:cNvSpPr/>
                      <p:nvPr/>
                    </p:nvSpPr>
                    <p:spPr>
                      <a:xfrm rot="444000">
                        <a:off x="5287680" y="6032520"/>
                        <a:ext cx="71280" cy="115560"/>
                      </a:xfrm>
                      <a:custGeom>
                        <a:avLst/>
                        <a:gdLst>
                          <a:gd name="textAreaLeft" fmla="*/ 0 w 71280"/>
                          <a:gd name="textAreaRight" fmla="*/ 71640 w 71280"/>
                          <a:gd name="textAreaTop" fmla="*/ 0 h 115560"/>
                          <a:gd name="textAreaBottom" fmla="*/ 115920 h 115560"/>
                        </a:gdLst>
                        <a:ahLst/>
                        <a:rect l="textAreaLeft" t="textAreaTop" r="textAreaRight" b="textAreaBottom"/>
                        <a:pathLst>
                          <a:path w="196" h="430">
                            <a:moveTo>
                              <a:pt x="15" y="60"/>
                            </a:moveTo>
                            <a:cubicBezTo>
                              <a:pt x="30" y="0"/>
                              <a:pt x="76" y="7"/>
                              <a:pt x="106" y="14"/>
                            </a:cubicBezTo>
                            <a:cubicBezTo>
                              <a:pt x="136" y="21"/>
                              <a:pt x="196" y="45"/>
                              <a:pt x="196" y="105"/>
                            </a:cubicBezTo>
                            <a:cubicBezTo>
                              <a:pt x="196" y="165"/>
                              <a:pt x="136" y="332"/>
                              <a:pt x="106" y="377"/>
                            </a:cubicBezTo>
                            <a:cubicBezTo>
                              <a:pt x="76" y="422"/>
                              <a:pt x="30" y="430"/>
                              <a:pt x="15" y="377"/>
                            </a:cubicBezTo>
                            <a:cubicBezTo>
                              <a:pt x="0" y="324"/>
                              <a:pt x="0" y="120"/>
                              <a:pt x="15" y="60"/>
                            </a:cubicBezTo>
                            <a:close/>
                          </a:path>
                        </a:pathLst>
                      </a:custGeom>
                      <a:blipFill rotWithShape="0">
                        <a:blip r:embed="rId2"/>
                        <a:srcRect/>
                        <a:tile tx="0" ty="0" sx="100000" sy="100000" algn="ctr"/>
                      </a:blipFill>
                      <a:ln w="9360">
                        <a:solidFill>
                          <a:srgbClr val="6666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610" name="Group 526"/>
                  <p:cNvGrpSpPr/>
                  <p:nvPr/>
                </p:nvGrpSpPr>
                <p:grpSpPr>
                  <a:xfrm>
                    <a:off x="5037840" y="5388480"/>
                    <a:ext cx="338040" cy="352080"/>
                    <a:chOff x="5037840" y="5388480"/>
                    <a:chExt cx="338040" cy="352080"/>
                  </a:xfrm>
                </p:grpSpPr>
                <p:sp>
                  <p:nvSpPr>
                    <p:cNvPr id="611" name="Oval 527"/>
                    <p:cNvSpPr/>
                    <p:nvPr/>
                  </p:nvSpPr>
                  <p:spPr>
                    <a:xfrm flipV="1" rot="21360000">
                      <a:off x="5188320" y="5664960"/>
                      <a:ext cx="45360" cy="522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666699"/>
                        </a:gs>
                        <a:gs pos="100000">
                          <a:srgbClr val="424267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720" bIns="-9720" anchor="ctr" rot="10800000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2" name="AutoShape 528"/>
                    <p:cNvSpPr/>
                    <p:nvPr/>
                  </p:nvSpPr>
                  <p:spPr>
                    <a:xfrm flipV="1" rot="21360000">
                      <a:off x="5221080" y="5679000"/>
                      <a:ext cx="21240" cy="18360"/>
                    </a:xfrm>
                    <a:custGeom>
                      <a:avLst/>
                      <a:gdLst>
                        <a:gd name="textAreaLeft" fmla="*/ 12960 w 21240"/>
                        <a:gd name="textAreaRight" fmla="*/ 13680 w 21240"/>
                        <a:gd name="textAreaTop" fmla="*/ 720 h 18360"/>
                        <a:gd name="textAreaBottom" fmla="*/ 17640 h 183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7719" y="2482"/>
                            <a:pt x="13837" y="5080"/>
                            <a:pt x="13837" y="10800"/>
                          </a:cubicBezTo>
                          <a:cubicBezTo>
                            <a:pt x="13837" y="16520"/>
                            <a:pt x="17719" y="19118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880" bIns="-29880" anchor="ctr" rot="10800000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3" name="Freeform 529"/>
                    <p:cNvSpPr/>
                    <p:nvPr/>
                  </p:nvSpPr>
                  <p:spPr>
                    <a:xfrm flipV="1" rot="297000">
                      <a:off x="5202000" y="5715720"/>
                      <a:ext cx="10440" cy="23040"/>
                    </a:xfrm>
                    <a:custGeom>
                      <a:avLst/>
                      <a:gdLst>
                        <a:gd name="textAreaLeft" fmla="*/ 0 w 10440"/>
                        <a:gd name="textAreaRight" fmla="*/ 10800 w 10440"/>
                        <a:gd name="textAreaTop" fmla="*/ 360 h 23040"/>
                        <a:gd name="textAreaBottom" fmla="*/ 23760 h 23040"/>
                      </a:gdLst>
                      <a:ahLst/>
                      <a:rect l="textAreaLeft" t="textAreaTop" r="textAreaRight" b="textAreaBottom"/>
                      <a:pathLst>
                        <a:path w="90" h="181">
                          <a:moveTo>
                            <a:pt x="45" y="181"/>
                          </a:moveTo>
                          <a:cubicBezTo>
                            <a:pt x="30" y="181"/>
                            <a:pt x="0" y="120"/>
                            <a:pt x="0" y="90"/>
                          </a:cubicBezTo>
                          <a:cubicBezTo>
                            <a:pt x="0" y="60"/>
                            <a:pt x="30" y="0"/>
                            <a:pt x="45" y="0"/>
                          </a:cubicBezTo>
                          <a:cubicBezTo>
                            <a:pt x="60" y="0"/>
                            <a:pt x="90" y="60"/>
                            <a:pt x="90" y="90"/>
                          </a:cubicBezTo>
                          <a:cubicBezTo>
                            <a:pt x="90" y="120"/>
                            <a:pt x="60" y="181"/>
                            <a:pt x="45" y="181"/>
                          </a:cubicBezTo>
                          <a:close/>
                        </a:path>
                      </a:pathLst>
                    </a:custGeom>
                    <a:noFill/>
                    <a:ln w="6480">
                      <a:solidFill>
                        <a:srgbClr val="cc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 rot="10800000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4" name="Freeform 530"/>
                    <p:cNvSpPr/>
                    <p:nvPr/>
                  </p:nvSpPr>
                  <p:spPr>
                    <a:xfrm flipV="1" rot="20640600">
                      <a:off x="5205600" y="5715360"/>
                      <a:ext cx="10800" cy="23400"/>
                    </a:xfrm>
                    <a:custGeom>
                      <a:avLst/>
                      <a:gdLst>
                        <a:gd name="textAreaLeft" fmla="*/ 0 w 10800"/>
                        <a:gd name="textAreaRight" fmla="*/ 11160 w 10800"/>
                        <a:gd name="textAreaTop" fmla="*/ -360 h 23400"/>
                        <a:gd name="textAreaBottom" fmla="*/ 23400 h 23400"/>
                      </a:gdLst>
                      <a:ahLst/>
                      <a:rect l="textAreaLeft" t="textAreaTop" r="textAreaRight" b="textAreaBottom"/>
                      <a:pathLst>
                        <a:path w="90" h="181">
                          <a:moveTo>
                            <a:pt x="45" y="181"/>
                          </a:moveTo>
                          <a:cubicBezTo>
                            <a:pt x="30" y="181"/>
                            <a:pt x="0" y="120"/>
                            <a:pt x="0" y="90"/>
                          </a:cubicBezTo>
                          <a:cubicBezTo>
                            <a:pt x="0" y="60"/>
                            <a:pt x="30" y="0"/>
                            <a:pt x="45" y="0"/>
                          </a:cubicBezTo>
                          <a:cubicBezTo>
                            <a:pt x="60" y="0"/>
                            <a:pt x="90" y="60"/>
                            <a:pt x="90" y="90"/>
                          </a:cubicBezTo>
                          <a:cubicBezTo>
                            <a:pt x="90" y="120"/>
                            <a:pt x="60" y="181"/>
                            <a:pt x="45" y="181"/>
                          </a:cubicBezTo>
                          <a:close/>
                        </a:path>
                      </a:pathLst>
                    </a:custGeom>
                    <a:noFill/>
                    <a:ln w="6480">
                      <a:solidFill>
                        <a:srgbClr val="cc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 rot="10800000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5" name="Freeform 531"/>
                    <p:cNvSpPr/>
                    <p:nvPr/>
                  </p:nvSpPr>
                  <p:spPr>
                    <a:xfrm flipH="1" flipV="1" rot="16437600">
                      <a:off x="5223600" y="5704920"/>
                      <a:ext cx="9720" cy="24840"/>
                    </a:xfrm>
                    <a:custGeom>
                      <a:avLst/>
                      <a:gdLst>
                        <a:gd name="textAreaLeft" fmla="*/ -360 w 9720"/>
                        <a:gd name="textAreaRight" fmla="*/ 9720 w 9720"/>
                        <a:gd name="textAreaTop" fmla="*/ -360 h 24840"/>
                        <a:gd name="textAreaBottom" fmla="*/ 24840 h 24840"/>
                      </a:gdLst>
                      <a:ahLst/>
                      <a:rect l="textAreaLeft" t="textAreaTop" r="textAreaRight" b="textAreaBottom"/>
                      <a:pathLst>
                        <a:path w="90" h="181">
                          <a:moveTo>
                            <a:pt x="45" y="181"/>
                          </a:moveTo>
                          <a:cubicBezTo>
                            <a:pt x="30" y="181"/>
                            <a:pt x="0" y="120"/>
                            <a:pt x="0" y="90"/>
                          </a:cubicBezTo>
                          <a:cubicBezTo>
                            <a:pt x="0" y="60"/>
                            <a:pt x="30" y="0"/>
                            <a:pt x="45" y="0"/>
                          </a:cubicBezTo>
                          <a:cubicBezTo>
                            <a:pt x="60" y="0"/>
                            <a:pt x="90" y="60"/>
                            <a:pt x="90" y="90"/>
                          </a:cubicBezTo>
                          <a:cubicBezTo>
                            <a:pt x="90" y="120"/>
                            <a:pt x="60" y="181"/>
                            <a:pt x="45" y="181"/>
                          </a:cubicBezTo>
                          <a:close/>
                        </a:path>
                      </a:pathLst>
                    </a:custGeom>
                    <a:noFill/>
                    <a:ln w="6480">
                      <a:solidFill>
                        <a:srgbClr val="cc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 rot="10800000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6" name="Freeform 532"/>
                    <p:cNvSpPr/>
                    <p:nvPr/>
                  </p:nvSpPr>
                  <p:spPr>
                    <a:xfrm flipH="1" flipV="1" rot="17543400">
                      <a:off x="5224320" y="5706720"/>
                      <a:ext cx="9720" cy="24840"/>
                    </a:xfrm>
                    <a:custGeom>
                      <a:avLst/>
                      <a:gdLst>
                        <a:gd name="textAreaLeft" fmla="*/ -360 w 9720"/>
                        <a:gd name="textAreaRight" fmla="*/ 9720 w 9720"/>
                        <a:gd name="textAreaTop" fmla="*/ -360 h 24840"/>
                        <a:gd name="textAreaBottom" fmla="*/ 24840 h 24840"/>
                      </a:gdLst>
                      <a:ahLst/>
                      <a:rect l="textAreaLeft" t="textAreaTop" r="textAreaRight" b="textAreaBottom"/>
                      <a:pathLst>
                        <a:path w="90" h="181">
                          <a:moveTo>
                            <a:pt x="45" y="181"/>
                          </a:moveTo>
                          <a:cubicBezTo>
                            <a:pt x="30" y="181"/>
                            <a:pt x="0" y="120"/>
                            <a:pt x="0" y="90"/>
                          </a:cubicBezTo>
                          <a:cubicBezTo>
                            <a:pt x="0" y="60"/>
                            <a:pt x="30" y="0"/>
                            <a:pt x="45" y="0"/>
                          </a:cubicBezTo>
                          <a:cubicBezTo>
                            <a:pt x="60" y="0"/>
                            <a:pt x="90" y="60"/>
                            <a:pt x="90" y="90"/>
                          </a:cubicBezTo>
                          <a:cubicBezTo>
                            <a:pt x="90" y="120"/>
                            <a:pt x="60" y="181"/>
                            <a:pt x="45" y="181"/>
                          </a:cubicBezTo>
                          <a:close/>
                        </a:path>
                      </a:pathLst>
                    </a:custGeom>
                    <a:noFill/>
                    <a:ln w="6480">
                      <a:solidFill>
                        <a:srgbClr val="cc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 rot="10800000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7" name="Freeform 533"/>
                    <p:cNvSpPr/>
                    <p:nvPr/>
                  </p:nvSpPr>
                  <p:spPr>
                    <a:xfrm flipH="1" flipV="1" rot="18799800">
                      <a:off x="5220720" y="5711040"/>
                      <a:ext cx="10080" cy="24840"/>
                    </a:xfrm>
                    <a:custGeom>
                      <a:avLst/>
                      <a:gdLst>
                        <a:gd name="textAreaLeft" fmla="*/ 360 w 10080"/>
                        <a:gd name="textAreaRight" fmla="*/ 10800 w 10080"/>
                        <a:gd name="textAreaTop" fmla="*/ -360 h 24840"/>
                        <a:gd name="textAreaBottom" fmla="*/ 24840 h 24840"/>
                      </a:gdLst>
                      <a:ahLst/>
                      <a:rect l="textAreaLeft" t="textAreaTop" r="textAreaRight" b="textAreaBottom"/>
                      <a:pathLst>
                        <a:path w="90" h="181">
                          <a:moveTo>
                            <a:pt x="45" y="181"/>
                          </a:moveTo>
                          <a:cubicBezTo>
                            <a:pt x="30" y="181"/>
                            <a:pt x="0" y="120"/>
                            <a:pt x="0" y="90"/>
                          </a:cubicBezTo>
                          <a:cubicBezTo>
                            <a:pt x="0" y="60"/>
                            <a:pt x="30" y="0"/>
                            <a:pt x="45" y="0"/>
                          </a:cubicBezTo>
                          <a:cubicBezTo>
                            <a:pt x="60" y="0"/>
                            <a:pt x="90" y="60"/>
                            <a:pt x="90" y="90"/>
                          </a:cubicBezTo>
                          <a:cubicBezTo>
                            <a:pt x="90" y="120"/>
                            <a:pt x="60" y="181"/>
                            <a:pt x="45" y="181"/>
                          </a:cubicBezTo>
                          <a:close/>
                        </a:path>
                      </a:pathLst>
                    </a:custGeom>
                    <a:noFill/>
                    <a:ln w="6480">
                      <a:solidFill>
                        <a:srgbClr val="cc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 rot="10800000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8" name="Freeform 534"/>
                    <p:cNvSpPr/>
                    <p:nvPr/>
                  </p:nvSpPr>
                  <p:spPr>
                    <a:xfrm flipV="1" rot="21360000">
                      <a:off x="5202360" y="5647320"/>
                      <a:ext cx="9000" cy="15480"/>
                    </a:xfrm>
                    <a:custGeom>
                      <a:avLst/>
                      <a:gdLst>
                        <a:gd name="textAreaLeft" fmla="*/ 0 w 9000"/>
                        <a:gd name="textAreaRight" fmla="*/ 9360 w 9000"/>
                        <a:gd name="textAreaTop" fmla="*/ -360 h 15480"/>
                        <a:gd name="textAreaBottom" fmla="*/ 15480 h 15480"/>
                      </a:gdLst>
                      <a:ahLst/>
                      <a:rect l="textAreaLeft" t="textAreaTop" r="textAreaRight" b="textAreaBottom"/>
                      <a:pathLst>
                        <a:path w="36" h="68">
                          <a:moveTo>
                            <a:pt x="9" y="0"/>
                          </a:moveTo>
                          <a:cubicBezTo>
                            <a:pt x="10" y="0"/>
                            <a:pt x="30" y="5"/>
                            <a:pt x="24" y="12"/>
                          </a:cubicBezTo>
                          <a:cubicBezTo>
                            <a:pt x="20" y="17"/>
                            <a:pt x="6" y="18"/>
                            <a:pt x="6" y="18"/>
                          </a:cubicBezTo>
                          <a:cubicBezTo>
                            <a:pt x="8" y="21"/>
                            <a:pt x="9" y="25"/>
                            <a:pt x="12" y="27"/>
                          </a:cubicBezTo>
                          <a:cubicBezTo>
                            <a:pt x="22" y="35"/>
                            <a:pt x="32" y="35"/>
                            <a:pt x="6" y="42"/>
                          </a:cubicBezTo>
                          <a:cubicBezTo>
                            <a:pt x="36" y="52"/>
                            <a:pt x="23" y="55"/>
                            <a:pt x="0" y="60"/>
                          </a:cubicBezTo>
                          <a:cubicBezTo>
                            <a:pt x="13" y="68"/>
                            <a:pt x="8" y="63"/>
                            <a:pt x="21" y="6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6633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 rot="10800000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9" name="Freeform 535"/>
                    <p:cNvSpPr/>
                    <p:nvPr/>
                  </p:nvSpPr>
                  <p:spPr>
                    <a:xfrm flipV="1" rot="21360000">
                      <a:off x="5207760" y="5646600"/>
                      <a:ext cx="9000" cy="15480"/>
                    </a:xfrm>
                    <a:custGeom>
                      <a:avLst/>
                      <a:gdLst>
                        <a:gd name="textAreaLeft" fmla="*/ 0 w 9000"/>
                        <a:gd name="textAreaRight" fmla="*/ 9360 w 9000"/>
                        <a:gd name="textAreaTop" fmla="*/ -360 h 15480"/>
                        <a:gd name="textAreaBottom" fmla="*/ 15480 h 15480"/>
                      </a:gdLst>
                      <a:ahLst/>
                      <a:rect l="textAreaLeft" t="textAreaTop" r="textAreaRight" b="textAreaBottom"/>
                      <a:pathLst>
                        <a:path w="36" h="68">
                          <a:moveTo>
                            <a:pt x="9" y="0"/>
                          </a:moveTo>
                          <a:cubicBezTo>
                            <a:pt x="10" y="0"/>
                            <a:pt x="30" y="5"/>
                            <a:pt x="24" y="12"/>
                          </a:cubicBezTo>
                          <a:cubicBezTo>
                            <a:pt x="20" y="17"/>
                            <a:pt x="6" y="18"/>
                            <a:pt x="6" y="18"/>
                          </a:cubicBezTo>
                          <a:cubicBezTo>
                            <a:pt x="8" y="21"/>
                            <a:pt x="9" y="25"/>
                            <a:pt x="12" y="27"/>
                          </a:cubicBezTo>
                          <a:cubicBezTo>
                            <a:pt x="22" y="35"/>
                            <a:pt x="32" y="35"/>
                            <a:pt x="6" y="42"/>
                          </a:cubicBezTo>
                          <a:cubicBezTo>
                            <a:pt x="36" y="52"/>
                            <a:pt x="23" y="55"/>
                            <a:pt x="0" y="60"/>
                          </a:cubicBezTo>
                          <a:cubicBezTo>
                            <a:pt x="13" y="68"/>
                            <a:pt x="8" y="63"/>
                            <a:pt x="21" y="6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6633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 rot="10800000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0" name="Oval 536"/>
                    <p:cNvSpPr/>
                    <p:nvPr/>
                  </p:nvSpPr>
                  <p:spPr>
                    <a:xfrm flipV="1" rot="21360000">
                      <a:off x="5202360" y="5637960"/>
                      <a:ext cx="5400" cy="10440"/>
                    </a:xfrm>
                    <a:prstGeom prst="ellipse">
                      <a:avLst/>
                    </a:prstGeom>
                    <a:solidFill>
                      <a:srgbClr val="663366"/>
                    </a:solidFill>
                    <a:ln w="9360">
                      <a:solidFill>
                        <a:srgbClr val="66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ctr" rot="10800000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1" name="Oval 537"/>
                    <p:cNvSpPr/>
                    <p:nvPr/>
                  </p:nvSpPr>
                  <p:spPr>
                    <a:xfrm flipV="1" rot="21360000">
                      <a:off x="5207400" y="5636880"/>
                      <a:ext cx="5760" cy="10440"/>
                    </a:xfrm>
                    <a:prstGeom prst="ellipse">
                      <a:avLst/>
                    </a:prstGeom>
                    <a:solidFill>
                      <a:srgbClr val="663366"/>
                    </a:solidFill>
                    <a:ln w="9360">
                      <a:solidFill>
                        <a:srgbClr val="66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ctr" rot="10800000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2" name="Freeform 538"/>
                    <p:cNvSpPr/>
                    <p:nvPr/>
                  </p:nvSpPr>
                  <p:spPr>
                    <a:xfrm flipV="1" rot="1402800">
                      <a:off x="5199120" y="5715720"/>
                      <a:ext cx="10800" cy="23040"/>
                    </a:xfrm>
                    <a:custGeom>
                      <a:avLst/>
                      <a:gdLst>
                        <a:gd name="textAreaLeft" fmla="*/ 0 w 10800"/>
                        <a:gd name="textAreaRight" fmla="*/ 11160 w 10800"/>
                        <a:gd name="textAreaTop" fmla="*/ 360 h 23040"/>
                        <a:gd name="textAreaBottom" fmla="*/ 23760 h 23040"/>
                      </a:gdLst>
                      <a:ahLst/>
                      <a:rect l="textAreaLeft" t="textAreaTop" r="textAreaRight" b="textAreaBottom"/>
                      <a:pathLst>
                        <a:path w="90" h="181">
                          <a:moveTo>
                            <a:pt x="45" y="181"/>
                          </a:moveTo>
                          <a:cubicBezTo>
                            <a:pt x="30" y="181"/>
                            <a:pt x="0" y="120"/>
                            <a:pt x="0" y="90"/>
                          </a:cubicBezTo>
                          <a:cubicBezTo>
                            <a:pt x="0" y="60"/>
                            <a:pt x="30" y="0"/>
                            <a:pt x="45" y="0"/>
                          </a:cubicBezTo>
                          <a:cubicBezTo>
                            <a:pt x="60" y="0"/>
                            <a:pt x="90" y="60"/>
                            <a:pt x="90" y="90"/>
                          </a:cubicBezTo>
                          <a:cubicBezTo>
                            <a:pt x="90" y="120"/>
                            <a:pt x="60" y="181"/>
                            <a:pt x="45" y="181"/>
                          </a:cubicBezTo>
                          <a:close/>
                        </a:path>
                      </a:pathLst>
                    </a:custGeom>
                    <a:noFill/>
                    <a:ln w="6480">
                      <a:solidFill>
                        <a:srgbClr val="cc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 rot="10800000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3" name="Oval 539"/>
                    <p:cNvSpPr/>
                    <p:nvPr/>
                  </p:nvSpPr>
                  <p:spPr>
                    <a:xfrm rot="720000">
                      <a:off x="5184720" y="5684040"/>
                      <a:ext cx="16560" cy="15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624" name="Group 540"/>
                    <p:cNvGrpSpPr/>
                    <p:nvPr/>
                  </p:nvGrpSpPr>
                  <p:grpSpPr>
                    <a:xfrm>
                      <a:off x="5037840" y="5388480"/>
                      <a:ext cx="338040" cy="289440"/>
                      <a:chOff x="5037840" y="5388480"/>
                      <a:chExt cx="338040" cy="289440"/>
                    </a:xfrm>
                  </p:grpSpPr>
                  <p:sp>
                    <p:nvSpPr>
                      <p:cNvPr id="625" name="Oval 541"/>
                      <p:cNvSpPr/>
                      <p:nvPr/>
                    </p:nvSpPr>
                    <p:spPr>
                      <a:xfrm>
                        <a:off x="5106240" y="5461200"/>
                        <a:ext cx="216000" cy="201240"/>
                      </a:xfrm>
                      <a:prstGeom prst="ellipse">
                        <a:avLst/>
                      </a:prstGeom>
                      <a:solidFill>
                        <a:srgbClr val="666699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6" name="Oval 542"/>
                      <p:cNvSpPr/>
                      <p:nvPr/>
                    </p:nvSpPr>
                    <p:spPr>
                      <a:xfrm>
                        <a:off x="5124240" y="5477760"/>
                        <a:ext cx="180000" cy="167760"/>
                      </a:xfrm>
                      <a:prstGeom prst="ellipse">
                        <a:avLst/>
                      </a:prstGeom>
                      <a:solidFill>
                        <a:srgbClr val="666699">
                          <a:alpha val="5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7" name="Oval 543"/>
                      <p:cNvSpPr/>
                      <p:nvPr/>
                    </p:nvSpPr>
                    <p:spPr>
                      <a:xfrm>
                        <a:off x="5191200" y="5408640"/>
                        <a:ext cx="45000" cy="5256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666699"/>
                          </a:gs>
                          <a:gs pos="100000">
                            <a:srgbClr val="424267"/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360" bIns="-936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8" name="AutoShape 544"/>
                      <p:cNvSpPr/>
                      <p:nvPr/>
                    </p:nvSpPr>
                    <p:spPr>
                      <a:xfrm flipH="1">
                        <a:off x="5182920" y="5425920"/>
                        <a:ext cx="20880" cy="18360"/>
                      </a:xfrm>
                      <a:custGeom>
                        <a:avLst/>
                        <a:gdLst>
                          <a:gd name="textAreaLeft" fmla="*/ 13320 w 20880"/>
                          <a:gd name="textAreaRight" fmla="*/ 13680 w 20880"/>
                          <a:gd name="textAreaTop" fmla="*/ 720 h 18360"/>
                          <a:gd name="textAreaBottom" fmla="*/ 17640 h 1836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7719" y="2482"/>
                              <a:pt x="13837" y="5080"/>
                              <a:pt x="13837" y="10800"/>
                            </a:cubicBezTo>
                            <a:cubicBezTo>
                              <a:pt x="13837" y="16520"/>
                              <a:pt x="17719" y="19118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880" bIns="-2988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9" name="AutoShape 545"/>
                      <p:cNvSpPr/>
                      <p:nvPr/>
                    </p:nvSpPr>
                    <p:spPr>
                      <a:xfrm>
                        <a:off x="5223600" y="5425920"/>
                        <a:ext cx="20880" cy="18360"/>
                      </a:xfrm>
                      <a:custGeom>
                        <a:avLst/>
                        <a:gdLst>
                          <a:gd name="textAreaLeft" fmla="*/ 12960 w 20880"/>
                          <a:gd name="textAreaRight" fmla="*/ 13320 w 20880"/>
                          <a:gd name="textAreaTop" fmla="*/ 720 h 18360"/>
                          <a:gd name="textAreaBottom" fmla="*/ 17640 h 1836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7719" y="2482"/>
                              <a:pt x="13837" y="5080"/>
                              <a:pt x="13837" y="10800"/>
                            </a:cubicBezTo>
                            <a:cubicBezTo>
                              <a:pt x="13837" y="16520"/>
                              <a:pt x="17719" y="19118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880" bIns="-2988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0" name="Freeform 546"/>
                      <p:cNvSpPr/>
                      <p:nvPr/>
                    </p:nvSpPr>
                    <p:spPr>
                      <a:xfrm rot="16677600">
                        <a:off x="5189760" y="5393520"/>
                        <a:ext cx="10440" cy="24840"/>
                      </a:xfrm>
                      <a:custGeom>
                        <a:avLst/>
                        <a:gdLst>
                          <a:gd name="textAreaLeft" fmla="*/ 0 w 10440"/>
                          <a:gd name="textAreaRight" fmla="*/ 10800 w 10440"/>
                          <a:gd name="textAreaTop" fmla="*/ 0 h 24840"/>
                          <a:gd name="textAreaBottom" fmla="*/ 25200 h 24840"/>
                        </a:gdLst>
                        <a:ahLst/>
                        <a:rect l="textAreaLeft" t="textAreaTop" r="textAreaRight" b="textAreaBottom"/>
                        <a:pathLst>
                          <a:path w="90" h="181">
                            <a:moveTo>
                              <a:pt x="45" y="181"/>
                            </a:moveTo>
                            <a:cubicBezTo>
                              <a:pt x="30" y="181"/>
                              <a:pt x="0" y="120"/>
                              <a:pt x="0" y="90"/>
                            </a:cubicBezTo>
                            <a:cubicBezTo>
                              <a:pt x="0" y="60"/>
                              <a:pt x="30" y="0"/>
                              <a:pt x="45" y="0"/>
                            </a:cubicBezTo>
                            <a:cubicBezTo>
                              <a:pt x="60" y="0"/>
                              <a:pt x="90" y="60"/>
                              <a:pt x="90" y="90"/>
                            </a:cubicBezTo>
                            <a:cubicBezTo>
                              <a:pt x="90" y="120"/>
                              <a:pt x="60" y="181"/>
                              <a:pt x="45" y="181"/>
                            </a:cubicBezTo>
                            <a:close/>
                          </a:path>
                        </a:pathLst>
                      </a:custGeom>
                      <a:noFill/>
                      <a:ln w="6480">
                        <a:solidFill>
                          <a:srgbClr val="cc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0" bIns="-21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1" name="Freeform 547"/>
                      <p:cNvSpPr/>
                      <p:nvPr/>
                    </p:nvSpPr>
                    <p:spPr>
                      <a:xfrm rot="17784000">
                        <a:off x="5191200" y="5391000"/>
                        <a:ext cx="9720" cy="24840"/>
                      </a:xfrm>
                      <a:custGeom>
                        <a:avLst/>
                        <a:gdLst>
                          <a:gd name="textAreaLeft" fmla="*/ 0 w 9720"/>
                          <a:gd name="textAreaRight" fmla="*/ 10080 w 9720"/>
                          <a:gd name="textAreaTop" fmla="*/ 0 h 24840"/>
                          <a:gd name="textAreaBottom" fmla="*/ 25200 h 24840"/>
                        </a:gdLst>
                        <a:ahLst/>
                        <a:rect l="textAreaLeft" t="textAreaTop" r="textAreaRight" b="textAreaBottom"/>
                        <a:pathLst>
                          <a:path w="90" h="181">
                            <a:moveTo>
                              <a:pt x="45" y="181"/>
                            </a:moveTo>
                            <a:cubicBezTo>
                              <a:pt x="30" y="181"/>
                              <a:pt x="0" y="120"/>
                              <a:pt x="0" y="90"/>
                            </a:cubicBezTo>
                            <a:cubicBezTo>
                              <a:pt x="0" y="60"/>
                              <a:pt x="30" y="0"/>
                              <a:pt x="45" y="0"/>
                            </a:cubicBezTo>
                            <a:cubicBezTo>
                              <a:pt x="60" y="0"/>
                              <a:pt x="90" y="60"/>
                              <a:pt x="90" y="90"/>
                            </a:cubicBezTo>
                            <a:cubicBezTo>
                              <a:pt x="90" y="120"/>
                              <a:pt x="60" y="181"/>
                              <a:pt x="45" y="181"/>
                            </a:cubicBezTo>
                            <a:close/>
                          </a:path>
                        </a:pathLst>
                      </a:custGeom>
                      <a:noFill/>
                      <a:ln w="6480">
                        <a:solidFill>
                          <a:srgbClr val="cc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0" bIns="-21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2" name="Freeform 548"/>
                      <p:cNvSpPr/>
                      <p:nvPr/>
                    </p:nvSpPr>
                    <p:spPr>
                      <a:xfrm rot="19039800">
                        <a:off x="5193000" y="5389200"/>
                        <a:ext cx="10800" cy="23040"/>
                      </a:xfrm>
                      <a:custGeom>
                        <a:avLst/>
                        <a:gdLst>
                          <a:gd name="textAreaLeft" fmla="*/ 0 w 10800"/>
                          <a:gd name="textAreaRight" fmla="*/ 11160 w 10800"/>
                          <a:gd name="textAreaTop" fmla="*/ 0 h 23040"/>
                          <a:gd name="textAreaBottom" fmla="*/ 23400 h 23040"/>
                        </a:gdLst>
                        <a:ahLst/>
                        <a:rect l="textAreaLeft" t="textAreaTop" r="textAreaRight" b="textAreaBottom"/>
                        <a:pathLst>
                          <a:path w="90" h="181">
                            <a:moveTo>
                              <a:pt x="45" y="181"/>
                            </a:moveTo>
                            <a:cubicBezTo>
                              <a:pt x="30" y="181"/>
                              <a:pt x="0" y="120"/>
                              <a:pt x="0" y="90"/>
                            </a:cubicBezTo>
                            <a:cubicBezTo>
                              <a:pt x="0" y="60"/>
                              <a:pt x="30" y="0"/>
                              <a:pt x="45" y="0"/>
                            </a:cubicBezTo>
                            <a:cubicBezTo>
                              <a:pt x="60" y="0"/>
                              <a:pt x="90" y="60"/>
                              <a:pt x="90" y="90"/>
                            </a:cubicBezTo>
                            <a:cubicBezTo>
                              <a:pt x="90" y="120"/>
                              <a:pt x="60" y="181"/>
                              <a:pt x="45" y="181"/>
                            </a:cubicBezTo>
                            <a:close/>
                          </a:path>
                        </a:pathLst>
                      </a:custGeom>
                      <a:noFill/>
                      <a:ln w="6480">
                        <a:solidFill>
                          <a:srgbClr val="cc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3" name="Freeform 549"/>
                      <p:cNvSpPr/>
                      <p:nvPr/>
                    </p:nvSpPr>
                    <p:spPr>
                      <a:xfrm flipH="1" rot="4922400">
                        <a:off x="5223600" y="5393880"/>
                        <a:ext cx="10440" cy="24480"/>
                      </a:xfrm>
                      <a:custGeom>
                        <a:avLst/>
                        <a:gdLst>
                          <a:gd name="textAreaLeft" fmla="*/ -360 w 10440"/>
                          <a:gd name="textAreaRight" fmla="*/ 10440 w 10440"/>
                          <a:gd name="textAreaTop" fmla="*/ 0 h 24480"/>
                          <a:gd name="textAreaBottom" fmla="*/ 24840 h 24480"/>
                        </a:gdLst>
                        <a:ahLst/>
                        <a:rect l="textAreaLeft" t="textAreaTop" r="textAreaRight" b="textAreaBottom"/>
                        <a:pathLst>
                          <a:path w="90" h="181">
                            <a:moveTo>
                              <a:pt x="45" y="181"/>
                            </a:moveTo>
                            <a:cubicBezTo>
                              <a:pt x="30" y="181"/>
                              <a:pt x="0" y="120"/>
                              <a:pt x="0" y="90"/>
                            </a:cubicBezTo>
                            <a:cubicBezTo>
                              <a:pt x="0" y="60"/>
                              <a:pt x="30" y="0"/>
                              <a:pt x="45" y="0"/>
                            </a:cubicBezTo>
                            <a:cubicBezTo>
                              <a:pt x="60" y="0"/>
                              <a:pt x="90" y="60"/>
                              <a:pt x="90" y="90"/>
                            </a:cubicBezTo>
                            <a:cubicBezTo>
                              <a:pt x="90" y="120"/>
                              <a:pt x="60" y="181"/>
                              <a:pt x="45" y="181"/>
                            </a:cubicBezTo>
                            <a:close/>
                          </a:path>
                        </a:pathLst>
                      </a:custGeom>
                      <a:noFill/>
                      <a:ln w="6480">
                        <a:solidFill>
                          <a:srgbClr val="cc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960" bIns="-21960" anchor="t" rot="10800000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4" name="Freeform 550"/>
                      <p:cNvSpPr/>
                      <p:nvPr/>
                    </p:nvSpPr>
                    <p:spPr>
                      <a:xfrm flipH="1" rot="3816000">
                        <a:off x="5223240" y="5391360"/>
                        <a:ext cx="9720" cy="24480"/>
                      </a:xfrm>
                      <a:custGeom>
                        <a:avLst/>
                        <a:gdLst>
                          <a:gd name="textAreaLeft" fmla="*/ -360 w 9720"/>
                          <a:gd name="textAreaRight" fmla="*/ 9720 w 9720"/>
                          <a:gd name="textAreaTop" fmla="*/ 0 h 24480"/>
                          <a:gd name="textAreaBottom" fmla="*/ 24840 h 24480"/>
                        </a:gdLst>
                        <a:ahLst/>
                        <a:rect l="textAreaLeft" t="textAreaTop" r="textAreaRight" b="textAreaBottom"/>
                        <a:pathLst>
                          <a:path w="90" h="181">
                            <a:moveTo>
                              <a:pt x="45" y="181"/>
                            </a:moveTo>
                            <a:cubicBezTo>
                              <a:pt x="30" y="181"/>
                              <a:pt x="0" y="120"/>
                              <a:pt x="0" y="90"/>
                            </a:cubicBezTo>
                            <a:cubicBezTo>
                              <a:pt x="0" y="60"/>
                              <a:pt x="30" y="0"/>
                              <a:pt x="45" y="0"/>
                            </a:cubicBezTo>
                            <a:cubicBezTo>
                              <a:pt x="60" y="0"/>
                              <a:pt x="90" y="60"/>
                              <a:pt x="90" y="90"/>
                            </a:cubicBezTo>
                            <a:cubicBezTo>
                              <a:pt x="90" y="120"/>
                              <a:pt x="60" y="181"/>
                              <a:pt x="45" y="181"/>
                            </a:cubicBezTo>
                            <a:close/>
                          </a:path>
                        </a:pathLst>
                      </a:custGeom>
                      <a:noFill/>
                      <a:ln w="6480">
                        <a:solidFill>
                          <a:srgbClr val="cc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960" bIns="-21960" anchor="t" rot="10800000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5" name="Freeform 551"/>
                      <p:cNvSpPr/>
                      <p:nvPr/>
                    </p:nvSpPr>
                    <p:spPr>
                      <a:xfrm flipH="1" rot="2560200">
                        <a:off x="5220360" y="5388840"/>
                        <a:ext cx="10440" cy="23040"/>
                      </a:xfrm>
                      <a:custGeom>
                        <a:avLst/>
                        <a:gdLst>
                          <a:gd name="textAreaLeft" fmla="*/ -360 w 10440"/>
                          <a:gd name="textAreaRight" fmla="*/ 10440 w 10440"/>
                          <a:gd name="textAreaTop" fmla="*/ 0 h 23040"/>
                          <a:gd name="textAreaBottom" fmla="*/ 23400 h 23040"/>
                        </a:gdLst>
                        <a:ahLst/>
                        <a:rect l="textAreaLeft" t="textAreaTop" r="textAreaRight" b="textAreaBottom"/>
                        <a:pathLst>
                          <a:path w="90" h="181">
                            <a:moveTo>
                              <a:pt x="45" y="181"/>
                            </a:moveTo>
                            <a:cubicBezTo>
                              <a:pt x="30" y="181"/>
                              <a:pt x="0" y="120"/>
                              <a:pt x="0" y="90"/>
                            </a:cubicBezTo>
                            <a:cubicBezTo>
                              <a:pt x="0" y="60"/>
                              <a:pt x="30" y="0"/>
                              <a:pt x="45" y="0"/>
                            </a:cubicBezTo>
                            <a:cubicBezTo>
                              <a:pt x="60" y="0"/>
                              <a:pt x="90" y="60"/>
                              <a:pt x="90" y="90"/>
                            </a:cubicBezTo>
                            <a:cubicBezTo>
                              <a:pt x="90" y="120"/>
                              <a:pt x="60" y="181"/>
                              <a:pt x="45" y="181"/>
                            </a:cubicBezTo>
                            <a:close/>
                          </a:path>
                        </a:pathLst>
                      </a:custGeom>
                      <a:noFill/>
                      <a:ln w="6480">
                        <a:solidFill>
                          <a:srgbClr val="cc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6" name="Freeform 552"/>
                      <p:cNvSpPr/>
                      <p:nvPr/>
                    </p:nvSpPr>
                    <p:spPr>
                      <a:xfrm>
                        <a:off x="5207760" y="5462280"/>
                        <a:ext cx="8640" cy="15840"/>
                      </a:xfrm>
                      <a:custGeom>
                        <a:avLst/>
                        <a:gdLst>
                          <a:gd name="textAreaLeft" fmla="*/ 0 w 8640"/>
                          <a:gd name="textAreaRight" fmla="*/ 9000 w 8640"/>
                          <a:gd name="textAreaTop" fmla="*/ 0 h 15840"/>
                          <a:gd name="textAreaBottom" fmla="*/ 16200 h 15840"/>
                        </a:gdLst>
                        <a:ahLst/>
                        <a:rect l="textAreaLeft" t="textAreaTop" r="textAreaRight" b="textAreaBottom"/>
                        <a:pathLst>
                          <a:path w="36" h="68">
                            <a:moveTo>
                              <a:pt x="9" y="0"/>
                            </a:moveTo>
                            <a:cubicBezTo>
                              <a:pt x="10" y="0"/>
                              <a:pt x="30" y="5"/>
                              <a:pt x="24" y="12"/>
                            </a:cubicBezTo>
                            <a:cubicBezTo>
                              <a:pt x="20" y="17"/>
                              <a:pt x="6" y="18"/>
                              <a:pt x="6" y="18"/>
                            </a:cubicBezTo>
                            <a:cubicBezTo>
                              <a:pt x="8" y="21"/>
                              <a:pt x="9" y="25"/>
                              <a:pt x="12" y="27"/>
                            </a:cubicBezTo>
                            <a:cubicBezTo>
                              <a:pt x="22" y="35"/>
                              <a:pt x="32" y="35"/>
                              <a:pt x="6" y="42"/>
                            </a:cubicBezTo>
                            <a:cubicBezTo>
                              <a:pt x="36" y="52"/>
                              <a:pt x="23" y="55"/>
                              <a:pt x="0" y="60"/>
                            </a:cubicBezTo>
                            <a:cubicBezTo>
                              <a:pt x="13" y="68"/>
                              <a:pt x="8" y="63"/>
                              <a:pt x="21" y="63"/>
                            </a:cubicBezTo>
                          </a:path>
                        </a:pathLst>
                      </a:custGeom>
                      <a:solidFill>
                        <a:srgbClr val="663366"/>
                      </a:solidFill>
                      <a:ln w="9360">
                        <a:solidFill>
                          <a:srgbClr val="6633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600" bIns="-30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7" name="Freeform 553"/>
                      <p:cNvSpPr/>
                      <p:nvPr/>
                    </p:nvSpPr>
                    <p:spPr>
                      <a:xfrm>
                        <a:off x="5213160" y="5462640"/>
                        <a:ext cx="8640" cy="15480"/>
                      </a:xfrm>
                      <a:custGeom>
                        <a:avLst/>
                        <a:gdLst>
                          <a:gd name="textAreaLeft" fmla="*/ 0 w 8640"/>
                          <a:gd name="textAreaRight" fmla="*/ 9000 w 8640"/>
                          <a:gd name="textAreaTop" fmla="*/ 0 h 15480"/>
                          <a:gd name="textAreaBottom" fmla="*/ 15840 h 15480"/>
                        </a:gdLst>
                        <a:ahLst/>
                        <a:rect l="textAreaLeft" t="textAreaTop" r="textAreaRight" b="textAreaBottom"/>
                        <a:pathLst>
                          <a:path w="36" h="68">
                            <a:moveTo>
                              <a:pt x="9" y="0"/>
                            </a:moveTo>
                            <a:cubicBezTo>
                              <a:pt x="10" y="0"/>
                              <a:pt x="30" y="5"/>
                              <a:pt x="24" y="12"/>
                            </a:cubicBezTo>
                            <a:cubicBezTo>
                              <a:pt x="20" y="17"/>
                              <a:pt x="6" y="18"/>
                              <a:pt x="6" y="18"/>
                            </a:cubicBezTo>
                            <a:cubicBezTo>
                              <a:pt x="8" y="21"/>
                              <a:pt x="9" y="25"/>
                              <a:pt x="12" y="27"/>
                            </a:cubicBezTo>
                            <a:cubicBezTo>
                              <a:pt x="22" y="35"/>
                              <a:pt x="32" y="35"/>
                              <a:pt x="6" y="42"/>
                            </a:cubicBezTo>
                            <a:cubicBezTo>
                              <a:pt x="36" y="52"/>
                              <a:pt x="23" y="55"/>
                              <a:pt x="0" y="60"/>
                            </a:cubicBezTo>
                            <a:cubicBezTo>
                              <a:pt x="13" y="68"/>
                              <a:pt x="8" y="63"/>
                              <a:pt x="21" y="63"/>
                            </a:cubicBezTo>
                          </a:path>
                        </a:pathLst>
                      </a:custGeom>
                      <a:solidFill>
                        <a:srgbClr val="663366"/>
                      </a:solidFill>
                      <a:ln w="9360">
                        <a:solidFill>
                          <a:srgbClr val="6633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8" name="Oval 554"/>
                      <p:cNvSpPr/>
                      <p:nvPr/>
                    </p:nvSpPr>
                    <p:spPr>
                      <a:xfrm>
                        <a:off x="5208480" y="5478120"/>
                        <a:ext cx="5400" cy="10440"/>
                      </a:xfrm>
                      <a:prstGeom prst="ellipse">
                        <a:avLst/>
                      </a:prstGeom>
                      <a:solidFill>
                        <a:srgbClr val="663366"/>
                      </a:solidFill>
                      <a:ln w="9360">
                        <a:solidFill>
                          <a:srgbClr val="66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9" name="Oval 555"/>
                      <p:cNvSpPr/>
                      <p:nvPr/>
                    </p:nvSpPr>
                    <p:spPr>
                      <a:xfrm>
                        <a:off x="5213520" y="5478480"/>
                        <a:ext cx="5400" cy="10440"/>
                      </a:xfrm>
                      <a:prstGeom prst="ellipse">
                        <a:avLst/>
                      </a:prstGeom>
                      <a:solidFill>
                        <a:srgbClr val="663366"/>
                      </a:solidFill>
                      <a:ln w="9360">
                        <a:solidFill>
                          <a:srgbClr val="66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40" name="Oval 556"/>
                      <p:cNvSpPr/>
                      <p:nvPr/>
                    </p:nvSpPr>
                    <p:spPr>
                      <a:xfrm rot="3348000">
                        <a:off x="5305320" y="5462640"/>
                        <a:ext cx="41760" cy="5616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666699"/>
                          </a:gs>
                          <a:gs pos="100000">
                            <a:srgbClr val="424267"/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6480" bIns="-6480" anchor="t" anchorCtr="1" vert="eaVert" rot="10800000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41" name="AutoShape 557"/>
                      <p:cNvSpPr/>
                      <p:nvPr/>
                    </p:nvSpPr>
                    <p:spPr>
                      <a:xfrm flipH="1" rot="3348000">
                        <a:off x="5304240" y="5465520"/>
                        <a:ext cx="19800" cy="19440"/>
                      </a:xfrm>
                      <a:custGeom>
                        <a:avLst/>
                        <a:gdLst>
                          <a:gd name="textAreaLeft" fmla="*/ 12240 w 19800"/>
                          <a:gd name="textAreaRight" fmla="*/ 12600 w 19800"/>
                          <a:gd name="textAreaTop" fmla="*/ 720 h 19440"/>
                          <a:gd name="textAreaBottom" fmla="*/ 18720 h 1944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7719" y="2482"/>
                              <a:pt x="13837" y="5080"/>
                              <a:pt x="13837" y="10800"/>
                            </a:cubicBezTo>
                            <a:cubicBezTo>
                              <a:pt x="13837" y="16520"/>
                              <a:pt x="17719" y="19118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0" bIns="-28800" anchor="t" anchorCtr="1" vert="eaVert" rot="10800000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42" name="AutoShape 558"/>
                      <p:cNvSpPr/>
                      <p:nvPr/>
                    </p:nvSpPr>
                    <p:spPr>
                      <a:xfrm rot="3348000">
                        <a:off x="5327280" y="5496840"/>
                        <a:ext cx="19440" cy="19440"/>
                      </a:xfrm>
                      <a:custGeom>
                        <a:avLst/>
                        <a:gdLst>
                          <a:gd name="textAreaLeft" fmla="*/ 11880 w 19440"/>
                          <a:gd name="textAreaRight" fmla="*/ 12600 w 19440"/>
                          <a:gd name="textAreaTop" fmla="*/ 720 h 19440"/>
                          <a:gd name="textAreaBottom" fmla="*/ 18720 h 1944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7719" y="2482"/>
                              <a:pt x="13837" y="5080"/>
                              <a:pt x="13837" y="10800"/>
                            </a:cubicBezTo>
                            <a:cubicBezTo>
                              <a:pt x="13837" y="16520"/>
                              <a:pt x="17719" y="19118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0" bIns="-28800" anchor="t" anchorCtr="1" vert="eaVert" rot="10800000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43" name="Freeform 559"/>
                      <p:cNvSpPr/>
                      <p:nvPr/>
                    </p:nvSpPr>
                    <p:spPr>
                      <a:xfrm rot="20025600">
                        <a:off x="5334840" y="5449320"/>
                        <a:ext cx="10800" cy="23040"/>
                      </a:xfrm>
                      <a:custGeom>
                        <a:avLst/>
                        <a:gdLst>
                          <a:gd name="textAreaLeft" fmla="*/ 0 w 10800"/>
                          <a:gd name="textAreaRight" fmla="*/ 11160 w 10800"/>
                          <a:gd name="textAreaTop" fmla="*/ 0 h 23040"/>
                          <a:gd name="textAreaBottom" fmla="*/ 23400 h 23040"/>
                        </a:gdLst>
                        <a:ahLst/>
                        <a:rect l="textAreaLeft" t="textAreaTop" r="textAreaRight" b="textAreaBottom"/>
                        <a:pathLst>
                          <a:path w="90" h="181">
                            <a:moveTo>
                              <a:pt x="45" y="181"/>
                            </a:moveTo>
                            <a:cubicBezTo>
                              <a:pt x="30" y="181"/>
                              <a:pt x="0" y="120"/>
                              <a:pt x="0" y="90"/>
                            </a:cubicBezTo>
                            <a:cubicBezTo>
                              <a:pt x="0" y="60"/>
                              <a:pt x="30" y="0"/>
                              <a:pt x="45" y="0"/>
                            </a:cubicBezTo>
                            <a:cubicBezTo>
                              <a:pt x="60" y="0"/>
                              <a:pt x="90" y="60"/>
                              <a:pt x="90" y="90"/>
                            </a:cubicBezTo>
                            <a:cubicBezTo>
                              <a:pt x="90" y="120"/>
                              <a:pt x="60" y="181"/>
                              <a:pt x="45" y="181"/>
                            </a:cubicBezTo>
                            <a:close/>
                          </a:path>
                        </a:pathLst>
                      </a:custGeom>
                      <a:noFill/>
                      <a:ln w="6480">
                        <a:solidFill>
                          <a:srgbClr val="cc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44" name="Freeform 560"/>
                      <p:cNvSpPr/>
                      <p:nvPr/>
                    </p:nvSpPr>
                    <p:spPr>
                      <a:xfrm rot="21131400">
                        <a:off x="5338440" y="5448240"/>
                        <a:ext cx="10440" cy="23400"/>
                      </a:xfrm>
                      <a:custGeom>
                        <a:avLst/>
                        <a:gdLst>
                          <a:gd name="textAreaLeft" fmla="*/ 0 w 10440"/>
                          <a:gd name="textAreaRight" fmla="*/ 10800 w 10440"/>
                          <a:gd name="textAreaTop" fmla="*/ 0 h 23400"/>
                          <a:gd name="textAreaBottom" fmla="*/ 23760 h 23400"/>
                        </a:gdLst>
                        <a:ahLst/>
                        <a:rect l="textAreaLeft" t="textAreaTop" r="textAreaRight" b="textAreaBottom"/>
                        <a:pathLst>
                          <a:path w="90" h="181">
                            <a:moveTo>
                              <a:pt x="45" y="181"/>
                            </a:moveTo>
                            <a:cubicBezTo>
                              <a:pt x="30" y="181"/>
                              <a:pt x="0" y="120"/>
                              <a:pt x="0" y="90"/>
                            </a:cubicBezTo>
                            <a:cubicBezTo>
                              <a:pt x="0" y="60"/>
                              <a:pt x="30" y="0"/>
                              <a:pt x="45" y="0"/>
                            </a:cubicBezTo>
                            <a:cubicBezTo>
                              <a:pt x="60" y="0"/>
                              <a:pt x="90" y="60"/>
                              <a:pt x="90" y="90"/>
                            </a:cubicBezTo>
                            <a:cubicBezTo>
                              <a:pt x="90" y="120"/>
                              <a:pt x="60" y="181"/>
                              <a:pt x="45" y="181"/>
                            </a:cubicBezTo>
                            <a:close/>
                          </a:path>
                        </a:pathLst>
                      </a:custGeom>
                      <a:noFill/>
                      <a:ln w="6480">
                        <a:solidFill>
                          <a:srgbClr val="cc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45" name="Freeform 561"/>
                      <p:cNvSpPr/>
                      <p:nvPr/>
                    </p:nvSpPr>
                    <p:spPr>
                      <a:xfrm rot="787800">
                        <a:off x="5342040" y="5448600"/>
                        <a:ext cx="10800" cy="22680"/>
                      </a:xfrm>
                      <a:custGeom>
                        <a:avLst/>
                        <a:gdLst>
                          <a:gd name="textAreaLeft" fmla="*/ 0 w 10800"/>
                          <a:gd name="textAreaRight" fmla="*/ 11160 w 10800"/>
                          <a:gd name="textAreaTop" fmla="*/ 0 h 22680"/>
                          <a:gd name="textAreaBottom" fmla="*/ 23040 h 22680"/>
                        </a:gdLst>
                        <a:ahLst/>
                        <a:rect l="textAreaLeft" t="textAreaTop" r="textAreaRight" b="textAreaBottom"/>
                        <a:pathLst>
                          <a:path w="90" h="181">
                            <a:moveTo>
                              <a:pt x="45" y="181"/>
                            </a:moveTo>
                            <a:cubicBezTo>
                              <a:pt x="30" y="181"/>
                              <a:pt x="0" y="120"/>
                              <a:pt x="0" y="90"/>
                            </a:cubicBezTo>
                            <a:cubicBezTo>
                              <a:pt x="0" y="60"/>
                              <a:pt x="30" y="0"/>
                              <a:pt x="45" y="0"/>
                            </a:cubicBezTo>
                            <a:cubicBezTo>
                              <a:pt x="60" y="0"/>
                              <a:pt x="90" y="60"/>
                              <a:pt x="90" y="90"/>
                            </a:cubicBezTo>
                            <a:cubicBezTo>
                              <a:pt x="90" y="120"/>
                              <a:pt x="60" y="181"/>
                              <a:pt x="45" y="181"/>
                            </a:cubicBezTo>
                            <a:close/>
                          </a:path>
                        </a:pathLst>
                      </a:custGeom>
                      <a:noFill/>
                      <a:ln w="6480">
                        <a:solidFill>
                          <a:srgbClr val="cc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46" name="Freeform 562"/>
                      <p:cNvSpPr/>
                      <p:nvPr/>
                    </p:nvSpPr>
                    <p:spPr>
                      <a:xfrm flipH="1" rot="8269800">
                        <a:off x="5354640" y="5476320"/>
                        <a:ext cx="10800" cy="23040"/>
                      </a:xfrm>
                      <a:custGeom>
                        <a:avLst/>
                        <a:gdLst>
                          <a:gd name="textAreaLeft" fmla="*/ 360 w 10800"/>
                          <a:gd name="textAreaRight" fmla="*/ 11520 w 10800"/>
                          <a:gd name="textAreaTop" fmla="*/ 0 h 23040"/>
                          <a:gd name="textAreaBottom" fmla="*/ 23400 h 23040"/>
                        </a:gdLst>
                        <a:ahLst/>
                        <a:rect l="textAreaLeft" t="textAreaTop" r="textAreaRight" b="textAreaBottom"/>
                        <a:pathLst>
                          <a:path w="90" h="181">
                            <a:moveTo>
                              <a:pt x="45" y="181"/>
                            </a:moveTo>
                            <a:cubicBezTo>
                              <a:pt x="30" y="181"/>
                              <a:pt x="0" y="120"/>
                              <a:pt x="0" y="90"/>
                            </a:cubicBezTo>
                            <a:cubicBezTo>
                              <a:pt x="0" y="60"/>
                              <a:pt x="30" y="0"/>
                              <a:pt x="45" y="0"/>
                            </a:cubicBezTo>
                            <a:cubicBezTo>
                              <a:pt x="60" y="0"/>
                              <a:pt x="90" y="60"/>
                              <a:pt x="90" y="90"/>
                            </a:cubicBezTo>
                            <a:cubicBezTo>
                              <a:pt x="90" y="120"/>
                              <a:pt x="60" y="181"/>
                              <a:pt x="45" y="181"/>
                            </a:cubicBezTo>
                            <a:close/>
                          </a:path>
                        </a:pathLst>
                      </a:custGeom>
                      <a:noFill/>
                      <a:ln w="6480">
                        <a:solidFill>
                          <a:srgbClr val="cc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 rot="10800000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47" name="Freeform 563"/>
                      <p:cNvSpPr/>
                      <p:nvPr/>
                    </p:nvSpPr>
                    <p:spPr>
                      <a:xfrm flipH="1" rot="7163400">
                        <a:off x="5357520" y="5473080"/>
                        <a:ext cx="9720" cy="25200"/>
                      </a:xfrm>
                      <a:custGeom>
                        <a:avLst/>
                        <a:gdLst>
                          <a:gd name="textAreaLeft" fmla="*/ -360 w 9720"/>
                          <a:gd name="textAreaRight" fmla="*/ 9720 w 9720"/>
                          <a:gd name="textAreaTop" fmla="*/ 0 h 25200"/>
                          <a:gd name="textAreaBottom" fmla="*/ 25560 h 25200"/>
                        </a:gdLst>
                        <a:ahLst/>
                        <a:rect l="textAreaLeft" t="textAreaTop" r="textAreaRight" b="textAreaBottom"/>
                        <a:pathLst>
                          <a:path w="90" h="181">
                            <a:moveTo>
                              <a:pt x="45" y="181"/>
                            </a:moveTo>
                            <a:cubicBezTo>
                              <a:pt x="30" y="181"/>
                              <a:pt x="0" y="120"/>
                              <a:pt x="0" y="90"/>
                            </a:cubicBezTo>
                            <a:cubicBezTo>
                              <a:pt x="0" y="60"/>
                              <a:pt x="30" y="0"/>
                              <a:pt x="45" y="0"/>
                            </a:cubicBezTo>
                            <a:cubicBezTo>
                              <a:pt x="60" y="0"/>
                              <a:pt x="90" y="60"/>
                              <a:pt x="90" y="90"/>
                            </a:cubicBezTo>
                            <a:cubicBezTo>
                              <a:pt x="90" y="120"/>
                              <a:pt x="60" y="181"/>
                              <a:pt x="45" y="181"/>
                            </a:cubicBezTo>
                            <a:close/>
                          </a:path>
                        </a:pathLst>
                      </a:custGeom>
                      <a:noFill/>
                      <a:ln w="6480">
                        <a:solidFill>
                          <a:srgbClr val="cc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240" bIns="-21240" anchor="t" rot="10800000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48" name="Freeform 564"/>
                      <p:cNvSpPr/>
                      <p:nvPr/>
                    </p:nvSpPr>
                    <p:spPr>
                      <a:xfrm flipH="1" rot="5907600">
                        <a:off x="5357520" y="5469480"/>
                        <a:ext cx="10080" cy="24480"/>
                      </a:xfrm>
                      <a:custGeom>
                        <a:avLst/>
                        <a:gdLst>
                          <a:gd name="textAreaLeft" fmla="*/ 360 w 10080"/>
                          <a:gd name="textAreaRight" fmla="*/ 10800 w 10080"/>
                          <a:gd name="textAreaTop" fmla="*/ 0 h 24480"/>
                          <a:gd name="textAreaBottom" fmla="*/ 24840 h 24480"/>
                        </a:gdLst>
                        <a:ahLst/>
                        <a:rect l="textAreaLeft" t="textAreaTop" r="textAreaRight" b="textAreaBottom"/>
                        <a:pathLst>
                          <a:path w="90" h="181">
                            <a:moveTo>
                              <a:pt x="45" y="181"/>
                            </a:moveTo>
                            <a:cubicBezTo>
                              <a:pt x="30" y="181"/>
                              <a:pt x="0" y="120"/>
                              <a:pt x="0" y="90"/>
                            </a:cubicBezTo>
                            <a:cubicBezTo>
                              <a:pt x="0" y="60"/>
                              <a:pt x="30" y="0"/>
                              <a:pt x="45" y="0"/>
                            </a:cubicBezTo>
                            <a:cubicBezTo>
                              <a:pt x="60" y="0"/>
                              <a:pt x="90" y="60"/>
                              <a:pt x="90" y="90"/>
                            </a:cubicBezTo>
                            <a:cubicBezTo>
                              <a:pt x="90" y="120"/>
                              <a:pt x="60" y="181"/>
                              <a:pt x="45" y="181"/>
                            </a:cubicBezTo>
                            <a:close/>
                          </a:path>
                        </a:pathLst>
                      </a:custGeom>
                      <a:noFill/>
                      <a:ln w="6480">
                        <a:solidFill>
                          <a:srgbClr val="cc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960" bIns="-21960" anchor="t" rot="10800000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49" name="Freeform 565"/>
                      <p:cNvSpPr/>
                      <p:nvPr/>
                    </p:nvSpPr>
                    <p:spPr>
                      <a:xfrm rot="3348000">
                        <a:off x="5290200" y="5501160"/>
                        <a:ext cx="8280" cy="16560"/>
                      </a:xfrm>
                      <a:custGeom>
                        <a:avLst/>
                        <a:gdLst>
                          <a:gd name="textAreaLeft" fmla="*/ 0 w 8280"/>
                          <a:gd name="textAreaRight" fmla="*/ 8640 w 8280"/>
                          <a:gd name="textAreaTop" fmla="*/ 0 h 16560"/>
                          <a:gd name="textAreaBottom" fmla="*/ 16920 h 16560"/>
                        </a:gdLst>
                        <a:ahLst/>
                        <a:rect l="textAreaLeft" t="textAreaTop" r="textAreaRight" b="textAreaBottom"/>
                        <a:pathLst>
                          <a:path w="36" h="68">
                            <a:moveTo>
                              <a:pt x="9" y="0"/>
                            </a:moveTo>
                            <a:cubicBezTo>
                              <a:pt x="10" y="0"/>
                              <a:pt x="30" y="5"/>
                              <a:pt x="24" y="12"/>
                            </a:cubicBezTo>
                            <a:cubicBezTo>
                              <a:pt x="20" y="17"/>
                              <a:pt x="6" y="18"/>
                              <a:pt x="6" y="18"/>
                            </a:cubicBezTo>
                            <a:cubicBezTo>
                              <a:pt x="8" y="21"/>
                              <a:pt x="9" y="25"/>
                              <a:pt x="12" y="27"/>
                            </a:cubicBezTo>
                            <a:cubicBezTo>
                              <a:pt x="22" y="35"/>
                              <a:pt x="32" y="35"/>
                              <a:pt x="6" y="42"/>
                            </a:cubicBezTo>
                            <a:cubicBezTo>
                              <a:pt x="36" y="52"/>
                              <a:pt x="23" y="55"/>
                              <a:pt x="0" y="60"/>
                            </a:cubicBezTo>
                            <a:cubicBezTo>
                              <a:pt x="13" y="68"/>
                              <a:pt x="8" y="63"/>
                              <a:pt x="21" y="63"/>
                            </a:cubicBezTo>
                          </a:path>
                        </a:pathLst>
                      </a:custGeom>
                      <a:solidFill>
                        <a:srgbClr val="663366"/>
                      </a:solidFill>
                      <a:ln w="9360">
                        <a:solidFill>
                          <a:srgbClr val="6633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880" bIns="-29880" anchor="t" rot="10800000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50" name="Freeform 566"/>
                      <p:cNvSpPr/>
                      <p:nvPr/>
                    </p:nvSpPr>
                    <p:spPr>
                      <a:xfrm rot="3348000">
                        <a:off x="5293440" y="5506200"/>
                        <a:ext cx="7920" cy="16560"/>
                      </a:xfrm>
                      <a:custGeom>
                        <a:avLst/>
                        <a:gdLst>
                          <a:gd name="textAreaLeft" fmla="*/ 0 w 7920"/>
                          <a:gd name="textAreaRight" fmla="*/ 8280 w 7920"/>
                          <a:gd name="textAreaTop" fmla="*/ 0 h 16560"/>
                          <a:gd name="textAreaBottom" fmla="*/ 16920 h 16560"/>
                        </a:gdLst>
                        <a:ahLst/>
                        <a:rect l="textAreaLeft" t="textAreaTop" r="textAreaRight" b="textAreaBottom"/>
                        <a:pathLst>
                          <a:path w="36" h="68">
                            <a:moveTo>
                              <a:pt x="9" y="0"/>
                            </a:moveTo>
                            <a:cubicBezTo>
                              <a:pt x="10" y="0"/>
                              <a:pt x="30" y="5"/>
                              <a:pt x="24" y="12"/>
                            </a:cubicBezTo>
                            <a:cubicBezTo>
                              <a:pt x="20" y="17"/>
                              <a:pt x="6" y="18"/>
                              <a:pt x="6" y="18"/>
                            </a:cubicBezTo>
                            <a:cubicBezTo>
                              <a:pt x="8" y="21"/>
                              <a:pt x="9" y="25"/>
                              <a:pt x="12" y="27"/>
                            </a:cubicBezTo>
                            <a:cubicBezTo>
                              <a:pt x="22" y="35"/>
                              <a:pt x="32" y="35"/>
                              <a:pt x="6" y="42"/>
                            </a:cubicBezTo>
                            <a:cubicBezTo>
                              <a:pt x="36" y="52"/>
                              <a:pt x="23" y="55"/>
                              <a:pt x="0" y="60"/>
                            </a:cubicBezTo>
                            <a:cubicBezTo>
                              <a:pt x="13" y="68"/>
                              <a:pt x="8" y="63"/>
                              <a:pt x="21" y="63"/>
                            </a:cubicBezTo>
                          </a:path>
                        </a:pathLst>
                      </a:custGeom>
                      <a:solidFill>
                        <a:srgbClr val="663366"/>
                      </a:solidFill>
                      <a:ln w="9360">
                        <a:solidFill>
                          <a:srgbClr val="6633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880" bIns="-29880" anchor="t" rot="10800000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51" name="Oval 567"/>
                      <p:cNvSpPr/>
                      <p:nvPr/>
                    </p:nvSpPr>
                    <p:spPr>
                      <a:xfrm rot="3348000">
                        <a:off x="5279400" y="5510880"/>
                        <a:ext cx="5040" cy="11160"/>
                      </a:xfrm>
                      <a:prstGeom prst="ellipse">
                        <a:avLst/>
                      </a:prstGeom>
                      <a:solidFill>
                        <a:srgbClr val="663366"/>
                      </a:solidFill>
                      <a:ln w="9360">
                        <a:solidFill>
                          <a:srgbClr val="66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 anchorCtr="1" vert="eaVert" rot="10800000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52" name="Oval 568"/>
                      <p:cNvSpPr/>
                      <p:nvPr/>
                    </p:nvSpPr>
                    <p:spPr>
                      <a:xfrm rot="3348000">
                        <a:off x="5282280" y="5515200"/>
                        <a:ext cx="5040" cy="11160"/>
                      </a:xfrm>
                      <a:prstGeom prst="ellipse">
                        <a:avLst/>
                      </a:prstGeom>
                      <a:solidFill>
                        <a:srgbClr val="663366"/>
                      </a:solidFill>
                      <a:ln w="9360">
                        <a:solidFill>
                          <a:srgbClr val="66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 anchorCtr="1" vert="eaVert" rot="10800000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53" name="Oval 569"/>
                      <p:cNvSpPr/>
                      <p:nvPr/>
                    </p:nvSpPr>
                    <p:spPr>
                      <a:xfrm flipH="1" rot="18252000">
                        <a:off x="5078160" y="5458680"/>
                        <a:ext cx="42120" cy="5616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666699"/>
                          </a:gs>
                          <a:gs pos="100000">
                            <a:srgbClr val="424267"/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6480" bIns="-6480" anchor="t" anchorCtr="1" vert="eaVer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54" name="AutoShape 570"/>
                      <p:cNvSpPr/>
                      <p:nvPr/>
                    </p:nvSpPr>
                    <p:spPr>
                      <a:xfrm rot="18252000">
                        <a:off x="5101920" y="5461200"/>
                        <a:ext cx="19440" cy="19440"/>
                      </a:xfrm>
                      <a:custGeom>
                        <a:avLst/>
                        <a:gdLst>
                          <a:gd name="textAreaLeft" fmla="*/ 11880 w 19440"/>
                          <a:gd name="textAreaRight" fmla="*/ 12600 w 19440"/>
                          <a:gd name="textAreaTop" fmla="*/ 720 h 19440"/>
                          <a:gd name="textAreaBottom" fmla="*/ 18720 h 1944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7719" y="2482"/>
                              <a:pt x="13837" y="5080"/>
                              <a:pt x="13837" y="10800"/>
                            </a:cubicBezTo>
                            <a:cubicBezTo>
                              <a:pt x="13837" y="16520"/>
                              <a:pt x="17719" y="19118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0" bIns="-28800" anchor="t" anchorCtr="1" vert="eaVer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55" name="AutoShape 571"/>
                      <p:cNvSpPr/>
                      <p:nvPr/>
                    </p:nvSpPr>
                    <p:spPr>
                      <a:xfrm flipH="1" rot="18252000">
                        <a:off x="5078160" y="5492880"/>
                        <a:ext cx="19440" cy="19080"/>
                      </a:xfrm>
                      <a:custGeom>
                        <a:avLst/>
                        <a:gdLst>
                          <a:gd name="textAreaLeft" fmla="*/ 11880 w 19440"/>
                          <a:gd name="textAreaRight" fmla="*/ 12600 w 19440"/>
                          <a:gd name="textAreaTop" fmla="*/ 720 h 19080"/>
                          <a:gd name="textAreaBottom" fmla="*/ 18360 h 1908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7719" y="2482"/>
                              <a:pt x="13837" y="5080"/>
                              <a:pt x="13837" y="10800"/>
                            </a:cubicBezTo>
                            <a:cubicBezTo>
                              <a:pt x="13837" y="16520"/>
                              <a:pt x="17719" y="19118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 anchorCtr="1" vert="eaVer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56" name="Freeform 572"/>
                      <p:cNvSpPr/>
                      <p:nvPr/>
                    </p:nvSpPr>
                    <p:spPr>
                      <a:xfrm flipH="1" rot="1574400">
                        <a:off x="5078880" y="5445000"/>
                        <a:ext cx="10800" cy="23040"/>
                      </a:xfrm>
                      <a:custGeom>
                        <a:avLst/>
                        <a:gdLst>
                          <a:gd name="textAreaLeft" fmla="*/ 360 w 10800"/>
                          <a:gd name="textAreaRight" fmla="*/ 11520 w 10800"/>
                          <a:gd name="textAreaTop" fmla="*/ 0 h 23040"/>
                          <a:gd name="textAreaBottom" fmla="*/ 23400 h 23040"/>
                        </a:gdLst>
                        <a:ahLst/>
                        <a:rect l="textAreaLeft" t="textAreaTop" r="textAreaRight" b="textAreaBottom"/>
                        <a:pathLst>
                          <a:path w="90" h="181">
                            <a:moveTo>
                              <a:pt x="45" y="181"/>
                            </a:moveTo>
                            <a:cubicBezTo>
                              <a:pt x="30" y="181"/>
                              <a:pt x="0" y="120"/>
                              <a:pt x="0" y="90"/>
                            </a:cubicBezTo>
                            <a:cubicBezTo>
                              <a:pt x="0" y="60"/>
                              <a:pt x="30" y="0"/>
                              <a:pt x="45" y="0"/>
                            </a:cubicBezTo>
                            <a:cubicBezTo>
                              <a:pt x="60" y="0"/>
                              <a:pt x="90" y="60"/>
                              <a:pt x="90" y="90"/>
                            </a:cubicBezTo>
                            <a:cubicBezTo>
                              <a:pt x="90" y="120"/>
                              <a:pt x="60" y="181"/>
                              <a:pt x="45" y="181"/>
                            </a:cubicBezTo>
                            <a:close/>
                          </a:path>
                        </a:pathLst>
                      </a:custGeom>
                      <a:noFill/>
                      <a:ln w="6480">
                        <a:solidFill>
                          <a:srgbClr val="cc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57" name="Freeform 573"/>
                      <p:cNvSpPr/>
                      <p:nvPr/>
                    </p:nvSpPr>
                    <p:spPr>
                      <a:xfrm flipH="1" rot="468600">
                        <a:off x="5076720" y="5443920"/>
                        <a:ext cx="10440" cy="23040"/>
                      </a:xfrm>
                      <a:custGeom>
                        <a:avLst/>
                        <a:gdLst>
                          <a:gd name="textAreaLeft" fmla="*/ -360 w 10440"/>
                          <a:gd name="textAreaRight" fmla="*/ 10440 w 10440"/>
                          <a:gd name="textAreaTop" fmla="*/ 0 h 23040"/>
                          <a:gd name="textAreaBottom" fmla="*/ 23400 h 23040"/>
                        </a:gdLst>
                        <a:ahLst/>
                        <a:rect l="textAreaLeft" t="textAreaTop" r="textAreaRight" b="textAreaBottom"/>
                        <a:pathLst>
                          <a:path w="90" h="181">
                            <a:moveTo>
                              <a:pt x="45" y="181"/>
                            </a:moveTo>
                            <a:cubicBezTo>
                              <a:pt x="30" y="181"/>
                              <a:pt x="0" y="120"/>
                              <a:pt x="0" y="90"/>
                            </a:cubicBezTo>
                            <a:cubicBezTo>
                              <a:pt x="0" y="60"/>
                              <a:pt x="30" y="0"/>
                              <a:pt x="45" y="0"/>
                            </a:cubicBezTo>
                            <a:cubicBezTo>
                              <a:pt x="60" y="0"/>
                              <a:pt x="90" y="60"/>
                              <a:pt x="90" y="90"/>
                            </a:cubicBezTo>
                            <a:cubicBezTo>
                              <a:pt x="90" y="120"/>
                              <a:pt x="60" y="181"/>
                              <a:pt x="45" y="181"/>
                            </a:cubicBezTo>
                            <a:close/>
                          </a:path>
                        </a:pathLst>
                      </a:custGeom>
                      <a:noFill/>
                      <a:ln w="6480">
                        <a:solidFill>
                          <a:srgbClr val="cc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58" name="Freeform 574"/>
                      <p:cNvSpPr/>
                      <p:nvPr/>
                    </p:nvSpPr>
                    <p:spPr>
                      <a:xfrm flipH="1" rot="20812200">
                        <a:off x="5072760" y="5444280"/>
                        <a:ext cx="10800" cy="22680"/>
                      </a:xfrm>
                      <a:custGeom>
                        <a:avLst/>
                        <a:gdLst>
                          <a:gd name="textAreaLeft" fmla="*/ 360 w 10800"/>
                          <a:gd name="textAreaRight" fmla="*/ 11520 w 10800"/>
                          <a:gd name="textAreaTop" fmla="*/ 0 h 22680"/>
                          <a:gd name="textAreaBottom" fmla="*/ 23040 h 22680"/>
                        </a:gdLst>
                        <a:ahLst/>
                        <a:rect l="textAreaLeft" t="textAreaTop" r="textAreaRight" b="textAreaBottom"/>
                        <a:pathLst>
                          <a:path w="90" h="181">
                            <a:moveTo>
                              <a:pt x="45" y="181"/>
                            </a:moveTo>
                            <a:cubicBezTo>
                              <a:pt x="30" y="181"/>
                              <a:pt x="0" y="120"/>
                              <a:pt x="0" y="90"/>
                            </a:cubicBezTo>
                            <a:cubicBezTo>
                              <a:pt x="0" y="60"/>
                              <a:pt x="30" y="0"/>
                              <a:pt x="45" y="0"/>
                            </a:cubicBezTo>
                            <a:cubicBezTo>
                              <a:pt x="60" y="0"/>
                              <a:pt x="90" y="60"/>
                              <a:pt x="90" y="90"/>
                            </a:cubicBezTo>
                            <a:cubicBezTo>
                              <a:pt x="90" y="120"/>
                              <a:pt x="60" y="181"/>
                              <a:pt x="45" y="181"/>
                            </a:cubicBezTo>
                            <a:close/>
                          </a:path>
                        </a:pathLst>
                      </a:custGeom>
                      <a:noFill/>
                      <a:ln w="6480">
                        <a:solidFill>
                          <a:srgbClr val="cc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59" name="Freeform 575"/>
                      <p:cNvSpPr/>
                      <p:nvPr/>
                    </p:nvSpPr>
                    <p:spPr>
                      <a:xfrm rot="13330200">
                        <a:off x="5060520" y="5472000"/>
                        <a:ext cx="10800" cy="23040"/>
                      </a:xfrm>
                      <a:custGeom>
                        <a:avLst/>
                        <a:gdLst>
                          <a:gd name="textAreaLeft" fmla="*/ 0 w 10800"/>
                          <a:gd name="textAreaRight" fmla="*/ 11160 w 10800"/>
                          <a:gd name="textAreaTop" fmla="*/ 0 h 23040"/>
                          <a:gd name="textAreaBottom" fmla="*/ 23400 h 23040"/>
                        </a:gdLst>
                        <a:ahLst/>
                        <a:rect l="textAreaLeft" t="textAreaTop" r="textAreaRight" b="textAreaBottom"/>
                        <a:pathLst>
                          <a:path w="90" h="181">
                            <a:moveTo>
                              <a:pt x="45" y="181"/>
                            </a:moveTo>
                            <a:cubicBezTo>
                              <a:pt x="30" y="181"/>
                              <a:pt x="0" y="120"/>
                              <a:pt x="0" y="90"/>
                            </a:cubicBezTo>
                            <a:cubicBezTo>
                              <a:pt x="0" y="60"/>
                              <a:pt x="30" y="0"/>
                              <a:pt x="45" y="0"/>
                            </a:cubicBezTo>
                            <a:cubicBezTo>
                              <a:pt x="60" y="0"/>
                              <a:pt x="90" y="60"/>
                              <a:pt x="90" y="90"/>
                            </a:cubicBezTo>
                            <a:cubicBezTo>
                              <a:pt x="90" y="120"/>
                              <a:pt x="60" y="181"/>
                              <a:pt x="45" y="181"/>
                            </a:cubicBezTo>
                            <a:close/>
                          </a:path>
                        </a:pathLst>
                      </a:custGeom>
                      <a:noFill/>
                      <a:ln w="6480">
                        <a:solidFill>
                          <a:srgbClr val="cc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 rot="10800000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60" name="Freeform 576"/>
                      <p:cNvSpPr/>
                      <p:nvPr/>
                    </p:nvSpPr>
                    <p:spPr>
                      <a:xfrm rot="14436600">
                        <a:off x="5058720" y="5468760"/>
                        <a:ext cx="9720" cy="25200"/>
                      </a:xfrm>
                      <a:custGeom>
                        <a:avLst/>
                        <a:gdLst>
                          <a:gd name="textAreaLeft" fmla="*/ 0 w 9720"/>
                          <a:gd name="textAreaRight" fmla="*/ 10080 w 9720"/>
                          <a:gd name="textAreaTop" fmla="*/ 0 h 25200"/>
                          <a:gd name="textAreaBottom" fmla="*/ 25560 h 25200"/>
                        </a:gdLst>
                        <a:ahLst/>
                        <a:rect l="textAreaLeft" t="textAreaTop" r="textAreaRight" b="textAreaBottom"/>
                        <a:pathLst>
                          <a:path w="90" h="181">
                            <a:moveTo>
                              <a:pt x="45" y="181"/>
                            </a:moveTo>
                            <a:cubicBezTo>
                              <a:pt x="30" y="181"/>
                              <a:pt x="0" y="120"/>
                              <a:pt x="0" y="90"/>
                            </a:cubicBezTo>
                            <a:cubicBezTo>
                              <a:pt x="0" y="60"/>
                              <a:pt x="30" y="0"/>
                              <a:pt x="45" y="0"/>
                            </a:cubicBezTo>
                            <a:cubicBezTo>
                              <a:pt x="60" y="0"/>
                              <a:pt x="90" y="60"/>
                              <a:pt x="90" y="90"/>
                            </a:cubicBezTo>
                            <a:cubicBezTo>
                              <a:pt x="90" y="120"/>
                              <a:pt x="60" y="181"/>
                              <a:pt x="45" y="181"/>
                            </a:cubicBezTo>
                            <a:close/>
                          </a:path>
                        </a:pathLst>
                      </a:custGeom>
                      <a:noFill/>
                      <a:ln w="6480">
                        <a:solidFill>
                          <a:srgbClr val="cc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240" bIns="-212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61" name="Freeform 577"/>
                      <p:cNvSpPr/>
                      <p:nvPr/>
                    </p:nvSpPr>
                    <p:spPr>
                      <a:xfrm rot="15692400">
                        <a:off x="5057280" y="5465520"/>
                        <a:ext cx="10080" cy="24480"/>
                      </a:xfrm>
                      <a:custGeom>
                        <a:avLst/>
                        <a:gdLst>
                          <a:gd name="textAreaLeft" fmla="*/ 0 w 10080"/>
                          <a:gd name="textAreaRight" fmla="*/ 10440 w 10080"/>
                          <a:gd name="textAreaTop" fmla="*/ 0 h 24480"/>
                          <a:gd name="textAreaBottom" fmla="*/ 24840 h 24480"/>
                        </a:gdLst>
                        <a:ahLst/>
                        <a:rect l="textAreaLeft" t="textAreaTop" r="textAreaRight" b="textAreaBottom"/>
                        <a:pathLst>
                          <a:path w="90" h="181">
                            <a:moveTo>
                              <a:pt x="45" y="181"/>
                            </a:moveTo>
                            <a:cubicBezTo>
                              <a:pt x="30" y="181"/>
                              <a:pt x="0" y="120"/>
                              <a:pt x="0" y="90"/>
                            </a:cubicBezTo>
                            <a:cubicBezTo>
                              <a:pt x="0" y="60"/>
                              <a:pt x="30" y="0"/>
                              <a:pt x="45" y="0"/>
                            </a:cubicBezTo>
                            <a:cubicBezTo>
                              <a:pt x="60" y="0"/>
                              <a:pt x="90" y="60"/>
                              <a:pt x="90" y="90"/>
                            </a:cubicBezTo>
                            <a:cubicBezTo>
                              <a:pt x="90" y="120"/>
                              <a:pt x="60" y="181"/>
                              <a:pt x="45" y="181"/>
                            </a:cubicBezTo>
                            <a:close/>
                          </a:path>
                        </a:pathLst>
                      </a:custGeom>
                      <a:noFill/>
                      <a:ln w="6480">
                        <a:solidFill>
                          <a:srgbClr val="cc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960" bIns="-21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62" name="Freeform 578"/>
                      <p:cNvSpPr/>
                      <p:nvPr/>
                    </p:nvSpPr>
                    <p:spPr>
                      <a:xfrm flipH="1" rot="18252000">
                        <a:off x="5127840" y="5497200"/>
                        <a:ext cx="8280" cy="16560"/>
                      </a:xfrm>
                      <a:custGeom>
                        <a:avLst/>
                        <a:gdLst>
                          <a:gd name="textAreaLeft" fmla="*/ -360 w 8280"/>
                          <a:gd name="textAreaRight" fmla="*/ 8280 w 8280"/>
                          <a:gd name="textAreaTop" fmla="*/ 0 h 16560"/>
                          <a:gd name="textAreaBottom" fmla="*/ 16920 h 16560"/>
                        </a:gdLst>
                        <a:ahLst/>
                        <a:rect l="textAreaLeft" t="textAreaTop" r="textAreaRight" b="textAreaBottom"/>
                        <a:pathLst>
                          <a:path w="36" h="68">
                            <a:moveTo>
                              <a:pt x="9" y="0"/>
                            </a:moveTo>
                            <a:cubicBezTo>
                              <a:pt x="10" y="0"/>
                              <a:pt x="30" y="5"/>
                              <a:pt x="24" y="12"/>
                            </a:cubicBezTo>
                            <a:cubicBezTo>
                              <a:pt x="20" y="17"/>
                              <a:pt x="6" y="18"/>
                              <a:pt x="6" y="18"/>
                            </a:cubicBezTo>
                            <a:cubicBezTo>
                              <a:pt x="8" y="21"/>
                              <a:pt x="9" y="25"/>
                              <a:pt x="12" y="27"/>
                            </a:cubicBezTo>
                            <a:cubicBezTo>
                              <a:pt x="22" y="35"/>
                              <a:pt x="32" y="35"/>
                              <a:pt x="6" y="42"/>
                            </a:cubicBezTo>
                            <a:cubicBezTo>
                              <a:pt x="36" y="52"/>
                              <a:pt x="23" y="55"/>
                              <a:pt x="0" y="60"/>
                            </a:cubicBezTo>
                            <a:cubicBezTo>
                              <a:pt x="13" y="68"/>
                              <a:pt x="8" y="63"/>
                              <a:pt x="21" y="63"/>
                            </a:cubicBezTo>
                          </a:path>
                        </a:pathLst>
                      </a:custGeom>
                      <a:solidFill>
                        <a:srgbClr val="663366"/>
                      </a:solidFill>
                      <a:ln w="9360">
                        <a:solidFill>
                          <a:srgbClr val="6633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880" bIns="-29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63" name="Freeform 579"/>
                      <p:cNvSpPr/>
                      <p:nvPr/>
                    </p:nvSpPr>
                    <p:spPr>
                      <a:xfrm flipH="1" rot="18252000">
                        <a:off x="5124960" y="5501520"/>
                        <a:ext cx="8280" cy="16560"/>
                      </a:xfrm>
                      <a:custGeom>
                        <a:avLst/>
                        <a:gdLst>
                          <a:gd name="textAreaLeft" fmla="*/ -360 w 8280"/>
                          <a:gd name="textAreaRight" fmla="*/ 8280 w 8280"/>
                          <a:gd name="textAreaTop" fmla="*/ 0 h 16560"/>
                          <a:gd name="textAreaBottom" fmla="*/ 16920 h 16560"/>
                        </a:gdLst>
                        <a:ahLst/>
                        <a:rect l="textAreaLeft" t="textAreaTop" r="textAreaRight" b="textAreaBottom"/>
                        <a:pathLst>
                          <a:path w="36" h="68">
                            <a:moveTo>
                              <a:pt x="9" y="0"/>
                            </a:moveTo>
                            <a:cubicBezTo>
                              <a:pt x="10" y="0"/>
                              <a:pt x="30" y="5"/>
                              <a:pt x="24" y="12"/>
                            </a:cubicBezTo>
                            <a:cubicBezTo>
                              <a:pt x="20" y="17"/>
                              <a:pt x="6" y="18"/>
                              <a:pt x="6" y="18"/>
                            </a:cubicBezTo>
                            <a:cubicBezTo>
                              <a:pt x="8" y="21"/>
                              <a:pt x="9" y="25"/>
                              <a:pt x="12" y="27"/>
                            </a:cubicBezTo>
                            <a:cubicBezTo>
                              <a:pt x="22" y="35"/>
                              <a:pt x="32" y="35"/>
                              <a:pt x="6" y="42"/>
                            </a:cubicBezTo>
                            <a:cubicBezTo>
                              <a:pt x="36" y="52"/>
                              <a:pt x="23" y="55"/>
                              <a:pt x="0" y="60"/>
                            </a:cubicBezTo>
                            <a:cubicBezTo>
                              <a:pt x="13" y="68"/>
                              <a:pt x="8" y="63"/>
                              <a:pt x="21" y="63"/>
                            </a:cubicBezTo>
                          </a:path>
                        </a:pathLst>
                      </a:custGeom>
                      <a:solidFill>
                        <a:srgbClr val="663366"/>
                      </a:solidFill>
                      <a:ln w="9360">
                        <a:solidFill>
                          <a:srgbClr val="6633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880" bIns="-29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64" name="Oval 580"/>
                      <p:cNvSpPr/>
                      <p:nvPr/>
                    </p:nvSpPr>
                    <p:spPr>
                      <a:xfrm flipH="1" rot="18252000">
                        <a:off x="5141520" y="5506200"/>
                        <a:ext cx="5040" cy="11160"/>
                      </a:xfrm>
                      <a:prstGeom prst="ellipse">
                        <a:avLst/>
                      </a:prstGeom>
                      <a:solidFill>
                        <a:srgbClr val="663366"/>
                      </a:solidFill>
                      <a:ln w="9360">
                        <a:solidFill>
                          <a:srgbClr val="66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 anchorCtr="1" vert="eaVer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65" name="Oval 581"/>
                      <p:cNvSpPr/>
                      <p:nvPr/>
                    </p:nvSpPr>
                    <p:spPr>
                      <a:xfrm flipH="1" rot="18252000">
                        <a:off x="5138280" y="5510520"/>
                        <a:ext cx="5040" cy="11160"/>
                      </a:xfrm>
                      <a:prstGeom prst="ellipse">
                        <a:avLst/>
                      </a:prstGeom>
                      <a:solidFill>
                        <a:srgbClr val="663366"/>
                      </a:solidFill>
                      <a:ln w="9360">
                        <a:solidFill>
                          <a:srgbClr val="66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 anchorCtr="1" vert="eaVer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66" name="Oval 582"/>
                      <p:cNvSpPr/>
                      <p:nvPr/>
                    </p:nvSpPr>
                    <p:spPr>
                      <a:xfrm flipV="1" rot="18252000">
                        <a:off x="5303880" y="5606640"/>
                        <a:ext cx="42120" cy="5616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666699"/>
                          </a:gs>
                          <a:gs pos="100000">
                            <a:srgbClr val="424267"/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6480" bIns="-6480" anchor="t" anchorCtr="1" vert="eaVert" rot="10800000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67" name="AutoShape 583"/>
                      <p:cNvSpPr/>
                      <p:nvPr/>
                    </p:nvSpPr>
                    <p:spPr>
                      <a:xfrm flipH="1" flipV="1" rot="18252000">
                        <a:off x="5302800" y="5641200"/>
                        <a:ext cx="19440" cy="19080"/>
                      </a:xfrm>
                      <a:custGeom>
                        <a:avLst/>
                        <a:gdLst>
                          <a:gd name="textAreaLeft" fmla="*/ 11880 w 19440"/>
                          <a:gd name="textAreaRight" fmla="*/ 12600 w 19440"/>
                          <a:gd name="textAreaTop" fmla="*/ 720 h 19080"/>
                          <a:gd name="textAreaBottom" fmla="*/ 18360 h 1908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7719" y="2482"/>
                              <a:pt x="13837" y="5080"/>
                              <a:pt x="13837" y="10800"/>
                            </a:cubicBezTo>
                            <a:cubicBezTo>
                              <a:pt x="13837" y="16520"/>
                              <a:pt x="17719" y="19118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 anchorCtr="1" vert="eaVert" rot="10800000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68" name="AutoShape 584"/>
                      <p:cNvSpPr/>
                      <p:nvPr/>
                    </p:nvSpPr>
                    <p:spPr>
                      <a:xfrm flipV="1" rot="18252000">
                        <a:off x="5325840" y="5609880"/>
                        <a:ext cx="19440" cy="18720"/>
                      </a:xfrm>
                      <a:custGeom>
                        <a:avLst/>
                        <a:gdLst>
                          <a:gd name="textAreaLeft" fmla="*/ 11880 w 19440"/>
                          <a:gd name="textAreaRight" fmla="*/ 12600 w 19440"/>
                          <a:gd name="textAreaTop" fmla="*/ 720 h 18720"/>
                          <a:gd name="textAreaBottom" fmla="*/ 18000 h 1872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7719" y="2482"/>
                              <a:pt x="13837" y="5080"/>
                              <a:pt x="13837" y="10800"/>
                            </a:cubicBezTo>
                            <a:cubicBezTo>
                              <a:pt x="13837" y="16520"/>
                              <a:pt x="17719" y="19118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 anchorCtr="1" vert="eaVert" rot="10800000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69" name="Freeform 585"/>
                      <p:cNvSpPr/>
                      <p:nvPr/>
                    </p:nvSpPr>
                    <p:spPr>
                      <a:xfrm flipV="1" rot="1574400">
                        <a:off x="5333400" y="5653080"/>
                        <a:ext cx="10800" cy="23400"/>
                      </a:xfrm>
                      <a:custGeom>
                        <a:avLst/>
                        <a:gdLst>
                          <a:gd name="textAreaLeft" fmla="*/ 0 w 10800"/>
                          <a:gd name="textAreaRight" fmla="*/ 11160 w 10800"/>
                          <a:gd name="textAreaTop" fmla="*/ -360 h 23400"/>
                          <a:gd name="textAreaBottom" fmla="*/ 23400 h 23400"/>
                        </a:gdLst>
                        <a:ahLst/>
                        <a:rect l="textAreaLeft" t="textAreaTop" r="textAreaRight" b="textAreaBottom"/>
                        <a:pathLst>
                          <a:path w="90" h="181">
                            <a:moveTo>
                              <a:pt x="45" y="181"/>
                            </a:moveTo>
                            <a:cubicBezTo>
                              <a:pt x="30" y="181"/>
                              <a:pt x="0" y="120"/>
                              <a:pt x="0" y="90"/>
                            </a:cubicBezTo>
                            <a:cubicBezTo>
                              <a:pt x="0" y="60"/>
                              <a:pt x="30" y="0"/>
                              <a:pt x="45" y="0"/>
                            </a:cubicBezTo>
                            <a:cubicBezTo>
                              <a:pt x="60" y="0"/>
                              <a:pt x="90" y="60"/>
                              <a:pt x="90" y="90"/>
                            </a:cubicBezTo>
                            <a:cubicBezTo>
                              <a:pt x="90" y="120"/>
                              <a:pt x="60" y="181"/>
                              <a:pt x="45" y="181"/>
                            </a:cubicBezTo>
                            <a:close/>
                          </a:path>
                        </a:pathLst>
                      </a:custGeom>
                      <a:noFill/>
                      <a:ln w="6480">
                        <a:solidFill>
                          <a:srgbClr val="cc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 rot="10800000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0" name="Freeform 586"/>
                      <p:cNvSpPr/>
                      <p:nvPr/>
                    </p:nvSpPr>
                    <p:spPr>
                      <a:xfrm flipV="1" rot="468600">
                        <a:off x="5336640" y="5653440"/>
                        <a:ext cx="10440" cy="23040"/>
                      </a:xfrm>
                      <a:custGeom>
                        <a:avLst/>
                        <a:gdLst>
                          <a:gd name="textAreaLeft" fmla="*/ 0 w 10440"/>
                          <a:gd name="textAreaRight" fmla="*/ 10800 w 10440"/>
                          <a:gd name="textAreaTop" fmla="*/ 360 h 23040"/>
                          <a:gd name="textAreaBottom" fmla="*/ 23760 h 23040"/>
                        </a:gdLst>
                        <a:ahLst/>
                        <a:rect l="textAreaLeft" t="textAreaTop" r="textAreaRight" b="textAreaBottom"/>
                        <a:pathLst>
                          <a:path w="90" h="181">
                            <a:moveTo>
                              <a:pt x="45" y="181"/>
                            </a:moveTo>
                            <a:cubicBezTo>
                              <a:pt x="30" y="181"/>
                              <a:pt x="0" y="120"/>
                              <a:pt x="0" y="90"/>
                            </a:cubicBezTo>
                            <a:cubicBezTo>
                              <a:pt x="0" y="60"/>
                              <a:pt x="30" y="0"/>
                              <a:pt x="45" y="0"/>
                            </a:cubicBezTo>
                            <a:cubicBezTo>
                              <a:pt x="60" y="0"/>
                              <a:pt x="90" y="60"/>
                              <a:pt x="90" y="90"/>
                            </a:cubicBezTo>
                            <a:cubicBezTo>
                              <a:pt x="90" y="120"/>
                              <a:pt x="60" y="181"/>
                              <a:pt x="45" y="181"/>
                            </a:cubicBezTo>
                            <a:close/>
                          </a:path>
                        </a:pathLst>
                      </a:custGeom>
                      <a:noFill/>
                      <a:ln w="6480">
                        <a:solidFill>
                          <a:srgbClr val="cc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 rot="10800000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1" name="Freeform 587"/>
                      <p:cNvSpPr/>
                      <p:nvPr/>
                    </p:nvSpPr>
                    <p:spPr>
                      <a:xfrm flipV="1" rot="20812200">
                        <a:off x="5340600" y="5654160"/>
                        <a:ext cx="10800" cy="22680"/>
                      </a:xfrm>
                      <a:custGeom>
                        <a:avLst/>
                        <a:gdLst>
                          <a:gd name="textAreaLeft" fmla="*/ 0 w 10800"/>
                          <a:gd name="textAreaRight" fmla="*/ 11160 w 10800"/>
                          <a:gd name="textAreaTop" fmla="*/ -360 h 22680"/>
                          <a:gd name="textAreaBottom" fmla="*/ 22680 h 22680"/>
                        </a:gdLst>
                        <a:ahLst/>
                        <a:rect l="textAreaLeft" t="textAreaTop" r="textAreaRight" b="textAreaBottom"/>
                        <a:pathLst>
                          <a:path w="90" h="181">
                            <a:moveTo>
                              <a:pt x="45" y="181"/>
                            </a:moveTo>
                            <a:cubicBezTo>
                              <a:pt x="30" y="181"/>
                              <a:pt x="0" y="120"/>
                              <a:pt x="0" y="90"/>
                            </a:cubicBezTo>
                            <a:cubicBezTo>
                              <a:pt x="0" y="60"/>
                              <a:pt x="30" y="0"/>
                              <a:pt x="45" y="0"/>
                            </a:cubicBezTo>
                            <a:cubicBezTo>
                              <a:pt x="60" y="0"/>
                              <a:pt x="90" y="60"/>
                              <a:pt x="90" y="90"/>
                            </a:cubicBezTo>
                            <a:cubicBezTo>
                              <a:pt x="90" y="120"/>
                              <a:pt x="60" y="181"/>
                              <a:pt x="45" y="181"/>
                            </a:cubicBezTo>
                            <a:close/>
                          </a:path>
                        </a:pathLst>
                      </a:custGeom>
                      <a:noFill/>
                      <a:ln w="6480">
                        <a:solidFill>
                          <a:srgbClr val="cc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 rot="10800000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2" name="Freeform 588"/>
                      <p:cNvSpPr/>
                      <p:nvPr/>
                    </p:nvSpPr>
                    <p:spPr>
                      <a:xfrm flipH="1" flipV="1" rot="13330200">
                        <a:off x="5353920" y="5626080"/>
                        <a:ext cx="10080" cy="23040"/>
                      </a:xfrm>
                      <a:custGeom>
                        <a:avLst/>
                        <a:gdLst>
                          <a:gd name="textAreaLeft" fmla="*/ 360 w 10080"/>
                          <a:gd name="textAreaRight" fmla="*/ 10800 w 10080"/>
                          <a:gd name="textAreaTop" fmla="*/ 360 h 23040"/>
                          <a:gd name="textAreaBottom" fmla="*/ 23760 h 23040"/>
                        </a:gdLst>
                        <a:ahLst/>
                        <a:rect l="textAreaLeft" t="textAreaTop" r="textAreaRight" b="textAreaBottom"/>
                        <a:pathLst>
                          <a:path w="90" h="181">
                            <a:moveTo>
                              <a:pt x="45" y="181"/>
                            </a:moveTo>
                            <a:cubicBezTo>
                              <a:pt x="30" y="181"/>
                              <a:pt x="0" y="120"/>
                              <a:pt x="0" y="90"/>
                            </a:cubicBezTo>
                            <a:cubicBezTo>
                              <a:pt x="0" y="60"/>
                              <a:pt x="30" y="0"/>
                              <a:pt x="45" y="0"/>
                            </a:cubicBezTo>
                            <a:cubicBezTo>
                              <a:pt x="60" y="0"/>
                              <a:pt x="90" y="60"/>
                              <a:pt x="90" y="90"/>
                            </a:cubicBezTo>
                            <a:cubicBezTo>
                              <a:pt x="90" y="120"/>
                              <a:pt x="60" y="181"/>
                              <a:pt x="45" y="181"/>
                            </a:cubicBezTo>
                            <a:close/>
                          </a:path>
                        </a:pathLst>
                      </a:custGeom>
                      <a:noFill/>
                      <a:ln w="6480">
                        <a:solidFill>
                          <a:srgbClr val="cc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3" name="Freeform 589"/>
                      <p:cNvSpPr/>
                      <p:nvPr/>
                    </p:nvSpPr>
                    <p:spPr>
                      <a:xfrm flipH="1" flipV="1" rot="14436600">
                        <a:off x="5355000" y="5627520"/>
                        <a:ext cx="9720" cy="25200"/>
                      </a:xfrm>
                      <a:custGeom>
                        <a:avLst/>
                        <a:gdLst>
                          <a:gd name="textAreaLeft" fmla="*/ -360 w 9720"/>
                          <a:gd name="textAreaRight" fmla="*/ 9720 w 9720"/>
                          <a:gd name="textAreaTop" fmla="*/ 360 h 25200"/>
                          <a:gd name="textAreaBottom" fmla="*/ 25920 h 25200"/>
                        </a:gdLst>
                        <a:ahLst/>
                        <a:rect l="textAreaLeft" t="textAreaTop" r="textAreaRight" b="textAreaBottom"/>
                        <a:pathLst>
                          <a:path w="90" h="181">
                            <a:moveTo>
                              <a:pt x="45" y="181"/>
                            </a:moveTo>
                            <a:cubicBezTo>
                              <a:pt x="30" y="181"/>
                              <a:pt x="0" y="120"/>
                              <a:pt x="0" y="90"/>
                            </a:cubicBezTo>
                            <a:cubicBezTo>
                              <a:pt x="0" y="60"/>
                              <a:pt x="30" y="0"/>
                              <a:pt x="45" y="0"/>
                            </a:cubicBezTo>
                            <a:cubicBezTo>
                              <a:pt x="60" y="0"/>
                              <a:pt x="90" y="60"/>
                              <a:pt x="90" y="90"/>
                            </a:cubicBezTo>
                            <a:cubicBezTo>
                              <a:pt x="90" y="120"/>
                              <a:pt x="60" y="181"/>
                              <a:pt x="45" y="181"/>
                            </a:cubicBezTo>
                            <a:close/>
                          </a:path>
                        </a:pathLst>
                      </a:custGeom>
                      <a:noFill/>
                      <a:ln w="6480">
                        <a:solidFill>
                          <a:srgbClr val="cc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240" bIns="-21240" anchor="t" rot="10800000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4" name="Freeform 590"/>
                      <p:cNvSpPr/>
                      <p:nvPr/>
                    </p:nvSpPr>
                    <p:spPr>
                      <a:xfrm flipH="1" flipV="1" rot="15692400">
                        <a:off x="5356440" y="5631120"/>
                        <a:ext cx="9720" cy="24480"/>
                      </a:xfrm>
                      <a:custGeom>
                        <a:avLst/>
                        <a:gdLst>
                          <a:gd name="textAreaLeft" fmla="*/ -360 w 9720"/>
                          <a:gd name="textAreaRight" fmla="*/ 9720 w 9720"/>
                          <a:gd name="textAreaTop" fmla="*/ 360 h 24480"/>
                          <a:gd name="textAreaBottom" fmla="*/ 25200 h 24480"/>
                        </a:gdLst>
                        <a:ahLst/>
                        <a:rect l="textAreaLeft" t="textAreaTop" r="textAreaRight" b="textAreaBottom"/>
                        <a:pathLst>
                          <a:path w="90" h="181">
                            <a:moveTo>
                              <a:pt x="45" y="181"/>
                            </a:moveTo>
                            <a:cubicBezTo>
                              <a:pt x="30" y="181"/>
                              <a:pt x="0" y="120"/>
                              <a:pt x="0" y="90"/>
                            </a:cubicBezTo>
                            <a:cubicBezTo>
                              <a:pt x="0" y="60"/>
                              <a:pt x="30" y="0"/>
                              <a:pt x="45" y="0"/>
                            </a:cubicBezTo>
                            <a:cubicBezTo>
                              <a:pt x="60" y="0"/>
                              <a:pt x="90" y="60"/>
                              <a:pt x="90" y="90"/>
                            </a:cubicBezTo>
                            <a:cubicBezTo>
                              <a:pt x="90" y="120"/>
                              <a:pt x="60" y="181"/>
                              <a:pt x="45" y="181"/>
                            </a:cubicBezTo>
                            <a:close/>
                          </a:path>
                        </a:pathLst>
                      </a:custGeom>
                      <a:noFill/>
                      <a:ln w="6480">
                        <a:solidFill>
                          <a:srgbClr val="cc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960" bIns="-21960" anchor="t" rot="10800000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5" name="Freeform 591"/>
                      <p:cNvSpPr/>
                      <p:nvPr/>
                    </p:nvSpPr>
                    <p:spPr>
                      <a:xfrm flipV="1" rot="18252000">
                        <a:off x="5288400" y="5608440"/>
                        <a:ext cx="8640" cy="16560"/>
                      </a:xfrm>
                      <a:custGeom>
                        <a:avLst/>
                        <a:gdLst>
                          <a:gd name="textAreaLeft" fmla="*/ 0 w 8640"/>
                          <a:gd name="textAreaRight" fmla="*/ 9000 w 8640"/>
                          <a:gd name="textAreaTop" fmla="*/ 360 h 16560"/>
                          <a:gd name="textAreaBottom" fmla="*/ 17280 h 16560"/>
                        </a:gdLst>
                        <a:ahLst/>
                        <a:rect l="textAreaLeft" t="textAreaTop" r="textAreaRight" b="textAreaBottom"/>
                        <a:pathLst>
                          <a:path w="36" h="68">
                            <a:moveTo>
                              <a:pt x="9" y="0"/>
                            </a:moveTo>
                            <a:cubicBezTo>
                              <a:pt x="10" y="0"/>
                              <a:pt x="30" y="5"/>
                              <a:pt x="24" y="12"/>
                            </a:cubicBezTo>
                            <a:cubicBezTo>
                              <a:pt x="20" y="17"/>
                              <a:pt x="6" y="18"/>
                              <a:pt x="6" y="18"/>
                            </a:cubicBezTo>
                            <a:cubicBezTo>
                              <a:pt x="8" y="21"/>
                              <a:pt x="9" y="25"/>
                              <a:pt x="12" y="27"/>
                            </a:cubicBezTo>
                            <a:cubicBezTo>
                              <a:pt x="22" y="35"/>
                              <a:pt x="32" y="35"/>
                              <a:pt x="6" y="42"/>
                            </a:cubicBezTo>
                            <a:cubicBezTo>
                              <a:pt x="36" y="52"/>
                              <a:pt x="23" y="55"/>
                              <a:pt x="0" y="60"/>
                            </a:cubicBezTo>
                            <a:cubicBezTo>
                              <a:pt x="13" y="68"/>
                              <a:pt x="8" y="63"/>
                              <a:pt x="21" y="63"/>
                            </a:cubicBezTo>
                          </a:path>
                        </a:pathLst>
                      </a:custGeom>
                      <a:solidFill>
                        <a:srgbClr val="663366"/>
                      </a:solidFill>
                      <a:ln w="9360">
                        <a:solidFill>
                          <a:srgbClr val="6633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880" bIns="-29880" anchor="t" rot="10800000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6" name="Freeform 592"/>
                      <p:cNvSpPr/>
                      <p:nvPr/>
                    </p:nvSpPr>
                    <p:spPr>
                      <a:xfrm flipV="1" rot="18252000">
                        <a:off x="5292000" y="5603760"/>
                        <a:ext cx="8280" cy="16560"/>
                      </a:xfrm>
                      <a:custGeom>
                        <a:avLst/>
                        <a:gdLst>
                          <a:gd name="textAreaLeft" fmla="*/ 0 w 8280"/>
                          <a:gd name="textAreaRight" fmla="*/ 8640 w 8280"/>
                          <a:gd name="textAreaTop" fmla="*/ 360 h 16560"/>
                          <a:gd name="textAreaBottom" fmla="*/ 17280 h 16560"/>
                        </a:gdLst>
                        <a:ahLst/>
                        <a:rect l="textAreaLeft" t="textAreaTop" r="textAreaRight" b="textAreaBottom"/>
                        <a:pathLst>
                          <a:path w="36" h="68">
                            <a:moveTo>
                              <a:pt x="9" y="0"/>
                            </a:moveTo>
                            <a:cubicBezTo>
                              <a:pt x="10" y="0"/>
                              <a:pt x="30" y="5"/>
                              <a:pt x="24" y="12"/>
                            </a:cubicBezTo>
                            <a:cubicBezTo>
                              <a:pt x="20" y="17"/>
                              <a:pt x="6" y="18"/>
                              <a:pt x="6" y="18"/>
                            </a:cubicBezTo>
                            <a:cubicBezTo>
                              <a:pt x="8" y="21"/>
                              <a:pt x="9" y="25"/>
                              <a:pt x="12" y="27"/>
                            </a:cubicBezTo>
                            <a:cubicBezTo>
                              <a:pt x="22" y="35"/>
                              <a:pt x="32" y="35"/>
                              <a:pt x="6" y="42"/>
                            </a:cubicBezTo>
                            <a:cubicBezTo>
                              <a:pt x="36" y="52"/>
                              <a:pt x="23" y="55"/>
                              <a:pt x="0" y="60"/>
                            </a:cubicBezTo>
                            <a:cubicBezTo>
                              <a:pt x="13" y="68"/>
                              <a:pt x="8" y="63"/>
                              <a:pt x="21" y="63"/>
                            </a:cubicBezTo>
                          </a:path>
                        </a:pathLst>
                      </a:custGeom>
                      <a:solidFill>
                        <a:srgbClr val="663366"/>
                      </a:solidFill>
                      <a:ln w="9360">
                        <a:solidFill>
                          <a:srgbClr val="6633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880" bIns="-29880" anchor="t" rot="10800000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7" name="Oval 593"/>
                      <p:cNvSpPr/>
                      <p:nvPr/>
                    </p:nvSpPr>
                    <p:spPr>
                      <a:xfrm flipV="1" rot="18252000">
                        <a:off x="5277600" y="5603760"/>
                        <a:ext cx="5040" cy="11160"/>
                      </a:xfrm>
                      <a:prstGeom prst="ellipse">
                        <a:avLst/>
                      </a:prstGeom>
                      <a:solidFill>
                        <a:srgbClr val="663366"/>
                      </a:solidFill>
                      <a:ln w="9360">
                        <a:solidFill>
                          <a:srgbClr val="66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 anchorCtr="1" vert="eaVert" rot="10800000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8" name="Oval 594"/>
                      <p:cNvSpPr/>
                      <p:nvPr/>
                    </p:nvSpPr>
                    <p:spPr>
                      <a:xfrm flipV="1" rot="18252000">
                        <a:off x="5280120" y="5600160"/>
                        <a:ext cx="5040" cy="11160"/>
                      </a:xfrm>
                      <a:prstGeom prst="ellipse">
                        <a:avLst/>
                      </a:prstGeom>
                      <a:solidFill>
                        <a:srgbClr val="663366"/>
                      </a:solidFill>
                      <a:ln w="9360">
                        <a:solidFill>
                          <a:srgbClr val="66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 anchorCtr="1" vert="eaVert" rot="10800000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9" name="Oval 595"/>
                      <p:cNvSpPr/>
                      <p:nvPr/>
                    </p:nvSpPr>
                    <p:spPr>
                      <a:xfrm flipH="1" flipV="1" rot="3727800">
                        <a:off x="5068080" y="5583600"/>
                        <a:ext cx="41760" cy="5616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666699"/>
                          </a:gs>
                          <a:gs pos="100000">
                            <a:srgbClr val="424267"/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6480" bIns="-6480" anchor="t" anchorCtr="1" vert="eaVer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80" name="AutoShape 596"/>
                      <p:cNvSpPr/>
                      <p:nvPr/>
                    </p:nvSpPr>
                    <p:spPr>
                      <a:xfrm flipV="1" rot="3728400">
                        <a:off x="5089680" y="5618520"/>
                        <a:ext cx="19440" cy="19440"/>
                      </a:xfrm>
                      <a:custGeom>
                        <a:avLst/>
                        <a:gdLst>
                          <a:gd name="textAreaLeft" fmla="*/ 11880 w 19440"/>
                          <a:gd name="textAreaRight" fmla="*/ 12600 w 19440"/>
                          <a:gd name="textAreaTop" fmla="*/ 720 h 19440"/>
                          <a:gd name="textAreaBottom" fmla="*/ 18720 h 1944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7719" y="2482"/>
                              <a:pt x="13837" y="5080"/>
                              <a:pt x="13837" y="10800"/>
                            </a:cubicBezTo>
                            <a:cubicBezTo>
                              <a:pt x="13837" y="16520"/>
                              <a:pt x="17719" y="19118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0" bIns="-28800" anchor="t" anchorCtr="1" vert="eaVer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81" name="AutoShape 597"/>
                      <p:cNvSpPr/>
                      <p:nvPr/>
                    </p:nvSpPr>
                    <p:spPr>
                      <a:xfrm flipH="1" flipV="1" rot="3727800">
                        <a:off x="5069160" y="5585400"/>
                        <a:ext cx="19440" cy="19440"/>
                      </a:xfrm>
                      <a:custGeom>
                        <a:avLst/>
                        <a:gdLst>
                          <a:gd name="textAreaLeft" fmla="*/ 11880 w 19440"/>
                          <a:gd name="textAreaRight" fmla="*/ 12600 w 19440"/>
                          <a:gd name="textAreaTop" fmla="*/ 720 h 19440"/>
                          <a:gd name="textAreaBottom" fmla="*/ 18720 h 1944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7719" y="2482"/>
                              <a:pt x="13837" y="5080"/>
                              <a:pt x="13837" y="10800"/>
                            </a:cubicBezTo>
                            <a:cubicBezTo>
                              <a:pt x="13837" y="16520"/>
                              <a:pt x="17719" y="19118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0" bIns="-28800" anchor="t" anchorCtr="1" vert="eaVer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82" name="Freeform 598"/>
                      <p:cNvSpPr/>
                      <p:nvPr/>
                    </p:nvSpPr>
                    <p:spPr>
                      <a:xfrm flipH="1" flipV="1" rot="20406600">
                        <a:off x="5065920" y="5628600"/>
                        <a:ext cx="10800" cy="23400"/>
                      </a:xfrm>
                      <a:custGeom>
                        <a:avLst/>
                        <a:gdLst>
                          <a:gd name="textAreaLeft" fmla="*/ 360 w 10800"/>
                          <a:gd name="textAreaRight" fmla="*/ 11520 w 10800"/>
                          <a:gd name="textAreaTop" fmla="*/ -360 h 23400"/>
                          <a:gd name="textAreaBottom" fmla="*/ 23400 h 23400"/>
                        </a:gdLst>
                        <a:ahLst/>
                        <a:rect l="textAreaLeft" t="textAreaTop" r="textAreaRight" b="textAreaBottom"/>
                        <a:pathLst>
                          <a:path w="90" h="181">
                            <a:moveTo>
                              <a:pt x="45" y="181"/>
                            </a:moveTo>
                            <a:cubicBezTo>
                              <a:pt x="30" y="181"/>
                              <a:pt x="0" y="120"/>
                              <a:pt x="0" y="90"/>
                            </a:cubicBezTo>
                            <a:cubicBezTo>
                              <a:pt x="0" y="60"/>
                              <a:pt x="30" y="0"/>
                              <a:pt x="45" y="0"/>
                            </a:cubicBezTo>
                            <a:cubicBezTo>
                              <a:pt x="60" y="0"/>
                              <a:pt x="90" y="60"/>
                              <a:pt x="90" y="90"/>
                            </a:cubicBezTo>
                            <a:cubicBezTo>
                              <a:pt x="90" y="120"/>
                              <a:pt x="60" y="181"/>
                              <a:pt x="45" y="181"/>
                            </a:cubicBezTo>
                            <a:close/>
                          </a:path>
                        </a:pathLst>
                      </a:custGeom>
                      <a:noFill/>
                      <a:ln w="6480">
                        <a:solidFill>
                          <a:srgbClr val="cc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 rot="10800000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83" name="Freeform 599"/>
                      <p:cNvSpPr/>
                      <p:nvPr/>
                    </p:nvSpPr>
                    <p:spPr>
                      <a:xfrm flipH="1" flipV="1" rot="21512400">
                        <a:off x="5063400" y="5628600"/>
                        <a:ext cx="10800" cy="23040"/>
                      </a:xfrm>
                      <a:custGeom>
                        <a:avLst/>
                        <a:gdLst>
                          <a:gd name="textAreaLeft" fmla="*/ 360 w 10800"/>
                          <a:gd name="textAreaRight" fmla="*/ 11520 w 10800"/>
                          <a:gd name="textAreaTop" fmla="*/ 360 h 23040"/>
                          <a:gd name="textAreaBottom" fmla="*/ 23760 h 23040"/>
                        </a:gdLst>
                        <a:ahLst/>
                        <a:rect l="textAreaLeft" t="textAreaTop" r="textAreaRight" b="textAreaBottom"/>
                        <a:pathLst>
                          <a:path w="90" h="181">
                            <a:moveTo>
                              <a:pt x="45" y="181"/>
                            </a:moveTo>
                            <a:cubicBezTo>
                              <a:pt x="30" y="181"/>
                              <a:pt x="0" y="120"/>
                              <a:pt x="0" y="90"/>
                            </a:cubicBezTo>
                            <a:cubicBezTo>
                              <a:pt x="0" y="60"/>
                              <a:pt x="30" y="0"/>
                              <a:pt x="45" y="0"/>
                            </a:cubicBezTo>
                            <a:cubicBezTo>
                              <a:pt x="60" y="0"/>
                              <a:pt x="90" y="60"/>
                              <a:pt x="90" y="90"/>
                            </a:cubicBezTo>
                            <a:cubicBezTo>
                              <a:pt x="90" y="120"/>
                              <a:pt x="60" y="181"/>
                              <a:pt x="45" y="181"/>
                            </a:cubicBezTo>
                            <a:close/>
                          </a:path>
                        </a:pathLst>
                      </a:custGeom>
                      <a:noFill/>
                      <a:ln w="6480">
                        <a:solidFill>
                          <a:srgbClr val="cc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 rot="10800000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84" name="Freeform 600"/>
                      <p:cNvSpPr/>
                      <p:nvPr/>
                    </p:nvSpPr>
                    <p:spPr>
                      <a:xfrm flipH="1" flipV="1" rot="1168200">
                        <a:off x="5058720" y="5629320"/>
                        <a:ext cx="10800" cy="23040"/>
                      </a:xfrm>
                      <a:custGeom>
                        <a:avLst/>
                        <a:gdLst>
                          <a:gd name="textAreaLeft" fmla="*/ 360 w 10800"/>
                          <a:gd name="textAreaRight" fmla="*/ 11520 w 10800"/>
                          <a:gd name="textAreaTop" fmla="*/ 360 h 23040"/>
                          <a:gd name="textAreaBottom" fmla="*/ 23760 h 23040"/>
                        </a:gdLst>
                        <a:ahLst/>
                        <a:rect l="textAreaLeft" t="textAreaTop" r="textAreaRight" b="textAreaBottom"/>
                        <a:pathLst>
                          <a:path w="90" h="181">
                            <a:moveTo>
                              <a:pt x="45" y="181"/>
                            </a:moveTo>
                            <a:cubicBezTo>
                              <a:pt x="30" y="181"/>
                              <a:pt x="0" y="120"/>
                              <a:pt x="0" y="90"/>
                            </a:cubicBezTo>
                            <a:cubicBezTo>
                              <a:pt x="0" y="60"/>
                              <a:pt x="30" y="0"/>
                              <a:pt x="45" y="0"/>
                            </a:cubicBezTo>
                            <a:cubicBezTo>
                              <a:pt x="60" y="0"/>
                              <a:pt x="90" y="60"/>
                              <a:pt x="90" y="90"/>
                            </a:cubicBezTo>
                            <a:cubicBezTo>
                              <a:pt x="90" y="120"/>
                              <a:pt x="60" y="181"/>
                              <a:pt x="45" y="181"/>
                            </a:cubicBezTo>
                            <a:close/>
                          </a:path>
                        </a:pathLst>
                      </a:custGeom>
                      <a:noFill/>
                      <a:ln w="6480">
                        <a:solidFill>
                          <a:srgbClr val="cc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 rot="10800000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85" name="Freeform 601"/>
                      <p:cNvSpPr/>
                      <p:nvPr/>
                    </p:nvSpPr>
                    <p:spPr>
                      <a:xfrm flipV="1" rot="8649600">
                        <a:off x="5049360" y="5600160"/>
                        <a:ext cx="10800" cy="23040"/>
                      </a:xfrm>
                      <a:custGeom>
                        <a:avLst/>
                        <a:gdLst>
                          <a:gd name="textAreaLeft" fmla="*/ 0 w 10800"/>
                          <a:gd name="textAreaRight" fmla="*/ 11160 w 10800"/>
                          <a:gd name="textAreaTop" fmla="*/ 360 h 23040"/>
                          <a:gd name="textAreaBottom" fmla="*/ 23760 h 23040"/>
                        </a:gdLst>
                        <a:ahLst/>
                        <a:rect l="textAreaLeft" t="textAreaTop" r="textAreaRight" b="textAreaBottom"/>
                        <a:pathLst>
                          <a:path w="90" h="181">
                            <a:moveTo>
                              <a:pt x="45" y="181"/>
                            </a:moveTo>
                            <a:cubicBezTo>
                              <a:pt x="30" y="181"/>
                              <a:pt x="0" y="120"/>
                              <a:pt x="0" y="90"/>
                            </a:cubicBezTo>
                            <a:cubicBezTo>
                              <a:pt x="0" y="60"/>
                              <a:pt x="30" y="0"/>
                              <a:pt x="45" y="0"/>
                            </a:cubicBezTo>
                            <a:cubicBezTo>
                              <a:pt x="60" y="0"/>
                              <a:pt x="90" y="60"/>
                              <a:pt x="90" y="90"/>
                            </a:cubicBezTo>
                            <a:cubicBezTo>
                              <a:pt x="90" y="120"/>
                              <a:pt x="60" y="181"/>
                              <a:pt x="45" y="181"/>
                            </a:cubicBezTo>
                            <a:close/>
                          </a:path>
                        </a:pathLst>
                      </a:custGeom>
                      <a:noFill/>
                      <a:ln w="6480">
                        <a:solidFill>
                          <a:srgbClr val="cc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86" name="Freeform 602"/>
                      <p:cNvSpPr/>
                      <p:nvPr/>
                    </p:nvSpPr>
                    <p:spPr>
                      <a:xfrm flipV="1" rot="7544400">
                        <a:off x="5047560" y="5601240"/>
                        <a:ext cx="9720" cy="24840"/>
                      </a:xfrm>
                      <a:custGeom>
                        <a:avLst/>
                        <a:gdLst>
                          <a:gd name="textAreaLeft" fmla="*/ 0 w 9720"/>
                          <a:gd name="textAreaRight" fmla="*/ 10080 w 9720"/>
                          <a:gd name="textAreaTop" fmla="*/ -360 h 24840"/>
                          <a:gd name="textAreaBottom" fmla="*/ 24840 h 24840"/>
                        </a:gdLst>
                        <a:ahLst/>
                        <a:rect l="textAreaLeft" t="textAreaTop" r="textAreaRight" b="textAreaBottom"/>
                        <a:pathLst>
                          <a:path w="90" h="181">
                            <a:moveTo>
                              <a:pt x="45" y="181"/>
                            </a:moveTo>
                            <a:cubicBezTo>
                              <a:pt x="30" y="181"/>
                              <a:pt x="0" y="120"/>
                              <a:pt x="0" y="90"/>
                            </a:cubicBezTo>
                            <a:cubicBezTo>
                              <a:pt x="0" y="60"/>
                              <a:pt x="30" y="0"/>
                              <a:pt x="45" y="0"/>
                            </a:cubicBezTo>
                            <a:cubicBezTo>
                              <a:pt x="60" y="0"/>
                              <a:pt x="90" y="60"/>
                              <a:pt x="90" y="90"/>
                            </a:cubicBezTo>
                            <a:cubicBezTo>
                              <a:pt x="90" y="120"/>
                              <a:pt x="60" y="181"/>
                              <a:pt x="45" y="181"/>
                            </a:cubicBezTo>
                            <a:close/>
                          </a:path>
                        </a:pathLst>
                      </a:custGeom>
                      <a:noFill/>
                      <a:ln w="6480">
                        <a:solidFill>
                          <a:srgbClr val="cc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0" bIns="-21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87" name="Freeform 603"/>
                      <p:cNvSpPr/>
                      <p:nvPr/>
                    </p:nvSpPr>
                    <p:spPr>
                      <a:xfrm flipV="1" rot="6288000">
                        <a:off x="5045760" y="5605200"/>
                        <a:ext cx="9720" cy="24480"/>
                      </a:xfrm>
                      <a:custGeom>
                        <a:avLst/>
                        <a:gdLst>
                          <a:gd name="textAreaLeft" fmla="*/ 0 w 9720"/>
                          <a:gd name="textAreaRight" fmla="*/ 10080 w 9720"/>
                          <a:gd name="textAreaTop" fmla="*/ 360 h 24480"/>
                          <a:gd name="textAreaBottom" fmla="*/ 25200 h 24480"/>
                        </a:gdLst>
                        <a:ahLst/>
                        <a:rect l="textAreaLeft" t="textAreaTop" r="textAreaRight" b="textAreaBottom"/>
                        <a:pathLst>
                          <a:path w="90" h="181">
                            <a:moveTo>
                              <a:pt x="45" y="181"/>
                            </a:moveTo>
                            <a:cubicBezTo>
                              <a:pt x="30" y="181"/>
                              <a:pt x="0" y="120"/>
                              <a:pt x="0" y="90"/>
                            </a:cubicBezTo>
                            <a:cubicBezTo>
                              <a:pt x="0" y="60"/>
                              <a:pt x="30" y="0"/>
                              <a:pt x="45" y="0"/>
                            </a:cubicBezTo>
                            <a:cubicBezTo>
                              <a:pt x="60" y="0"/>
                              <a:pt x="90" y="60"/>
                              <a:pt x="90" y="90"/>
                            </a:cubicBezTo>
                            <a:cubicBezTo>
                              <a:pt x="90" y="120"/>
                              <a:pt x="60" y="181"/>
                              <a:pt x="45" y="181"/>
                            </a:cubicBezTo>
                            <a:close/>
                          </a:path>
                        </a:pathLst>
                      </a:custGeom>
                      <a:noFill/>
                      <a:ln w="6480">
                        <a:solidFill>
                          <a:srgbClr val="cc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960" bIns="-21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88" name="Freeform 604"/>
                      <p:cNvSpPr/>
                      <p:nvPr/>
                    </p:nvSpPr>
                    <p:spPr>
                      <a:xfrm flipH="1" flipV="1" rot="3727800">
                        <a:off x="5119560" y="5588280"/>
                        <a:ext cx="8280" cy="16920"/>
                      </a:xfrm>
                      <a:custGeom>
                        <a:avLst/>
                        <a:gdLst>
                          <a:gd name="textAreaLeft" fmla="*/ -360 w 8280"/>
                          <a:gd name="textAreaRight" fmla="*/ 8280 w 8280"/>
                          <a:gd name="textAreaTop" fmla="*/ -360 h 16920"/>
                          <a:gd name="textAreaBottom" fmla="*/ 16920 h 16920"/>
                        </a:gdLst>
                        <a:ahLst/>
                        <a:rect l="textAreaLeft" t="textAreaTop" r="textAreaRight" b="textAreaBottom"/>
                        <a:pathLst>
                          <a:path w="36" h="68">
                            <a:moveTo>
                              <a:pt x="9" y="0"/>
                            </a:moveTo>
                            <a:cubicBezTo>
                              <a:pt x="10" y="0"/>
                              <a:pt x="30" y="5"/>
                              <a:pt x="24" y="12"/>
                            </a:cubicBezTo>
                            <a:cubicBezTo>
                              <a:pt x="20" y="17"/>
                              <a:pt x="6" y="18"/>
                              <a:pt x="6" y="18"/>
                            </a:cubicBezTo>
                            <a:cubicBezTo>
                              <a:pt x="8" y="21"/>
                              <a:pt x="9" y="25"/>
                              <a:pt x="12" y="27"/>
                            </a:cubicBezTo>
                            <a:cubicBezTo>
                              <a:pt x="22" y="35"/>
                              <a:pt x="32" y="35"/>
                              <a:pt x="6" y="42"/>
                            </a:cubicBezTo>
                            <a:cubicBezTo>
                              <a:pt x="36" y="52"/>
                              <a:pt x="23" y="55"/>
                              <a:pt x="0" y="60"/>
                            </a:cubicBezTo>
                            <a:cubicBezTo>
                              <a:pt x="13" y="68"/>
                              <a:pt x="8" y="63"/>
                              <a:pt x="21" y="63"/>
                            </a:cubicBezTo>
                          </a:path>
                        </a:pathLst>
                      </a:custGeom>
                      <a:solidFill>
                        <a:srgbClr val="663366"/>
                      </a:solidFill>
                      <a:ln w="9360">
                        <a:solidFill>
                          <a:srgbClr val="6633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89" name="Freeform 605"/>
                      <p:cNvSpPr/>
                      <p:nvPr/>
                    </p:nvSpPr>
                    <p:spPr>
                      <a:xfrm flipH="1" flipV="1" rot="3727800">
                        <a:off x="5116680" y="5584680"/>
                        <a:ext cx="7560" cy="16560"/>
                      </a:xfrm>
                      <a:custGeom>
                        <a:avLst/>
                        <a:gdLst>
                          <a:gd name="textAreaLeft" fmla="*/ -360 w 7560"/>
                          <a:gd name="textAreaRight" fmla="*/ 7560 w 7560"/>
                          <a:gd name="textAreaTop" fmla="*/ 360 h 16560"/>
                          <a:gd name="textAreaBottom" fmla="*/ 17280 h 16560"/>
                        </a:gdLst>
                        <a:ahLst/>
                        <a:rect l="textAreaLeft" t="textAreaTop" r="textAreaRight" b="textAreaBottom"/>
                        <a:pathLst>
                          <a:path w="36" h="68">
                            <a:moveTo>
                              <a:pt x="9" y="0"/>
                            </a:moveTo>
                            <a:cubicBezTo>
                              <a:pt x="10" y="0"/>
                              <a:pt x="30" y="5"/>
                              <a:pt x="24" y="12"/>
                            </a:cubicBezTo>
                            <a:cubicBezTo>
                              <a:pt x="20" y="17"/>
                              <a:pt x="6" y="18"/>
                              <a:pt x="6" y="18"/>
                            </a:cubicBezTo>
                            <a:cubicBezTo>
                              <a:pt x="8" y="21"/>
                              <a:pt x="9" y="25"/>
                              <a:pt x="12" y="27"/>
                            </a:cubicBezTo>
                            <a:cubicBezTo>
                              <a:pt x="22" y="35"/>
                              <a:pt x="32" y="35"/>
                              <a:pt x="6" y="42"/>
                            </a:cubicBezTo>
                            <a:cubicBezTo>
                              <a:pt x="36" y="52"/>
                              <a:pt x="23" y="55"/>
                              <a:pt x="0" y="60"/>
                            </a:cubicBezTo>
                            <a:cubicBezTo>
                              <a:pt x="13" y="68"/>
                              <a:pt x="8" y="63"/>
                              <a:pt x="21" y="63"/>
                            </a:cubicBezTo>
                          </a:path>
                        </a:pathLst>
                      </a:custGeom>
                      <a:solidFill>
                        <a:srgbClr val="663366"/>
                      </a:solidFill>
                      <a:ln w="9360">
                        <a:solidFill>
                          <a:srgbClr val="6633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880" bIns="-29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0" name="Oval 606"/>
                      <p:cNvSpPr/>
                      <p:nvPr/>
                    </p:nvSpPr>
                    <p:spPr>
                      <a:xfrm flipH="1" flipV="1" rot="3727800">
                        <a:off x="5133960" y="5586840"/>
                        <a:ext cx="5040" cy="11520"/>
                      </a:xfrm>
                      <a:prstGeom prst="ellipse">
                        <a:avLst/>
                      </a:prstGeom>
                      <a:solidFill>
                        <a:srgbClr val="663366"/>
                      </a:solidFill>
                      <a:ln w="9360">
                        <a:solidFill>
                          <a:srgbClr val="66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 anchorCtr="1" vert="eaVer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1" name="Oval 607"/>
                      <p:cNvSpPr/>
                      <p:nvPr/>
                    </p:nvSpPr>
                    <p:spPr>
                      <a:xfrm flipH="1" flipV="1" rot="3727800">
                        <a:off x="5130720" y="5582160"/>
                        <a:ext cx="5400" cy="10800"/>
                      </a:xfrm>
                      <a:prstGeom prst="ellipse">
                        <a:avLst/>
                      </a:prstGeom>
                      <a:solidFill>
                        <a:srgbClr val="663366"/>
                      </a:solidFill>
                      <a:ln w="9360">
                        <a:solidFill>
                          <a:srgbClr val="66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 anchorCtr="1" vert="eaVer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2" name="AutoShape 608"/>
                      <p:cNvSpPr/>
                      <p:nvPr/>
                    </p:nvSpPr>
                    <p:spPr>
                      <a:xfrm flipH="1" flipV="1">
                        <a:off x="5350680" y="5649120"/>
                        <a:ext cx="20520" cy="18360"/>
                      </a:xfrm>
                      <a:custGeom>
                        <a:avLst/>
                        <a:gdLst>
                          <a:gd name="textAreaLeft" fmla="*/ 12240 w 20520"/>
                          <a:gd name="textAreaRight" fmla="*/ 12960 w 20520"/>
                          <a:gd name="textAreaTop" fmla="*/ 720 h 18360"/>
                          <a:gd name="textAreaBottom" fmla="*/ 17640 h 1836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7719" y="2482"/>
                              <a:pt x="13837" y="5080"/>
                              <a:pt x="13837" y="10800"/>
                            </a:cubicBezTo>
                            <a:cubicBezTo>
                              <a:pt x="13837" y="16520"/>
                              <a:pt x="17719" y="19118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9360">
                        <a:solidFill>
                          <a:srgbClr val="cc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880" bIns="-29880" anchor="ctr" rot="10800000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3" name="Freeform 609"/>
                      <p:cNvSpPr/>
                      <p:nvPr/>
                    </p:nvSpPr>
                    <p:spPr>
                      <a:xfrm rot="444000">
                        <a:off x="5178960" y="5508360"/>
                        <a:ext cx="71280" cy="115560"/>
                      </a:xfrm>
                      <a:custGeom>
                        <a:avLst/>
                        <a:gdLst>
                          <a:gd name="textAreaLeft" fmla="*/ 0 w 71280"/>
                          <a:gd name="textAreaRight" fmla="*/ 71640 w 71280"/>
                          <a:gd name="textAreaTop" fmla="*/ 0 h 115560"/>
                          <a:gd name="textAreaBottom" fmla="*/ 115920 h 115560"/>
                        </a:gdLst>
                        <a:ahLst/>
                        <a:rect l="textAreaLeft" t="textAreaTop" r="textAreaRight" b="textAreaBottom"/>
                        <a:pathLst>
                          <a:path w="196" h="430">
                            <a:moveTo>
                              <a:pt x="15" y="60"/>
                            </a:moveTo>
                            <a:cubicBezTo>
                              <a:pt x="30" y="0"/>
                              <a:pt x="76" y="7"/>
                              <a:pt x="106" y="14"/>
                            </a:cubicBezTo>
                            <a:cubicBezTo>
                              <a:pt x="136" y="21"/>
                              <a:pt x="196" y="45"/>
                              <a:pt x="196" y="105"/>
                            </a:cubicBezTo>
                            <a:cubicBezTo>
                              <a:pt x="196" y="165"/>
                              <a:pt x="136" y="332"/>
                              <a:pt x="106" y="377"/>
                            </a:cubicBezTo>
                            <a:cubicBezTo>
                              <a:pt x="76" y="422"/>
                              <a:pt x="30" y="430"/>
                              <a:pt x="15" y="377"/>
                            </a:cubicBezTo>
                            <a:cubicBezTo>
                              <a:pt x="0" y="324"/>
                              <a:pt x="0" y="120"/>
                              <a:pt x="15" y="60"/>
                            </a:cubicBezTo>
                            <a:close/>
                          </a:path>
                        </a:pathLst>
                      </a:custGeom>
                      <a:blipFill rotWithShape="0">
                        <a:blip r:embed="rId3"/>
                        <a:srcRect/>
                        <a:tile tx="0" ty="0" sx="100000" sy="100000" algn="ctr"/>
                      </a:blipFill>
                      <a:ln w="9360">
                        <a:solidFill>
                          <a:srgbClr val="6666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694" name="Oval 11"/>
                  <p:cNvSpPr/>
                  <p:nvPr/>
                </p:nvSpPr>
                <p:spPr>
                  <a:xfrm>
                    <a:off x="4294080" y="5667480"/>
                    <a:ext cx="822600" cy="822240"/>
                  </a:xfrm>
                  <a:prstGeom prst="ellipse">
                    <a:avLst/>
                  </a:prstGeom>
                  <a:solidFill>
                    <a:srgbClr val="f41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5" name="Line 2"/>
                <p:cNvSpPr/>
                <p:nvPr/>
              </p:nvSpPr>
              <p:spPr>
                <a:xfrm>
                  <a:off x="1258920" y="6068880"/>
                  <a:ext cx="2879640" cy="18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Text Box 622"/>
                <p:cNvSpPr/>
                <p:nvPr/>
              </p:nvSpPr>
              <p:spPr>
                <a:xfrm>
                  <a:off x="1258920" y="6172200"/>
                  <a:ext cx="2663640" cy="28548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400" spc="-1" strike="noStrike">
                      <a:solidFill>
                        <a:srgbClr val="ffffff"/>
                      </a:solidFill>
                      <a:latin typeface="Arial"/>
                    </a:rPr>
                    <a:t>activatio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7" name="Group 612"/>
                <p:cNvGrpSpPr/>
                <p:nvPr/>
              </p:nvGrpSpPr>
              <p:grpSpPr>
                <a:xfrm>
                  <a:off x="250920" y="5657760"/>
                  <a:ext cx="823680" cy="822240"/>
                  <a:chOff x="250920" y="5657760"/>
                  <a:chExt cx="823680" cy="822240"/>
                </a:xfrm>
              </p:grpSpPr>
              <p:sp>
                <p:nvSpPr>
                  <p:cNvPr id="698" name="Oval 3"/>
                  <p:cNvSpPr/>
                  <p:nvPr/>
                </p:nvSpPr>
                <p:spPr>
                  <a:xfrm>
                    <a:off x="250920" y="5657760"/>
                    <a:ext cx="823680" cy="822240"/>
                  </a:xfrm>
                  <a:prstGeom prst="ellipse">
                    <a:avLst/>
                  </a:prstGeom>
                  <a:solidFill>
                    <a:srgbClr val="a6a6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" name="Line 4"/>
                  <p:cNvSpPr/>
                  <p:nvPr/>
                </p:nvSpPr>
                <p:spPr>
                  <a:xfrm>
                    <a:off x="411120" y="6058800"/>
                    <a:ext cx="518760" cy="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0" name="Rectangle 5"/>
                  <p:cNvSpPr/>
                  <p:nvPr/>
                </p:nvSpPr>
                <p:spPr>
                  <a:xfrm>
                    <a:off x="541080" y="5994720"/>
                    <a:ext cx="227160" cy="127080"/>
                  </a:xfrm>
                  <a:prstGeom prst="rect">
                    <a:avLst/>
                  </a:prstGeom>
                  <a:solidFill>
                    <a:srgbClr val="f41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01" name="Text Box 1283"/>
              <p:cNvSpPr/>
              <p:nvPr/>
            </p:nvSpPr>
            <p:spPr>
              <a:xfrm>
                <a:off x="187560" y="5049720"/>
                <a:ext cx="37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800" spc="-1" strike="noStrike">
                    <a:solidFill>
                      <a:srgbClr val="000000"/>
                    </a:solidFill>
                    <a:latin typeface="Arial"/>
                  </a:rPr>
                  <a:t>3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2" name="Group 590"/>
            <p:cNvGrpSpPr/>
            <p:nvPr/>
          </p:nvGrpSpPr>
          <p:grpSpPr>
            <a:xfrm>
              <a:off x="4224240" y="5340240"/>
              <a:ext cx="138240" cy="414360"/>
              <a:chOff x="4224240" y="5340240"/>
              <a:chExt cx="138240" cy="414360"/>
            </a:xfrm>
          </p:grpSpPr>
          <p:sp>
            <p:nvSpPr>
              <p:cNvPr id="703" name="Line 588"/>
              <p:cNvSpPr/>
              <p:nvPr/>
            </p:nvSpPr>
            <p:spPr>
              <a:xfrm>
                <a:off x="4292640" y="5340240"/>
                <a:ext cx="0" cy="41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Line 589"/>
              <p:cNvSpPr/>
              <p:nvPr/>
            </p:nvSpPr>
            <p:spPr>
              <a:xfrm>
                <a:off x="4224240" y="5465520"/>
                <a:ext cx="138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5" name="Group 335"/>
          <p:cNvGrpSpPr/>
          <p:nvPr/>
        </p:nvGrpSpPr>
        <p:grpSpPr>
          <a:xfrm>
            <a:off x="1663200" y="5116680"/>
            <a:ext cx="6755040" cy="916920"/>
            <a:chOff x="1663200" y="5116680"/>
            <a:chExt cx="6755040" cy="916920"/>
          </a:xfrm>
        </p:grpSpPr>
        <p:sp>
          <p:nvSpPr>
            <p:cNvPr id="706" name="Text Box 622"/>
            <p:cNvSpPr/>
            <p:nvPr/>
          </p:nvSpPr>
          <p:spPr>
            <a:xfrm>
              <a:off x="1979640" y="5121360"/>
              <a:ext cx="1123920" cy="498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400" spc="-1" strike="noStrike">
                  <a:solidFill>
                    <a:srgbClr val="ffffff"/>
                  </a:solidFill>
                  <a:latin typeface="Arial"/>
                </a:rPr>
                <a:t>Negative regulator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7" name="Group 405"/>
            <p:cNvGrpSpPr/>
            <p:nvPr/>
          </p:nvGrpSpPr>
          <p:grpSpPr>
            <a:xfrm>
              <a:off x="1663200" y="5121360"/>
              <a:ext cx="358920" cy="857160"/>
              <a:chOff x="1663200" y="5121360"/>
              <a:chExt cx="358920" cy="857160"/>
            </a:xfrm>
          </p:grpSpPr>
          <p:sp>
            <p:nvSpPr>
              <p:cNvPr id="708" name="Line 2"/>
              <p:cNvSpPr/>
              <p:nvPr/>
            </p:nvSpPr>
            <p:spPr>
              <a:xfrm>
                <a:off x="1842840" y="5121360"/>
                <a:ext cx="0" cy="8571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Line 2"/>
              <p:cNvSpPr/>
              <p:nvPr/>
            </p:nvSpPr>
            <p:spPr>
              <a:xfrm flipH="1">
                <a:off x="1663200" y="5957640"/>
                <a:ext cx="3589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0" name="Text Box 326"/>
            <p:cNvSpPr/>
            <p:nvPr/>
          </p:nvSpPr>
          <p:spPr>
            <a:xfrm>
              <a:off x="5761080" y="5116680"/>
              <a:ext cx="2657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Negative regulators of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T-cell activ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"/>
                </a:rPr>
                <a:t>e.g., PD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Text Box 327"/>
          <p:cNvSpPr/>
          <p:nvPr/>
        </p:nvSpPr>
        <p:spPr>
          <a:xfrm>
            <a:off x="6316920" y="6529320"/>
            <a:ext cx="276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Smith et al., HIV/AIDS Rep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Text Box 2"/>
          <p:cNvSpPr/>
          <p:nvPr/>
        </p:nvSpPr>
        <p:spPr>
          <a:xfrm>
            <a:off x="4152960" y="6489720"/>
            <a:ext cx="49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Hatano et al., J Infect Dis 2012 Nov 12 (epub ahead of pri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Arial"/>
              </a:rPr>
              <a:t>Immune activation (including PD-1) is associated with HIV DNA on c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4" name="Group 4"/>
          <p:cNvGrpSpPr/>
          <p:nvPr/>
        </p:nvGrpSpPr>
        <p:grpSpPr>
          <a:xfrm>
            <a:off x="1862280" y="1484280"/>
            <a:ext cx="5518080" cy="4861080"/>
            <a:chOff x="1862280" y="1484280"/>
            <a:chExt cx="5518080" cy="4861080"/>
          </a:xfrm>
        </p:grpSpPr>
        <p:pic>
          <p:nvPicPr>
            <p:cNvPr id="715" name="Picture 5" descr=""/>
            <p:cNvPicPr/>
            <p:nvPr/>
          </p:nvPicPr>
          <p:blipFill>
            <a:blip r:embed="rId1"/>
            <a:stretch/>
          </p:blipFill>
          <p:spPr>
            <a:xfrm>
              <a:off x="1862280" y="1484280"/>
              <a:ext cx="5518080" cy="467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6" name="Rectangle 3"/>
            <p:cNvSpPr/>
            <p:nvPr/>
          </p:nvSpPr>
          <p:spPr>
            <a:xfrm>
              <a:off x="1862280" y="5846400"/>
              <a:ext cx="390600" cy="498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Picture 2" descr="ChapterPageTemplateRed"/>
          <p:cNvPicPr/>
          <p:nvPr/>
        </p:nvPicPr>
        <p:blipFill>
          <a:blip r:embed="rId1"/>
          <a:stretch/>
        </p:blipFill>
        <p:spPr>
          <a:xfrm>
            <a:off x="-31680" y="0"/>
            <a:ext cx="9175680" cy="6872400"/>
          </a:xfrm>
          <a:prstGeom prst="rect">
            <a:avLst/>
          </a:prstGeom>
          <a:ln w="0">
            <a:noFill/>
          </a:ln>
        </p:spPr>
      </p:pic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AU" sz="4800" spc="-1" strike="noStrike">
                <a:solidFill>
                  <a:srgbClr val="ffffff"/>
                </a:solidFill>
                <a:latin typeface="Arial"/>
              </a:rPr>
              <a:t>current </a:t>
            </a:r>
            <a:r>
              <a:rPr b="1" lang="en-AU" sz="7200" spc="-1" strike="noStrike">
                <a:solidFill>
                  <a:srgbClr val="ffffff"/>
                </a:solidFill>
                <a:latin typeface="Arial"/>
              </a:rPr>
              <a:t>strategies </a:t>
            </a:r>
            <a:r>
              <a:rPr b="1" lang="en-AU" sz="4800" spc="-1" strike="noStrike">
                <a:solidFill>
                  <a:srgbClr val="ffffff"/>
                </a:solidFill>
                <a:latin typeface="Arial"/>
              </a:rPr>
              <a:t>aimed at c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Strategies for c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8229600" cy="47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2027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Eliminate latently infected ce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2027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Eliminate residual virus re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2027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Enhance HIV-specific immun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2027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Make cells “resistant” to HI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Picture 2" descr="ChapterPageTemplateRed"/>
          <p:cNvPicPr/>
          <p:nvPr/>
        </p:nvPicPr>
        <p:blipFill>
          <a:blip r:embed="rId1"/>
          <a:stretch/>
        </p:blipFill>
        <p:spPr>
          <a:xfrm>
            <a:off x="-31680" y="0"/>
            <a:ext cx="9175680" cy="6872400"/>
          </a:xfrm>
          <a:prstGeom prst="rect">
            <a:avLst/>
          </a:prstGeom>
          <a:ln w="0">
            <a:noFill/>
          </a:ln>
        </p:spPr>
      </p:pic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AU" sz="4800" spc="-1" strike="noStrike">
                <a:solidFill>
                  <a:srgbClr val="ffffff"/>
                </a:solidFill>
                <a:latin typeface="Arial"/>
              </a:rPr>
              <a:t>eliminating </a:t>
            </a:r>
            <a:r>
              <a:rPr b="1" lang="en-AU" sz="7200" spc="-1" strike="noStrike">
                <a:solidFill>
                  <a:srgbClr val="ffffff"/>
                </a:solidFill>
                <a:latin typeface="Arial"/>
              </a:rPr>
              <a:t>latently infected</a:t>
            </a:r>
            <a:r>
              <a:rPr b="1" lang="en-AU" sz="4800" spc="-1" strike="noStrike">
                <a:solidFill>
                  <a:srgbClr val="ffffff"/>
                </a:solidFill>
                <a:latin typeface="Arial"/>
              </a:rPr>
              <a:t> cel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Activating latent HIV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4" name="Picture 3" descr=""/>
          <p:cNvPicPr/>
          <p:nvPr/>
        </p:nvPicPr>
        <p:blipFill>
          <a:blip r:embed="rId1"/>
          <a:srcRect l="37798" t="35078" r="0" b="13207"/>
          <a:stretch/>
        </p:blipFill>
        <p:spPr>
          <a:xfrm>
            <a:off x="250920" y="1606680"/>
            <a:ext cx="8507160" cy="4846680"/>
          </a:xfrm>
          <a:prstGeom prst="rect">
            <a:avLst/>
          </a:prstGeom>
          <a:ln w="0">
            <a:noFill/>
          </a:ln>
        </p:spPr>
      </p:pic>
      <p:sp>
        <p:nvSpPr>
          <p:cNvPr id="725" name="Text Box 4"/>
          <p:cNvSpPr/>
          <p:nvPr/>
        </p:nvSpPr>
        <p:spPr>
          <a:xfrm>
            <a:off x="6472080" y="6472080"/>
            <a:ext cx="25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The Economist, July 17,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Vorinostat (SAHA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8229600" cy="47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2027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an HDAC inhib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2027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ctivates HIV in multiple models of latent HIV infection in vit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2027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ingle dose in HIV-infected patients induced a significant increase in cell associated HIV RNA in resting memory CD4+ T-cells (n=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2027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Licensed for cutaneous T cell lympho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2027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hort term toxicities well describ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2027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Long term toxicities unknown (AMES posit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4"/>
          <p:cNvSpPr/>
          <p:nvPr/>
        </p:nvSpPr>
        <p:spPr>
          <a:xfrm>
            <a:off x="4680" y="6093000"/>
            <a:ext cx="9200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Contreras et al, </a:t>
            </a:r>
            <a:r>
              <a:rPr b="0" i="1" lang="en-AU" sz="1400" spc="-1" strike="noStrike">
                <a:solidFill>
                  <a:srgbClr val="000000"/>
                </a:solidFill>
                <a:latin typeface="Arial"/>
              </a:rPr>
              <a:t>J Biol Chem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2009; 284: 6782; Archin et al </a:t>
            </a:r>
            <a:r>
              <a:rPr b="0" i="1" lang="en-AU" sz="1400" spc="-1" strike="noStrike">
                <a:solidFill>
                  <a:srgbClr val="000000"/>
                </a:solidFill>
                <a:latin typeface="Arial"/>
              </a:rPr>
              <a:t>AIDS Res Hum Retroviruses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2009;25:207; Saleh et al.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400" spc="-1" strike="noStrike">
                <a:solidFill>
                  <a:srgbClr val="000000"/>
                </a:solidFill>
                <a:latin typeface="Arial"/>
              </a:rPr>
              <a:t>Retrovirology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2011;8:80; Wightman et al </a:t>
            </a:r>
            <a:r>
              <a:rPr b="0" i="1" lang="en-AU" sz="1400" spc="-1" strike="noStrike">
                <a:solidFill>
                  <a:srgbClr val="000000"/>
                </a:solidFill>
                <a:latin typeface="Arial"/>
              </a:rPr>
              <a:t>Immunol Cell Biol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2012 Jan;90(1):47-54; Prince et al. </a:t>
            </a:r>
            <a:r>
              <a:rPr b="0" i="1" lang="en-AU" sz="1400" spc="-1" strike="noStrike">
                <a:solidFill>
                  <a:srgbClr val="000000"/>
                </a:solidFill>
                <a:latin typeface="Arial"/>
              </a:rPr>
              <a:t>Clin Canc Res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2009;15:3958; Archin et al., </a:t>
            </a:r>
            <a:r>
              <a:rPr b="0" i="1" lang="en-AU" sz="1400" spc="-1" strike="noStrike">
                <a:solidFill>
                  <a:srgbClr val="000000"/>
                </a:solidFill>
                <a:latin typeface="Arial"/>
              </a:rPr>
              <a:t>Nature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2012: 487:48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Why we need a cure for HIV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86920" y="1450800"/>
            <a:ext cx="4737240" cy="47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cc2027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Life expectancy remains reduced and ongoing morbidity on c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4096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cc2027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For every 2 new patients who initiate cART there are 5 new inf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4096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cc2027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Funding lifelong cART for all who need it is unlikely to be sustain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cc2027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cc2027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cure cover_small"/>
          <p:cNvPicPr/>
          <p:nvPr/>
        </p:nvPicPr>
        <p:blipFill>
          <a:blip r:embed="rId1"/>
          <a:stretch/>
        </p:blipFill>
        <p:spPr>
          <a:xfrm>
            <a:off x="5194440" y="1557360"/>
            <a:ext cx="3673440" cy="4824360"/>
          </a:xfrm>
          <a:prstGeom prst="rect">
            <a:avLst/>
          </a:prstGeom>
          <a:ln w="38160">
            <a:solidFill>
              <a:srgbClr val="cc202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026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Will multiple doses of vorinostat work bet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4154400"/>
            <a:ext cx="8229600" cy="22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2027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MS PGothic"/>
              </a:rPr>
              <a:t>Primary end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cc2027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MS PGothic"/>
              </a:rPr>
              <a:t>Cell associated HIV RNA, total CD4 T-cells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MS PGothic"/>
              </a:rPr>
              <a:t> from blood and rectal tiss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2027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MS PGothic"/>
              </a:rPr>
              <a:t>Safety and tox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Relatively well tol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Grade I/II adverse events common – nausea, diarrhoea, letha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ll adverse events reversible on cessation of d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15"/>
          <p:cNvSpPr/>
          <p:nvPr/>
        </p:nvSpPr>
        <p:spPr>
          <a:xfrm>
            <a:off x="6494760" y="3336840"/>
            <a:ext cx="37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18"/>
          <p:cNvSpPr/>
          <p:nvPr/>
        </p:nvSpPr>
        <p:spPr>
          <a:xfrm>
            <a:off x="3576960" y="3355920"/>
            <a:ext cx="37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3"/>
          <p:cNvSpPr/>
          <p:nvPr/>
        </p:nvSpPr>
        <p:spPr>
          <a:xfrm>
            <a:off x="2914560" y="2297160"/>
            <a:ext cx="5581800" cy="576360"/>
          </a:xfrm>
          <a:prstGeom prst="rect">
            <a:avLst/>
          </a:prstGeom>
          <a:solidFill>
            <a:srgbClr val="f56c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c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4"/>
          <p:cNvSpPr/>
          <p:nvPr/>
        </p:nvSpPr>
        <p:spPr>
          <a:xfrm>
            <a:off x="3635280" y="2873520"/>
            <a:ext cx="3121200" cy="576000"/>
          </a:xfrm>
          <a:prstGeom prst="rect">
            <a:avLst/>
          </a:prstGeom>
          <a:solidFill>
            <a:srgbClr val="cc20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Vorinostat 400 mg/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13"/>
          <p:cNvSpPr/>
          <p:nvPr/>
        </p:nvSpPr>
        <p:spPr>
          <a:xfrm>
            <a:off x="3467520" y="1620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15"/>
          <p:cNvSpPr/>
          <p:nvPr/>
        </p:nvSpPr>
        <p:spPr>
          <a:xfrm>
            <a:off x="6518880" y="1620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17"/>
          <p:cNvSpPr/>
          <p:nvPr/>
        </p:nvSpPr>
        <p:spPr>
          <a:xfrm>
            <a:off x="8138160" y="1620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21"/>
          <p:cNvSpPr/>
          <p:nvPr/>
        </p:nvSpPr>
        <p:spPr>
          <a:xfrm>
            <a:off x="179640" y="1620720"/>
            <a:ext cx="69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=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26"/>
          <p:cNvSpPr/>
          <p:nvPr/>
        </p:nvSpPr>
        <p:spPr>
          <a:xfrm>
            <a:off x="636480" y="321624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Rectal biop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14"/>
          <p:cNvSpPr/>
          <p:nvPr/>
        </p:nvSpPr>
        <p:spPr>
          <a:xfrm>
            <a:off x="252720" y="3121200"/>
            <a:ext cx="37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16"/>
          <p:cNvSpPr/>
          <p:nvPr/>
        </p:nvSpPr>
        <p:spPr>
          <a:xfrm>
            <a:off x="2940480" y="162072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17"/>
          <p:cNvSpPr/>
          <p:nvPr/>
        </p:nvSpPr>
        <p:spPr>
          <a:xfrm>
            <a:off x="142920" y="2149560"/>
            <a:ext cx="2305080" cy="916920"/>
          </a:xfrm>
          <a:prstGeom prst="rect">
            <a:avLst/>
          </a:prstGeom>
          <a:solidFill>
            <a:srgbClr val="eca2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ART&gt;3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IV RNA&lt;50 c/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D4&gt;500 cells/</a:t>
            </a:r>
            <a:r>
              <a:rPr b="0" lang="en-AU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Line 6"/>
          <p:cNvSpPr/>
          <p:nvPr/>
        </p:nvSpPr>
        <p:spPr>
          <a:xfrm>
            <a:off x="3629160" y="1933560"/>
            <a:ext cx="0" cy="308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9"/>
          <p:cNvSpPr/>
          <p:nvPr/>
        </p:nvSpPr>
        <p:spPr>
          <a:xfrm>
            <a:off x="6765840" y="1933560"/>
            <a:ext cx="0" cy="308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11"/>
          <p:cNvSpPr/>
          <p:nvPr/>
        </p:nvSpPr>
        <p:spPr>
          <a:xfrm>
            <a:off x="8404200" y="1933560"/>
            <a:ext cx="0" cy="308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27"/>
          <p:cNvSpPr/>
          <p:nvPr/>
        </p:nvSpPr>
        <p:spPr>
          <a:xfrm>
            <a:off x="1781280" y="25606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28"/>
          <p:cNvSpPr/>
          <p:nvPr/>
        </p:nvSpPr>
        <p:spPr>
          <a:xfrm>
            <a:off x="2519280" y="2560680"/>
            <a:ext cx="358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67"/>
          <p:cNvSpPr/>
          <p:nvPr/>
        </p:nvSpPr>
        <p:spPr>
          <a:xfrm>
            <a:off x="69840" y="1521000"/>
            <a:ext cx="8931240" cy="2446200"/>
          </a:xfrm>
          <a:prstGeom prst="rect">
            <a:avLst/>
          </a:prstGeom>
          <a:noFill/>
          <a:ln w="38160">
            <a:solidFill>
              <a:srgbClr val="cc20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14"/>
          <p:cNvSpPr/>
          <p:nvPr/>
        </p:nvSpPr>
        <p:spPr>
          <a:xfrm>
            <a:off x="5150160" y="1620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18"/>
          <p:cNvSpPr/>
          <p:nvPr/>
        </p:nvSpPr>
        <p:spPr>
          <a:xfrm>
            <a:off x="3961080" y="1620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6"/>
          <p:cNvSpPr/>
          <p:nvPr/>
        </p:nvSpPr>
        <p:spPr>
          <a:xfrm>
            <a:off x="3816360" y="1933560"/>
            <a:ext cx="0" cy="308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7"/>
          <p:cNvSpPr/>
          <p:nvPr/>
        </p:nvSpPr>
        <p:spPr>
          <a:xfrm>
            <a:off x="4124160" y="1933560"/>
            <a:ext cx="0" cy="308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8"/>
          <p:cNvSpPr/>
          <p:nvPr/>
        </p:nvSpPr>
        <p:spPr>
          <a:xfrm>
            <a:off x="5313240" y="1933560"/>
            <a:ext cx="0" cy="308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18"/>
          <p:cNvSpPr/>
          <p:nvPr/>
        </p:nvSpPr>
        <p:spPr>
          <a:xfrm>
            <a:off x="4358160" y="1620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7"/>
          <p:cNvSpPr/>
          <p:nvPr/>
        </p:nvSpPr>
        <p:spPr>
          <a:xfrm>
            <a:off x="4521240" y="1933560"/>
            <a:ext cx="0" cy="308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6"/>
          <p:cNvSpPr/>
          <p:nvPr/>
        </p:nvSpPr>
        <p:spPr>
          <a:xfrm>
            <a:off x="3968640" y="1933560"/>
            <a:ext cx="0" cy="308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7" name="Picture 14" descr=""/>
          <p:cNvPicPr/>
          <p:nvPr/>
        </p:nvPicPr>
        <p:blipFill>
          <a:blip r:embed="rId1"/>
          <a:srcRect l="0" t="12803" r="27234" b="0"/>
          <a:stretch/>
        </p:blipFill>
        <p:spPr>
          <a:xfrm>
            <a:off x="1220760" y="1522440"/>
            <a:ext cx="6807240" cy="374652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Significant increase in cell associated HIV RNA on dru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TextBox 6"/>
          <p:cNvSpPr/>
          <p:nvPr/>
        </p:nvSpPr>
        <p:spPr>
          <a:xfrm>
            <a:off x="7436880" y="159228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0000"/>
                </a:solidFill>
                <a:latin typeface="Arial"/>
              </a:rPr>
              <a:t>*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Box 7"/>
          <p:cNvSpPr/>
          <p:nvPr/>
        </p:nvSpPr>
        <p:spPr>
          <a:xfrm>
            <a:off x="6716160" y="200664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0000"/>
                </a:solidFill>
                <a:latin typeface="Arial"/>
              </a:rPr>
              <a:t>*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Box 8"/>
          <p:cNvSpPr/>
          <p:nvPr/>
        </p:nvSpPr>
        <p:spPr>
          <a:xfrm>
            <a:off x="5455800" y="170028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0000"/>
                </a:solidFill>
                <a:latin typeface="Arial"/>
              </a:rPr>
              <a:t>*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Box 9"/>
          <p:cNvSpPr/>
          <p:nvPr/>
        </p:nvSpPr>
        <p:spPr>
          <a:xfrm>
            <a:off x="4092120" y="170028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0000"/>
                </a:solidFill>
                <a:latin typeface="Arial"/>
              </a:rPr>
              <a:t>*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Box 10"/>
          <p:cNvSpPr/>
          <p:nvPr/>
        </p:nvSpPr>
        <p:spPr>
          <a:xfrm>
            <a:off x="1322640" y="5297400"/>
            <a:ext cx="7169760" cy="8254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Mean (CI) fold increase in HIV RNA on vorinostat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2.57 (95% CI 1.02-3.12); p&lt;0.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Box 16"/>
          <p:cNvSpPr/>
          <p:nvPr/>
        </p:nvSpPr>
        <p:spPr>
          <a:xfrm>
            <a:off x="5822640" y="6289560"/>
            <a:ext cx="324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Wilcoxon sign rank comparisons to t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*  p&lt;0.05; ** p&lt;0.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Box 9"/>
          <p:cNvSpPr/>
          <p:nvPr/>
        </p:nvSpPr>
        <p:spPr>
          <a:xfrm>
            <a:off x="3439080" y="169380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Box 1"/>
          <p:cNvSpPr/>
          <p:nvPr/>
        </p:nvSpPr>
        <p:spPr>
          <a:xfrm>
            <a:off x="39960" y="6505560"/>
            <a:ext cx="168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Median+IQR, n=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Box 1"/>
          <p:cNvSpPr/>
          <p:nvPr/>
        </p:nvSpPr>
        <p:spPr>
          <a:xfrm>
            <a:off x="6882840" y="468936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Line 3"/>
          <p:cNvSpPr/>
          <p:nvPr/>
        </p:nvSpPr>
        <p:spPr>
          <a:xfrm>
            <a:off x="4160880" y="5245200"/>
            <a:ext cx="1260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Will latently infected T-cells die post activ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Oval 8"/>
          <p:cNvSpPr/>
          <p:nvPr/>
        </p:nvSpPr>
        <p:spPr>
          <a:xfrm>
            <a:off x="2973240" y="2004840"/>
            <a:ext cx="914400" cy="9144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Oval 9"/>
          <p:cNvSpPr/>
          <p:nvPr/>
        </p:nvSpPr>
        <p:spPr>
          <a:xfrm>
            <a:off x="5724360" y="2027160"/>
            <a:ext cx="914400" cy="914400"/>
          </a:xfrm>
          <a:prstGeom prst="ellipse">
            <a:avLst/>
          </a:prstGeom>
          <a:solidFill>
            <a:srgbClr val="f41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10"/>
          <p:cNvSpPr/>
          <p:nvPr/>
        </p:nvSpPr>
        <p:spPr>
          <a:xfrm>
            <a:off x="367560" y="2205000"/>
            <a:ext cx="2395080" cy="368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Activated CD4+ T-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3" name="Group 11"/>
          <p:cNvGrpSpPr/>
          <p:nvPr/>
        </p:nvGrpSpPr>
        <p:grpSpPr>
          <a:xfrm>
            <a:off x="394920" y="4799160"/>
            <a:ext cx="3414960" cy="914400"/>
            <a:chOff x="394920" y="4799160"/>
            <a:chExt cx="3414960" cy="914400"/>
          </a:xfrm>
        </p:grpSpPr>
        <p:sp>
          <p:nvSpPr>
            <p:cNvPr id="774" name="Oval 12"/>
            <p:cNvSpPr/>
            <p:nvPr/>
          </p:nvSpPr>
          <p:spPr>
            <a:xfrm>
              <a:off x="2895480" y="4799160"/>
              <a:ext cx="914400" cy="91440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Text Box 13"/>
            <p:cNvSpPr/>
            <p:nvPr/>
          </p:nvSpPr>
          <p:spPr>
            <a:xfrm>
              <a:off x="394920" y="5059440"/>
              <a:ext cx="2229120" cy="368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ffffff"/>
                  </a:solidFill>
                  <a:latin typeface="Arial"/>
                </a:rPr>
                <a:t>Resting CD4+ T-ce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6" name="Group 18"/>
          <p:cNvGrpSpPr/>
          <p:nvPr/>
        </p:nvGrpSpPr>
        <p:grpSpPr>
          <a:xfrm>
            <a:off x="7743960" y="1557360"/>
            <a:ext cx="1220760" cy="1496880"/>
            <a:chOff x="7743960" y="1557360"/>
            <a:chExt cx="1220760" cy="1496880"/>
          </a:xfrm>
        </p:grpSpPr>
        <p:sp>
          <p:nvSpPr>
            <p:cNvPr id="777" name="Oval 19"/>
            <p:cNvSpPr/>
            <p:nvPr/>
          </p:nvSpPr>
          <p:spPr>
            <a:xfrm>
              <a:off x="8050320" y="2139840"/>
              <a:ext cx="914400" cy="91440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8" name="Group 20"/>
            <p:cNvGrpSpPr/>
            <p:nvPr/>
          </p:nvGrpSpPr>
          <p:grpSpPr>
            <a:xfrm>
              <a:off x="7743960" y="1912680"/>
              <a:ext cx="478800" cy="427320"/>
              <a:chOff x="7743960" y="1912680"/>
              <a:chExt cx="478800" cy="427320"/>
            </a:xfrm>
          </p:grpSpPr>
          <p:sp>
            <p:nvSpPr>
              <p:cNvPr id="779" name="Line 21"/>
              <p:cNvSpPr/>
              <p:nvPr/>
            </p:nvSpPr>
            <p:spPr>
              <a:xfrm>
                <a:off x="7743960" y="1912680"/>
                <a:ext cx="428400" cy="358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Line 22"/>
              <p:cNvSpPr/>
              <p:nvPr/>
            </p:nvSpPr>
            <p:spPr>
              <a:xfrm flipH="1">
                <a:off x="8100720" y="2176200"/>
                <a:ext cx="122040" cy="163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1" name="Text Box 23"/>
            <p:cNvSpPr/>
            <p:nvPr/>
          </p:nvSpPr>
          <p:spPr>
            <a:xfrm>
              <a:off x="7899120" y="1557360"/>
              <a:ext cx="75240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ffffff"/>
                  </a:solidFill>
                  <a:latin typeface="Arial"/>
                </a:rPr>
                <a:t>c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2" name="Group 24"/>
          <p:cNvGrpSpPr/>
          <p:nvPr/>
        </p:nvGrpSpPr>
        <p:grpSpPr>
          <a:xfrm>
            <a:off x="6671160" y="1412280"/>
            <a:ext cx="1162080" cy="1342800"/>
            <a:chOff x="6671160" y="1412280"/>
            <a:chExt cx="1162080" cy="1342800"/>
          </a:xfrm>
        </p:grpSpPr>
        <p:grpSp>
          <p:nvGrpSpPr>
            <p:cNvPr id="783" name="Group 25"/>
            <p:cNvGrpSpPr/>
            <p:nvPr/>
          </p:nvGrpSpPr>
          <p:grpSpPr>
            <a:xfrm>
              <a:off x="7001280" y="2340720"/>
              <a:ext cx="398520" cy="414360"/>
              <a:chOff x="7001280" y="2340720"/>
              <a:chExt cx="398520" cy="414360"/>
            </a:xfrm>
          </p:grpSpPr>
          <p:sp>
            <p:nvSpPr>
              <p:cNvPr id="784" name="Oval 26"/>
              <p:cNvSpPr/>
              <p:nvPr/>
            </p:nvSpPr>
            <p:spPr>
              <a:xfrm flipV="1" rot="21360000">
                <a:off x="7178760" y="2665440"/>
                <a:ext cx="53640" cy="61920"/>
              </a:xfrm>
              <a:prstGeom prst="ellips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42426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AutoShape 27"/>
              <p:cNvSpPr/>
              <p:nvPr/>
            </p:nvSpPr>
            <p:spPr>
              <a:xfrm flipV="1" rot="21360000">
                <a:off x="7216200" y="2683440"/>
                <a:ext cx="24840" cy="21600"/>
              </a:xfrm>
              <a:custGeom>
                <a:avLst/>
                <a:gdLst>
                  <a:gd name="textAreaLeft" fmla="*/ 15120 w 24840"/>
                  <a:gd name="textAreaRight" fmla="*/ 15840 w 24840"/>
                  <a:gd name="textAreaTop" fmla="*/ 720 h 21600"/>
                  <a:gd name="textAreaBottom" fmla="*/ 20880 h 21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7719" y="2482"/>
                      <a:pt x="13837" y="5080"/>
                      <a:pt x="13837" y="10800"/>
                    </a:cubicBezTo>
                    <a:cubicBezTo>
                      <a:pt x="13837" y="16520"/>
                      <a:pt x="17719" y="1911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28"/>
              <p:cNvSpPr/>
              <p:nvPr/>
            </p:nvSpPr>
            <p:spPr>
              <a:xfrm flipV="1" rot="297000">
                <a:off x="7194240" y="2727360"/>
                <a:ext cx="12600" cy="2700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-360 h 27000"/>
                  <a:gd name="textAreaBottom" fmla="*/ 27000 h 27000"/>
                </a:gdLst>
                <a:ahLst/>
                <a:rect l="textAreaLeft" t="textAreaTop" r="textAreaRight" b="textAreaBottom"/>
                <a:pathLst>
                  <a:path w="90" h="181">
                    <a:moveTo>
                      <a:pt x="45" y="181"/>
                    </a:moveTo>
                    <a:cubicBezTo>
                      <a:pt x="30" y="181"/>
                      <a:pt x="0" y="120"/>
                      <a:pt x="0" y="90"/>
                    </a:cubicBezTo>
                    <a:cubicBezTo>
                      <a:pt x="0" y="60"/>
                      <a:pt x="30" y="0"/>
                      <a:pt x="45" y="0"/>
                    </a:cubicBezTo>
                    <a:cubicBezTo>
                      <a:pt x="60" y="0"/>
                      <a:pt x="90" y="60"/>
                      <a:pt x="90" y="90"/>
                    </a:cubicBezTo>
                    <a:cubicBezTo>
                      <a:pt x="90" y="120"/>
                      <a:pt x="60" y="181"/>
                      <a:pt x="45" y="181"/>
                    </a:cubicBezTo>
                    <a:close/>
                  </a:path>
                </a:pathLst>
              </a:custGeom>
              <a:noFill/>
              <a:ln w="64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29"/>
              <p:cNvSpPr/>
              <p:nvPr/>
            </p:nvSpPr>
            <p:spPr>
              <a:xfrm flipV="1" rot="20640600">
                <a:off x="7199280" y="2726280"/>
                <a:ext cx="12960" cy="2700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-360 h 27000"/>
                  <a:gd name="textAreaBottom" fmla="*/ 27000 h 27000"/>
                </a:gdLst>
                <a:ahLst/>
                <a:rect l="textAreaLeft" t="textAreaTop" r="textAreaRight" b="textAreaBottom"/>
                <a:pathLst>
                  <a:path w="90" h="181">
                    <a:moveTo>
                      <a:pt x="45" y="181"/>
                    </a:moveTo>
                    <a:cubicBezTo>
                      <a:pt x="30" y="181"/>
                      <a:pt x="0" y="120"/>
                      <a:pt x="0" y="90"/>
                    </a:cubicBezTo>
                    <a:cubicBezTo>
                      <a:pt x="0" y="60"/>
                      <a:pt x="30" y="0"/>
                      <a:pt x="45" y="0"/>
                    </a:cubicBezTo>
                    <a:cubicBezTo>
                      <a:pt x="60" y="0"/>
                      <a:pt x="90" y="60"/>
                      <a:pt x="90" y="90"/>
                    </a:cubicBezTo>
                    <a:cubicBezTo>
                      <a:pt x="90" y="120"/>
                      <a:pt x="60" y="181"/>
                      <a:pt x="45" y="181"/>
                    </a:cubicBezTo>
                    <a:close/>
                  </a:path>
                </a:pathLst>
              </a:custGeom>
              <a:noFill/>
              <a:ln w="64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30"/>
              <p:cNvSpPr/>
              <p:nvPr/>
            </p:nvSpPr>
            <p:spPr>
              <a:xfrm flipH="1" flipV="1" rot="16437600">
                <a:off x="7220880" y="2712600"/>
                <a:ext cx="11520" cy="29520"/>
              </a:xfrm>
              <a:custGeom>
                <a:avLst/>
                <a:gdLst>
                  <a:gd name="textAreaLeft" fmla="*/ 360 w 11520"/>
                  <a:gd name="textAreaRight" fmla="*/ 12240 w 11520"/>
                  <a:gd name="textAreaTop" fmla="*/ 360 h 29520"/>
                  <a:gd name="textAreaBottom" fmla="*/ 30240 h 29520"/>
                </a:gdLst>
                <a:ahLst/>
                <a:rect l="textAreaLeft" t="textAreaTop" r="textAreaRight" b="textAreaBottom"/>
                <a:pathLst>
                  <a:path w="90" h="181">
                    <a:moveTo>
                      <a:pt x="45" y="181"/>
                    </a:moveTo>
                    <a:cubicBezTo>
                      <a:pt x="30" y="181"/>
                      <a:pt x="0" y="120"/>
                      <a:pt x="0" y="90"/>
                    </a:cubicBezTo>
                    <a:cubicBezTo>
                      <a:pt x="0" y="60"/>
                      <a:pt x="30" y="0"/>
                      <a:pt x="45" y="0"/>
                    </a:cubicBezTo>
                    <a:cubicBezTo>
                      <a:pt x="60" y="0"/>
                      <a:pt x="90" y="60"/>
                      <a:pt x="90" y="90"/>
                    </a:cubicBezTo>
                    <a:cubicBezTo>
                      <a:pt x="90" y="120"/>
                      <a:pt x="60" y="181"/>
                      <a:pt x="45" y="181"/>
                    </a:cubicBezTo>
                    <a:close/>
                  </a:path>
                </a:pathLst>
              </a:custGeom>
              <a:noFill/>
              <a:ln w="64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31"/>
              <p:cNvSpPr/>
              <p:nvPr/>
            </p:nvSpPr>
            <p:spPr>
              <a:xfrm flipH="1" flipV="1" rot="17543400">
                <a:off x="7220520" y="2715840"/>
                <a:ext cx="11520" cy="29520"/>
              </a:xfrm>
              <a:custGeom>
                <a:avLst/>
                <a:gdLst>
                  <a:gd name="textAreaLeft" fmla="*/ 360 w 11520"/>
                  <a:gd name="textAreaRight" fmla="*/ 12240 w 11520"/>
                  <a:gd name="textAreaTop" fmla="*/ 360 h 29520"/>
                  <a:gd name="textAreaBottom" fmla="*/ 30240 h 29520"/>
                </a:gdLst>
                <a:ahLst/>
                <a:rect l="textAreaLeft" t="textAreaTop" r="textAreaRight" b="textAreaBottom"/>
                <a:pathLst>
                  <a:path w="90" h="181">
                    <a:moveTo>
                      <a:pt x="45" y="181"/>
                    </a:moveTo>
                    <a:cubicBezTo>
                      <a:pt x="30" y="181"/>
                      <a:pt x="0" y="120"/>
                      <a:pt x="0" y="90"/>
                    </a:cubicBezTo>
                    <a:cubicBezTo>
                      <a:pt x="0" y="60"/>
                      <a:pt x="30" y="0"/>
                      <a:pt x="45" y="0"/>
                    </a:cubicBezTo>
                    <a:cubicBezTo>
                      <a:pt x="60" y="0"/>
                      <a:pt x="90" y="60"/>
                      <a:pt x="90" y="90"/>
                    </a:cubicBezTo>
                    <a:cubicBezTo>
                      <a:pt x="90" y="120"/>
                      <a:pt x="60" y="181"/>
                      <a:pt x="45" y="181"/>
                    </a:cubicBezTo>
                    <a:close/>
                  </a:path>
                </a:pathLst>
              </a:custGeom>
              <a:noFill/>
              <a:ln w="64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32"/>
              <p:cNvSpPr/>
              <p:nvPr/>
            </p:nvSpPr>
            <p:spPr>
              <a:xfrm flipH="1" flipV="1" rot="18799800">
                <a:off x="7217640" y="2720520"/>
                <a:ext cx="11520" cy="29520"/>
              </a:xfrm>
              <a:custGeom>
                <a:avLst/>
                <a:gdLst>
                  <a:gd name="textAreaLeft" fmla="*/ 360 w 11520"/>
                  <a:gd name="textAreaRight" fmla="*/ 12240 w 11520"/>
                  <a:gd name="textAreaTop" fmla="*/ 360 h 29520"/>
                  <a:gd name="textAreaBottom" fmla="*/ 30240 h 29520"/>
                </a:gdLst>
                <a:ahLst/>
                <a:rect l="textAreaLeft" t="textAreaTop" r="textAreaRight" b="textAreaBottom"/>
                <a:pathLst>
                  <a:path w="90" h="181">
                    <a:moveTo>
                      <a:pt x="45" y="181"/>
                    </a:moveTo>
                    <a:cubicBezTo>
                      <a:pt x="30" y="181"/>
                      <a:pt x="0" y="120"/>
                      <a:pt x="0" y="90"/>
                    </a:cubicBezTo>
                    <a:cubicBezTo>
                      <a:pt x="0" y="60"/>
                      <a:pt x="30" y="0"/>
                      <a:pt x="45" y="0"/>
                    </a:cubicBezTo>
                    <a:cubicBezTo>
                      <a:pt x="60" y="0"/>
                      <a:pt x="90" y="60"/>
                      <a:pt x="90" y="90"/>
                    </a:cubicBezTo>
                    <a:cubicBezTo>
                      <a:pt x="90" y="120"/>
                      <a:pt x="60" y="181"/>
                      <a:pt x="45" y="181"/>
                    </a:cubicBezTo>
                    <a:close/>
                  </a:path>
                </a:pathLst>
              </a:custGeom>
              <a:noFill/>
              <a:ln w="64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Freeform 33"/>
              <p:cNvSpPr/>
              <p:nvPr/>
            </p:nvSpPr>
            <p:spPr>
              <a:xfrm flipV="1" rot="21360000">
                <a:off x="7194960" y="2646360"/>
                <a:ext cx="10440" cy="1800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360 h 18000"/>
                  <a:gd name="textAreaBottom" fmla="*/ 18720 h 18000"/>
                </a:gdLst>
                <a:ahLst/>
                <a:rect l="textAreaLeft" t="textAreaTop" r="textAreaRight" b="textAreaBottom"/>
                <a:pathLst>
                  <a:path w="36" h="68">
                    <a:moveTo>
                      <a:pt x="9" y="0"/>
                    </a:moveTo>
                    <a:cubicBezTo>
                      <a:pt x="10" y="0"/>
                      <a:pt x="30" y="5"/>
                      <a:pt x="24" y="12"/>
                    </a:cubicBezTo>
                    <a:cubicBezTo>
                      <a:pt x="20" y="17"/>
                      <a:pt x="6" y="18"/>
                      <a:pt x="6" y="18"/>
                    </a:cubicBezTo>
                    <a:cubicBezTo>
                      <a:pt x="8" y="21"/>
                      <a:pt x="9" y="25"/>
                      <a:pt x="12" y="27"/>
                    </a:cubicBezTo>
                    <a:cubicBezTo>
                      <a:pt x="22" y="35"/>
                      <a:pt x="32" y="35"/>
                      <a:pt x="6" y="42"/>
                    </a:cubicBezTo>
                    <a:cubicBezTo>
                      <a:pt x="36" y="52"/>
                      <a:pt x="23" y="55"/>
                      <a:pt x="0" y="60"/>
                    </a:cubicBezTo>
                    <a:cubicBezTo>
                      <a:pt x="13" y="68"/>
                      <a:pt x="8" y="63"/>
                      <a:pt x="21" y="63"/>
                    </a:cubicBezTo>
                  </a:path>
                </a:pathLst>
              </a:custGeom>
              <a:noFill/>
              <a:ln w="9360">
                <a:solidFill>
                  <a:srgbClr val="66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Freeform 34"/>
              <p:cNvSpPr/>
              <p:nvPr/>
            </p:nvSpPr>
            <p:spPr>
              <a:xfrm flipV="1" rot="21360000">
                <a:off x="7201440" y="2644560"/>
                <a:ext cx="10440" cy="1836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-360 h 18360"/>
                  <a:gd name="textAreaBottom" fmla="*/ 18360 h 18360"/>
                </a:gdLst>
                <a:ahLst/>
                <a:rect l="textAreaLeft" t="textAreaTop" r="textAreaRight" b="textAreaBottom"/>
                <a:pathLst>
                  <a:path w="36" h="68">
                    <a:moveTo>
                      <a:pt x="9" y="0"/>
                    </a:moveTo>
                    <a:cubicBezTo>
                      <a:pt x="10" y="0"/>
                      <a:pt x="30" y="5"/>
                      <a:pt x="24" y="12"/>
                    </a:cubicBezTo>
                    <a:cubicBezTo>
                      <a:pt x="20" y="17"/>
                      <a:pt x="6" y="18"/>
                      <a:pt x="6" y="18"/>
                    </a:cubicBezTo>
                    <a:cubicBezTo>
                      <a:pt x="8" y="21"/>
                      <a:pt x="9" y="25"/>
                      <a:pt x="12" y="27"/>
                    </a:cubicBezTo>
                    <a:cubicBezTo>
                      <a:pt x="22" y="35"/>
                      <a:pt x="32" y="35"/>
                      <a:pt x="6" y="42"/>
                    </a:cubicBezTo>
                    <a:cubicBezTo>
                      <a:pt x="36" y="52"/>
                      <a:pt x="23" y="55"/>
                      <a:pt x="0" y="60"/>
                    </a:cubicBezTo>
                    <a:cubicBezTo>
                      <a:pt x="13" y="68"/>
                      <a:pt x="8" y="63"/>
                      <a:pt x="21" y="63"/>
                    </a:cubicBezTo>
                  </a:path>
                </a:pathLst>
              </a:custGeom>
              <a:noFill/>
              <a:ln w="9360">
                <a:solidFill>
                  <a:srgbClr val="66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Oval 35"/>
              <p:cNvSpPr/>
              <p:nvPr/>
            </p:nvSpPr>
            <p:spPr>
              <a:xfrm flipV="1" rot="21360000">
                <a:off x="7194600" y="2633040"/>
                <a:ext cx="6120" cy="12240"/>
              </a:xfrm>
              <a:prstGeom prst="ellipse">
                <a:avLst/>
              </a:prstGeom>
              <a:solidFill>
                <a:srgbClr val="663366"/>
              </a:solidFill>
              <a:ln w="9360">
                <a:solidFill>
                  <a:srgbClr val="66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Oval 36"/>
              <p:cNvSpPr/>
              <p:nvPr/>
            </p:nvSpPr>
            <p:spPr>
              <a:xfrm flipV="1" rot="21360000">
                <a:off x="7200720" y="2632320"/>
                <a:ext cx="6840" cy="12240"/>
              </a:xfrm>
              <a:prstGeom prst="ellipse">
                <a:avLst/>
              </a:prstGeom>
              <a:solidFill>
                <a:srgbClr val="663366"/>
              </a:solidFill>
              <a:ln w="9360">
                <a:solidFill>
                  <a:srgbClr val="66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37"/>
              <p:cNvSpPr/>
              <p:nvPr/>
            </p:nvSpPr>
            <p:spPr>
              <a:xfrm flipV="1" rot="1402800">
                <a:off x="7190640" y="2725560"/>
                <a:ext cx="12960" cy="2700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-360 h 27000"/>
                  <a:gd name="textAreaBottom" fmla="*/ 27000 h 27000"/>
                </a:gdLst>
                <a:ahLst/>
                <a:rect l="textAreaLeft" t="textAreaTop" r="textAreaRight" b="textAreaBottom"/>
                <a:pathLst>
                  <a:path w="90" h="181">
                    <a:moveTo>
                      <a:pt x="45" y="181"/>
                    </a:moveTo>
                    <a:cubicBezTo>
                      <a:pt x="30" y="181"/>
                      <a:pt x="0" y="120"/>
                      <a:pt x="0" y="90"/>
                    </a:cubicBezTo>
                    <a:cubicBezTo>
                      <a:pt x="0" y="60"/>
                      <a:pt x="30" y="0"/>
                      <a:pt x="45" y="0"/>
                    </a:cubicBezTo>
                    <a:cubicBezTo>
                      <a:pt x="60" y="0"/>
                      <a:pt x="90" y="60"/>
                      <a:pt x="90" y="90"/>
                    </a:cubicBezTo>
                    <a:cubicBezTo>
                      <a:pt x="90" y="120"/>
                      <a:pt x="60" y="181"/>
                      <a:pt x="45" y="181"/>
                    </a:cubicBezTo>
                    <a:close/>
                  </a:path>
                </a:pathLst>
              </a:custGeom>
              <a:noFill/>
              <a:ln w="64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Oval 38"/>
              <p:cNvSpPr/>
              <p:nvPr/>
            </p:nvSpPr>
            <p:spPr>
              <a:xfrm rot="720000">
                <a:off x="7174080" y="2688480"/>
                <a:ext cx="19800" cy="18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7" name="Group 39"/>
              <p:cNvGrpSpPr/>
              <p:nvPr/>
            </p:nvGrpSpPr>
            <p:grpSpPr>
              <a:xfrm>
                <a:off x="7001280" y="2340720"/>
                <a:ext cx="398520" cy="341280"/>
                <a:chOff x="7001280" y="2340720"/>
                <a:chExt cx="398520" cy="341280"/>
              </a:xfrm>
            </p:grpSpPr>
            <p:sp>
              <p:nvSpPr>
                <p:cNvPr id="798" name="Oval 40"/>
                <p:cNvSpPr/>
                <p:nvPr/>
              </p:nvSpPr>
              <p:spPr>
                <a:xfrm>
                  <a:off x="7081560" y="2426040"/>
                  <a:ext cx="254160" cy="236880"/>
                </a:xfrm>
                <a:prstGeom prst="ellipse">
                  <a:avLst/>
                </a:prstGeom>
                <a:solidFill>
                  <a:srgbClr val="666699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Oval 41"/>
                <p:cNvSpPr/>
                <p:nvPr/>
              </p:nvSpPr>
              <p:spPr>
                <a:xfrm>
                  <a:off x="7102800" y="2445840"/>
                  <a:ext cx="212040" cy="197280"/>
                </a:xfrm>
                <a:prstGeom prst="ellipse">
                  <a:avLst/>
                </a:prstGeom>
                <a:solidFill>
                  <a:srgbClr val="66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Oval 42"/>
                <p:cNvSpPr/>
                <p:nvPr/>
              </p:nvSpPr>
              <p:spPr>
                <a:xfrm>
                  <a:off x="7181280" y="2364120"/>
                  <a:ext cx="53280" cy="6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424267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AutoShape 43"/>
                <p:cNvSpPr/>
                <p:nvPr/>
              </p:nvSpPr>
              <p:spPr>
                <a:xfrm flipH="1">
                  <a:off x="7171560" y="2384640"/>
                  <a:ext cx="24480" cy="21600"/>
                </a:xfrm>
                <a:custGeom>
                  <a:avLst/>
                  <a:gdLst>
                    <a:gd name="textAreaLeft" fmla="*/ 15120 w 24480"/>
                    <a:gd name="textAreaRight" fmla="*/ 15840 w 24480"/>
                    <a:gd name="textAreaTop" fmla="*/ 720 h 21600"/>
                    <a:gd name="textAreaBottom" fmla="*/ 20880 h 21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7719" y="2482"/>
                        <a:pt x="13837" y="5080"/>
                        <a:pt x="13837" y="10800"/>
                      </a:cubicBezTo>
                      <a:cubicBezTo>
                        <a:pt x="13837" y="16520"/>
                        <a:pt x="17719" y="1911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AutoShape 44"/>
                <p:cNvSpPr/>
                <p:nvPr/>
              </p:nvSpPr>
              <p:spPr>
                <a:xfrm>
                  <a:off x="7219800" y="2384640"/>
                  <a:ext cx="24480" cy="21600"/>
                </a:xfrm>
                <a:custGeom>
                  <a:avLst/>
                  <a:gdLst>
                    <a:gd name="textAreaLeft" fmla="*/ 15120 w 24480"/>
                    <a:gd name="textAreaRight" fmla="*/ 15840 w 24480"/>
                    <a:gd name="textAreaTop" fmla="*/ 720 h 21600"/>
                    <a:gd name="textAreaBottom" fmla="*/ 20880 h 21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7719" y="2482"/>
                        <a:pt x="13837" y="5080"/>
                        <a:pt x="13837" y="10800"/>
                      </a:cubicBezTo>
                      <a:cubicBezTo>
                        <a:pt x="13837" y="16520"/>
                        <a:pt x="17719" y="1911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Freeform 45"/>
                <p:cNvSpPr/>
                <p:nvPr/>
              </p:nvSpPr>
              <p:spPr>
                <a:xfrm rot="16677600">
                  <a:off x="7179840" y="2346840"/>
                  <a:ext cx="12240" cy="29520"/>
                </a:xfrm>
                <a:custGeom>
                  <a:avLst/>
                  <a:gdLst>
                    <a:gd name="textAreaLeft" fmla="*/ 0 w 12240"/>
                    <a:gd name="textAreaRight" fmla="*/ 12600 w 12240"/>
                    <a:gd name="textAreaTop" fmla="*/ 0 h 29520"/>
                    <a:gd name="textAreaBottom" fmla="*/ 29880 h 2952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Freeform 46"/>
                <p:cNvSpPr/>
                <p:nvPr/>
              </p:nvSpPr>
              <p:spPr>
                <a:xfrm rot="17784000">
                  <a:off x="7181280" y="2343600"/>
                  <a:ext cx="11520" cy="2952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0 h 29520"/>
                    <a:gd name="textAreaBottom" fmla="*/ 29880 h 2952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Freeform 47"/>
                <p:cNvSpPr/>
                <p:nvPr/>
              </p:nvSpPr>
              <p:spPr>
                <a:xfrm rot="19039800">
                  <a:off x="7184160" y="2341440"/>
                  <a:ext cx="12600" cy="27360"/>
                </a:xfrm>
                <a:custGeom>
                  <a:avLst/>
                  <a:gdLst>
                    <a:gd name="textAreaLeft" fmla="*/ 0 w 12600"/>
                    <a:gd name="textAreaRight" fmla="*/ 12960 w 12600"/>
                    <a:gd name="textAreaTop" fmla="*/ 0 h 27360"/>
                    <a:gd name="textAreaBottom" fmla="*/ 27720 h 2736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Freeform 48"/>
                <p:cNvSpPr/>
                <p:nvPr/>
              </p:nvSpPr>
              <p:spPr>
                <a:xfrm flipH="1" rot="4922400">
                  <a:off x="7220160" y="2347200"/>
                  <a:ext cx="12240" cy="29160"/>
                </a:xfrm>
                <a:custGeom>
                  <a:avLst/>
                  <a:gdLst>
                    <a:gd name="textAreaLeft" fmla="*/ 360 w 12240"/>
                    <a:gd name="textAreaRight" fmla="*/ 12960 w 1224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Freeform 49"/>
                <p:cNvSpPr/>
                <p:nvPr/>
              </p:nvSpPr>
              <p:spPr>
                <a:xfrm flipH="1" rot="3816000">
                  <a:off x="7219800" y="2343960"/>
                  <a:ext cx="11520" cy="28800"/>
                </a:xfrm>
                <a:custGeom>
                  <a:avLst/>
                  <a:gdLst>
                    <a:gd name="textAreaLeft" fmla="*/ 360 w 11520"/>
                    <a:gd name="textAreaRight" fmla="*/ 12240 w 1152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Freeform 50"/>
                <p:cNvSpPr/>
                <p:nvPr/>
              </p:nvSpPr>
              <p:spPr>
                <a:xfrm flipH="1" rot="2560200">
                  <a:off x="7215840" y="2341440"/>
                  <a:ext cx="12600" cy="27360"/>
                </a:xfrm>
                <a:custGeom>
                  <a:avLst/>
                  <a:gdLst>
                    <a:gd name="textAreaLeft" fmla="*/ -360 w 12600"/>
                    <a:gd name="textAreaRight" fmla="*/ 12600 w 12600"/>
                    <a:gd name="textAreaTop" fmla="*/ 0 h 27360"/>
                    <a:gd name="textAreaBottom" fmla="*/ 27720 h 2736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Freeform 51"/>
                <p:cNvSpPr/>
                <p:nvPr/>
              </p:nvSpPr>
              <p:spPr>
                <a:xfrm>
                  <a:off x="7201080" y="2427480"/>
                  <a:ext cx="10080" cy="1872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18720"/>
                    <a:gd name="textAreaBottom" fmla="*/ 19080 h 18720"/>
                  </a:gdLst>
                  <a:ahLst/>
                  <a:rect l="textAreaLeft" t="textAreaTop" r="textAreaRight" b="textAreaBottom"/>
                  <a:pathLst>
                    <a:path w="36" h="68">
                      <a:moveTo>
                        <a:pt x="9" y="0"/>
                      </a:moveTo>
                      <a:cubicBezTo>
                        <a:pt x="10" y="0"/>
                        <a:pt x="30" y="5"/>
                        <a:pt x="24" y="12"/>
                      </a:cubicBezTo>
                      <a:cubicBezTo>
                        <a:pt x="20" y="17"/>
                        <a:pt x="6" y="18"/>
                        <a:pt x="6" y="18"/>
                      </a:cubicBezTo>
                      <a:cubicBezTo>
                        <a:pt x="8" y="21"/>
                        <a:pt x="9" y="25"/>
                        <a:pt x="12" y="27"/>
                      </a:cubicBezTo>
                      <a:cubicBezTo>
                        <a:pt x="22" y="35"/>
                        <a:pt x="32" y="35"/>
                        <a:pt x="6" y="42"/>
                      </a:cubicBezTo>
                      <a:cubicBezTo>
                        <a:pt x="36" y="52"/>
                        <a:pt x="23" y="55"/>
                        <a:pt x="0" y="60"/>
                      </a:cubicBezTo>
                      <a:cubicBezTo>
                        <a:pt x="13" y="68"/>
                        <a:pt x="8" y="63"/>
                        <a:pt x="21" y="63"/>
                      </a:cubicBezTo>
                    </a:path>
                  </a:pathLst>
                </a:custGeom>
                <a:solidFill>
                  <a:srgbClr val="663366"/>
                </a:solidFill>
                <a:ln w="9360">
                  <a:solidFill>
                    <a:srgbClr val="66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Freeform 52"/>
                <p:cNvSpPr/>
                <p:nvPr/>
              </p:nvSpPr>
              <p:spPr>
                <a:xfrm>
                  <a:off x="7207560" y="2428200"/>
                  <a:ext cx="10080" cy="1800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18000"/>
                    <a:gd name="textAreaBottom" fmla="*/ 18360 h 18000"/>
                  </a:gdLst>
                  <a:ahLst/>
                  <a:rect l="textAreaLeft" t="textAreaTop" r="textAreaRight" b="textAreaBottom"/>
                  <a:pathLst>
                    <a:path w="36" h="68">
                      <a:moveTo>
                        <a:pt x="9" y="0"/>
                      </a:moveTo>
                      <a:cubicBezTo>
                        <a:pt x="10" y="0"/>
                        <a:pt x="30" y="5"/>
                        <a:pt x="24" y="12"/>
                      </a:cubicBezTo>
                      <a:cubicBezTo>
                        <a:pt x="20" y="17"/>
                        <a:pt x="6" y="18"/>
                        <a:pt x="6" y="18"/>
                      </a:cubicBezTo>
                      <a:cubicBezTo>
                        <a:pt x="8" y="21"/>
                        <a:pt x="9" y="25"/>
                        <a:pt x="12" y="27"/>
                      </a:cubicBezTo>
                      <a:cubicBezTo>
                        <a:pt x="22" y="35"/>
                        <a:pt x="32" y="35"/>
                        <a:pt x="6" y="42"/>
                      </a:cubicBezTo>
                      <a:cubicBezTo>
                        <a:pt x="36" y="52"/>
                        <a:pt x="23" y="55"/>
                        <a:pt x="0" y="60"/>
                      </a:cubicBezTo>
                      <a:cubicBezTo>
                        <a:pt x="13" y="68"/>
                        <a:pt x="8" y="63"/>
                        <a:pt x="21" y="63"/>
                      </a:cubicBezTo>
                    </a:path>
                  </a:pathLst>
                </a:custGeom>
                <a:solidFill>
                  <a:srgbClr val="663366"/>
                </a:solidFill>
                <a:ln w="9360">
                  <a:solidFill>
                    <a:srgbClr val="66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1" name="Oval 53"/>
                <p:cNvSpPr/>
                <p:nvPr/>
              </p:nvSpPr>
              <p:spPr>
                <a:xfrm>
                  <a:off x="7201800" y="2446200"/>
                  <a:ext cx="6120" cy="12240"/>
                </a:xfrm>
                <a:prstGeom prst="ellipse">
                  <a:avLst/>
                </a:prstGeom>
                <a:solidFill>
                  <a:srgbClr val="663366"/>
                </a:solidFill>
                <a:ln w="9360">
                  <a:solidFill>
                    <a:srgbClr val="66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2" name="Oval 54"/>
                <p:cNvSpPr/>
                <p:nvPr/>
              </p:nvSpPr>
              <p:spPr>
                <a:xfrm>
                  <a:off x="7207920" y="2446560"/>
                  <a:ext cx="6480" cy="12240"/>
                </a:xfrm>
                <a:prstGeom prst="ellipse">
                  <a:avLst/>
                </a:prstGeom>
                <a:solidFill>
                  <a:srgbClr val="663366"/>
                </a:solidFill>
                <a:ln w="9360">
                  <a:solidFill>
                    <a:srgbClr val="66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Oval 55"/>
                <p:cNvSpPr/>
                <p:nvPr/>
              </p:nvSpPr>
              <p:spPr>
                <a:xfrm rot="3348000">
                  <a:off x="7315920" y="2428200"/>
                  <a:ext cx="49320" cy="6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424267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 anchorCtr="1" vert="eaVert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AutoShape 56"/>
                <p:cNvSpPr/>
                <p:nvPr/>
              </p:nvSpPr>
              <p:spPr>
                <a:xfrm flipH="1" rot="3348000">
                  <a:off x="7313760" y="2431440"/>
                  <a:ext cx="23400" cy="22680"/>
                </a:xfrm>
                <a:custGeom>
                  <a:avLst/>
                  <a:gdLst>
                    <a:gd name="textAreaLeft" fmla="*/ 14040 w 23400"/>
                    <a:gd name="textAreaRight" fmla="*/ 14760 w 23400"/>
                    <a:gd name="textAreaTop" fmla="*/ 720 h 22680"/>
                    <a:gd name="textAreaBottom" fmla="*/ 21960 h 22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7719" y="2482"/>
                        <a:pt x="13837" y="5080"/>
                        <a:pt x="13837" y="10800"/>
                      </a:cubicBezTo>
                      <a:cubicBezTo>
                        <a:pt x="13837" y="16520"/>
                        <a:pt x="17719" y="1911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 anchorCtr="1" vert="eaVert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AutoShape 57"/>
                <p:cNvSpPr/>
                <p:nvPr/>
              </p:nvSpPr>
              <p:spPr>
                <a:xfrm rot="3348000">
                  <a:off x="7341840" y="2468880"/>
                  <a:ext cx="23040" cy="23040"/>
                </a:xfrm>
                <a:custGeom>
                  <a:avLst/>
                  <a:gdLst>
                    <a:gd name="textAreaLeft" fmla="*/ 14040 w 23040"/>
                    <a:gd name="textAreaRight" fmla="*/ 14760 w 23040"/>
                    <a:gd name="textAreaTop" fmla="*/ 720 h 23040"/>
                    <a:gd name="textAreaBottom" fmla="*/ 22320 h 23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7719" y="2482"/>
                        <a:pt x="13837" y="5080"/>
                        <a:pt x="13837" y="10800"/>
                      </a:cubicBezTo>
                      <a:cubicBezTo>
                        <a:pt x="13837" y="16520"/>
                        <a:pt x="17719" y="1911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 anchorCtr="1" vert="eaVert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Freeform 58"/>
                <p:cNvSpPr/>
                <p:nvPr/>
              </p:nvSpPr>
              <p:spPr>
                <a:xfrm rot="20025600">
                  <a:off x="7350840" y="2412360"/>
                  <a:ext cx="12960" cy="2736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0 h 27360"/>
                    <a:gd name="textAreaBottom" fmla="*/ 27720 h 2736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Freeform 59"/>
                <p:cNvSpPr/>
                <p:nvPr/>
              </p:nvSpPr>
              <p:spPr>
                <a:xfrm rot="21131400">
                  <a:off x="7354800" y="2411280"/>
                  <a:ext cx="12600" cy="27360"/>
                </a:xfrm>
                <a:custGeom>
                  <a:avLst/>
                  <a:gdLst>
                    <a:gd name="textAreaLeft" fmla="*/ 0 w 12600"/>
                    <a:gd name="textAreaRight" fmla="*/ 12960 w 12600"/>
                    <a:gd name="textAreaTop" fmla="*/ 0 h 27360"/>
                    <a:gd name="textAreaBottom" fmla="*/ 27720 h 2736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Freeform 60"/>
                <p:cNvSpPr/>
                <p:nvPr/>
              </p:nvSpPr>
              <p:spPr>
                <a:xfrm rot="787800">
                  <a:off x="7359480" y="2412000"/>
                  <a:ext cx="12960" cy="2664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0 h 26640"/>
                    <a:gd name="textAreaBottom" fmla="*/ 27000 h 2664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Freeform 61"/>
                <p:cNvSpPr/>
                <p:nvPr/>
              </p:nvSpPr>
              <p:spPr>
                <a:xfrm flipH="1" rot="8269800">
                  <a:off x="7374240" y="2443320"/>
                  <a:ext cx="12960" cy="27360"/>
                </a:xfrm>
                <a:custGeom>
                  <a:avLst/>
                  <a:gdLst>
                    <a:gd name="textAreaLeft" fmla="*/ 360 w 12960"/>
                    <a:gd name="textAreaRight" fmla="*/ 13680 w 12960"/>
                    <a:gd name="textAreaTop" fmla="*/ 0 h 27360"/>
                    <a:gd name="textAreaBottom" fmla="*/ 27720 h 2736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Freeform 62"/>
                <p:cNvSpPr/>
                <p:nvPr/>
              </p:nvSpPr>
              <p:spPr>
                <a:xfrm flipH="1" rot="7163400">
                  <a:off x="7377480" y="2440080"/>
                  <a:ext cx="11160" cy="29160"/>
                </a:xfrm>
                <a:custGeom>
                  <a:avLst/>
                  <a:gdLst>
                    <a:gd name="textAreaLeft" fmla="*/ -360 w 11160"/>
                    <a:gd name="textAreaRight" fmla="*/ 11160 w 1116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Freeform 63"/>
                <p:cNvSpPr/>
                <p:nvPr/>
              </p:nvSpPr>
              <p:spPr>
                <a:xfrm flipH="1" rot="5907600">
                  <a:off x="7378200" y="2435400"/>
                  <a:ext cx="11880" cy="29160"/>
                </a:xfrm>
                <a:custGeom>
                  <a:avLst/>
                  <a:gdLst>
                    <a:gd name="textAreaLeft" fmla="*/ -360 w 11880"/>
                    <a:gd name="textAreaRight" fmla="*/ 11880 w 1188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Freeform 64"/>
                <p:cNvSpPr/>
                <p:nvPr/>
              </p:nvSpPr>
              <p:spPr>
                <a:xfrm rot="3348000">
                  <a:off x="7298280" y="2473560"/>
                  <a:ext cx="9720" cy="19440"/>
                </a:xfrm>
                <a:custGeom>
                  <a:avLst/>
                  <a:gdLst>
                    <a:gd name="textAreaLeft" fmla="*/ 0 w 9720"/>
                    <a:gd name="textAreaRight" fmla="*/ 10080 w 9720"/>
                    <a:gd name="textAreaTop" fmla="*/ 0 h 19440"/>
                    <a:gd name="textAreaBottom" fmla="*/ 19800 h 19440"/>
                  </a:gdLst>
                  <a:ahLst/>
                  <a:rect l="textAreaLeft" t="textAreaTop" r="textAreaRight" b="textAreaBottom"/>
                  <a:pathLst>
                    <a:path w="36" h="68">
                      <a:moveTo>
                        <a:pt x="9" y="0"/>
                      </a:moveTo>
                      <a:cubicBezTo>
                        <a:pt x="10" y="0"/>
                        <a:pt x="30" y="5"/>
                        <a:pt x="24" y="12"/>
                      </a:cubicBezTo>
                      <a:cubicBezTo>
                        <a:pt x="20" y="17"/>
                        <a:pt x="6" y="18"/>
                        <a:pt x="6" y="18"/>
                      </a:cubicBezTo>
                      <a:cubicBezTo>
                        <a:pt x="8" y="21"/>
                        <a:pt x="9" y="25"/>
                        <a:pt x="12" y="27"/>
                      </a:cubicBezTo>
                      <a:cubicBezTo>
                        <a:pt x="22" y="35"/>
                        <a:pt x="32" y="35"/>
                        <a:pt x="6" y="42"/>
                      </a:cubicBezTo>
                      <a:cubicBezTo>
                        <a:pt x="36" y="52"/>
                        <a:pt x="23" y="55"/>
                        <a:pt x="0" y="60"/>
                      </a:cubicBezTo>
                      <a:cubicBezTo>
                        <a:pt x="13" y="68"/>
                        <a:pt x="8" y="63"/>
                        <a:pt x="21" y="63"/>
                      </a:cubicBezTo>
                    </a:path>
                  </a:pathLst>
                </a:custGeom>
                <a:solidFill>
                  <a:srgbClr val="663366"/>
                </a:solidFill>
                <a:ln w="9360">
                  <a:solidFill>
                    <a:srgbClr val="66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Freeform 65"/>
                <p:cNvSpPr/>
                <p:nvPr/>
              </p:nvSpPr>
              <p:spPr>
                <a:xfrm rot="3348000">
                  <a:off x="7301520" y="2478600"/>
                  <a:ext cx="9360" cy="19440"/>
                </a:xfrm>
                <a:custGeom>
                  <a:avLst/>
                  <a:gdLst>
                    <a:gd name="textAreaLeft" fmla="*/ 0 w 9360"/>
                    <a:gd name="textAreaRight" fmla="*/ 9720 w 9360"/>
                    <a:gd name="textAreaTop" fmla="*/ 0 h 19440"/>
                    <a:gd name="textAreaBottom" fmla="*/ 19800 h 19440"/>
                  </a:gdLst>
                  <a:ahLst/>
                  <a:rect l="textAreaLeft" t="textAreaTop" r="textAreaRight" b="textAreaBottom"/>
                  <a:pathLst>
                    <a:path w="36" h="68">
                      <a:moveTo>
                        <a:pt x="9" y="0"/>
                      </a:moveTo>
                      <a:cubicBezTo>
                        <a:pt x="10" y="0"/>
                        <a:pt x="30" y="5"/>
                        <a:pt x="24" y="12"/>
                      </a:cubicBezTo>
                      <a:cubicBezTo>
                        <a:pt x="20" y="17"/>
                        <a:pt x="6" y="18"/>
                        <a:pt x="6" y="18"/>
                      </a:cubicBezTo>
                      <a:cubicBezTo>
                        <a:pt x="8" y="21"/>
                        <a:pt x="9" y="25"/>
                        <a:pt x="12" y="27"/>
                      </a:cubicBezTo>
                      <a:cubicBezTo>
                        <a:pt x="22" y="35"/>
                        <a:pt x="32" y="35"/>
                        <a:pt x="6" y="42"/>
                      </a:cubicBezTo>
                      <a:cubicBezTo>
                        <a:pt x="36" y="52"/>
                        <a:pt x="23" y="55"/>
                        <a:pt x="0" y="60"/>
                      </a:cubicBezTo>
                      <a:cubicBezTo>
                        <a:pt x="13" y="68"/>
                        <a:pt x="8" y="63"/>
                        <a:pt x="21" y="63"/>
                      </a:cubicBezTo>
                    </a:path>
                  </a:pathLst>
                </a:custGeom>
                <a:solidFill>
                  <a:srgbClr val="663366"/>
                </a:solidFill>
                <a:ln w="9360">
                  <a:solidFill>
                    <a:srgbClr val="66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4" name="Oval 66"/>
                <p:cNvSpPr/>
                <p:nvPr/>
              </p:nvSpPr>
              <p:spPr>
                <a:xfrm rot="3348000">
                  <a:off x="7285320" y="2484000"/>
                  <a:ext cx="6120" cy="13320"/>
                </a:xfrm>
                <a:prstGeom prst="ellipse">
                  <a:avLst/>
                </a:prstGeom>
                <a:solidFill>
                  <a:srgbClr val="663366"/>
                </a:solidFill>
                <a:ln w="9360">
                  <a:solidFill>
                    <a:srgbClr val="66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 anchorCtr="1" vert="eaVert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5" name="Oval 67"/>
                <p:cNvSpPr/>
                <p:nvPr/>
              </p:nvSpPr>
              <p:spPr>
                <a:xfrm rot="3348000">
                  <a:off x="7288560" y="2489400"/>
                  <a:ext cx="6120" cy="13320"/>
                </a:xfrm>
                <a:prstGeom prst="ellipse">
                  <a:avLst/>
                </a:prstGeom>
                <a:solidFill>
                  <a:srgbClr val="663366"/>
                </a:solidFill>
                <a:ln w="9360">
                  <a:solidFill>
                    <a:srgbClr val="66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 anchorCtr="1" vert="eaVert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Oval 68"/>
                <p:cNvSpPr/>
                <p:nvPr/>
              </p:nvSpPr>
              <p:spPr>
                <a:xfrm flipH="1" rot="18252000">
                  <a:off x="7049520" y="2423160"/>
                  <a:ext cx="49680" cy="66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424267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AutoShape 69"/>
                <p:cNvSpPr/>
                <p:nvPr/>
              </p:nvSpPr>
              <p:spPr>
                <a:xfrm rot="18252000">
                  <a:off x="7076880" y="2426400"/>
                  <a:ext cx="23040" cy="23040"/>
                </a:xfrm>
                <a:custGeom>
                  <a:avLst/>
                  <a:gdLst>
                    <a:gd name="textAreaLeft" fmla="*/ 14040 w 23040"/>
                    <a:gd name="textAreaRight" fmla="*/ 14760 w 23040"/>
                    <a:gd name="textAreaTop" fmla="*/ 720 h 23040"/>
                    <a:gd name="textAreaBottom" fmla="*/ 22320 h 23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7719" y="2482"/>
                        <a:pt x="13837" y="5080"/>
                        <a:pt x="13837" y="10800"/>
                      </a:cubicBezTo>
                      <a:cubicBezTo>
                        <a:pt x="13837" y="16520"/>
                        <a:pt x="17719" y="1911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AutoShape 70"/>
                <p:cNvSpPr/>
                <p:nvPr/>
              </p:nvSpPr>
              <p:spPr>
                <a:xfrm flipH="1" rot="18252000">
                  <a:off x="7048800" y="2464200"/>
                  <a:ext cx="23040" cy="23040"/>
                </a:xfrm>
                <a:custGeom>
                  <a:avLst/>
                  <a:gdLst>
                    <a:gd name="textAreaLeft" fmla="*/ 14040 w 23040"/>
                    <a:gd name="textAreaRight" fmla="*/ 14760 w 23040"/>
                    <a:gd name="textAreaTop" fmla="*/ 720 h 23040"/>
                    <a:gd name="textAreaBottom" fmla="*/ 22320 h 23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7719" y="2482"/>
                        <a:pt x="13837" y="5080"/>
                        <a:pt x="13837" y="10800"/>
                      </a:cubicBezTo>
                      <a:cubicBezTo>
                        <a:pt x="13837" y="16520"/>
                        <a:pt x="17719" y="1911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Freeform 71"/>
                <p:cNvSpPr/>
                <p:nvPr/>
              </p:nvSpPr>
              <p:spPr>
                <a:xfrm flipH="1" rot="1574400">
                  <a:off x="7050600" y="2406600"/>
                  <a:ext cx="12240" cy="27360"/>
                </a:xfrm>
                <a:custGeom>
                  <a:avLst/>
                  <a:gdLst>
                    <a:gd name="textAreaLeft" fmla="*/ 360 w 12240"/>
                    <a:gd name="textAreaRight" fmla="*/ 12960 w 12240"/>
                    <a:gd name="textAreaTop" fmla="*/ 0 h 27360"/>
                    <a:gd name="textAreaBottom" fmla="*/ 27720 h 2736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Freeform 72"/>
                <p:cNvSpPr/>
                <p:nvPr/>
              </p:nvSpPr>
              <p:spPr>
                <a:xfrm flipH="1" rot="468600">
                  <a:off x="7047000" y="2406600"/>
                  <a:ext cx="12600" cy="27360"/>
                </a:xfrm>
                <a:custGeom>
                  <a:avLst/>
                  <a:gdLst>
                    <a:gd name="textAreaLeft" fmla="*/ -360 w 12600"/>
                    <a:gd name="textAreaRight" fmla="*/ 12600 w 12600"/>
                    <a:gd name="textAreaTop" fmla="*/ 0 h 27360"/>
                    <a:gd name="textAreaBottom" fmla="*/ 27720 h 2736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Freeform 73"/>
                <p:cNvSpPr/>
                <p:nvPr/>
              </p:nvSpPr>
              <p:spPr>
                <a:xfrm flipH="1" rot="20812200">
                  <a:off x="7042320" y="2406960"/>
                  <a:ext cx="12960" cy="26640"/>
                </a:xfrm>
                <a:custGeom>
                  <a:avLst/>
                  <a:gdLst>
                    <a:gd name="textAreaLeft" fmla="*/ 360 w 12960"/>
                    <a:gd name="textAreaRight" fmla="*/ 13680 w 12960"/>
                    <a:gd name="textAreaTop" fmla="*/ 0 h 26640"/>
                    <a:gd name="textAreaBottom" fmla="*/ 27000 h 2664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Freeform 74"/>
                <p:cNvSpPr/>
                <p:nvPr/>
              </p:nvSpPr>
              <p:spPr>
                <a:xfrm rot="13330200">
                  <a:off x="7027560" y="2438640"/>
                  <a:ext cx="12960" cy="2700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Freeform 75"/>
                <p:cNvSpPr/>
                <p:nvPr/>
              </p:nvSpPr>
              <p:spPr>
                <a:xfrm rot="14436600">
                  <a:off x="7026120" y="2434680"/>
                  <a:ext cx="11160" cy="29520"/>
                </a:xfrm>
                <a:custGeom>
                  <a:avLst/>
                  <a:gdLst>
                    <a:gd name="textAreaLeft" fmla="*/ 0 w 11160"/>
                    <a:gd name="textAreaRight" fmla="*/ 11520 w 11160"/>
                    <a:gd name="textAreaTop" fmla="*/ 0 h 29520"/>
                    <a:gd name="textAreaBottom" fmla="*/ 29880 h 2952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Freeform 76"/>
                <p:cNvSpPr/>
                <p:nvPr/>
              </p:nvSpPr>
              <p:spPr>
                <a:xfrm rot="15692400">
                  <a:off x="7024320" y="2430720"/>
                  <a:ext cx="11880" cy="2880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Freeform 77"/>
                <p:cNvSpPr/>
                <p:nvPr/>
              </p:nvSpPr>
              <p:spPr>
                <a:xfrm flipH="1" rot="18252000">
                  <a:off x="7107480" y="2468520"/>
                  <a:ext cx="9720" cy="19440"/>
                </a:xfrm>
                <a:custGeom>
                  <a:avLst/>
                  <a:gdLst>
                    <a:gd name="textAreaLeft" fmla="*/ -360 w 9720"/>
                    <a:gd name="textAreaRight" fmla="*/ 9720 w 9720"/>
                    <a:gd name="textAreaTop" fmla="*/ 0 h 19440"/>
                    <a:gd name="textAreaBottom" fmla="*/ 19800 h 19440"/>
                  </a:gdLst>
                  <a:ahLst/>
                  <a:rect l="textAreaLeft" t="textAreaTop" r="textAreaRight" b="textAreaBottom"/>
                  <a:pathLst>
                    <a:path w="36" h="68">
                      <a:moveTo>
                        <a:pt x="9" y="0"/>
                      </a:moveTo>
                      <a:cubicBezTo>
                        <a:pt x="10" y="0"/>
                        <a:pt x="30" y="5"/>
                        <a:pt x="24" y="12"/>
                      </a:cubicBezTo>
                      <a:cubicBezTo>
                        <a:pt x="20" y="17"/>
                        <a:pt x="6" y="18"/>
                        <a:pt x="6" y="18"/>
                      </a:cubicBezTo>
                      <a:cubicBezTo>
                        <a:pt x="8" y="21"/>
                        <a:pt x="9" y="25"/>
                        <a:pt x="12" y="27"/>
                      </a:cubicBezTo>
                      <a:cubicBezTo>
                        <a:pt x="22" y="35"/>
                        <a:pt x="32" y="35"/>
                        <a:pt x="6" y="42"/>
                      </a:cubicBezTo>
                      <a:cubicBezTo>
                        <a:pt x="36" y="52"/>
                        <a:pt x="23" y="55"/>
                        <a:pt x="0" y="60"/>
                      </a:cubicBezTo>
                      <a:cubicBezTo>
                        <a:pt x="13" y="68"/>
                        <a:pt x="8" y="63"/>
                        <a:pt x="21" y="63"/>
                      </a:cubicBezTo>
                    </a:path>
                  </a:pathLst>
                </a:custGeom>
                <a:solidFill>
                  <a:srgbClr val="663366"/>
                </a:solidFill>
                <a:ln w="9360">
                  <a:solidFill>
                    <a:srgbClr val="66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Freeform 78"/>
                <p:cNvSpPr/>
                <p:nvPr/>
              </p:nvSpPr>
              <p:spPr>
                <a:xfrm flipH="1" rot="18252000">
                  <a:off x="7104240" y="2473920"/>
                  <a:ext cx="9720" cy="19440"/>
                </a:xfrm>
                <a:custGeom>
                  <a:avLst/>
                  <a:gdLst>
                    <a:gd name="textAreaLeft" fmla="*/ -360 w 9720"/>
                    <a:gd name="textAreaRight" fmla="*/ 9720 w 9720"/>
                    <a:gd name="textAreaTop" fmla="*/ 0 h 19440"/>
                    <a:gd name="textAreaBottom" fmla="*/ 19800 h 19440"/>
                  </a:gdLst>
                  <a:ahLst/>
                  <a:rect l="textAreaLeft" t="textAreaTop" r="textAreaRight" b="textAreaBottom"/>
                  <a:pathLst>
                    <a:path w="36" h="68">
                      <a:moveTo>
                        <a:pt x="9" y="0"/>
                      </a:moveTo>
                      <a:cubicBezTo>
                        <a:pt x="10" y="0"/>
                        <a:pt x="30" y="5"/>
                        <a:pt x="24" y="12"/>
                      </a:cubicBezTo>
                      <a:cubicBezTo>
                        <a:pt x="20" y="17"/>
                        <a:pt x="6" y="18"/>
                        <a:pt x="6" y="18"/>
                      </a:cubicBezTo>
                      <a:cubicBezTo>
                        <a:pt x="8" y="21"/>
                        <a:pt x="9" y="25"/>
                        <a:pt x="12" y="27"/>
                      </a:cubicBezTo>
                      <a:cubicBezTo>
                        <a:pt x="22" y="35"/>
                        <a:pt x="32" y="35"/>
                        <a:pt x="6" y="42"/>
                      </a:cubicBezTo>
                      <a:cubicBezTo>
                        <a:pt x="36" y="52"/>
                        <a:pt x="23" y="55"/>
                        <a:pt x="0" y="60"/>
                      </a:cubicBezTo>
                      <a:cubicBezTo>
                        <a:pt x="13" y="68"/>
                        <a:pt x="8" y="63"/>
                        <a:pt x="21" y="63"/>
                      </a:cubicBezTo>
                    </a:path>
                  </a:pathLst>
                </a:custGeom>
                <a:solidFill>
                  <a:srgbClr val="663366"/>
                </a:solidFill>
                <a:ln w="9360">
                  <a:solidFill>
                    <a:srgbClr val="66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Oval 79"/>
                <p:cNvSpPr/>
                <p:nvPr/>
              </p:nvSpPr>
              <p:spPr>
                <a:xfrm flipH="1" rot="18252000">
                  <a:off x="7123320" y="2479320"/>
                  <a:ext cx="6120" cy="13320"/>
                </a:xfrm>
                <a:prstGeom prst="ellipse">
                  <a:avLst/>
                </a:prstGeom>
                <a:solidFill>
                  <a:srgbClr val="663366"/>
                </a:solidFill>
                <a:ln w="9360">
                  <a:solidFill>
                    <a:srgbClr val="66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Oval 80"/>
                <p:cNvSpPr/>
                <p:nvPr/>
              </p:nvSpPr>
              <p:spPr>
                <a:xfrm flipH="1" rot="18252000">
                  <a:off x="7119360" y="2484360"/>
                  <a:ext cx="6120" cy="13320"/>
                </a:xfrm>
                <a:prstGeom prst="ellipse">
                  <a:avLst/>
                </a:prstGeom>
                <a:solidFill>
                  <a:srgbClr val="663366"/>
                </a:solidFill>
                <a:ln w="9360">
                  <a:solidFill>
                    <a:srgbClr val="66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Oval 81"/>
                <p:cNvSpPr/>
                <p:nvPr/>
              </p:nvSpPr>
              <p:spPr>
                <a:xfrm flipV="1" rot="18252000">
                  <a:off x="7313760" y="2597760"/>
                  <a:ext cx="49680" cy="6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424267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 anchorCtr="1" vert="eaVert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AutoShape 82"/>
                <p:cNvSpPr/>
                <p:nvPr/>
              </p:nvSpPr>
              <p:spPr>
                <a:xfrm flipH="1" flipV="1" rot="18252000">
                  <a:off x="7313040" y="2638080"/>
                  <a:ext cx="23040" cy="22680"/>
                </a:xfrm>
                <a:custGeom>
                  <a:avLst/>
                  <a:gdLst>
                    <a:gd name="textAreaLeft" fmla="*/ 14040 w 23040"/>
                    <a:gd name="textAreaRight" fmla="*/ 14760 w 23040"/>
                    <a:gd name="textAreaTop" fmla="*/ 720 h 22680"/>
                    <a:gd name="textAreaBottom" fmla="*/ 21960 h 22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7719" y="2482"/>
                        <a:pt x="13837" y="5080"/>
                        <a:pt x="13837" y="10800"/>
                      </a:cubicBezTo>
                      <a:cubicBezTo>
                        <a:pt x="13837" y="16520"/>
                        <a:pt x="17719" y="1911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 anchorCtr="1" vert="eaVert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AutoShape 83"/>
                <p:cNvSpPr/>
                <p:nvPr/>
              </p:nvSpPr>
              <p:spPr>
                <a:xfrm flipV="1" rot="18252000">
                  <a:off x="7340040" y="2601000"/>
                  <a:ext cx="23040" cy="22680"/>
                </a:xfrm>
                <a:custGeom>
                  <a:avLst/>
                  <a:gdLst>
                    <a:gd name="textAreaLeft" fmla="*/ 14040 w 23040"/>
                    <a:gd name="textAreaRight" fmla="*/ 14760 w 23040"/>
                    <a:gd name="textAreaTop" fmla="*/ 720 h 22680"/>
                    <a:gd name="textAreaBottom" fmla="*/ 21960 h 22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7719" y="2482"/>
                        <a:pt x="13837" y="5080"/>
                        <a:pt x="13837" y="10800"/>
                      </a:cubicBezTo>
                      <a:cubicBezTo>
                        <a:pt x="13837" y="16520"/>
                        <a:pt x="17719" y="1911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 anchorCtr="1" vert="eaVert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Freeform 84"/>
                <p:cNvSpPr/>
                <p:nvPr/>
              </p:nvSpPr>
              <p:spPr>
                <a:xfrm flipV="1" rot="1574400">
                  <a:off x="7349040" y="2651760"/>
                  <a:ext cx="12240" cy="27360"/>
                </a:xfrm>
                <a:custGeom>
                  <a:avLst/>
                  <a:gdLst>
                    <a:gd name="textAreaLeft" fmla="*/ 0 w 12240"/>
                    <a:gd name="textAreaRight" fmla="*/ 12600 w 12240"/>
                    <a:gd name="textAreaTop" fmla="*/ 360 h 27360"/>
                    <a:gd name="textAreaBottom" fmla="*/ 28080 h 2736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Freeform 85"/>
                <p:cNvSpPr/>
                <p:nvPr/>
              </p:nvSpPr>
              <p:spPr>
                <a:xfrm flipV="1" rot="468600">
                  <a:off x="7353000" y="2653200"/>
                  <a:ext cx="12240" cy="27720"/>
                </a:xfrm>
                <a:custGeom>
                  <a:avLst/>
                  <a:gdLst>
                    <a:gd name="textAreaLeft" fmla="*/ 0 w 12240"/>
                    <a:gd name="textAreaRight" fmla="*/ 12600 w 12240"/>
                    <a:gd name="textAreaTop" fmla="*/ -360 h 27720"/>
                    <a:gd name="textAreaBottom" fmla="*/ 27720 h 2772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Freeform 86"/>
                <p:cNvSpPr/>
                <p:nvPr/>
              </p:nvSpPr>
              <p:spPr>
                <a:xfrm flipV="1" rot="20812200">
                  <a:off x="7358040" y="2653920"/>
                  <a:ext cx="12600" cy="26640"/>
                </a:xfrm>
                <a:custGeom>
                  <a:avLst/>
                  <a:gdLst>
                    <a:gd name="textAreaLeft" fmla="*/ 0 w 12600"/>
                    <a:gd name="textAreaRight" fmla="*/ 12960 w 12600"/>
                    <a:gd name="textAreaTop" fmla="*/ 360 h 26640"/>
                    <a:gd name="textAreaBottom" fmla="*/ 27360 h 2664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Freeform 87"/>
                <p:cNvSpPr/>
                <p:nvPr/>
              </p:nvSpPr>
              <p:spPr>
                <a:xfrm flipH="1" flipV="1" rot="13330200">
                  <a:off x="7372440" y="2621520"/>
                  <a:ext cx="12600" cy="27360"/>
                </a:xfrm>
                <a:custGeom>
                  <a:avLst/>
                  <a:gdLst>
                    <a:gd name="textAreaLeft" fmla="*/ -360 w 12600"/>
                    <a:gd name="textAreaRight" fmla="*/ 12600 w 12600"/>
                    <a:gd name="textAreaTop" fmla="*/ 360 h 27360"/>
                    <a:gd name="textAreaBottom" fmla="*/ 28080 h 2736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Freeform 88"/>
                <p:cNvSpPr/>
                <p:nvPr/>
              </p:nvSpPr>
              <p:spPr>
                <a:xfrm flipH="1" flipV="1" rot="14436600">
                  <a:off x="7374240" y="2621880"/>
                  <a:ext cx="11520" cy="29520"/>
                </a:xfrm>
                <a:custGeom>
                  <a:avLst/>
                  <a:gdLst>
                    <a:gd name="textAreaLeft" fmla="*/ 360 w 11520"/>
                    <a:gd name="textAreaRight" fmla="*/ 12240 w 11520"/>
                    <a:gd name="textAreaTop" fmla="*/ 360 h 29520"/>
                    <a:gd name="textAreaBottom" fmla="*/ 30240 h 2952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Freeform 89"/>
                <p:cNvSpPr/>
                <p:nvPr/>
              </p:nvSpPr>
              <p:spPr>
                <a:xfrm flipH="1" flipV="1" rot="15692400">
                  <a:off x="7376400" y="2626920"/>
                  <a:ext cx="11520" cy="29160"/>
                </a:xfrm>
                <a:custGeom>
                  <a:avLst/>
                  <a:gdLst>
                    <a:gd name="textAreaLeft" fmla="*/ 360 w 11520"/>
                    <a:gd name="textAreaRight" fmla="*/ 12240 w 11520"/>
                    <a:gd name="textAreaTop" fmla="*/ -360 h 29160"/>
                    <a:gd name="textAreaBottom" fmla="*/ 29160 h 2916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8" name="Freeform 90"/>
                <p:cNvSpPr/>
                <p:nvPr/>
              </p:nvSpPr>
              <p:spPr>
                <a:xfrm flipV="1" rot="18252000">
                  <a:off x="7296120" y="2599560"/>
                  <a:ext cx="10080" cy="1980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-360 h 19800"/>
                    <a:gd name="textAreaBottom" fmla="*/ 19800 h 19800"/>
                  </a:gdLst>
                  <a:ahLst/>
                  <a:rect l="textAreaLeft" t="textAreaTop" r="textAreaRight" b="textAreaBottom"/>
                  <a:pathLst>
                    <a:path w="36" h="68">
                      <a:moveTo>
                        <a:pt x="9" y="0"/>
                      </a:moveTo>
                      <a:cubicBezTo>
                        <a:pt x="10" y="0"/>
                        <a:pt x="30" y="5"/>
                        <a:pt x="24" y="12"/>
                      </a:cubicBezTo>
                      <a:cubicBezTo>
                        <a:pt x="20" y="17"/>
                        <a:pt x="6" y="18"/>
                        <a:pt x="6" y="18"/>
                      </a:cubicBezTo>
                      <a:cubicBezTo>
                        <a:pt x="8" y="21"/>
                        <a:pt x="9" y="25"/>
                        <a:pt x="12" y="27"/>
                      </a:cubicBezTo>
                      <a:cubicBezTo>
                        <a:pt x="22" y="35"/>
                        <a:pt x="32" y="35"/>
                        <a:pt x="6" y="42"/>
                      </a:cubicBezTo>
                      <a:cubicBezTo>
                        <a:pt x="36" y="52"/>
                        <a:pt x="23" y="55"/>
                        <a:pt x="0" y="60"/>
                      </a:cubicBezTo>
                      <a:cubicBezTo>
                        <a:pt x="13" y="68"/>
                        <a:pt x="8" y="63"/>
                        <a:pt x="21" y="63"/>
                      </a:cubicBezTo>
                    </a:path>
                  </a:pathLst>
                </a:custGeom>
                <a:solidFill>
                  <a:srgbClr val="663366"/>
                </a:solidFill>
                <a:ln w="9360">
                  <a:solidFill>
                    <a:srgbClr val="66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9" name="Freeform 91"/>
                <p:cNvSpPr/>
                <p:nvPr/>
              </p:nvSpPr>
              <p:spPr>
                <a:xfrm flipV="1" rot="18252000">
                  <a:off x="7299720" y="2594880"/>
                  <a:ext cx="9720" cy="19440"/>
                </a:xfrm>
                <a:custGeom>
                  <a:avLst/>
                  <a:gdLst>
                    <a:gd name="textAreaLeft" fmla="*/ 0 w 9720"/>
                    <a:gd name="textAreaRight" fmla="*/ 10080 w 9720"/>
                    <a:gd name="textAreaTop" fmla="*/ 360 h 19440"/>
                    <a:gd name="textAreaBottom" fmla="*/ 20160 h 19440"/>
                  </a:gdLst>
                  <a:ahLst/>
                  <a:rect l="textAreaLeft" t="textAreaTop" r="textAreaRight" b="textAreaBottom"/>
                  <a:pathLst>
                    <a:path w="36" h="68">
                      <a:moveTo>
                        <a:pt x="9" y="0"/>
                      </a:moveTo>
                      <a:cubicBezTo>
                        <a:pt x="10" y="0"/>
                        <a:pt x="30" y="5"/>
                        <a:pt x="24" y="12"/>
                      </a:cubicBezTo>
                      <a:cubicBezTo>
                        <a:pt x="20" y="17"/>
                        <a:pt x="6" y="18"/>
                        <a:pt x="6" y="18"/>
                      </a:cubicBezTo>
                      <a:cubicBezTo>
                        <a:pt x="8" y="21"/>
                        <a:pt x="9" y="25"/>
                        <a:pt x="12" y="27"/>
                      </a:cubicBezTo>
                      <a:cubicBezTo>
                        <a:pt x="22" y="35"/>
                        <a:pt x="32" y="35"/>
                        <a:pt x="6" y="42"/>
                      </a:cubicBezTo>
                      <a:cubicBezTo>
                        <a:pt x="36" y="52"/>
                        <a:pt x="23" y="55"/>
                        <a:pt x="0" y="60"/>
                      </a:cubicBezTo>
                      <a:cubicBezTo>
                        <a:pt x="13" y="68"/>
                        <a:pt x="8" y="63"/>
                        <a:pt x="21" y="63"/>
                      </a:cubicBezTo>
                    </a:path>
                  </a:pathLst>
                </a:custGeom>
                <a:solidFill>
                  <a:srgbClr val="663366"/>
                </a:solidFill>
                <a:ln w="9360">
                  <a:solidFill>
                    <a:srgbClr val="66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0" name="Oval 92"/>
                <p:cNvSpPr/>
                <p:nvPr/>
              </p:nvSpPr>
              <p:spPr>
                <a:xfrm flipV="1" rot="18252000">
                  <a:off x="7283880" y="2594160"/>
                  <a:ext cx="6120" cy="13320"/>
                </a:xfrm>
                <a:prstGeom prst="ellipse">
                  <a:avLst/>
                </a:prstGeom>
                <a:solidFill>
                  <a:srgbClr val="663366"/>
                </a:solidFill>
                <a:ln w="9360">
                  <a:solidFill>
                    <a:srgbClr val="66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 anchorCtr="1" vert="eaVert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1" name="Oval 93"/>
                <p:cNvSpPr/>
                <p:nvPr/>
              </p:nvSpPr>
              <p:spPr>
                <a:xfrm flipV="1" rot="18252000">
                  <a:off x="7286760" y="2589840"/>
                  <a:ext cx="6480" cy="13320"/>
                </a:xfrm>
                <a:prstGeom prst="ellipse">
                  <a:avLst/>
                </a:prstGeom>
                <a:solidFill>
                  <a:srgbClr val="663366"/>
                </a:solidFill>
                <a:ln w="9360">
                  <a:solidFill>
                    <a:srgbClr val="66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 anchorCtr="1" vert="eaVert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2" name="Oval 94"/>
                <p:cNvSpPr/>
                <p:nvPr/>
              </p:nvSpPr>
              <p:spPr>
                <a:xfrm flipH="1" flipV="1" rot="3727800">
                  <a:off x="7036560" y="2570760"/>
                  <a:ext cx="49320" cy="6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424267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3" name="AutoShape 95"/>
                <p:cNvSpPr/>
                <p:nvPr/>
              </p:nvSpPr>
              <p:spPr>
                <a:xfrm flipV="1" rot="3728400">
                  <a:off x="7062120" y="2612160"/>
                  <a:ext cx="23040" cy="23040"/>
                </a:xfrm>
                <a:custGeom>
                  <a:avLst/>
                  <a:gdLst>
                    <a:gd name="textAreaLeft" fmla="*/ 14040 w 23040"/>
                    <a:gd name="textAreaRight" fmla="*/ 14760 w 23040"/>
                    <a:gd name="textAreaTop" fmla="*/ 720 h 23040"/>
                    <a:gd name="textAreaBottom" fmla="*/ 22320 h 23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7719" y="2482"/>
                        <a:pt x="13837" y="5080"/>
                        <a:pt x="13837" y="10800"/>
                      </a:cubicBezTo>
                      <a:cubicBezTo>
                        <a:pt x="13837" y="16520"/>
                        <a:pt x="17719" y="1911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AutoShape 96"/>
                <p:cNvSpPr/>
                <p:nvPr/>
              </p:nvSpPr>
              <p:spPr>
                <a:xfrm flipH="1" flipV="1" rot="3727800">
                  <a:off x="7038720" y="2572200"/>
                  <a:ext cx="23040" cy="23400"/>
                </a:xfrm>
                <a:custGeom>
                  <a:avLst/>
                  <a:gdLst>
                    <a:gd name="textAreaLeft" fmla="*/ 14040 w 23040"/>
                    <a:gd name="textAreaRight" fmla="*/ 14760 w 23040"/>
                    <a:gd name="textAreaTop" fmla="*/ 720 h 23400"/>
                    <a:gd name="textAreaBottom" fmla="*/ 22680 h 234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7719" y="2482"/>
                        <a:pt x="13837" y="5080"/>
                        <a:pt x="13837" y="10800"/>
                      </a:cubicBezTo>
                      <a:cubicBezTo>
                        <a:pt x="13837" y="16520"/>
                        <a:pt x="17719" y="1911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Freeform 97"/>
                <p:cNvSpPr/>
                <p:nvPr/>
              </p:nvSpPr>
              <p:spPr>
                <a:xfrm flipH="1" flipV="1" rot="20406600">
                  <a:off x="7033680" y="2623680"/>
                  <a:ext cx="12960" cy="27360"/>
                </a:xfrm>
                <a:custGeom>
                  <a:avLst/>
                  <a:gdLst>
                    <a:gd name="textAreaLeft" fmla="*/ 360 w 12960"/>
                    <a:gd name="textAreaRight" fmla="*/ 13680 w 12960"/>
                    <a:gd name="textAreaTop" fmla="*/ 360 h 27360"/>
                    <a:gd name="textAreaBottom" fmla="*/ 28080 h 2736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Freeform 98"/>
                <p:cNvSpPr/>
                <p:nvPr/>
              </p:nvSpPr>
              <p:spPr>
                <a:xfrm flipH="1" flipV="1" rot="21512400">
                  <a:off x="7030440" y="2623680"/>
                  <a:ext cx="12600" cy="27360"/>
                </a:xfrm>
                <a:custGeom>
                  <a:avLst/>
                  <a:gdLst>
                    <a:gd name="textAreaLeft" fmla="*/ -360 w 12600"/>
                    <a:gd name="textAreaRight" fmla="*/ 12600 w 12600"/>
                    <a:gd name="textAreaTop" fmla="*/ 360 h 27360"/>
                    <a:gd name="textAreaBottom" fmla="*/ 28080 h 2736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7" name="Freeform 99"/>
                <p:cNvSpPr/>
                <p:nvPr/>
              </p:nvSpPr>
              <p:spPr>
                <a:xfrm flipH="1" flipV="1" rot="1168200">
                  <a:off x="7024680" y="2622960"/>
                  <a:ext cx="12960" cy="27000"/>
                </a:xfrm>
                <a:custGeom>
                  <a:avLst/>
                  <a:gdLst>
                    <a:gd name="textAreaLeft" fmla="*/ 360 w 12960"/>
                    <a:gd name="textAreaRight" fmla="*/ 13680 w 12960"/>
                    <a:gd name="textAreaTop" fmla="*/ -360 h 27000"/>
                    <a:gd name="textAreaBottom" fmla="*/ 27000 h 2700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8" name="Freeform 100"/>
                <p:cNvSpPr/>
                <p:nvPr/>
              </p:nvSpPr>
              <p:spPr>
                <a:xfrm flipV="1" rot="8649600">
                  <a:off x="7014240" y="2589480"/>
                  <a:ext cx="12960" cy="2736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360 h 27360"/>
                    <a:gd name="textAreaBottom" fmla="*/ 28080 h 2736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9" name="Freeform 101"/>
                <p:cNvSpPr/>
                <p:nvPr/>
              </p:nvSpPr>
              <p:spPr>
                <a:xfrm flipV="1" rot="7544400">
                  <a:off x="7012800" y="2591280"/>
                  <a:ext cx="11520" cy="2952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360 h 29520"/>
                    <a:gd name="textAreaBottom" fmla="*/ 30240 h 2952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0" name="Freeform 102"/>
                <p:cNvSpPr/>
                <p:nvPr/>
              </p:nvSpPr>
              <p:spPr>
                <a:xfrm flipV="1" rot="6288000">
                  <a:off x="7011000" y="2595240"/>
                  <a:ext cx="11520" cy="2916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-360 h 29160"/>
                    <a:gd name="textAreaBottom" fmla="*/ 29160 h 2916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" name="Freeform 103"/>
                <p:cNvSpPr/>
                <p:nvPr/>
              </p:nvSpPr>
              <p:spPr>
                <a:xfrm flipH="1" flipV="1" rot="3727800">
                  <a:off x="7096680" y="2576520"/>
                  <a:ext cx="9720" cy="19440"/>
                </a:xfrm>
                <a:custGeom>
                  <a:avLst/>
                  <a:gdLst>
                    <a:gd name="textAreaLeft" fmla="*/ -360 w 9720"/>
                    <a:gd name="textAreaRight" fmla="*/ 9720 w 9720"/>
                    <a:gd name="textAreaTop" fmla="*/ 360 h 19440"/>
                    <a:gd name="textAreaBottom" fmla="*/ 20160 h 19440"/>
                  </a:gdLst>
                  <a:ahLst/>
                  <a:rect l="textAreaLeft" t="textAreaTop" r="textAreaRight" b="textAreaBottom"/>
                  <a:pathLst>
                    <a:path w="36" h="68">
                      <a:moveTo>
                        <a:pt x="9" y="0"/>
                      </a:moveTo>
                      <a:cubicBezTo>
                        <a:pt x="10" y="0"/>
                        <a:pt x="30" y="5"/>
                        <a:pt x="24" y="12"/>
                      </a:cubicBezTo>
                      <a:cubicBezTo>
                        <a:pt x="20" y="17"/>
                        <a:pt x="6" y="18"/>
                        <a:pt x="6" y="18"/>
                      </a:cubicBezTo>
                      <a:cubicBezTo>
                        <a:pt x="8" y="21"/>
                        <a:pt x="9" y="25"/>
                        <a:pt x="12" y="27"/>
                      </a:cubicBezTo>
                      <a:cubicBezTo>
                        <a:pt x="22" y="35"/>
                        <a:pt x="32" y="35"/>
                        <a:pt x="6" y="42"/>
                      </a:cubicBezTo>
                      <a:cubicBezTo>
                        <a:pt x="36" y="52"/>
                        <a:pt x="23" y="55"/>
                        <a:pt x="0" y="60"/>
                      </a:cubicBezTo>
                      <a:cubicBezTo>
                        <a:pt x="13" y="68"/>
                        <a:pt x="8" y="63"/>
                        <a:pt x="21" y="63"/>
                      </a:cubicBezTo>
                    </a:path>
                  </a:pathLst>
                </a:custGeom>
                <a:solidFill>
                  <a:srgbClr val="663366"/>
                </a:solidFill>
                <a:ln w="9360">
                  <a:solidFill>
                    <a:srgbClr val="66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2" name="Freeform 104"/>
                <p:cNvSpPr/>
                <p:nvPr/>
              </p:nvSpPr>
              <p:spPr>
                <a:xfrm flipH="1" flipV="1" rot="3727800">
                  <a:off x="7094880" y="2571480"/>
                  <a:ext cx="9360" cy="19440"/>
                </a:xfrm>
                <a:custGeom>
                  <a:avLst/>
                  <a:gdLst>
                    <a:gd name="textAreaLeft" fmla="*/ 360 w 9360"/>
                    <a:gd name="textAreaRight" fmla="*/ 10080 w 9360"/>
                    <a:gd name="textAreaTop" fmla="*/ 360 h 19440"/>
                    <a:gd name="textAreaBottom" fmla="*/ 20160 h 19440"/>
                  </a:gdLst>
                  <a:ahLst/>
                  <a:rect l="textAreaLeft" t="textAreaTop" r="textAreaRight" b="textAreaBottom"/>
                  <a:pathLst>
                    <a:path w="36" h="68">
                      <a:moveTo>
                        <a:pt x="9" y="0"/>
                      </a:moveTo>
                      <a:cubicBezTo>
                        <a:pt x="10" y="0"/>
                        <a:pt x="30" y="5"/>
                        <a:pt x="24" y="12"/>
                      </a:cubicBezTo>
                      <a:cubicBezTo>
                        <a:pt x="20" y="17"/>
                        <a:pt x="6" y="18"/>
                        <a:pt x="6" y="18"/>
                      </a:cubicBezTo>
                      <a:cubicBezTo>
                        <a:pt x="8" y="21"/>
                        <a:pt x="9" y="25"/>
                        <a:pt x="12" y="27"/>
                      </a:cubicBezTo>
                      <a:cubicBezTo>
                        <a:pt x="22" y="35"/>
                        <a:pt x="32" y="35"/>
                        <a:pt x="6" y="42"/>
                      </a:cubicBezTo>
                      <a:cubicBezTo>
                        <a:pt x="36" y="52"/>
                        <a:pt x="23" y="55"/>
                        <a:pt x="0" y="60"/>
                      </a:cubicBezTo>
                      <a:cubicBezTo>
                        <a:pt x="13" y="68"/>
                        <a:pt x="8" y="63"/>
                        <a:pt x="21" y="63"/>
                      </a:cubicBezTo>
                    </a:path>
                  </a:pathLst>
                </a:custGeom>
                <a:solidFill>
                  <a:srgbClr val="663366"/>
                </a:solidFill>
                <a:ln w="9360">
                  <a:solidFill>
                    <a:srgbClr val="66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3" name="Oval 105"/>
                <p:cNvSpPr/>
                <p:nvPr/>
              </p:nvSpPr>
              <p:spPr>
                <a:xfrm flipH="1" flipV="1" rot="3727800">
                  <a:off x="7113600" y="2574000"/>
                  <a:ext cx="6120" cy="13320"/>
                </a:xfrm>
                <a:prstGeom prst="ellipse">
                  <a:avLst/>
                </a:prstGeom>
                <a:solidFill>
                  <a:srgbClr val="663366"/>
                </a:solidFill>
                <a:ln w="9360">
                  <a:solidFill>
                    <a:srgbClr val="66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4" name="Oval 106"/>
                <p:cNvSpPr/>
                <p:nvPr/>
              </p:nvSpPr>
              <p:spPr>
                <a:xfrm flipH="1" flipV="1" rot="3727800">
                  <a:off x="7110360" y="2568600"/>
                  <a:ext cx="6480" cy="12960"/>
                </a:xfrm>
                <a:prstGeom prst="ellipse">
                  <a:avLst/>
                </a:prstGeom>
                <a:solidFill>
                  <a:srgbClr val="663366"/>
                </a:solidFill>
                <a:ln w="9360">
                  <a:solidFill>
                    <a:srgbClr val="66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5" name="AutoShape 107"/>
                <p:cNvSpPr/>
                <p:nvPr/>
              </p:nvSpPr>
              <p:spPr>
                <a:xfrm flipH="1" flipV="1">
                  <a:off x="7370280" y="2648160"/>
                  <a:ext cx="24480" cy="21600"/>
                </a:xfrm>
                <a:custGeom>
                  <a:avLst/>
                  <a:gdLst>
                    <a:gd name="textAreaLeft" fmla="*/ 15120 w 24480"/>
                    <a:gd name="textAreaRight" fmla="*/ 15840 w 24480"/>
                    <a:gd name="textAreaTop" fmla="*/ 720 h 21600"/>
                    <a:gd name="textAreaBottom" fmla="*/ 20880 h 21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7719" y="2482"/>
                        <a:pt x="13837" y="5080"/>
                        <a:pt x="13837" y="10800"/>
                      </a:cubicBezTo>
                      <a:cubicBezTo>
                        <a:pt x="13837" y="16520"/>
                        <a:pt x="17719" y="1911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6" name="Freeform 108"/>
                <p:cNvSpPr/>
                <p:nvPr/>
              </p:nvSpPr>
              <p:spPr>
                <a:xfrm rot="444000">
                  <a:off x="7167240" y="2481840"/>
                  <a:ext cx="84240" cy="136080"/>
                </a:xfrm>
                <a:custGeom>
                  <a:avLst/>
                  <a:gdLst>
                    <a:gd name="textAreaLeft" fmla="*/ 0 w 84240"/>
                    <a:gd name="textAreaRight" fmla="*/ 84600 w 84240"/>
                    <a:gd name="textAreaTop" fmla="*/ 0 h 136080"/>
                    <a:gd name="textAreaBottom" fmla="*/ 136440 h 136080"/>
                  </a:gdLst>
                  <a:ahLst/>
                  <a:rect l="textAreaLeft" t="textAreaTop" r="textAreaRight" b="textAreaBottom"/>
                  <a:pathLst>
                    <a:path w="196" h="430">
                      <a:moveTo>
                        <a:pt x="15" y="60"/>
                      </a:moveTo>
                      <a:cubicBezTo>
                        <a:pt x="30" y="0"/>
                        <a:pt x="76" y="7"/>
                        <a:pt x="106" y="14"/>
                      </a:cubicBezTo>
                      <a:cubicBezTo>
                        <a:pt x="136" y="21"/>
                        <a:pt x="196" y="45"/>
                        <a:pt x="196" y="105"/>
                      </a:cubicBezTo>
                      <a:cubicBezTo>
                        <a:pt x="196" y="165"/>
                        <a:pt x="136" y="332"/>
                        <a:pt x="106" y="377"/>
                      </a:cubicBezTo>
                      <a:cubicBezTo>
                        <a:pt x="76" y="422"/>
                        <a:pt x="30" y="430"/>
                        <a:pt x="15" y="377"/>
                      </a:cubicBezTo>
                      <a:cubicBezTo>
                        <a:pt x="0" y="324"/>
                        <a:pt x="0" y="120"/>
                        <a:pt x="15" y="60"/>
                      </a:cubicBezTo>
                      <a:close/>
                    </a:path>
                  </a:pathLst>
                </a:custGeom>
                <a:blipFill rotWithShape="0">
                  <a:blip r:embed="rId1"/>
                  <a:srcRect/>
                  <a:tile tx="0" ty="0" sx="100000" sy="100000" algn="ctr"/>
                </a:blipFill>
                <a:ln w="9360">
                  <a:solidFill>
                    <a:srgbClr val="66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67" name="Group 109"/>
            <p:cNvGrpSpPr/>
            <p:nvPr/>
          </p:nvGrpSpPr>
          <p:grpSpPr>
            <a:xfrm>
              <a:off x="7434720" y="2115360"/>
              <a:ext cx="398520" cy="414360"/>
              <a:chOff x="7434720" y="2115360"/>
              <a:chExt cx="398520" cy="414360"/>
            </a:xfrm>
          </p:grpSpPr>
          <p:sp>
            <p:nvSpPr>
              <p:cNvPr id="868" name="Oval 110"/>
              <p:cNvSpPr/>
              <p:nvPr/>
            </p:nvSpPr>
            <p:spPr>
              <a:xfrm flipV="1" rot="21360000">
                <a:off x="7612200" y="2440080"/>
                <a:ext cx="53640" cy="61920"/>
              </a:xfrm>
              <a:prstGeom prst="ellips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42426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AutoShape 111"/>
              <p:cNvSpPr/>
              <p:nvPr/>
            </p:nvSpPr>
            <p:spPr>
              <a:xfrm flipV="1" rot="21360000">
                <a:off x="7649640" y="2458080"/>
                <a:ext cx="24840" cy="21600"/>
              </a:xfrm>
              <a:custGeom>
                <a:avLst/>
                <a:gdLst>
                  <a:gd name="textAreaLeft" fmla="*/ 15120 w 24840"/>
                  <a:gd name="textAreaRight" fmla="*/ 15840 w 24840"/>
                  <a:gd name="textAreaTop" fmla="*/ 720 h 21600"/>
                  <a:gd name="textAreaBottom" fmla="*/ 20880 h 21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7719" y="2482"/>
                      <a:pt x="13837" y="5080"/>
                      <a:pt x="13837" y="10800"/>
                    </a:cubicBezTo>
                    <a:cubicBezTo>
                      <a:pt x="13837" y="16520"/>
                      <a:pt x="17719" y="1911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Freeform 112"/>
              <p:cNvSpPr/>
              <p:nvPr/>
            </p:nvSpPr>
            <p:spPr>
              <a:xfrm flipV="1" rot="297000">
                <a:off x="7627680" y="2502000"/>
                <a:ext cx="12600" cy="2700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-360 h 27000"/>
                  <a:gd name="textAreaBottom" fmla="*/ 27000 h 27000"/>
                </a:gdLst>
                <a:ahLst/>
                <a:rect l="textAreaLeft" t="textAreaTop" r="textAreaRight" b="textAreaBottom"/>
                <a:pathLst>
                  <a:path w="90" h="181">
                    <a:moveTo>
                      <a:pt x="45" y="181"/>
                    </a:moveTo>
                    <a:cubicBezTo>
                      <a:pt x="30" y="181"/>
                      <a:pt x="0" y="120"/>
                      <a:pt x="0" y="90"/>
                    </a:cubicBezTo>
                    <a:cubicBezTo>
                      <a:pt x="0" y="60"/>
                      <a:pt x="30" y="0"/>
                      <a:pt x="45" y="0"/>
                    </a:cubicBezTo>
                    <a:cubicBezTo>
                      <a:pt x="60" y="0"/>
                      <a:pt x="90" y="60"/>
                      <a:pt x="90" y="90"/>
                    </a:cubicBezTo>
                    <a:cubicBezTo>
                      <a:pt x="90" y="120"/>
                      <a:pt x="60" y="181"/>
                      <a:pt x="45" y="181"/>
                    </a:cubicBezTo>
                    <a:close/>
                  </a:path>
                </a:pathLst>
              </a:custGeom>
              <a:noFill/>
              <a:ln w="64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Freeform 113"/>
              <p:cNvSpPr/>
              <p:nvPr/>
            </p:nvSpPr>
            <p:spPr>
              <a:xfrm flipV="1" rot="20640600">
                <a:off x="7632720" y="2500920"/>
                <a:ext cx="12960" cy="2700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-360 h 27000"/>
                  <a:gd name="textAreaBottom" fmla="*/ 27000 h 27000"/>
                </a:gdLst>
                <a:ahLst/>
                <a:rect l="textAreaLeft" t="textAreaTop" r="textAreaRight" b="textAreaBottom"/>
                <a:pathLst>
                  <a:path w="90" h="181">
                    <a:moveTo>
                      <a:pt x="45" y="181"/>
                    </a:moveTo>
                    <a:cubicBezTo>
                      <a:pt x="30" y="181"/>
                      <a:pt x="0" y="120"/>
                      <a:pt x="0" y="90"/>
                    </a:cubicBezTo>
                    <a:cubicBezTo>
                      <a:pt x="0" y="60"/>
                      <a:pt x="30" y="0"/>
                      <a:pt x="45" y="0"/>
                    </a:cubicBezTo>
                    <a:cubicBezTo>
                      <a:pt x="60" y="0"/>
                      <a:pt x="90" y="60"/>
                      <a:pt x="90" y="90"/>
                    </a:cubicBezTo>
                    <a:cubicBezTo>
                      <a:pt x="90" y="120"/>
                      <a:pt x="60" y="181"/>
                      <a:pt x="45" y="181"/>
                    </a:cubicBezTo>
                    <a:close/>
                  </a:path>
                </a:pathLst>
              </a:custGeom>
              <a:noFill/>
              <a:ln w="64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Freeform 114"/>
              <p:cNvSpPr/>
              <p:nvPr/>
            </p:nvSpPr>
            <p:spPr>
              <a:xfrm flipH="1" flipV="1" rot="16437600">
                <a:off x="7654320" y="2487240"/>
                <a:ext cx="11520" cy="29520"/>
              </a:xfrm>
              <a:custGeom>
                <a:avLst/>
                <a:gdLst>
                  <a:gd name="textAreaLeft" fmla="*/ 360 w 11520"/>
                  <a:gd name="textAreaRight" fmla="*/ 12240 w 11520"/>
                  <a:gd name="textAreaTop" fmla="*/ 360 h 29520"/>
                  <a:gd name="textAreaBottom" fmla="*/ 30240 h 29520"/>
                </a:gdLst>
                <a:ahLst/>
                <a:rect l="textAreaLeft" t="textAreaTop" r="textAreaRight" b="textAreaBottom"/>
                <a:pathLst>
                  <a:path w="90" h="181">
                    <a:moveTo>
                      <a:pt x="45" y="181"/>
                    </a:moveTo>
                    <a:cubicBezTo>
                      <a:pt x="30" y="181"/>
                      <a:pt x="0" y="120"/>
                      <a:pt x="0" y="90"/>
                    </a:cubicBezTo>
                    <a:cubicBezTo>
                      <a:pt x="0" y="60"/>
                      <a:pt x="30" y="0"/>
                      <a:pt x="45" y="0"/>
                    </a:cubicBezTo>
                    <a:cubicBezTo>
                      <a:pt x="60" y="0"/>
                      <a:pt x="90" y="60"/>
                      <a:pt x="90" y="90"/>
                    </a:cubicBezTo>
                    <a:cubicBezTo>
                      <a:pt x="90" y="120"/>
                      <a:pt x="60" y="181"/>
                      <a:pt x="45" y="181"/>
                    </a:cubicBezTo>
                    <a:close/>
                  </a:path>
                </a:pathLst>
              </a:custGeom>
              <a:noFill/>
              <a:ln w="64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115"/>
              <p:cNvSpPr/>
              <p:nvPr/>
            </p:nvSpPr>
            <p:spPr>
              <a:xfrm flipH="1" flipV="1" rot="17543400">
                <a:off x="7653960" y="2490480"/>
                <a:ext cx="11520" cy="29520"/>
              </a:xfrm>
              <a:custGeom>
                <a:avLst/>
                <a:gdLst>
                  <a:gd name="textAreaLeft" fmla="*/ 360 w 11520"/>
                  <a:gd name="textAreaRight" fmla="*/ 12240 w 11520"/>
                  <a:gd name="textAreaTop" fmla="*/ 360 h 29520"/>
                  <a:gd name="textAreaBottom" fmla="*/ 30240 h 29520"/>
                </a:gdLst>
                <a:ahLst/>
                <a:rect l="textAreaLeft" t="textAreaTop" r="textAreaRight" b="textAreaBottom"/>
                <a:pathLst>
                  <a:path w="90" h="181">
                    <a:moveTo>
                      <a:pt x="45" y="181"/>
                    </a:moveTo>
                    <a:cubicBezTo>
                      <a:pt x="30" y="181"/>
                      <a:pt x="0" y="120"/>
                      <a:pt x="0" y="90"/>
                    </a:cubicBezTo>
                    <a:cubicBezTo>
                      <a:pt x="0" y="60"/>
                      <a:pt x="30" y="0"/>
                      <a:pt x="45" y="0"/>
                    </a:cubicBezTo>
                    <a:cubicBezTo>
                      <a:pt x="60" y="0"/>
                      <a:pt x="90" y="60"/>
                      <a:pt x="90" y="90"/>
                    </a:cubicBezTo>
                    <a:cubicBezTo>
                      <a:pt x="90" y="120"/>
                      <a:pt x="60" y="181"/>
                      <a:pt x="45" y="181"/>
                    </a:cubicBezTo>
                    <a:close/>
                  </a:path>
                </a:pathLst>
              </a:custGeom>
              <a:noFill/>
              <a:ln w="64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116"/>
              <p:cNvSpPr/>
              <p:nvPr/>
            </p:nvSpPr>
            <p:spPr>
              <a:xfrm flipH="1" flipV="1" rot="18799800">
                <a:off x="7651080" y="2495160"/>
                <a:ext cx="11520" cy="29520"/>
              </a:xfrm>
              <a:custGeom>
                <a:avLst/>
                <a:gdLst>
                  <a:gd name="textAreaLeft" fmla="*/ 360 w 11520"/>
                  <a:gd name="textAreaRight" fmla="*/ 12240 w 11520"/>
                  <a:gd name="textAreaTop" fmla="*/ 360 h 29520"/>
                  <a:gd name="textAreaBottom" fmla="*/ 30240 h 29520"/>
                </a:gdLst>
                <a:ahLst/>
                <a:rect l="textAreaLeft" t="textAreaTop" r="textAreaRight" b="textAreaBottom"/>
                <a:pathLst>
                  <a:path w="90" h="181">
                    <a:moveTo>
                      <a:pt x="45" y="181"/>
                    </a:moveTo>
                    <a:cubicBezTo>
                      <a:pt x="30" y="181"/>
                      <a:pt x="0" y="120"/>
                      <a:pt x="0" y="90"/>
                    </a:cubicBezTo>
                    <a:cubicBezTo>
                      <a:pt x="0" y="60"/>
                      <a:pt x="30" y="0"/>
                      <a:pt x="45" y="0"/>
                    </a:cubicBezTo>
                    <a:cubicBezTo>
                      <a:pt x="60" y="0"/>
                      <a:pt x="90" y="60"/>
                      <a:pt x="90" y="90"/>
                    </a:cubicBezTo>
                    <a:cubicBezTo>
                      <a:pt x="90" y="120"/>
                      <a:pt x="60" y="181"/>
                      <a:pt x="45" y="181"/>
                    </a:cubicBezTo>
                    <a:close/>
                  </a:path>
                </a:pathLst>
              </a:custGeom>
              <a:noFill/>
              <a:ln w="64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117"/>
              <p:cNvSpPr/>
              <p:nvPr/>
            </p:nvSpPr>
            <p:spPr>
              <a:xfrm flipV="1" rot="21360000">
                <a:off x="7628400" y="2421000"/>
                <a:ext cx="10440" cy="1800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360 h 18000"/>
                  <a:gd name="textAreaBottom" fmla="*/ 18720 h 18000"/>
                </a:gdLst>
                <a:ahLst/>
                <a:rect l="textAreaLeft" t="textAreaTop" r="textAreaRight" b="textAreaBottom"/>
                <a:pathLst>
                  <a:path w="36" h="68">
                    <a:moveTo>
                      <a:pt x="9" y="0"/>
                    </a:moveTo>
                    <a:cubicBezTo>
                      <a:pt x="10" y="0"/>
                      <a:pt x="30" y="5"/>
                      <a:pt x="24" y="12"/>
                    </a:cubicBezTo>
                    <a:cubicBezTo>
                      <a:pt x="20" y="17"/>
                      <a:pt x="6" y="18"/>
                      <a:pt x="6" y="18"/>
                    </a:cubicBezTo>
                    <a:cubicBezTo>
                      <a:pt x="8" y="21"/>
                      <a:pt x="9" y="25"/>
                      <a:pt x="12" y="27"/>
                    </a:cubicBezTo>
                    <a:cubicBezTo>
                      <a:pt x="22" y="35"/>
                      <a:pt x="32" y="35"/>
                      <a:pt x="6" y="42"/>
                    </a:cubicBezTo>
                    <a:cubicBezTo>
                      <a:pt x="36" y="52"/>
                      <a:pt x="23" y="55"/>
                      <a:pt x="0" y="60"/>
                    </a:cubicBezTo>
                    <a:cubicBezTo>
                      <a:pt x="13" y="68"/>
                      <a:pt x="8" y="63"/>
                      <a:pt x="21" y="63"/>
                    </a:cubicBezTo>
                  </a:path>
                </a:pathLst>
              </a:custGeom>
              <a:noFill/>
              <a:ln w="9360">
                <a:solidFill>
                  <a:srgbClr val="66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118"/>
              <p:cNvSpPr/>
              <p:nvPr/>
            </p:nvSpPr>
            <p:spPr>
              <a:xfrm flipV="1" rot="21360000">
                <a:off x="7634880" y="2419200"/>
                <a:ext cx="10440" cy="1836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-360 h 18360"/>
                  <a:gd name="textAreaBottom" fmla="*/ 18360 h 18360"/>
                </a:gdLst>
                <a:ahLst/>
                <a:rect l="textAreaLeft" t="textAreaTop" r="textAreaRight" b="textAreaBottom"/>
                <a:pathLst>
                  <a:path w="36" h="68">
                    <a:moveTo>
                      <a:pt x="9" y="0"/>
                    </a:moveTo>
                    <a:cubicBezTo>
                      <a:pt x="10" y="0"/>
                      <a:pt x="30" y="5"/>
                      <a:pt x="24" y="12"/>
                    </a:cubicBezTo>
                    <a:cubicBezTo>
                      <a:pt x="20" y="17"/>
                      <a:pt x="6" y="18"/>
                      <a:pt x="6" y="18"/>
                    </a:cubicBezTo>
                    <a:cubicBezTo>
                      <a:pt x="8" y="21"/>
                      <a:pt x="9" y="25"/>
                      <a:pt x="12" y="27"/>
                    </a:cubicBezTo>
                    <a:cubicBezTo>
                      <a:pt x="22" y="35"/>
                      <a:pt x="32" y="35"/>
                      <a:pt x="6" y="42"/>
                    </a:cubicBezTo>
                    <a:cubicBezTo>
                      <a:pt x="36" y="52"/>
                      <a:pt x="23" y="55"/>
                      <a:pt x="0" y="60"/>
                    </a:cubicBezTo>
                    <a:cubicBezTo>
                      <a:pt x="13" y="68"/>
                      <a:pt x="8" y="63"/>
                      <a:pt x="21" y="63"/>
                    </a:cubicBezTo>
                  </a:path>
                </a:pathLst>
              </a:custGeom>
              <a:noFill/>
              <a:ln w="9360">
                <a:solidFill>
                  <a:srgbClr val="66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Oval 119"/>
              <p:cNvSpPr/>
              <p:nvPr/>
            </p:nvSpPr>
            <p:spPr>
              <a:xfrm flipV="1" rot="21360000">
                <a:off x="7628040" y="2407680"/>
                <a:ext cx="6120" cy="12240"/>
              </a:xfrm>
              <a:prstGeom prst="ellipse">
                <a:avLst/>
              </a:prstGeom>
              <a:solidFill>
                <a:srgbClr val="663366"/>
              </a:solidFill>
              <a:ln w="9360">
                <a:solidFill>
                  <a:srgbClr val="66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Oval 120"/>
              <p:cNvSpPr/>
              <p:nvPr/>
            </p:nvSpPr>
            <p:spPr>
              <a:xfrm flipV="1" rot="21360000">
                <a:off x="7634160" y="2406960"/>
                <a:ext cx="6840" cy="12240"/>
              </a:xfrm>
              <a:prstGeom prst="ellipse">
                <a:avLst/>
              </a:prstGeom>
              <a:solidFill>
                <a:srgbClr val="663366"/>
              </a:solidFill>
              <a:ln w="9360">
                <a:solidFill>
                  <a:srgbClr val="66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121"/>
              <p:cNvSpPr/>
              <p:nvPr/>
            </p:nvSpPr>
            <p:spPr>
              <a:xfrm flipV="1" rot="1402800">
                <a:off x="7624080" y="2500200"/>
                <a:ext cx="12960" cy="2700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-360 h 27000"/>
                  <a:gd name="textAreaBottom" fmla="*/ 27000 h 27000"/>
                </a:gdLst>
                <a:ahLst/>
                <a:rect l="textAreaLeft" t="textAreaTop" r="textAreaRight" b="textAreaBottom"/>
                <a:pathLst>
                  <a:path w="90" h="181">
                    <a:moveTo>
                      <a:pt x="45" y="181"/>
                    </a:moveTo>
                    <a:cubicBezTo>
                      <a:pt x="30" y="181"/>
                      <a:pt x="0" y="120"/>
                      <a:pt x="0" y="90"/>
                    </a:cubicBezTo>
                    <a:cubicBezTo>
                      <a:pt x="0" y="60"/>
                      <a:pt x="30" y="0"/>
                      <a:pt x="45" y="0"/>
                    </a:cubicBezTo>
                    <a:cubicBezTo>
                      <a:pt x="60" y="0"/>
                      <a:pt x="90" y="60"/>
                      <a:pt x="90" y="90"/>
                    </a:cubicBezTo>
                    <a:cubicBezTo>
                      <a:pt x="90" y="120"/>
                      <a:pt x="60" y="181"/>
                      <a:pt x="45" y="181"/>
                    </a:cubicBezTo>
                    <a:close/>
                  </a:path>
                </a:pathLst>
              </a:custGeom>
              <a:noFill/>
              <a:ln w="64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Oval 122"/>
              <p:cNvSpPr/>
              <p:nvPr/>
            </p:nvSpPr>
            <p:spPr>
              <a:xfrm rot="720000">
                <a:off x="7607520" y="2463120"/>
                <a:ext cx="19800" cy="18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1" name="Group 123"/>
              <p:cNvGrpSpPr/>
              <p:nvPr/>
            </p:nvGrpSpPr>
            <p:grpSpPr>
              <a:xfrm>
                <a:off x="7434720" y="2115360"/>
                <a:ext cx="398520" cy="341280"/>
                <a:chOff x="7434720" y="2115360"/>
                <a:chExt cx="398520" cy="341280"/>
              </a:xfrm>
            </p:grpSpPr>
            <p:sp>
              <p:nvSpPr>
                <p:cNvPr id="882" name="Oval 124"/>
                <p:cNvSpPr/>
                <p:nvPr/>
              </p:nvSpPr>
              <p:spPr>
                <a:xfrm>
                  <a:off x="7515000" y="2200680"/>
                  <a:ext cx="254160" cy="236880"/>
                </a:xfrm>
                <a:prstGeom prst="ellipse">
                  <a:avLst/>
                </a:prstGeom>
                <a:solidFill>
                  <a:srgbClr val="666699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3" name="Oval 125"/>
                <p:cNvSpPr/>
                <p:nvPr/>
              </p:nvSpPr>
              <p:spPr>
                <a:xfrm>
                  <a:off x="7536240" y="2220480"/>
                  <a:ext cx="212040" cy="197280"/>
                </a:xfrm>
                <a:prstGeom prst="ellipse">
                  <a:avLst/>
                </a:prstGeom>
                <a:solidFill>
                  <a:srgbClr val="66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4" name="Oval 126"/>
                <p:cNvSpPr/>
                <p:nvPr/>
              </p:nvSpPr>
              <p:spPr>
                <a:xfrm>
                  <a:off x="7614720" y="2138760"/>
                  <a:ext cx="53280" cy="6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424267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5" name="AutoShape 127"/>
                <p:cNvSpPr/>
                <p:nvPr/>
              </p:nvSpPr>
              <p:spPr>
                <a:xfrm flipH="1">
                  <a:off x="7605000" y="2159280"/>
                  <a:ext cx="24480" cy="21600"/>
                </a:xfrm>
                <a:custGeom>
                  <a:avLst/>
                  <a:gdLst>
                    <a:gd name="textAreaLeft" fmla="*/ 15120 w 24480"/>
                    <a:gd name="textAreaRight" fmla="*/ 15840 w 24480"/>
                    <a:gd name="textAreaTop" fmla="*/ 720 h 21600"/>
                    <a:gd name="textAreaBottom" fmla="*/ 20880 h 21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7719" y="2482"/>
                        <a:pt x="13837" y="5080"/>
                        <a:pt x="13837" y="10800"/>
                      </a:cubicBezTo>
                      <a:cubicBezTo>
                        <a:pt x="13837" y="16520"/>
                        <a:pt x="17719" y="1911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6" name="AutoShape 128"/>
                <p:cNvSpPr/>
                <p:nvPr/>
              </p:nvSpPr>
              <p:spPr>
                <a:xfrm>
                  <a:off x="7653240" y="2159280"/>
                  <a:ext cx="24480" cy="21600"/>
                </a:xfrm>
                <a:custGeom>
                  <a:avLst/>
                  <a:gdLst>
                    <a:gd name="textAreaLeft" fmla="*/ 15120 w 24480"/>
                    <a:gd name="textAreaRight" fmla="*/ 15840 w 24480"/>
                    <a:gd name="textAreaTop" fmla="*/ 720 h 21600"/>
                    <a:gd name="textAreaBottom" fmla="*/ 20880 h 21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7719" y="2482"/>
                        <a:pt x="13837" y="5080"/>
                        <a:pt x="13837" y="10800"/>
                      </a:cubicBezTo>
                      <a:cubicBezTo>
                        <a:pt x="13837" y="16520"/>
                        <a:pt x="17719" y="1911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7" name="Freeform 129"/>
                <p:cNvSpPr/>
                <p:nvPr/>
              </p:nvSpPr>
              <p:spPr>
                <a:xfrm rot="16677600">
                  <a:off x="7613280" y="2121480"/>
                  <a:ext cx="12240" cy="29520"/>
                </a:xfrm>
                <a:custGeom>
                  <a:avLst/>
                  <a:gdLst>
                    <a:gd name="textAreaLeft" fmla="*/ 0 w 12240"/>
                    <a:gd name="textAreaRight" fmla="*/ 12600 w 12240"/>
                    <a:gd name="textAreaTop" fmla="*/ 0 h 29520"/>
                    <a:gd name="textAreaBottom" fmla="*/ 29880 h 2952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8" name="Freeform 130"/>
                <p:cNvSpPr/>
                <p:nvPr/>
              </p:nvSpPr>
              <p:spPr>
                <a:xfrm rot="17784000">
                  <a:off x="7614720" y="2118240"/>
                  <a:ext cx="11520" cy="2952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0 h 29520"/>
                    <a:gd name="textAreaBottom" fmla="*/ 29880 h 2952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9" name="Freeform 131"/>
                <p:cNvSpPr/>
                <p:nvPr/>
              </p:nvSpPr>
              <p:spPr>
                <a:xfrm rot="19039800">
                  <a:off x="7617600" y="2116080"/>
                  <a:ext cx="12600" cy="27360"/>
                </a:xfrm>
                <a:custGeom>
                  <a:avLst/>
                  <a:gdLst>
                    <a:gd name="textAreaLeft" fmla="*/ 0 w 12600"/>
                    <a:gd name="textAreaRight" fmla="*/ 12960 w 12600"/>
                    <a:gd name="textAreaTop" fmla="*/ 0 h 27360"/>
                    <a:gd name="textAreaBottom" fmla="*/ 27720 h 2736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Freeform 132"/>
                <p:cNvSpPr/>
                <p:nvPr/>
              </p:nvSpPr>
              <p:spPr>
                <a:xfrm flipH="1" rot="4922400">
                  <a:off x="7653600" y="2121840"/>
                  <a:ext cx="12240" cy="29160"/>
                </a:xfrm>
                <a:custGeom>
                  <a:avLst/>
                  <a:gdLst>
                    <a:gd name="textAreaLeft" fmla="*/ 360 w 12240"/>
                    <a:gd name="textAreaRight" fmla="*/ 12960 w 1224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1" name="Freeform 133"/>
                <p:cNvSpPr/>
                <p:nvPr/>
              </p:nvSpPr>
              <p:spPr>
                <a:xfrm flipH="1" rot="3816000">
                  <a:off x="7653240" y="2118600"/>
                  <a:ext cx="11520" cy="28800"/>
                </a:xfrm>
                <a:custGeom>
                  <a:avLst/>
                  <a:gdLst>
                    <a:gd name="textAreaLeft" fmla="*/ 360 w 11520"/>
                    <a:gd name="textAreaRight" fmla="*/ 12240 w 1152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2" name="Freeform 134"/>
                <p:cNvSpPr/>
                <p:nvPr/>
              </p:nvSpPr>
              <p:spPr>
                <a:xfrm flipH="1" rot="2560200">
                  <a:off x="7649280" y="2116080"/>
                  <a:ext cx="12600" cy="27360"/>
                </a:xfrm>
                <a:custGeom>
                  <a:avLst/>
                  <a:gdLst>
                    <a:gd name="textAreaLeft" fmla="*/ -360 w 12600"/>
                    <a:gd name="textAreaRight" fmla="*/ 12600 w 12600"/>
                    <a:gd name="textAreaTop" fmla="*/ 0 h 27360"/>
                    <a:gd name="textAreaBottom" fmla="*/ 27720 h 2736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Freeform 135"/>
                <p:cNvSpPr/>
                <p:nvPr/>
              </p:nvSpPr>
              <p:spPr>
                <a:xfrm>
                  <a:off x="7634520" y="2202120"/>
                  <a:ext cx="10080" cy="1872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18720"/>
                    <a:gd name="textAreaBottom" fmla="*/ 19080 h 18720"/>
                  </a:gdLst>
                  <a:ahLst/>
                  <a:rect l="textAreaLeft" t="textAreaTop" r="textAreaRight" b="textAreaBottom"/>
                  <a:pathLst>
                    <a:path w="36" h="68">
                      <a:moveTo>
                        <a:pt x="9" y="0"/>
                      </a:moveTo>
                      <a:cubicBezTo>
                        <a:pt x="10" y="0"/>
                        <a:pt x="30" y="5"/>
                        <a:pt x="24" y="12"/>
                      </a:cubicBezTo>
                      <a:cubicBezTo>
                        <a:pt x="20" y="17"/>
                        <a:pt x="6" y="18"/>
                        <a:pt x="6" y="18"/>
                      </a:cubicBezTo>
                      <a:cubicBezTo>
                        <a:pt x="8" y="21"/>
                        <a:pt x="9" y="25"/>
                        <a:pt x="12" y="27"/>
                      </a:cubicBezTo>
                      <a:cubicBezTo>
                        <a:pt x="22" y="35"/>
                        <a:pt x="32" y="35"/>
                        <a:pt x="6" y="42"/>
                      </a:cubicBezTo>
                      <a:cubicBezTo>
                        <a:pt x="36" y="52"/>
                        <a:pt x="23" y="55"/>
                        <a:pt x="0" y="60"/>
                      </a:cubicBezTo>
                      <a:cubicBezTo>
                        <a:pt x="13" y="68"/>
                        <a:pt x="8" y="63"/>
                        <a:pt x="21" y="63"/>
                      </a:cubicBezTo>
                    </a:path>
                  </a:pathLst>
                </a:custGeom>
                <a:solidFill>
                  <a:srgbClr val="663366"/>
                </a:solidFill>
                <a:ln w="9360">
                  <a:solidFill>
                    <a:srgbClr val="66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Freeform 136"/>
                <p:cNvSpPr/>
                <p:nvPr/>
              </p:nvSpPr>
              <p:spPr>
                <a:xfrm>
                  <a:off x="7641000" y="2202840"/>
                  <a:ext cx="10080" cy="1800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18000"/>
                    <a:gd name="textAreaBottom" fmla="*/ 18360 h 18000"/>
                  </a:gdLst>
                  <a:ahLst/>
                  <a:rect l="textAreaLeft" t="textAreaTop" r="textAreaRight" b="textAreaBottom"/>
                  <a:pathLst>
                    <a:path w="36" h="68">
                      <a:moveTo>
                        <a:pt x="9" y="0"/>
                      </a:moveTo>
                      <a:cubicBezTo>
                        <a:pt x="10" y="0"/>
                        <a:pt x="30" y="5"/>
                        <a:pt x="24" y="12"/>
                      </a:cubicBezTo>
                      <a:cubicBezTo>
                        <a:pt x="20" y="17"/>
                        <a:pt x="6" y="18"/>
                        <a:pt x="6" y="18"/>
                      </a:cubicBezTo>
                      <a:cubicBezTo>
                        <a:pt x="8" y="21"/>
                        <a:pt x="9" y="25"/>
                        <a:pt x="12" y="27"/>
                      </a:cubicBezTo>
                      <a:cubicBezTo>
                        <a:pt x="22" y="35"/>
                        <a:pt x="32" y="35"/>
                        <a:pt x="6" y="42"/>
                      </a:cubicBezTo>
                      <a:cubicBezTo>
                        <a:pt x="36" y="52"/>
                        <a:pt x="23" y="55"/>
                        <a:pt x="0" y="60"/>
                      </a:cubicBezTo>
                      <a:cubicBezTo>
                        <a:pt x="13" y="68"/>
                        <a:pt x="8" y="63"/>
                        <a:pt x="21" y="63"/>
                      </a:cubicBezTo>
                    </a:path>
                  </a:pathLst>
                </a:custGeom>
                <a:solidFill>
                  <a:srgbClr val="663366"/>
                </a:solidFill>
                <a:ln w="9360">
                  <a:solidFill>
                    <a:srgbClr val="66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5" name="Oval 137"/>
                <p:cNvSpPr/>
                <p:nvPr/>
              </p:nvSpPr>
              <p:spPr>
                <a:xfrm>
                  <a:off x="7635240" y="2220840"/>
                  <a:ext cx="6120" cy="12240"/>
                </a:xfrm>
                <a:prstGeom prst="ellipse">
                  <a:avLst/>
                </a:prstGeom>
                <a:solidFill>
                  <a:srgbClr val="663366"/>
                </a:solidFill>
                <a:ln w="9360">
                  <a:solidFill>
                    <a:srgbClr val="66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6" name="Oval 138"/>
                <p:cNvSpPr/>
                <p:nvPr/>
              </p:nvSpPr>
              <p:spPr>
                <a:xfrm>
                  <a:off x="7641360" y="2221200"/>
                  <a:ext cx="6480" cy="12240"/>
                </a:xfrm>
                <a:prstGeom prst="ellipse">
                  <a:avLst/>
                </a:prstGeom>
                <a:solidFill>
                  <a:srgbClr val="663366"/>
                </a:solidFill>
                <a:ln w="9360">
                  <a:solidFill>
                    <a:srgbClr val="66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7" name="Oval 139"/>
                <p:cNvSpPr/>
                <p:nvPr/>
              </p:nvSpPr>
              <p:spPr>
                <a:xfrm rot="3348000">
                  <a:off x="7749360" y="2202840"/>
                  <a:ext cx="49320" cy="6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424267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 anchorCtr="1" vert="eaVert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8" name="AutoShape 140"/>
                <p:cNvSpPr/>
                <p:nvPr/>
              </p:nvSpPr>
              <p:spPr>
                <a:xfrm flipH="1" rot="3348000">
                  <a:off x="7747200" y="2206080"/>
                  <a:ext cx="23400" cy="22680"/>
                </a:xfrm>
                <a:custGeom>
                  <a:avLst/>
                  <a:gdLst>
                    <a:gd name="textAreaLeft" fmla="*/ 14040 w 23400"/>
                    <a:gd name="textAreaRight" fmla="*/ 14760 w 23400"/>
                    <a:gd name="textAreaTop" fmla="*/ 720 h 22680"/>
                    <a:gd name="textAreaBottom" fmla="*/ 21960 h 22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7719" y="2482"/>
                        <a:pt x="13837" y="5080"/>
                        <a:pt x="13837" y="10800"/>
                      </a:cubicBezTo>
                      <a:cubicBezTo>
                        <a:pt x="13837" y="16520"/>
                        <a:pt x="17719" y="1911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 anchorCtr="1" vert="eaVert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9" name="AutoShape 141"/>
                <p:cNvSpPr/>
                <p:nvPr/>
              </p:nvSpPr>
              <p:spPr>
                <a:xfrm rot="3348000">
                  <a:off x="7775280" y="2243520"/>
                  <a:ext cx="23040" cy="23040"/>
                </a:xfrm>
                <a:custGeom>
                  <a:avLst/>
                  <a:gdLst>
                    <a:gd name="textAreaLeft" fmla="*/ 14040 w 23040"/>
                    <a:gd name="textAreaRight" fmla="*/ 14760 w 23040"/>
                    <a:gd name="textAreaTop" fmla="*/ 720 h 23040"/>
                    <a:gd name="textAreaBottom" fmla="*/ 22320 h 23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7719" y="2482"/>
                        <a:pt x="13837" y="5080"/>
                        <a:pt x="13837" y="10800"/>
                      </a:cubicBezTo>
                      <a:cubicBezTo>
                        <a:pt x="13837" y="16520"/>
                        <a:pt x="17719" y="1911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 anchorCtr="1" vert="eaVert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0" name="Freeform 142"/>
                <p:cNvSpPr/>
                <p:nvPr/>
              </p:nvSpPr>
              <p:spPr>
                <a:xfrm rot="20025600">
                  <a:off x="7784280" y="2187000"/>
                  <a:ext cx="12960" cy="2736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0 h 27360"/>
                    <a:gd name="textAreaBottom" fmla="*/ 27720 h 2736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1" name="Freeform 143"/>
                <p:cNvSpPr/>
                <p:nvPr/>
              </p:nvSpPr>
              <p:spPr>
                <a:xfrm rot="21131400">
                  <a:off x="7788240" y="2185920"/>
                  <a:ext cx="12600" cy="27360"/>
                </a:xfrm>
                <a:custGeom>
                  <a:avLst/>
                  <a:gdLst>
                    <a:gd name="textAreaLeft" fmla="*/ 0 w 12600"/>
                    <a:gd name="textAreaRight" fmla="*/ 12960 w 12600"/>
                    <a:gd name="textAreaTop" fmla="*/ 0 h 27360"/>
                    <a:gd name="textAreaBottom" fmla="*/ 27720 h 2736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2" name="Freeform 144"/>
                <p:cNvSpPr/>
                <p:nvPr/>
              </p:nvSpPr>
              <p:spPr>
                <a:xfrm rot="787800">
                  <a:off x="7792920" y="2186640"/>
                  <a:ext cx="12960" cy="2664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0 h 26640"/>
                    <a:gd name="textAreaBottom" fmla="*/ 27000 h 2664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3" name="Freeform 145"/>
                <p:cNvSpPr/>
                <p:nvPr/>
              </p:nvSpPr>
              <p:spPr>
                <a:xfrm flipH="1" rot="8269800">
                  <a:off x="7807680" y="2217960"/>
                  <a:ext cx="12960" cy="27360"/>
                </a:xfrm>
                <a:custGeom>
                  <a:avLst/>
                  <a:gdLst>
                    <a:gd name="textAreaLeft" fmla="*/ 360 w 12960"/>
                    <a:gd name="textAreaRight" fmla="*/ 13680 w 12960"/>
                    <a:gd name="textAreaTop" fmla="*/ 0 h 27360"/>
                    <a:gd name="textAreaBottom" fmla="*/ 27720 h 2736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4" name="Freeform 146"/>
                <p:cNvSpPr/>
                <p:nvPr/>
              </p:nvSpPr>
              <p:spPr>
                <a:xfrm flipH="1" rot="7163400">
                  <a:off x="7810920" y="2214720"/>
                  <a:ext cx="11160" cy="29160"/>
                </a:xfrm>
                <a:custGeom>
                  <a:avLst/>
                  <a:gdLst>
                    <a:gd name="textAreaLeft" fmla="*/ -360 w 11160"/>
                    <a:gd name="textAreaRight" fmla="*/ 11160 w 1116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5" name="Freeform 147"/>
                <p:cNvSpPr/>
                <p:nvPr/>
              </p:nvSpPr>
              <p:spPr>
                <a:xfrm flipH="1" rot="5907600">
                  <a:off x="7811640" y="2210040"/>
                  <a:ext cx="11880" cy="29160"/>
                </a:xfrm>
                <a:custGeom>
                  <a:avLst/>
                  <a:gdLst>
                    <a:gd name="textAreaLeft" fmla="*/ -360 w 11880"/>
                    <a:gd name="textAreaRight" fmla="*/ 11880 w 1188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6" name="Freeform 148"/>
                <p:cNvSpPr/>
                <p:nvPr/>
              </p:nvSpPr>
              <p:spPr>
                <a:xfrm rot="3348000">
                  <a:off x="7731720" y="2248200"/>
                  <a:ext cx="9720" cy="19440"/>
                </a:xfrm>
                <a:custGeom>
                  <a:avLst/>
                  <a:gdLst>
                    <a:gd name="textAreaLeft" fmla="*/ 0 w 9720"/>
                    <a:gd name="textAreaRight" fmla="*/ 10080 w 9720"/>
                    <a:gd name="textAreaTop" fmla="*/ 0 h 19440"/>
                    <a:gd name="textAreaBottom" fmla="*/ 19800 h 19440"/>
                  </a:gdLst>
                  <a:ahLst/>
                  <a:rect l="textAreaLeft" t="textAreaTop" r="textAreaRight" b="textAreaBottom"/>
                  <a:pathLst>
                    <a:path w="36" h="68">
                      <a:moveTo>
                        <a:pt x="9" y="0"/>
                      </a:moveTo>
                      <a:cubicBezTo>
                        <a:pt x="10" y="0"/>
                        <a:pt x="30" y="5"/>
                        <a:pt x="24" y="12"/>
                      </a:cubicBezTo>
                      <a:cubicBezTo>
                        <a:pt x="20" y="17"/>
                        <a:pt x="6" y="18"/>
                        <a:pt x="6" y="18"/>
                      </a:cubicBezTo>
                      <a:cubicBezTo>
                        <a:pt x="8" y="21"/>
                        <a:pt x="9" y="25"/>
                        <a:pt x="12" y="27"/>
                      </a:cubicBezTo>
                      <a:cubicBezTo>
                        <a:pt x="22" y="35"/>
                        <a:pt x="32" y="35"/>
                        <a:pt x="6" y="42"/>
                      </a:cubicBezTo>
                      <a:cubicBezTo>
                        <a:pt x="36" y="52"/>
                        <a:pt x="23" y="55"/>
                        <a:pt x="0" y="60"/>
                      </a:cubicBezTo>
                      <a:cubicBezTo>
                        <a:pt x="13" y="68"/>
                        <a:pt x="8" y="63"/>
                        <a:pt x="21" y="63"/>
                      </a:cubicBezTo>
                    </a:path>
                  </a:pathLst>
                </a:custGeom>
                <a:solidFill>
                  <a:srgbClr val="663366"/>
                </a:solidFill>
                <a:ln w="9360">
                  <a:solidFill>
                    <a:srgbClr val="66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7" name="Freeform 149"/>
                <p:cNvSpPr/>
                <p:nvPr/>
              </p:nvSpPr>
              <p:spPr>
                <a:xfrm rot="3348000">
                  <a:off x="7734960" y="2253240"/>
                  <a:ext cx="9360" cy="19440"/>
                </a:xfrm>
                <a:custGeom>
                  <a:avLst/>
                  <a:gdLst>
                    <a:gd name="textAreaLeft" fmla="*/ 0 w 9360"/>
                    <a:gd name="textAreaRight" fmla="*/ 9720 w 9360"/>
                    <a:gd name="textAreaTop" fmla="*/ 0 h 19440"/>
                    <a:gd name="textAreaBottom" fmla="*/ 19800 h 19440"/>
                  </a:gdLst>
                  <a:ahLst/>
                  <a:rect l="textAreaLeft" t="textAreaTop" r="textAreaRight" b="textAreaBottom"/>
                  <a:pathLst>
                    <a:path w="36" h="68">
                      <a:moveTo>
                        <a:pt x="9" y="0"/>
                      </a:moveTo>
                      <a:cubicBezTo>
                        <a:pt x="10" y="0"/>
                        <a:pt x="30" y="5"/>
                        <a:pt x="24" y="12"/>
                      </a:cubicBezTo>
                      <a:cubicBezTo>
                        <a:pt x="20" y="17"/>
                        <a:pt x="6" y="18"/>
                        <a:pt x="6" y="18"/>
                      </a:cubicBezTo>
                      <a:cubicBezTo>
                        <a:pt x="8" y="21"/>
                        <a:pt x="9" y="25"/>
                        <a:pt x="12" y="27"/>
                      </a:cubicBezTo>
                      <a:cubicBezTo>
                        <a:pt x="22" y="35"/>
                        <a:pt x="32" y="35"/>
                        <a:pt x="6" y="42"/>
                      </a:cubicBezTo>
                      <a:cubicBezTo>
                        <a:pt x="36" y="52"/>
                        <a:pt x="23" y="55"/>
                        <a:pt x="0" y="60"/>
                      </a:cubicBezTo>
                      <a:cubicBezTo>
                        <a:pt x="13" y="68"/>
                        <a:pt x="8" y="63"/>
                        <a:pt x="21" y="63"/>
                      </a:cubicBezTo>
                    </a:path>
                  </a:pathLst>
                </a:custGeom>
                <a:solidFill>
                  <a:srgbClr val="663366"/>
                </a:solidFill>
                <a:ln w="9360">
                  <a:solidFill>
                    <a:srgbClr val="66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8" name="Oval 150"/>
                <p:cNvSpPr/>
                <p:nvPr/>
              </p:nvSpPr>
              <p:spPr>
                <a:xfrm rot="3348000">
                  <a:off x="7718760" y="2258640"/>
                  <a:ext cx="6120" cy="13320"/>
                </a:xfrm>
                <a:prstGeom prst="ellipse">
                  <a:avLst/>
                </a:prstGeom>
                <a:solidFill>
                  <a:srgbClr val="663366"/>
                </a:solidFill>
                <a:ln w="9360">
                  <a:solidFill>
                    <a:srgbClr val="66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 anchorCtr="1" vert="eaVert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9" name="Oval 151"/>
                <p:cNvSpPr/>
                <p:nvPr/>
              </p:nvSpPr>
              <p:spPr>
                <a:xfrm rot="3348000">
                  <a:off x="7722000" y="2264040"/>
                  <a:ext cx="6120" cy="13320"/>
                </a:xfrm>
                <a:prstGeom prst="ellipse">
                  <a:avLst/>
                </a:prstGeom>
                <a:solidFill>
                  <a:srgbClr val="663366"/>
                </a:solidFill>
                <a:ln w="9360">
                  <a:solidFill>
                    <a:srgbClr val="66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 anchorCtr="1" vert="eaVert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0" name="Oval 152"/>
                <p:cNvSpPr/>
                <p:nvPr/>
              </p:nvSpPr>
              <p:spPr>
                <a:xfrm flipH="1" rot="18252000">
                  <a:off x="7482960" y="2197800"/>
                  <a:ext cx="49680" cy="66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424267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1" name="AutoShape 153"/>
                <p:cNvSpPr/>
                <p:nvPr/>
              </p:nvSpPr>
              <p:spPr>
                <a:xfrm rot="18252000">
                  <a:off x="7510320" y="2201040"/>
                  <a:ext cx="23040" cy="23040"/>
                </a:xfrm>
                <a:custGeom>
                  <a:avLst/>
                  <a:gdLst>
                    <a:gd name="textAreaLeft" fmla="*/ 14040 w 23040"/>
                    <a:gd name="textAreaRight" fmla="*/ 14760 w 23040"/>
                    <a:gd name="textAreaTop" fmla="*/ 720 h 23040"/>
                    <a:gd name="textAreaBottom" fmla="*/ 22320 h 23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7719" y="2482"/>
                        <a:pt x="13837" y="5080"/>
                        <a:pt x="13837" y="10800"/>
                      </a:cubicBezTo>
                      <a:cubicBezTo>
                        <a:pt x="13837" y="16520"/>
                        <a:pt x="17719" y="1911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2" name="AutoShape 154"/>
                <p:cNvSpPr/>
                <p:nvPr/>
              </p:nvSpPr>
              <p:spPr>
                <a:xfrm flipH="1" rot="18252000">
                  <a:off x="7482240" y="2238840"/>
                  <a:ext cx="23040" cy="23040"/>
                </a:xfrm>
                <a:custGeom>
                  <a:avLst/>
                  <a:gdLst>
                    <a:gd name="textAreaLeft" fmla="*/ 14040 w 23040"/>
                    <a:gd name="textAreaRight" fmla="*/ 14760 w 23040"/>
                    <a:gd name="textAreaTop" fmla="*/ 720 h 23040"/>
                    <a:gd name="textAreaBottom" fmla="*/ 22320 h 23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7719" y="2482"/>
                        <a:pt x="13837" y="5080"/>
                        <a:pt x="13837" y="10800"/>
                      </a:cubicBezTo>
                      <a:cubicBezTo>
                        <a:pt x="13837" y="16520"/>
                        <a:pt x="17719" y="1911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3" name="Freeform 155"/>
                <p:cNvSpPr/>
                <p:nvPr/>
              </p:nvSpPr>
              <p:spPr>
                <a:xfrm flipH="1" rot="1574400">
                  <a:off x="7484040" y="2181240"/>
                  <a:ext cx="12240" cy="27360"/>
                </a:xfrm>
                <a:custGeom>
                  <a:avLst/>
                  <a:gdLst>
                    <a:gd name="textAreaLeft" fmla="*/ 360 w 12240"/>
                    <a:gd name="textAreaRight" fmla="*/ 12960 w 12240"/>
                    <a:gd name="textAreaTop" fmla="*/ 0 h 27360"/>
                    <a:gd name="textAreaBottom" fmla="*/ 27720 h 2736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4" name="Freeform 156"/>
                <p:cNvSpPr/>
                <p:nvPr/>
              </p:nvSpPr>
              <p:spPr>
                <a:xfrm flipH="1" rot="468600">
                  <a:off x="7480440" y="2181240"/>
                  <a:ext cx="12600" cy="27360"/>
                </a:xfrm>
                <a:custGeom>
                  <a:avLst/>
                  <a:gdLst>
                    <a:gd name="textAreaLeft" fmla="*/ -360 w 12600"/>
                    <a:gd name="textAreaRight" fmla="*/ 12600 w 12600"/>
                    <a:gd name="textAreaTop" fmla="*/ 0 h 27360"/>
                    <a:gd name="textAreaBottom" fmla="*/ 27720 h 2736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5" name="Freeform 157"/>
                <p:cNvSpPr/>
                <p:nvPr/>
              </p:nvSpPr>
              <p:spPr>
                <a:xfrm flipH="1" rot="20812200">
                  <a:off x="7475760" y="2181600"/>
                  <a:ext cx="12960" cy="26640"/>
                </a:xfrm>
                <a:custGeom>
                  <a:avLst/>
                  <a:gdLst>
                    <a:gd name="textAreaLeft" fmla="*/ 360 w 12960"/>
                    <a:gd name="textAreaRight" fmla="*/ 13680 w 12960"/>
                    <a:gd name="textAreaTop" fmla="*/ 0 h 26640"/>
                    <a:gd name="textAreaBottom" fmla="*/ 27000 h 2664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6" name="Freeform 158"/>
                <p:cNvSpPr/>
                <p:nvPr/>
              </p:nvSpPr>
              <p:spPr>
                <a:xfrm rot="13330200">
                  <a:off x="7461000" y="2213280"/>
                  <a:ext cx="12960" cy="2700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7" name="Freeform 159"/>
                <p:cNvSpPr/>
                <p:nvPr/>
              </p:nvSpPr>
              <p:spPr>
                <a:xfrm rot="14436600">
                  <a:off x="7459560" y="2209320"/>
                  <a:ext cx="11160" cy="29520"/>
                </a:xfrm>
                <a:custGeom>
                  <a:avLst/>
                  <a:gdLst>
                    <a:gd name="textAreaLeft" fmla="*/ 0 w 11160"/>
                    <a:gd name="textAreaRight" fmla="*/ 11520 w 11160"/>
                    <a:gd name="textAreaTop" fmla="*/ 0 h 29520"/>
                    <a:gd name="textAreaBottom" fmla="*/ 29880 h 2952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8" name="Freeform 160"/>
                <p:cNvSpPr/>
                <p:nvPr/>
              </p:nvSpPr>
              <p:spPr>
                <a:xfrm rot="15692400">
                  <a:off x="7457760" y="2205360"/>
                  <a:ext cx="11880" cy="2880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9" name="Freeform 161"/>
                <p:cNvSpPr/>
                <p:nvPr/>
              </p:nvSpPr>
              <p:spPr>
                <a:xfrm flipH="1" rot="18252000">
                  <a:off x="7540920" y="2243160"/>
                  <a:ext cx="9720" cy="19440"/>
                </a:xfrm>
                <a:custGeom>
                  <a:avLst/>
                  <a:gdLst>
                    <a:gd name="textAreaLeft" fmla="*/ -360 w 9720"/>
                    <a:gd name="textAreaRight" fmla="*/ 9720 w 9720"/>
                    <a:gd name="textAreaTop" fmla="*/ 0 h 19440"/>
                    <a:gd name="textAreaBottom" fmla="*/ 19800 h 19440"/>
                  </a:gdLst>
                  <a:ahLst/>
                  <a:rect l="textAreaLeft" t="textAreaTop" r="textAreaRight" b="textAreaBottom"/>
                  <a:pathLst>
                    <a:path w="36" h="68">
                      <a:moveTo>
                        <a:pt x="9" y="0"/>
                      </a:moveTo>
                      <a:cubicBezTo>
                        <a:pt x="10" y="0"/>
                        <a:pt x="30" y="5"/>
                        <a:pt x="24" y="12"/>
                      </a:cubicBezTo>
                      <a:cubicBezTo>
                        <a:pt x="20" y="17"/>
                        <a:pt x="6" y="18"/>
                        <a:pt x="6" y="18"/>
                      </a:cubicBezTo>
                      <a:cubicBezTo>
                        <a:pt x="8" y="21"/>
                        <a:pt x="9" y="25"/>
                        <a:pt x="12" y="27"/>
                      </a:cubicBezTo>
                      <a:cubicBezTo>
                        <a:pt x="22" y="35"/>
                        <a:pt x="32" y="35"/>
                        <a:pt x="6" y="42"/>
                      </a:cubicBezTo>
                      <a:cubicBezTo>
                        <a:pt x="36" y="52"/>
                        <a:pt x="23" y="55"/>
                        <a:pt x="0" y="60"/>
                      </a:cubicBezTo>
                      <a:cubicBezTo>
                        <a:pt x="13" y="68"/>
                        <a:pt x="8" y="63"/>
                        <a:pt x="21" y="63"/>
                      </a:cubicBezTo>
                    </a:path>
                  </a:pathLst>
                </a:custGeom>
                <a:solidFill>
                  <a:srgbClr val="663366"/>
                </a:solidFill>
                <a:ln w="9360">
                  <a:solidFill>
                    <a:srgbClr val="66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0" name="Freeform 162"/>
                <p:cNvSpPr/>
                <p:nvPr/>
              </p:nvSpPr>
              <p:spPr>
                <a:xfrm flipH="1" rot="18252000">
                  <a:off x="7537680" y="2248560"/>
                  <a:ext cx="9720" cy="19440"/>
                </a:xfrm>
                <a:custGeom>
                  <a:avLst/>
                  <a:gdLst>
                    <a:gd name="textAreaLeft" fmla="*/ -360 w 9720"/>
                    <a:gd name="textAreaRight" fmla="*/ 9720 w 9720"/>
                    <a:gd name="textAreaTop" fmla="*/ 0 h 19440"/>
                    <a:gd name="textAreaBottom" fmla="*/ 19800 h 19440"/>
                  </a:gdLst>
                  <a:ahLst/>
                  <a:rect l="textAreaLeft" t="textAreaTop" r="textAreaRight" b="textAreaBottom"/>
                  <a:pathLst>
                    <a:path w="36" h="68">
                      <a:moveTo>
                        <a:pt x="9" y="0"/>
                      </a:moveTo>
                      <a:cubicBezTo>
                        <a:pt x="10" y="0"/>
                        <a:pt x="30" y="5"/>
                        <a:pt x="24" y="12"/>
                      </a:cubicBezTo>
                      <a:cubicBezTo>
                        <a:pt x="20" y="17"/>
                        <a:pt x="6" y="18"/>
                        <a:pt x="6" y="18"/>
                      </a:cubicBezTo>
                      <a:cubicBezTo>
                        <a:pt x="8" y="21"/>
                        <a:pt x="9" y="25"/>
                        <a:pt x="12" y="27"/>
                      </a:cubicBezTo>
                      <a:cubicBezTo>
                        <a:pt x="22" y="35"/>
                        <a:pt x="32" y="35"/>
                        <a:pt x="6" y="42"/>
                      </a:cubicBezTo>
                      <a:cubicBezTo>
                        <a:pt x="36" y="52"/>
                        <a:pt x="23" y="55"/>
                        <a:pt x="0" y="60"/>
                      </a:cubicBezTo>
                      <a:cubicBezTo>
                        <a:pt x="13" y="68"/>
                        <a:pt x="8" y="63"/>
                        <a:pt x="21" y="63"/>
                      </a:cubicBezTo>
                    </a:path>
                  </a:pathLst>
                </a:custGeom>
                <a:solidFill>
                  <a:srgbClr val="663366"/>
                </a:solidFill>
                <a:ln w="9360">
                  <a:solidFill>
                    <a:srgbClr val="66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Oval 163"/>
                <p:cNvSpPr/>
                <p:nvPr/>
              </p:nvSpPr>
              <p:spPr>
                <a:xfrm flipH="1" rot="18252000">
                  <a:off x="7556760" y="2253960"/>
                  <a:ext cx="6120" cy="13320"/>
                </a:xfrm>
                <a:prstGeom prst="ellipse">
                  <a:avLst/>
                </a:prstGeom>
                <a:solidFill>
                  <a:srgbClr val="663366"/>
                </a:solidFill>
                <a:ln w="9360">
                  <a:solidFill>
                    <a:srgbClr val="66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Oval 164"/>
                <p:cNvSpPr/>
                <p:nvPr/>
              </p:nvSpPr>
              <p:spPr>
                <a:xfrm flipH="1" rot="18252000">
                  <a:off x="7552800" y="2259000"/>
                  <a:ext cx="6120" cy="13320"/>
                </a:xfrm>
                <a:prstGeom prst="ellipse">
                  <a:avLst/>
                </a:prstGeom>
                <a:solidFill>
                  <a:srgbClr val="663366"/>
                </a:solidFill>
                <a:ln w="9360">
                  <a:solidFill>
                    <a:srgbClr val="66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Oval 165"/>
                <p:cNvSpPr/>
                <p:nvPr/>
              </p:nvSpPr>
              <p:spPr>
                <a:xfrm flipV="1" rot="18252000">
                  <a:off x="7747200" y="2372400"/>
                  <a:ext cx="49680" cy="6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424267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 anchorCtr="1" vert="eaVert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AutoShape 166"/>
                <p:cNvSpPr/>
                <p:nvPr/>
              </p:nvSpPr>
              <p:spPr>
                <a:xfrm flipH="1" flipV="1" rot="18252000">
                  <a:off x="7746480" y="2412720"/>
                  <a:ext cx="23040" cy="22680"/>
                </a:xfrm>
                <a:custGeom>
                  <a:avLst/>
                  <a:gdLst>
                    <a:gd name="textAreaLeft" fmla="*/ 14040 w 23040"/>
                    <a:gd name="textAreaRight" fmla="*/ 14760 w 23040"/>
                    <a:gd name="textAreaTop" fmla="*/ 720 h 22680"/>
                    <a:gd name="textAreaBottom" fmla="*/ 21960 h 22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7719" y="2482"/>
                        <a:pt x="13837" y="5080"/>
                        <a:pt x="13837" y="10800"/>
                      </a:cubicBezTo>
                      <a:cubicBezTo>
                        <a:pt x="13837" y="16520"/>
                        <a:pt x="17719" y="1911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 anchorCtr="1" vert="eaVert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AutoShape 167"/>
                <p:cNvSpPr/>
                <p:nvPr/>
              </p:nvSpPr>
              <p:spPr>
                <a:xfrm flipV="1" rot="18252000">
                  <a:off x="7773480" y="2375640"/>
                  <a:ext cx="23040" cy="22680"/>
                </a:xfrm>
                <a:custGeom>
                  <a:avLst/>
                  <a:gdLst>
                    <a:gd name="textAreaLeft" fmla="*/ 14040 w 23040"/>
                    <a:gd name="textAreaRight" fmla="*/ 14760 w 23040"/>
                    <a:gd name="textAreaTop" fmla="*/ 720 h 22680"/>
                    <a:gd name="textAreaBottom" fmla="*/ 21960 h 22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7719" y="2482"/>
                        <a:pt x="13837" y="5080"/>
                        <a:pt x="13837" y="10800"/>
                      </a:cubicBezTo>
                      <a:cubicBezTo>
                        <a:pt x="13837" y="16520"/>
                        <a:pt x="17719" y="1911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 anchorCtr="1" vert="eaVert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Freeform 168"/>
                <p:cNvSpPr/>
                <p:nvPr/>
              </p:nvSpPr>
              <p:spPr>
                <a:xfrm flipV="1" rot="1574400">
                  <a:off x="7782480" y="2426400"/>
                  <a:ext cx="12240" cy="27360"/>
                </a:xfrm>
                <a:custGeom>
                  <a:avLst/>
                  <a:gdLst>
                    <a:gd name="textAreaLeft" fmla="*/ 0 w 12240"/>
                    <a:gd name="textAreaRight" fmla="*/ 12600 w 12240"/>
                    <a:gd name="textAreaTop" fmla="*/ 360 h 27360"/>
                    <a:gd name="textAreaBottom" fmla="*/ 28080 h 2736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Freeform 169"/>
                <p:cNvSpPr/>
                <p:nvPr/>
              </p:nvSpPr>
              <p:spPr>
                <a:xfrm flipV="1" rot="468600">
                  <a:off x="7786440" y="2427840"/>
                  <a:ext cx="12240" cy="27720"/>
                </a:xfrm>
                <a:custGeom>
                  <a:avLst/>
                  <a:gdLst>
                    <a:gd name="textAreaLeft" fmla="*/ 0 w 12240"/>
                    <a:gd name="textAreaRight" fmla="*/ 12600 w 12240"/>
                    <a:gd name="textAreaTop" fmla="*/ -360 h 27720"/>
                    <a:gd name="textAreaBottom" fmla="*/ 27720 h 2772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Freeform 170"/>
                <p:cNvSpPr/>
                <p:nvPr/>
              </p:nvSpPr>
              <p:spPr>
                <a:xfrm flipV="1" rot="20812200">
                  <a:off x="7791480" y="2428560"/>
                  <a:ext cx="12600" cy="26640"/>
                </a:xfrm>
                <a:custGeom>
                  <a:avLst/>
                  <a:gdLst>
                    <a:gd name="textAreaLeft" fmla="*/ 0 w 12600"/>
                    <a:gd name="textAreaRight" fmla="*/ 12960 w 12600"/>
                    <a:gd name="textAreaTop" fmla="*/ 360 h 26640"/>
                    <a:gd name="textAreaBottom" fmla="*/ 27360 h 2664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Freeform 171"/>
                <p:cNvSpPr/>
                <p:nvPr/>
              </p:nvSpPr>
              <p:spPr>
                <a:xfrm flipH="1" flipV="1" rot="13330200">
                  <a:off x="7805880" y="2396160"/>
                  <a:ext cx="12600" cy="27360"/>
                </a:xfrm>
                <a:custGeom>
                  <a:avLst/>
                  <a:gdLst>
                    <a:gd name="textAreaLeft" fmla="*/ -360 w 12600"/>
                    <a:gd name="textAreaRight" fmla="*/ 12600 w 12600"/>
                    <a:gd name="textAreaTop" fmla="*/ 360 h 27360"/>
                    <a:gd name="textAreaBottom" fmla="*/ 28080 h 2736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0" name="Freeform 172"/>
                <p:cNvSpPr/>
                <p:nvPr/>
              </p:nvSpPr>
              <p:spPr>
                <a:xfrm flipH="1" flipV="1" rot="14436600">
                  <a:off x="7807680" y="2396520"/>
                  <a:ext cx="11520" cy="29520"/>
                </a:xfrm>
                <a:custGeom>
                  <a:avLst/>
                  <a:gdLst>
                    <a:gd name="textAreaLeft" fmla="*/ 360 w 11520"/>
                    <a:gd name="textAreaRight" fmla="*/ 12240 w 11520"/>
                    <a:gd name="textAreaTop" fmla="*/ 360 h 29520"/>
                    <a:gd name="textAreaBottom" fmla="*/ 30240 h 2952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Freeform 173"/>
                <p:cNvSpPr/>
                <p:nvPr/>
              </p:nvSpPr>
              <p:spPr>
                <a:xfrm flipH="1" flipV="1" rot="15692400">
                  <a:off x="7809840" y="2401560"/>
                  <a:ext cx="11520" cy="29160"/>
                </a:xfrm>
                <a:custGeom>
                  <a:avLst/>
                  <a:gdLst>
                    <a:gd name="textAreaLeft" fmla="*/ 360 w 11520"/>
                    <a:gd name="textAreaRight" fmla="*/ 12240 w 11520"/>
                    <a:gd name="textAreaTop" fmla="*/ -360 h 29160"/>
                    <a:gd name="textAreaBottom" fmla="*/ 29160 h 2916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Freeform 174"/>
                <p:cNvSpPr/>
                <p:nvPr/>
              </p:nvSpPr>
              <p:spPr>
                <a:xfrm flipV="1" rot="18252000">
                  <a:off x="7729560" y="2374200"/>
                  <a:ext cx="10080" cy="1980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-360 h 19800"/>
                    <a:gd name="textAreaBottom" fmla="*/ 19800 h 19800"/>
                  </a:gdLst>
                  <a:ahLst/>
                  <a:rect l="textAreaLeft" t="textAreaTop" r="textAreaRight" b="textAreaBottom"/>
                  <a:pathLst>
                    <a:path w="36" h="68">
                      <a:moveTo>
                        <a:pt x="9" y="0"/>
                      </a:moveTo>
                      <a:cubicBezTo>
                        <a:pt x="10" y="0"/>
                        <a:pt x="30" y="5"/>
                        <a:pt x="24" y="12"/>
                      </a:cubicBezTo>
                      <a:cubicBezTo>
                        <a:pt x="20" y="17"/>
                        <a:pt x="6" y="18"/>
                        <a:pt x="6" y="18"/>
                      </a:cubicBezTo>
                      <a:cubicBezTo>
                        <a:pt x="8" y="21"/>
                        <a:pt x="9" y="25"/>
                        <a:pt x="12" y="27"/>
                      </a:cubicBezTo>
                      <a:cubicBezTo>
                        <a:pt x="22" y="35"/>
                        <a:pt x="32" y="35"/>
                        <a:pt x="6" y="42"/>
                      </a:cubicBezTo>
                      <a:cubicBezTo>
                        <a:pt x="36" y="52"/>
                        <a:pt x="23" y="55"/>
                        <a:pt x="0" y="60"/>
                      </a:cubicBezTo>
                      <a:cubicBezTo>
                        <a:pt x="13" y="68"/>
                        <a:pt x="8" y="63"/>
                        <a:pt x="21" y="63"/>
                      </a:cubicBezTo>
                    </a:path>
                  </a:pathLst>
                </a:custGeom>
                <a:solidFill>
                  <a:srgbClr val="663366"/>
                </a:solidFill>
                <a:ln w="9360">
                  <a:solidFill>
                    <a:srgbClr val="66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Freeform 175"/>
                <p:cNvSpPr/>
                <p:nvPr/>
              </p:nvSpPr>
              <p:spPr>
                <a:xfrm flipV="1" rot="18252000">
                  <a:off x="7733160" y="2369520"/>
                  <a:ext cx="9720" cy="19440"/>
                </a:xfrm>
                <a:custGeom>
                  <a:avLst/>
                  <a:gdLst>
                    <a:gd name="textAreaLeft" fmla="*/ 0 w 9720"/>
                    <a:gd name="textAreaRight" fmla="*/ 10080 w 9720"/>
                    <a:gd name="textAreaTop" fmla="*/ 360 h 19440"/>
                    <a:gd name="textAreaBottom" fmla="*/ 20160 h 19440"/>
                  </a:gdLst>
                  <a:ahLst/>
                  <a:rect l="textAreaLeft" t="textAreaTop" r="textAreaRight" b="textAreaBottom"/>
                  <a:pathLst>
                    <a:path w="36" h="68">
                      <a:moveTo>
                        <a:pt x="9" y="0"/>
                      </a:moveTo>
                      <a:cubicBezTo>
                        <a:pt x="10" y="0"/>
                        <a:pt x="30" y="5"/>
                        <a:pt x="24" y="12"/>
                      </a:cubicBezTo>
                      <a:cubicBezTo>
                        <a:pt x="20" y="17"/>
                        <a:pt x="6" y="18"/>
                        <a:pt x="6" y="18"/>
                      </a:cubicBezTo>
                      <a:cubicBezTo>
                        <a:pt x="8" y="21"/>
                        <a:pt x="9" y="25"/>
                        <a:pt x="12" y="27"/>
                      </a:cubicBezTo>
                      <a:cubicBezTo>
                        <a:pt x="22" y="35"/>
                        <a:pt x="32" y="35"/>
                        <a:pt x="6" y="42"/>
                      </a:cubicBezTo>
                      <a:cubicBezTo>
                        <a:pt x="36" y="52"/>
                        <a:pt x="23" y="55"/>
                        <a:pt x="0" y="60"/>
                      </a:cubicBezTo>
                      <a:cubicBezTo>
                        <a:pt x="13" y="68"/>
                        <a:pt x="8" y="63"/>
                        <a:pt x="21" y="63"/>
                      </a:cubicBezTo>
                    </a:path>
                  </a:pathLst>
                </a:custGeom>
                <a:solidFill>
                  <a:srgbClr val="663366"/>
                </a:solidFill>
                <a:ln w="9360">
                  <a:solidFill>
                    <a:srgbClr val="66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4" name="Oval 176"/>
                <p:cNvSpPr/>
                <p:nvPr/>
              </p:nvSpPr>
              <p:spPr>
                <a:xfrm flipV="1" rot="18252000">
                  <a:off x="7717320" y="2368800"/>
                  <a:ext cx="6120" cy="13320"/>
                </a:xfrm>
                <a:prstGeom prst="ellipse">
                  <a:avLst/>
                </a:prstGeom>
                <a:solidFill>
                  <a:srgbClr val="663366"/>
                </a:solidFill>
                <a:ln w="9360">
                  <a:solidFill>
                    <a:srgbClr val="66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 anchorCtr="1" vert="eaVert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5" name="Oval 177"/>
                <p:cNvSpPr/>
                <p:nvPr/>
              </p:nvSpPr>
              <p:spPr>
                <a:xfrm flipV="1" rot="18252000">
                  <a:off x="7720200" y="2364480"/>
                  <a:ext cx="6480" cy="13320"/>
                </a:xfrm>
                <a:prstGeom prst="ellipse">
                  <a:avLst/>
                </a:prstGeom>
                <a:solidFill>
                  <a:srgbClr val="663366"/>
                </a:solidFill>
                <a:ln w="9360">
                  <a:solidFill>
                    <a:srgbClr val="66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 anchorCtr="1" vert="eaVert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6" name="Oval 178"/>
                <p:cNvSpPr/>
                <p:nvPr/>
              </p:nvSpPr>
              <p:spPr>
                <a:xfrm flipH="1" flipV="1" rot="3727800">
                  <a:off x="7470000" y="2345400"/>
                  <a:ext cx="49320" cy="6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424267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7" name="AutoShape 179"/>
                <p:cNvSpPr/>
                <p:nvPr/>
              </p:nvSpPr>
              <p:spPr>
                <a:xfrm flipV="1" rot="3728400">
                  <a:off x="7495560" y="2386800"/>
                  <a:ext cx="23040" cy="23040"/>
                </a:xfrm>
                <a:custGeom>
                  <a:avLst/>
                  <a:gdLst>
                    <a:gd name="textAreaLeft" fmla="*/ 14040 w 23040"/>
                    <a:gd name="textAreaRight" fmla="*/ 14760 w 23040"/>
                    <a:gd name="textAreaTop" fmla="*/ 720 h 23040"/>
                    <a:gd name="textAreaBottom" fmla="*/ 22320 h 23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7719" y="2482"/>
                        <a:pt x="13837" y="5080"/>
                        <a:pt x="13837" y="10800"/>
                      </a:cubicBezTo>
                      <a:cubicBezTo>
                        <a:pt x="13837" y="16520"/>
                        <a:pt x="17719" y="1911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8" name="AutoShape 180"/>
                <p:cNvSpPr/>
                <p:nvPr/>
              </p:nvSpPr>
              <p:spPr>
                <a:xfrm flipH="1" flipV="1" rot="3727800">
                  <a:off x="7472160" y="2346840"/>
                  <a:ext cx="23040" cy="23400"/>
                </a:xfrm>
                <a:custGeom>
                  <a:avLst/>
                  <a:gdLst>
                    <a:gd name="textAreaLeft" fmla="*/ 14040 w 23040"/>
                    <a:gd name="textAreaRight" fmla="*/ 14760 w 23040"/>
                    <a:gd name="textAreaTop" fmla="*/ 720 h 23400"/>
                    <a:gd name="textAreaBottom" fmla="*/ 22680 h 234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7719" y="2482"/>
                        <a:pt x="13837" y="5080"/>
                        <a:pt x="13837" y="10800"/>
                      </a:cubicBezTo>
                      <a:cubicBezTo>
                        <a:pt x="13837" y="16520"/>
                        <a:pt x="17719" y="1911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9" name="Freeform 181"/>
                <p:cNvSpPr/>
                <p:nvPr/>
              </p:nvSpPr>
              <p:spPr>
                <a:xfrm flipH="1" flipV="1" rot="20406600">
                  <a:off x="7467120" y="2398320"/>
                  <a:ext cx="12960" cy="27360"/>
                </a:xfrm>
                <a:custGeom>
                  <a:avLst/>
                  <a:gdLst>
                    <a:gd name="textAreaLeft" fmla="*/ 360 w 12960"/>
                    <a:gd name="textAreaRight" fmla="*/ 13680 w 12960"/>
                    <a:gd name="textAreaTop" fmla="*/ 360 h 27360"/>
                    <a:gd name="textAreaBottom" fmla="*/ 28080 h 2736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0" name="Freeform 182"/>
                <p:cNvSpPr/>
                <p:nvPr/>
              </p:nvSpPr>
              <p:spPr>
                <a:xfrm flipH="1" flipV="1" rot="21512400">
                  <a:off x="7463880" y="2398320"/>
                  <a:ext cx="12600" cy="27360"/>
                </a:xfrm>
                <a:custGeom>
                  <a:avLst/>
                  <a:gdLst>
                    <a:gd name="textAreaLeft" fmla="*/ -360 w 12600"/>
                    <a:gd name="textAreaRight" fmla="*/ 12600 w 12600"/>
                    <a:gd name="textAreaTop" fmla="*/ 360 h 27360"/>
                    <a:gd name="textAreaBottom" fmla="*/ 28080 h 2736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1" name="Freeform 183"/>
                <p:cNvSpPr/>
                <p:nvPr/>
              </p:nvSpPr>
              <p:spPr>
                <a:xfrm flipH="1" flipV="1" rot="1168200">
                  <a:off x="7458120" y="2397600"/>
                  <a:ext cx="12960" cy="27000"/>
                </a:xfrm>
                <a:custGeom>
                  <a:avLst/>
                  <a:gdLst>
                    <a:gd name="textAreaLeft" fmla="*/ 360 w 12960"/>
                    <a:gd name="textAreaRight" fmla="*/ 13680 w 12960"/>
                    <a:gd name="textAreaTop" fmla="*/ -360 h 27000"/>
                    <a:gd name="textAreaBottom" fmla="*/ 27000 h 2700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2" name="Freeform 184"/>
                <p:cNvSpPr/>
                <p:nvPr/>
              </p:nvSpPr>
              <p:spPr>
                <a:xfrm flipV="1" rot="8649600">
                  <a:off x="7447680" y="2364120"/>
                  <a:ext cx="12960" cy="2736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360 h 27360"/>
                    <a:gd name="textAreaBottom" fmla="*/ 28080 h 2736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3" name="Freeform 185"/>
                <p:cNvSpPr/>
                <p:nvPr/>
              </p:nvSpPr>
              <p:spPr>
                <a:xfrm flipV="1" rot="7544400">
                  <a:off x="7446240" y="2365920"/>
                  <a:ext cx="11520" cy="2952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360 h 29520"/>
                    <a:gd name="textAreaBottom" fmla="*/ 30240 h 2952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4" name="Freeform 186"/>
                <p:cNvSpPr/>
                <p:nvPr/>
              </p:nvSpPr>
              <p:spPr>
                <a:xfrm flipV="1" rot="6288000">
                  <a:off x="7444440" y="2369880"/>
                  <a:ext cx="11520" cy="2916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-360 h 29160"/>
                    <a:gd name="textAreaBottom" fmla="*/ 29160 h 2916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5" name="Freeform 187"/>
                <p:cNvSpPr/>
                <p:nvPr/>
              </p:nvSpPr>
              <p:spPr>
                <a:xfrm flipH="1" flipV="1" rot="3727800">
                  <a:off x="7530120" y="2351160"/>
                  <a:ext cx="9720" cy="19440"/>
                </a:xfrm>
                <a:custGeom>
                  <a:avLst/>
                  <a:gdLst>
                    <a:gd name="textAreaLeft" fmla="*/ -360 w 9720"/>
                    <a:gd name="textAreaRight" fmla="*/ 9720 w 9720"/>
                    <a:gd name="textAreaTop" fmla="*/ 360 h 19440"/>
                    <a:gd name="textAreaBottom" fmla="*/ 20160 h 19440"/>
                  </a:gdLst>
                  <a:ahLst/>
                  <a:rect l="textAreaLeft" t="textAreaTop" r="textAreaRight" b="textAreaBottom"/>
                  <a:pathLst>
                    <a:path w="36" h="68">
                      <a:moveTo>
                        <a:pt x="9" y="0"/>
                      </a:moveTo>
                      <a:cubicBezTo>
                        <a:pt x="10" y="0"/>
                        <a:pt x="30" y="5"/>
                        <a:pt x="24" y="12"/>
                      </a:cubicBezTo>
                      <a:cubicBezTo>
                        <a:pt x="20" y="17"/>
                        <a:pt x="6" y="18"/>
                        <a:pt x="6" y="18"/>
                      </a:cubicBezTo>
                      <a:cubicBezTo>
                        <a:pt x="8" y="21"/>
                        <a:pt x="9" y="25"/>
                        <a:pt x="12" y="27"/>
                      </a:cubicBezTo>
                      <a:cubicBezTo>
                        <a:pt x="22" y="35"/>
                        <a:pt x="32" y="35"/>
                        <a:pt x="6" y="42"/>
                      </a:cubicBezTo>
                      <a:cubicBezTo>
                        <a:pt x="36" y="52"/>
                        <a:pt x="23" y="55"/>
                        <a:pt x="0" y="60"/>
                      </a:cubicBezTo>
                      <a:cubicBezTo>
                        <a:pt x="13" y="68"/>
                        <a:pt x="8" y="63"/>
                        <a:pt x="21" y="63"/>
                      </a:cubicBezTo>
                    </a:path>
                  </a:pathLst>
                </a:custGeom>
                <a:solidFill>
                  <a:srgbClr val="663366"/>
                </a:solidFill>
                <a:ln w="9360">
                  <a:solidFill>
                    <a:srgbClr val="66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6" name="Freeform 188"/>
                <p:cNvSpPr/>
                <p:nvPr/>
              </p:nvSpPr>
              <p:spPr>
                <a:xfrm flipH="1" flipV="1" rot="3727800">
                  <a:off x="7528320" y="2346120"/>
                  <a:ext cx="9360" cy="19440"/>
                </a:xfrm>
                <a:custGeom>
                  <a:avLst/>
                  <a:gdLst>
                    <a:gd name="textAreaLeft" fmla="*/ 360 w 9360"/>
                    <a:gd name="textAreaRight" fmla="*/ 10080 w 9360"/>
                    <a:gd name="textAreaTop" fmla="*/ 360 h 19440"/>
                    <a:gd name="textAreaBottom" fmla="*/ 20160 h 19440"/>
                  </a:gdLst>
                  <a:ahLst/>
                  <a:rect l="textAreaLeft" t="textAreaTop" r="textAreaRight" b="textAreaBottom"/>
                  <a:pathLst>
                    <a:path w="36" h="68">
                      <a:moveTo>
                        <a:pt x="9" y="0"/>
                      </a:moveTo>
                      <a:cubicBezTo>
                        <a:pt x="10" y="0"/>
                        <a:pt x="30" y="5"/>
                        <a:pt x="24" y="12"/>
                      </a:cubicBezTo>
                      <a:cubicBezTo>
                        <a:pt x="20" y="17"/>
                        <a:pt x="6" y="18"/>
                        <a:pt x="6" y="18"/>
                      </a:cubicBezTo>
                      <a:cubicBezTo>
                        <a:pt x="8" y="21"/>
                        <a:pt x="9" y="25"/>
                        <a:pt x="12" y="27"/>
                      </a:cubicBezTo>
                      <a:cubicBezTo>
                        <a:pt x="22" y="35"/>
                        <a:pt x="32" y="35"/>
                        <a:pt x="6" y="42"/>
                      </a:cubicBezTo>
                      <a:cubicBezTo>
                        <a:pt x="36" y="52"/>
                        <a:pt x="23" y="55"/>
                        <a:pt x="0" y="60"/>
                      </a:cubicBezTo>
                      <a:cubicBezTo>
                        <a:pt x="13" y="68"/>
                        <a:pt x="8" y="63"/>
                        <a:pt x="21" y="63"/>
                      </a:cubicBezTo>
                    </a:path>
                  </a:pathLst>
                </a:custGeom>
                <a:solidFill>
                  <a:srgbClr val="663366"/>
                </a:solidFill>
                <a:ln w="9360">
                  <a:solidFill>
                    <a:srgbClr val="66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7" name="Oval 189"/>
                <p:cNvSpPr/>
                <p:nvPr/>
              </p:nvSpPr>
              <p:spPr>
                <a:xfrm flipH="1" flipV="1" rot="3727800">
                  <a:off x="7547040" y="2348640"/>
                  <a:ext cx="6120" cy="13320"/>
                </a:xfrm>
                <a:prstGeom prst="ellipse">
                  <a:avLst/>
                </a:prstGeom>
                <a:solidFill>
                  <a:srgbClr val="663366"/>
                </a:solidFill>
                <a:ln w="9360">
                  <a:solidFill>
                    <a:srgbClr val="66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8" name="Oval 190"/>
                <p:cNvSpPr/>
                <p:nvPr/>
              </p:nvSpPr>
              <p:spPr>
                <a:xfrm flipH="1" flipV="1" rot="3727800">
                  <a:off x="7543800" y="2343240"/>
                  <a:ext cx="6480" cy="12960"/>
                </a:xfrm>
                <a:prstGeom prst="ellipse">
                  <a:avLst/>
                </a:prstGeom>
                <a:solidFill>
                  <a:srgbClr val="663366"/>
                </a:solidFill>
                <a:ln w="9360">
                  <a:solidFill>
                    <a:srgbClr val="66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9" name="AutoShape 191"/>
                <p:cNvSpPr/>
                <p:nvPr/>
              </p:nvSpPr>
              <p:spPr>
                <a:xfrm flipH="1" flipV="1">
                  <a:off x="7803720" y="2422800"/>
                  <a:ext cx="24480" cy="21600"/>
                </a:xfrm>
                <a:custGeom>
                  <a:avLst/>
                  <a:gdLst>
                    <a:gd name="textAreaLeft" fmla="*/ 15120 w 24480"/>
                    <a:gd name="textAreaRight" fmla="*/ 15840 w 24480"/>
                    <a:gd name="textAreaTop" fmla="*/ 720 h 21600"/>
                    <a:gd name="textAreaBottom" fmla="*/ 20880 h 21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7719" y="2482"/>
                        <a:pt x="13837" y="5080"/>
                        <a:pt x="13837" y="10800"/>
                      </a:cubicBezTo>
                      <a:cubicBezTo>
                        <a:pt x="13837" y="16520"/>
                        <a:pt x="17719" y="1911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0" name="Freeform 192"/>
                <p:cNvSpPr/>
                <p:nvPr/>
              </p:nvSpPr>
              <p:spPr>
                <a:xfrm rot="444000">
                  <a:off x="7600680" y="2256480"/>
                  <a:ext cx="84240" cy="136080"/>
                </a:xfrm>
                <a:custGeom>
                  <a:avLst/>
                  <a:gdLst>
                    <a:gd name="textAreaLeft" fmla="*/ 0 w 84240"/>
                    <a:gd name="textAreaRight" fmla="*/ 84600 w 84240"/>
                    <a:gd name="textAreaTop" fmla="*/ 0 h 136080"/>
                    <a:gd name="textAreaBottom" fmla="*/ 136440 h 136080"/>
                  </a:gdLst>
                  <a:ahLst/>
                  <a:rect l="textAreaLeft" t="textAreaTop" r="textAreaRight" b="textAreaBottom"/>
                  <a:pathLst>
                    <a:path w="196" h="430">
                      <a:moveTo>
                        <a:pt x="15" y="60"/>
                      </a:moveTo>
                      <a:cubicBezTo>
                        <a:pt x="30" y="0"/>
                        <a:pt x="76" y="7"/>
                        <a:pt x="106" y="14"/>
                      </a:cubicBezTo>
                      <a:cubicBezTo>
                        <a:pt x="136" y="21"/>
                        <a:pt x="196" y="45"/>
                        <a:pt x="196" y="105"/>
                      </a:cubicBezTo>
                      <a:cubicBezTo>
                        <a:pt x="196" y="165"/>
                        <a:pt x="136" y="332"/>
                        <a:pt x="106" y="377"/>
                      </a:cubicBezTo>
                      <a:cubicBezTo>
                        <a:pt x="76" y="422"/>
                        <a:pt x="30" y="430"/>
                        <a:pt x="15" y="377"/>
                      </a:cubicBezTo>
                      <a:cubicBezTo>
                        <a:pt x="0" y="324"/>
                        <a:pt x="0" y="120"/>
                        <a:pt x="15" y="60"/>
                      </a:cubicBezTo>
                      <a:close/>
                    </a:path>
                  </a:pathLst>
                </a:cu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66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51" name="Group 193"/>
            <p:cNvGrpSpPr/>
            <p:nvPr/>
          </p:nvGrpSpPr>
          <p:grpSpPr>
            <a:xfrm>
              <a:off x="7185600" y="1740960"/>
              <a:ext cx="398160" cy="414000"/>
              <a:chOff x="7185600" y="1740960"/>
              <a:chExt cx="398160" cy="414000"/>
            </a:xfrm>
          </p:grpSpPr>
          <p:sp>
            <p:nvSpPr>
              <p:cNvPr id="952" name="Oval 194"/>
              <p:cNvSpPr/>
              <p:nvPr/>
            </p:nvSpPr>
            <p:spPr>
              <a:xfrm flipV="1" rot="21360000">
                <a:off x="7362720" y="2065680"/>
                <a:ext cx="53640" cy="61920"/>
              </a:xfrm>
              <a:prstGeom prst="ellips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42426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AutoShape 195"/>
              <p:cNvSpPr/>
              <p:nvPr/>
            </p:nvSpPr>
            <p:spPr>
              <a:xfrm flipV="1" rot="21360000">
                <a:off x="7400520" y="2083320"/>
                <a:ext cx="24840" cy="21600"/>
              </a:xfrm>
              <a:custGeom>
                <a:avLst/>
                <a:gdLst>
                  <a:gd name="textAreaLeft" fmla="*/ 15120 w 24840"/>
                  <a:gd name="textAreaRight" fmla="*/ 15840 w 24840"/>
                  <a:gd name="textAreaTop" fmla="*/ 720 h 21600"/>
                  <a:gd name="textAreaBottom" fmla="*/ 20880 h 21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7719" y="2482"/>
                      <a:pt x="13837" y="5080"/>
                      <a:pt x="13837" y="10800"/>
                    </a:cubicBezTo>
                    <a:cubicBezTo>
                      <a:pt x="13837" y="16520"/>
                      <a:pt x="17719" y="1911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196"/>
              <p:cNvSpPr/>
              <p:nvPr/>
            </p:nvSpPr>
            <p:spPr>
              <a:xfrm flipV="1" rot="297000">
                <a:off x="7378200" y="2127240"/>
                <a:ext cx="12600" cy="2700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-360 h 27000"/>
                  <a:gd name="textAreaBottom" fmla="*/ 27000 h 27000"/>
                </a:gdLst>
                <a:ahLst/>
                <a:rect l="textAreaLeft" t="textAreaTop" r="textAreaRight" b="textAreaBottom"/>
                <a:pathLst>
                  <a:path w="90" h="181">
                    <a:moveTo>
                      <a:pt x="45" y="181"/>
                    </a:moveTo>
                    <a:cubicBezTo>
                      <a:pt x="30" y="181"/>
                      <a:pt x="0" y="120"/>
                      <a:pt x="0" y="90"/>
                    </a:cubicBezTo>
                    <a:cubicBezTo>
                      <a:pt x="0" y="60"/>
                      <a:pt x="30" y="0"/>
                      <a:pt x="45" y="0"/>
                    </a:cubicBezTo>
                    <a:cubicBezTo>
                      <a:pt x="60" y="0"/>
                      <a:pt x="90" y="60"/>
                      <a:pt x="90" y="90"/>
                    </a:cubicBezTo>
                    <a:cubicBezTo>
                      <a:pt x="90" y="120"/>
                      <a:pt x="60" y="181"/>
                      <a:pt x="45" y="181"/>
                    </a:cubicBezTo>
                    <a:close/>
                  </a:path>
                </a:pathLst>
              </a:custGeom>
              <a:noFill/>
              <a:ln w="64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197"/>
              <p:cNvSpPr/>
              <p:nvPr/>
            </p:nvSpPr>
            <p:spPr>
              <a:xfrm flipV="1" rot="20640600">
                <a:off x="7383240" y="2126160"/>
                <a:ext cx="12960" cy="2700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-360 h 27000"/>
                  <a:gd name="textAreaBottom" fmla="*/ 27000 h 27000"/>
                </a:gdLst>
                <a:ahLst/>
                <a:rect l="textAreaLeft" t="textAreaTop" r="textAreaRight" b="textAreaBottom"/>
                <a:pathLst>
                  <a:path w="90" h="181">
                    <a:moveTo>
                      <a:pt x="45" y="181"/>
                    </a:moveTo>
                    <a:cubicBezTo>
                      <a:pt x="30" y="181"/>
                      <a:pt x="0" y="120"/>
                      <a:pt x="0" y="90"/>
                    </a:cubicBezTo>
                    <a:cubicBezTo>
                      <a:pt x="0" y="60"/>
                      <a:pt x="30" y="0"/>
                      <a:pt x="45" y="0"/>
                    </a:cubicBezTo>
                    <a:cubicBezTo>
                      <a:pt x="60" y="0"/>
                      <a:pt x="90" y="60"/>
                      <a:pt x="90" y="90"/>
                    </a:cubicBezTo>
                    <a:cubicBezTo>
                      <a:pt x="90" y="120"/>
                      <a:pt x="60" y="181"/>
                      <a:pt x="45" y="181"/>
                    </a:cubicBezTo>
                    <a:close/>
                  </a:path>
                </a:pathLst>
              </a:custGeom>
              <a:noFill/>
              <a:ln w="64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Freeform 198"/>
              <p:cNvSpPr/>
              <p:nvPr/>
            </p:nvSpPr>
            <p:spPr>
              <a:xfrm flipH="1" flipV="1" rot="16437600">
                <a:off x="7404120" y="2112840"/>
                <a:ext cx="11520" cy="29160"/>
              </a:xfrm>
              <a:custGeom>
                <a:avLst/>
                <a:gdLst>
                  <a:gd name="textAreaLeft" fmla="*/ 360 w 11520"/>
                  <a:gd name="textAreaRight" fmla="*/ 12240 w 11520"/>
                  <a:gd name="textAreaTop" fmla="*/ -360 h 29160"/>
                  <a:gd name="textAreaBottom" fmla="*/ 29160 h 29160"/>
                </a:gdLst>
                <a:ahLst/>
                <a:rect l="textAreaLeft" t="textAreaTop" r="textAreaRight" b="textAreaBottom"/>
                <a:pathLst>
                  <a:path w="90" h="181">
                    <a:moveTo>
                      <a:pt x="45" y="181"/>
                    </a:moveTo>
                    <a:cubicBezTo>
                      <a:pt x="30" y="181"/>
                      <a:pt x="0" y="120"/>
                      <a:pt x="0" y="90"/>
                    </a:cubicBezTo>
                    <a:cubicBezTo>
                      <a:pt x="0" y="60"/>
                      <a:pt x="30" y="0"/>
                      <a:pt x="45" y="0"/>
                    </a:cubicBezTo>
                    <a:cubicBezTo>
                      <a:pt x="60" y="0"/>
                      <a:pt x="90" y="60"/>
                      <a:pt x="90" y="90"/>
                    </a:cubicBezTo>
                    <a:cubicBezTo>
                      <a:pt x="90" y="120"/>
                      <a:pt x="60" y="181"/>
                      <a:pt x="45" y="181"/>
                    </a:cubicBezTo>
                    <a:close/>
                  </a:path>
                </a:pathLst>
              </a:custGeom>
              <a:noFill/>
              <a:ln w="64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Freeform 199"/>
              <p:cNvSpPr/>
              <p:nvPr/>
            </p:nvSpPr>
            <p:spPr>
              <a:xfrm flipH="1" flipV="1" rot="17543400">
                <a:off x="7403760" y="2116800"/>
                <a:ext cx="11520" cy="29160"/>
              </a:xfrm>
              <a:custGeom>
                <a:avLst/>
                <a:gdLst>
                  <a:gd name="textAreaLeft" fmla="*/ 360 w 11520"/>
                  <a:gd name="textAreaRight" fmla="*/ 12240 w 11520"/>
                  <a:gd name="textAreaTop" fmla="*/ -360 h 29160"/>
                  <a:gd name="textAreaBottom" fmla="*/ 29160 h 29160"/>
                </a:gdLst>
                <a:ahLst/>
                <a:rect l="textAreaLeft" t="textAreaTop" r="textAreaRight" b="textAreaBottom"/>
                <a:pathLst>
                  <a:path w="90" h="181">
                    <a:moveTo>
                      <a:pt x="45" y="181"/>
                    </a:moveTo>
                    <a:cubicBezTo>
                      <a:pt x="30" y="181"/>
                      <a:pt x="0" y="120"/>
                      <a:pt x="0" y="90"/>
                    </a:cubicBezTo>
                    <a:cubicBezTo>
                      <a:pt x="0" y="60"/>
                      <a:pt x="30" y="0"/>
                      <a:pt x="45" y="0"/>
                    </a:cubicBezTo>
                    <a:cubicBezTo>
                      <a:pt x="60" y="0"/>
                      <a:pt x="90" y="60"/>
                      <a:pt x="90" y="90"/>
                    </a:cubicBezTo>
                    <a:cubicBezTo>
                      <a:pt x="90" y="120"/>
                      <a:pt x="60" y="181"/>
                      <a:pt x="45" y="181"/>
                    </a:cubicBezTo>
                    <a:close/>
                  </a:path>
                </a:pathLst>
              </a:custGeom>
              <a:noFill/>
              <a:ln w="64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Freeform 200"/>
              <p:cNvSpPr/>
              <p:nvPr/>
            </p:nvSpPr>
            <p:spPr>
              <a:xfrm flipH="1" flipV="1" rot="18799800">
                <a:off x="7400880" y="2119680"/>
                <a:ext cx="11520" cy="29160"/>
              </a:xfrm>
              <a:custGeom>
                <a:avLst/>
                <a:gdLst>
                  <a:gd name="textAreaLeft" fmla="*/ 360 w 11520"/>
                  <a:gd name="textAreaRight" fmla="*/ 12240 w 11520"/>
                  <a:gd name="textAreaTop" fmla="*/ -360 h 29160"/>
                  <a:gd name="textAreaBottom" fmla="*/ 29160 h 29160"/>
                </a:gdLst>
                <a:ahLst/>
                <a:rect l="textAreaLeft" t="textAreaTop" r="textAreaRight" b="textAreaBottom"/>
                <a:pathLst>
                  <a:path w="90" h="181">
                    <a:moveTo>
                      <a:pt x="45" y="181"/>
                    </a:moveTo>
                    <a:cubicBezTo>
                      <a:pt x="30" y="181"/>
                      <a:pt x="0" y="120"/>
                      <a:pt x="0" y="90"/>
                    </a:cubicBezTo>
                    <a:cubicBezTo>
                      <a:pt x="0" y="60"/>
                      <a:pt x="30" y="0"/>
                      <a:pt x="45" y="0"/>
                    </a:cubicBezTo>
                    <a:cubicBezTo>
                      <a:pt x="60" y="0"/>
                      <a:pt x="90" y="60"/>
                      <a:pt x="90" y="90"/>
                    </a:cubicBezTo>
                    <a:cubicBezTo>
                      <a:pt x="90" y="120"/>
                      <a:pt x="60" y="181"/>
                      <a:pt x="45" y="181"/>
                    </a:cubicBezTo>
                    <a:close/>
                  </a:path>
                </a:pathLst>
              </a:custGeom>
              <a:noFill/>
              <a:ln w="64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Freeform 201"/>
              <p:cNvSpPr/>
              <p:nvPr/>
            </p:nvSpPr>
            <p:spPr>
              <a:xfrm flipV="1" rot="21360000">
                <a:off x="7379280" y="2046240"/>
                <a:ext cx="10440" cy="1800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360 h 18000"/>
                  <a:gd name="textAreaBottom" fmla="*/ 18720 h 18000"/>
                </a:gdLst>
                <a:ahLst/>
                <a:rect l="textAreaLeft" t="textAreaTop" r="textAreaRight" b="textAreaBottom"/>
                <a:pathLst>
                  <a:path w="36" h="68">
                    <a:moveTo>
                      <a:pt x="9" y="0"/>
                    </a:moveTo>
                    <a:cubicBezTo>
                      <a:pt x="10" y="0"/>
                      <a:pt x="30" y="5"/>
                      <a:pt x="24" y="12"/>
                    </a:cubicBezTo>
                    <a:cubicBezTo>
                      <a:pt x="20" y="17"/>
                      <a:pt x="6" y="18"/>
                      <a:pt x="6" y="18"/>
                    </a:cubicBezTo>
                    <a:cubicBezTo>
                      <a:pt x="8" y="21"/>
                      <a:pt x="9" y="25"/>
                      <a:pt x="12" y="27"/>
                    </a:cubicBezTo>
                    <a:cubicBezTo>
                      <a:pt x="22" y="35"/>
                      <a:pt x="32" y="35"/>
                      <a:pt x="6" y="42"/>
                    </a:cubicBezTo>
                    <a:cubicBezTo>
                      <a:pt x="36" y="52"/>
                      <a:pt x="23" y="55"/>
                      <a:pt x="0" y="60"/>
                    </a:cubicBezTo>
                    <a:cubicBezTo>
                      <a:pt x="13" y="68"/>
                      <a:pt x="8" y="63"/>
                      <a:pt x="21" y="63"/>
                    </a:cubicBezTo>
                  </a:path>
                </a:pathLst>
              </a:custGeom>
              <a:noFill/>
              <a:ln w="9360">
                <a:solidFill>
                  <a:srgbClr val="66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Freeform 202"/>
              <p:cNvSpPr/>
              <p:nvPr/>
            </p:nvSpPr>
            <p:spPr>
              <a:xfrm flipV="1" rot="21360000">
                <a:off x="7385760" y="2044440"/>
                <a:ext cx="10440" cy="1836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-360 h 18360"/>
                  <a:gd name="textAreaBottom" fmla="*/ 18360 h 18360"/>
                </a:gdLst>
                <a:ahLst/>
                <a:rect l="textAreaLeft" t="textAreaTop" r="textAreaRight" b="textAreaBottom"/>
                <a:pathLst>
                  <a:path w="36" h="68">
                    <a:moveTo>
                      <a:pt x="9" y="0"/>
                    </a:moveTo>
                    <a:cubicBezTo>
                      <a:pt x="10" y="0"/>
                      <a:pt x="30" y="5"/>
                      <a:pt x="24" y="12"/>
                    </a:cubicBezTo>
                    <a:cubicBezTo>
                      <a:pt x="20" y="17"/>
                      <a:pt x="6" y="18"/>
                      <a:pt x="6" y="18"/>
                    </a:cubicBezTo>
                    <a:cubicBezTo>
                      <a:pt x="8" y="21"/>
                      <a:pt x="9" y="25"/>
                      <a:pt x="12" y="27"/>
                    </a:cubicBezTo>
                    <a:cubicBezTo>
                      <a:pt x="22" y="35"/>
                      <a:pt x="32" y="35"/>
                      <a:pt x="6" y="42"/>
                    </a:cubicBezTo>
                    <a:cubicBezTo>
                      <a:pt x="36" y="52"/>
                      <a:pt x="23" y="55"/>
                      <a:pt x="0" y="60"/>
                    </a:cubicBezTo>
                    <a:cubicBezTo>
                      <a:pt x="13" y="68"/>
                      <a:pt x="8" y="63"/>
                      <a:pt x="21" y="63"/>
                    </a:cubicBezTo>
                  </a:path>
                </a:pathLst>
              </a:custGeom>
              <a:noFill/>
              <a:ln w="9360">
                <a:solidFill>
                  <a:srgbClr val="66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Oval 203"/>
              <p:cNvSpPr/>
              <p:nvPr/>
            </p:nvSpPr>
            <p:spPr>
              <a:xfrm flipV="1" rot="21360000">
                <a:off x="7378560" y="2033280"/>
                <a:ext cx="6120" cy="12240"/>
              </a:xfrm>
              <a:prstGeom prst="ellipse">
                <a:avLst/>
              </a:prstGeom>
              <a:solidFill>
                <a:srgbClr val="663366"/>
              </a:solidFill>
              <a:ln w="9360">
                <a:solidFill>
                  <a:srgbClr val="66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Oval 204"/>
              <p:cNvSpPr/>
              <p:nvPr/>
            </p:nvSpPr>
            <p:spPr>
              <a:xfrm flipV="1" rot="21360000">
                <a:off x="7385040" y="2032560"/>
                <a:ext cx="6840" cy="12240"/>
              </a:xfrm>
              <a:prstGeom prst="ellipse">
                <a:avLst/>
              </a:prstGeom>
              <a:solidFill>
                <a:srgbClr val="663366"/>
              </a:solidFill>
              <a:ln w="9360">
                <a:solidFill>
                  <a:srgbClr val="66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205"/>
              <p:cNvSpPr/>
              <p:nvPr/>
            </p:nvSpPr>
            <p:spPr>
              <a:xfrm flipV="1" rot="1402800">
                <a:off x="7374960" y="2125440"/>
                <a:ext cx="12960" cy="2700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-360 h 27000"/>
                  <a:gd name="textAreaBottom" fmla="*/ 27000 h 27000"/>
                </a:gdLst>
                <a:ahLst/>
                <a:rect l="textAreaLeft" t="textAreaTop" r="textAreaRight" b="textAreaBottom"/>
                <a:pathLst>
                  <a:path w="90" h="181">
                    <a:moveTo>
                      <a:pt x="45" y="181"/>
                    </a:moveTo>
                    <a:cubicBezTo>
                      <a:pt x="30" y="181"/>
                      <a:pt x="0" y="120"/>
                      <a:pt x="0" y="90"/>
                    </a:cubicBezTo>
                    <a:cubicBezTo>
                      <a:pt x="0" y="60"/>
                      <a:pt x="30" y="0"/>
                      <a:pt x="45" y="0"/>
                    </a:cubicBezTo>
                    <a:cubicBezTo>
                      <a:pt x="60" y="0"/>
                      <a:pt x="90" y="60"/>
                      <a:pt x="90" y="90"/>
                    </a:cubicBezTo>
                    <a:cubicBezTo>
                      <a:pt x="90" y="120"/>
                      <a:pt x="60" y="181"/>
                      <a:pt x="45" y="181"/>
                    </a:cubicBezTo>
                    <a:close/>
                  </a:path>
                </a:pathLst>
              </a:custGeom>
              <a:noFill/>
              <a:ln w="64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Oval 206"/>
              <p:cNvSpPr/>
              <p:nvPr/>
            </p:nvSpPr>
            <p:spPr>
              <a:xfrm rot="720000">
                <a:off x="7358040" y="2088720"/>
                <a:ext cx="19800" cy="18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5" name="Group 207"/>
              <p:cNvGrpSpPr/>
              <p:nvPr/>
            </p:nvGrpSpPr>
            <p:grpSpPr>
              <a:xfrm>
                <a:off x="7185600" y="1740960"/>
                <a:ext cx="398160" cy="341280"/>
                <a:chOff x="7185600" y="1740960"/>
                <a:chExt cx="398160" cy="341280"/>
              </a:xfrm>
            </p:grpSpPr>
            <p:sp>
              <p:nvSpPr>
                <p:cNvPr id="966" name="Oval 208"/>
                <p:cNvSpPr/>
                <p:nvPr/>
              </p:nvSpPr>
              <p:spPr>
                <a:xfrm>
                  <a:off x="7265880" y="1826280"/>
                  <a:ext cx="254160" cy="236880"/>
                </a:xfrm>
                <a:prstGeom prst="ellipse">
                  <a:avLst/>
                </a:prstGeom>
                <a:solidFill>
                  <a:srgbClr val="666699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7" name="Oval 209"/>
                <p:cNvSpPr/>
                <p:nvPr/>
              </p:nvSpPr>
              <p:spPr>
                <a:xfrm>
                  <a:off x="7287120" y="1846080"/>
                  <a:ext cx="211680" cy="197280"/>
                </a:xfrm>
                <a:prstGeom prst="ellipse">
                  <a:avLst/>
                </a:prstGeom>
                <a:solidFill>
                  <a:srgbClr val="66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8" name="Oval 210"/>
                <p:cNvSpPr/>
                <p:nvPr/>
              </p:nvSpPr>
              <p:spPr>
                <a:xfrm>
                  <a:off x="7365600" y="1764360"/>
                  <a:ext cx="53280" cy="6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424267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9" name="AutoShape 211"/>
                <p:cNvSpPr/>
                <p:nvPr/>
              </p:nvSpPr>
              <p:spPr>
                <a:xfrm flipH="1">
                  <a:off x="7355880" y="1784880"/>
                  <a:ext cx="24480" cy="21600"/>
                </a:xfrm>
                <a:custGeom>
                  <a:avLst/>
                  <a:gdLst>
                    <a:gd name="textAreaLeft" fmla="*/ 15120 w 24480"/>
                    <a:gd name="textAreaRight" fmla="*/ 15840 w 24480"/>
                    <a:gd name="textAreaTop" fmla="*/ 720 h 21600"/>
                    <a:gd name="textAreaBottom" fmla="*/ 20880 h 21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7719" y="2482"/>
                        <a:pt x="13837" y="5080"/>
                        <a:pt x="13837" y="10800"/>
                      </a:cubicBezTo>
                      <a:cubicBezTo>
                        <a:pt x="13837" y="16520"/>
                        <a:pt x="17719" y="1911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0" name="AutoShape 212"/>
                <p:cNvSpPr/>
                <p:nvPr/>
              </p:nvSpPr>
              <p:spPr>
                <a:xfrm>
                  <a:off x="7403760" y="1784880"/>
                  <a:ext cx="24480" cy="21600"/>
                </a:xfrm>
                <a:custGeom>
                  <a:avLst/>
                  <a:gdLst>
                    <a:gd name="textAreaLeft" fmla="*/ 15120 w 24480"/>
                    <a:gd name="textAreaRight" fmla="*/ 15840 w 24480"/>
                    <a:gd name="textAreaTop" fmla="*/ 720 h 21600"/>
                    <a:gd name="textAreaBottom" fmla="*/ 20880 h 21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7719" y="2482"/>
                        <a:pt x="13837" y="5080"/>
                        <a:pt x="13837" y="10800"/>
                      </a:cubicBezTo>
                      <a:cubicBezTo>
                        <a:pt x="13837" y="16520"/>
                        <a:pt x="17719" y="1911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1" name="Freeform 213"/>
                <p:cNvSpPr/>
                <p:nvPr/>
              </p:nvSpPr>
              <p:spPr>
                <a:xfrm rot="16677600">
                  <a:off x="7364160" y="1747440"/>
                  <a:ext cx="12240" cy="29160"/>
                </a:xfrm>
                <a:custGeom>
                  <a:avLst/>
                  <a:gdLst>
                    <a:gd name="textAreaLeft" fmla="*/ 0 w 12240"/>
                    <a:gd name="textAreaRight" fmla="*/ 12600 w 1224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Freeform 214"/>
                <p:cNvSpPr/>
                <p:nvPr/>
              </p:nvSpPr>
              <p:spPr>
                <a:xfrm rot="17784000">
                  <a:off x="7365600" y="1744560"/>
                  <a:ext cx="11520" cy="2916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3" name="Freeform 215"/>
                <p:cNvSpPr/>
                <p:nvPr/>
              </p:nvSpPr>
              <p:spPr>
                <a:xfrm rot="19039800">
                  <a:off x="7368120" y="1741680"/>
                  <a:ext cx="12600" cy="27360"/>
                </a:xfrm>
                <a:custGeom>
                  <a:avLst/>
                  <a:gdLst>
                    <a:gd name="textAreaLeft" fmla="*/ 0 w 12600"/>
                    <a:gd name="textAreaRight" fmla="*/ 12960 w 12600"/>
                    <a:gd name="textAreaTop" fmla="*/ 0 h 27360"/>
                    <a:gd name="textAreaBottom" fmla="*/ 27720 h 2736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4" name="Freeform 216"/>
                <p:cNvSpPr/>
                <p:nvPr/>
              </p:nvSpPr>
              <p:spPr>
                <a:xfrm flipH="1" rot="4922400">
                  <a:off x="7404480" y="1747440"/>
                  <a:ext cx="12240" cy="29160"/>
                </a:xfrm>
                <a:custGeom>
                  <a:avLst/>
                  <a:gdLst>
                    <a:gd name="textAreaLeft" fmla="*/ 360 w 12240"/>
                    <a:gd name="textAreaRight" fmla="*/ 12960 w 1224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5" name="Freeform 217"/>
                <p:cNvSpPr/>
                <p:nvPr/>
              </p:nvSpPr>
              <p:spPr>
                <a:xfrm flipH="1" rot="3816000">
                  <a:off x="7404120" y="1744200"/>
                  <a:ext cx="11520" cy="28800"/>
                </a:xfrm>
                <a:custGeom>
                  <a:avLst/>
                  <a:gdLst>
                    <a:gd name="textAreaLeft" fmla="*/ 360 w 11520"/>
                    <a:gd name="textAreaRight" fmla="*/ 12240 w 1152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6" name="Freeform 218"/>
                <p:cNvSpPr/>
                <p:nvPr/>
              </p:nvSpPr>
              <p:spPr>
                <a:xfrm flipH="1" rot="2560200">
                  <a:off x="7400160" y="1741680"/>
                  <a:ext cx="12600" cy="27360"/>
                </a:xfrm>
                <a:custGeom>
                  <a:avLst/>
                  <a:gdLst>
                    <a:gd name="textAreaLeft" fmla="*/ -360 w 12600"/>
                    <a:gd name="textAreaRight" fmla="*/ 12600 w 12600"/>
                    <a:gd name="textAreaTop" fmla="*/ 0 h 27360"/>
                    <a:gd name="textAreaBottom" fmla="*/ 27720 h 2736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7" name="Freeform 219"/>
                <p:cNvSpPr/>
                <p:nvPr/>
              </p:nvSpPr>
              <p:spPr>
                <a:xfrm>
                  <a:off x="7385400" y="1827720"/>
                  <a:ext cx="10080" cy="1872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18720"/>
                    <a:gd name="textAreaBottom" fmla="*/ 19080 h 18720"/>
                  </a:gdLst>
                  <a:ahLst/>
                  <a:rect l="textAreaLeft" t="textAreaTop" r="textAreaRight" b="textAreaBottom"/>
                  <a:pathLst>
                    <a:path w="36" h="68">
                      <a:moveTo>
                        <a:pt x="9" y="0"/>
                      </a:moveTo>
                      <a:cubicBezTo>
                        <a:pt x="10" y="0"/>
                        <a:pt x="30" y="5"/>
                        <a:pt x="24" y="12"/>
                      </a:cubicBezTo>
                      <a:cubicBezTo>
                        <a:pt x="20" y="17"/>
                        <a:pt x="6" y="18"/>
                        <a:pt x="6" y="18"/>
                      </a:cubicBezTo>
                      <a:cubicBezTo>
                        <a:pt x="8" y="21"/>
                        <a:pt x="9" y="25"/>
                        <a:pt x="12" y="27"/>
                      </a:cubicBezTo>
                      <a:cubicBezTo>
                        <a:pt x="22" y="35"/>
                        <a:pt x="32" y="35"/>
                        <a:pt x="6" y="42"/>
                      </a:cubicBezTo>
                      <a:cubicBezTo>
                        <a:pt x="36" y="52"/>
                        <a:pt x="23" y="55"/>
                        <a:pt x="0" y="60"/>
                      </a:cubicBezTo>
                      <a:cubicBezTo>
                        <a:pt x="13" y="68"/>
                        <a:pt x="8" y="63"/>
                        <a:pt x="21" y="63"/>
                      </a:cubicBezTo>
                    </a:path>
                  </a:pathLst>
                </a:custGeom>
                <a:solidFill>
                  <a:srgbClr val="663366"/>
                </a:solidFill>
                <a:ln w="9360">
                  <a:solidFill>
                    <a:srgbClr val="66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8" name="Freeform 220"/>
                <p:cNvSpPr/>
                <p:nvPr/>
              </p:nvSpPr>
              <p:spPr>
                <a:xfrm>
                  <a:off x="7391880" y="1828440"/>
                  <a:ext cx="10080" cy="1800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18000"/>
                    <a:gd name="textAreaBottom" fmla="*/ 18360 h 18000"/>
                  </a:gdLst>
                  <a:ahLst/>
                  <a:rect l="textAreaLeft" t="textAreaTop" r="textAreaRight" b="textAreaBottom"/>
                  <a:pathLst>
                    <a:path w="36" h="68">
                      <a:moveTo>
                        <a:pt x="9" y="0"/>
                      </a:moveTo>
                      <a:cubicBezTo>
                        <a:pt x="10" y="0"/>
                        <a:pt x="30" y="5"/>
                        <a:pt x="24" y="12"/>
                      </a:cubicBezTo>
                      <a:cubicBezTo>
                        <a:pt x="20" y="17"/>
                        <a:pt x="6" y="18"/>
                        <a:pt x="6" y="18"/>
                      </a:cubicBezTo>
                      <a:cubicBezTo>
                        <a:pt x="8" y="21"/>
                        <a:pt x="9" y="25"/>
                        <a:pt x="12" y="27"/>
                      </a:cubicBezTo>
                      <a:cubicBezTo>
                        <a:pt x="22" y="35"/>
                        <a:pt x="32" y="35"/>
                        <a:pt x="6" y="42"/>
                      </a:cubicBezTo>
                      <a:cubicBezTo>
                        <a:pt x="36" y="52"/>
                        <a:pt x="23" y="55"/>
                        <a:pt x="0" y="60"/>
                      </a:cubicBezTo>
                      <a:cubicBezTo>
                        <a:pt x="13" y="68"/>
                        <a:pt x="8" y="63"/>
                        <a:pt x="21" y="63"/>
                      </a:cubicBezTo>
                    </a:path>
                  </a:pathLst>
                </a:custGeom>
                <a:solidFill>
                  <a:srgbClr val="663366"/>
                </a:solidFill>
                <a:ln w="9360">
                  <a:solidFill>
                    <a:srgbClr val="66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Oval 221"/>
                <p:cNvSpPr/>
                <p:nvPr/>
              </p:nvSpPr>
              <p:spPr>
                <a:xfrm>
                  <a:off x="7386120" y="1846440"/>
                  <a:ext cx="6120" cy="12240"/>
                </a:xfrm>
                <a:prstGeom prst="ellipse">
                  <a:avLst/>
                </a:prstGeom>
                <a:solidFill>
                  <a:srgbClr val="663366"/>
                </a:solidFill>
                <a:ln w="9360">
                  <a:solidFill>
                    <a:srgbClr val="66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Oval 222"/>
                <p:cNvSpPr/>
                <p:nvPr/>
              </p:nvSpPr>
              <p:spPr>
                <a:xfrm>
                  <a:off x="7391880" y="1846800"/>
                  <a:ext cx="6480" cy="12240"/>
                </a:xfrm>
                <a:prstGeom prst="ellipse">
                  <a:avLst/>
                </a:prstGeom>
                <a:solidFill>
                  <a:srgbClr val="663366"/>
                </a:solidFill>
                <a:ln w="9360">
                  <a:solidFill>
                    <a:srgbClr val="66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1" name="Oval 223"/>
                <p:cNvSpPr/>
                <p:nvPr/>
              </p:nvSpPr>
              <p:spPr>
                <a:xfrm rot="3348000">
                  <a:off x="7499880" y="1828440"/>
                  <a:ext cx="49320" cy="6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424267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 anchorCtr="1" vert="eaVert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2" name="AutoShape 224"/>
                <p:cNvSpPr/>
                <p:nvPr/>
              </p:nvSpPr>
              <p:spPr>
                <a:xfrm flipH="1" rot="3348000">
                  <a:off x="7498080" y="1831680"/>
                  <a:ext cx="23400" cy="22680"/>
                </a:xfrm>
                <a:custGeom>
                  <a:avLst/>
                  <a:gdLst>
                    <a:gd name="textAreaLeft" fmla="*/ 14040 w 23400"/>
                    <a:gd name="textAreaRight" fmla="*/ 14760 w 23400"/>
                    <a:gd name="textAreaTop" fmla="*/ 720 h 22680"/>
                    <a:gd name="textAreaBottom" fmla="*/ 21960 h 22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7719" y="2482"/>
                        <a:pt x="13837" y="5080"/>
                        <a:pt x="13837" y="10800"/>
                      </a:cubicBezTo>
                      <a:cubicBezTo>
                        <a:pt x="13837" y="16520"/>
                        <a:pt x="17719" y="1911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 anchorCtr="1" vert="eaVert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3" name="AutoShape 225"/>
                <p:cNvSpPr/>
                <p:nvPr/>
              </p:nvSpPr>
              <p:spPr>
                <a:xfrm rot="3348000">
                  <a:off x="7525800" y="1869120"/>
                  <a:ext cx="23040" cy="23040"/>
                </a:xfrm>
                <a:custGeom>
                  <a:avLst/>
                  <a:gdLst>
                    <a:gd name="textAreaLeft" fmla="*/ 14040 w 23040"/>
                    <a:gd name="textAreaRight" fmla="*/ 14760 w 23040"/>
                    <a:gd name="textAreaTop" fmla="*/ 720 h 23040"/>
                    <a:gd name="textAreaBottom" fmla="*/ 22320 h 23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7719" y="2482"/>
                        <a:pt x="13837" y="5080"/>
                        <a:pt x="13837" y="10800"/>
                      </a:cubicBezTo>
                      <a:cubicBezTo>
                        <a:pt x="13837" y="16520"/>
                        <a:pt x="17719" y="1911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 anchorCtr="1" vert="eaVert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4" name="Freeform 226"/>
                <p:cNvSpPr/>
                <p:nvPr/>
              </p:nvSpPr>
              <p:spPr>
                <a:xfrm rot="20025600">
                  <a:off x="7534800" y="1812600"/>
                  <a:ext cx="12960" cy="2736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0 h 27360"/>
                    <a:gd name="textAreaBottom" fmla="*/ 27720 h 2736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5" name="Freeform 227"/>
                <p:cNvSpPr/>
                <p:nvPr/>
              </p:nvSpPr>
              <p:spPr>
                <a:xfrm rot="21131400">
                  <a:off x="7539120" y="1811520"/>
                  <a:ext cx="12600" cy="27360"/>
                </a:xfrm>
                <a:custGeom>
                  <a:avLst/>
                  <a:gdLst>
                    <a:gd name="textAreaLeft" fmla="*/ 0 w 12600"/>
                    <a:gd name="textAreaRight" fmla="*/ 12960 w 12600"/>
                    <a:gd name="textAreaTop" fmla="*/ 0 h 27360"/>
                    <a:gd name="textAreaBottom" fmla="*/ 27720 h 2736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6" name="Freeform 228"/>
                <p:cNvSpPr/>
                <p:nvPr/>
              </p:nvSpPr>
              <p:spPr>
                <a:xfrm rot="787800">
                  <a:off x="7543440" y="1812240"/>
                  <a:ext cx="12960" cy="2664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0 h 26640"/>
                    <a:gd name="textAreaBottom" fmla="*/ 27000 h 2664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7" name="Freeform 229"/>
                <p:cNvSpPr/>
                <p:nvPr/>
              </p:nvSpPr>
              <p:spPr>
                <a:xfrm flipH="1" rot="8269800">
                  <a:off x="7558200" y="1843560"/>
                  <a:ext cx="12960" cy="27360"/>
                </a:xfrm>
                <a:custGeom>
                  <a:avLst/>
                  <a:gdLst>
                    <a:gd name="textAreaLeft" fmla="*/ 360 w 12960"/>
                    <a:gd name="textAreaRight" fmla="*/ 13680 w 12960"/>
                    <a:gd name="textAreaTop" fmla="*/ 0 h 27360"/>
                    <a:gd name="textAreaBottom" fmla="*/ 27720 h 2736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8" name="Freeform 230"/>
                <p:cNvSpPr/>
                <p:nvPr/>
              </p:nvSpPr>
              <p:spPr>
                <a:xfrm flipH="1" rot="7163400">
                  <a:off x="7561440" y="1840320"/>
                  <a:ext cx="11160" cy="29160"/>
                </a:xfrm>
                <a:custGeom>
                  <a:avLst/>
                  <a:gdLst>
                    <a:gd name="textAreaLeft" fmla="*/ -360 w 11160"/>
                    <a:gd name="textAreaRight" fmla="*/ 11160 w 1116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9" name="Freeform 231"/>
                <p:cNvSpPr/>
                <p:nvPr/>
              </p:nvSpPr>
              <p:spPr>
                <a:xfrm flipH="1" rot="5907600">
                  <a:off x="7562160" y="1835640"/>
                  <a:ext cx="11880" cy="29160"/>
                </a:xfrm>
                <a:custGeom>
                  <a:avLst/>
                  <a:gdLst>
                    <a:gd name="textAreaLeft" fmla="*/ -360 w 11880"/>
                    <a:gd name="textAreaRight" fmla="*/ 11880 w 1188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0" name="Freeform 232"/>
                <p:cNvSpPr/>
                <p:nvPr/>
              </p:nvSpPr>
              <p:spPr>
                <a:xfrm rot="3348000">
                  <a:off x="7482240" y="1873800"/>
                  <a:ext cx="9720" cy="19440"/>
                </a:xfrm>
                <a:custGeom>
                  <a:avLst/>
                  <a:gdLst>
                    <a:gd name="textAreaLeft" fmla="*/ 0 w 9720"/>
                    <a:gd name="textAreaRight" fmla="*/ 10080 w 9720"/>
                    <a:gd name="textAreaTop" fmla="*/ 0 h 19440"/>
                    <a:gd name="textAreaBottom" fmla="*/ 19800 h 19440"/>
                  </a:gdLst>
                  <a:ahLst/>
                  <a:rect l="textAreaLeft" t="textAreaTop" r="textAreaRight" b="textAreaBottom"/>
                  <a:pathLst>
                    <a:path w="36" h="68">
                      <a:moveTo>
                        <a:pt x="9" y="0"/>
                      </a:moveTo>
                      <a:cubicBezTo>
                        <a:pt x="10" y="0"/>
                        <a:pt x="30" y="5"/>
                        <a:pt x="24" y="12"/>
                      </a:cubicBezTo>
                      <a:cubicBezTo>
                        <a:pt x="20" y="17"/>
                        <a:pt x="6" y="18"/>
                        <a:pt x="6" y="18"/>
                      </a:cubicBezTo>
                      <a:cubicBezTo>
                        <a:pt x="8" y="21"/>
                        <a:pt x="9" y="25"/>
                        <a:pt x="12" y="27"/>
                      </a:cubicBezTo>
                      <a:cubicBezTo>
                        <a:pt x="22" y="35"/>
                        <a:pt x="32" y="35"/>
                        <a:pt x="6" y="42"/>
                      </a:cubicBezTo>
                      <a:cubicBezTo>
                        <a:pt x="36" y="52"/>
                        <a:pt x="23" y="55"/>
                        <a:pt x="0" y="60"/>
                      </a:cubicBezTo>
                      <a:cubicBezTo>
                        <a:pt x="13" y="68"/>
                        <a:pt x="8" y="63"/>
                        <a:pt x="21" y="63"/>
                      </a:cubicBezTo>
                    </a:path>
                  </a:pathLst>
                </a:custGeom>
                <a:solidFill>
                  <a:srgbClr val="663366"/>
                </a:solidFill>
                <a:ln w="9360">
                  <a:solidFill>
                    <a:srgbClr val="66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1" name="Freeform 233"/>
                <p:cNvSpPr/>
                <p:nvPr/>
              </p:nvSpPr>
              <p:spPr>
                <a:xfrm rot="3348000">
                  <a:off x="7485480" y="1878840"/>
                  <a:ext cx="9360" cy="19440"/>
                </a:xfrm>
                <a:custGeom>
                  <a:avLst/>
                  <a:gdLst>
                    <a:gd name="textAreaLeft" fmla="*/ 0 w 9360"/>
                    <a:gd name="textAreaRight" fmla="*/ 9720 w 9360"/>
                    <a:gd name="textAreaTop" fmla="*/ 0 h 19440"/>
                    <a:gd name="textAreaBottom" fmla="*/ 19800 h 19440"/>
                  </a:gdLst>
                  <a:ahLst/>
                  <a:rect l="textAreaLeft" t="textAreaTop" r="textAreaRight" b="textAreaBottom"/>
                  <a:pathLst>
                    <a:path w="36" h="68">
                      <a:moveTo>
                        <a:pt x="9" y="0"/>
                      </a:moveTo>
                      <a:cubicBezTo>
                        <a:pt x="10" y="0"/>
                        <a:pt x="30" y="5"/>
                        <a:pt x="24" y="12"/>
                      </a:cubicBezTo>
                      <a:cubicBezTo>
                        <a:pt x="20" y="17"/>
                        <a:pt x="6" y="18"/>
                        <a:pt x="6" y="18"/>
                      </a:cubicBezTo>
                      <a:cubicBezTo>
                        <a:pt x="8" y="21"/>
                        <a:pt x="9" y="25"/>
                        <a:pt x="12" y="27"/>
                      </a:cubicBezTo>
                      <a:cubicBezTo>
                        <a:pt x="22" y="35"/>
                        <a:pt x="32" y="35"/>
                        <a:pt x="6" y="42"/>
                      </a:cubicBezTo>
                      <a:cubicBezTo>
                        <a:pt x="36" y="52"/>
                        <a:pt x="23" y="55"/>
                        <a:pt x="0" y="60"/>
                      </a:cubicBezTo>
                      <a:cubicBezTo>
                        <a:pt x="13" y="68"/>
                        <a:pt x="8" y="63"/>
                        <a:pt x="21" y="63"/>
                      </a:cubicBezTo>
                    </a:path>
                  </a:pathLst>
                </a:custGeom>
                <a:solidFill>
                  <a:srgbClr val="663366"/>
                </a:solidFill>
                <a:ln w="9360">
                  <a:solidFill>
                    <a:srgbClr val="66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2" name="Oval 234"/>
                <p:cNvSpPr/>
                <p:nvPr/>
              </p:nvSpPr>
              <p:spPr>
                <a:xfrm rot="3348000">
                  <a:off x="7469280" y="1884240"/>
                  <a:ext cx="6120" cy="13320"/>
                </a:xfrm>
                <a:prstGeom prst="ellipse">
                  <a:avLst/>
                </a:prstGeom>
                <a:solidFill>
                  <a:srgbClr val="663366"/>
                </a:solidFill>
                <a:ln w="9360">
                  <a:solidFill>
                    <a:srgbClr val="66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 anchorCtr="1" vert="eaVert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3" name="Oval 235"/>
                <p:cNvSpPr/>
                <p:nvPr/>
              </p:nvSpPr>
              <p:spPr>
                <a:xfrm rot="3348000">
                  <a:off x="7472880" y="1889640"/>
                  <a:ext cx="6120" cy="13320"/>
                </a:xfrm>
                <a:prstGeom prst="ellipse">
                  <a:avLst/>
                </a:prstGeom>
                <a:solidFill>
                  <a:srgbClr val="663366"/>
                </a:solidFill>
                <a:ln w="9360">
                  <a:solidFill>
                    <a:srgbClr val="66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 anchorCtr="1" vert="eaVert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4" name="Oval 236"/>
                <p:cNvSpPr/>
                <p:nvPr/>
              </p:nvSpPr>
              <p:spPr>
                <a:xfrm flipH="1" rot="18252000">
                  <a:off x="7233480" y="1823400"/>
                  <a:ext cx="49680" cy="66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424267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AutoShape 237"/>
                <p:cNvSpPr/>
                <p:nvPr/>
              </p:nvSpPr>
              <p:spPr>
                <a:xfrm rot="18252000">
                  <a:off x="7261200" y="1826640"/>
                  <a:ext cx="23040" cy="23040"/>
                </a:xfrm>
                <a:custGeom>
                  <a:avLst/>
                  <a:gdLst>
                    <a:gd name="textAreaLeft" fmla="*/ 14040 w 23040"/>
                    <a:gd name="textAreaRight" fmla="*/ 14760 w 23040"/>
                    <a:gd name="textAreaTop" fmla="*/ 720 h 23040"/>
                    <a:gd name="textAreaBottom" fmla="*/ 22320 h 23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7719" y="2482"/>
                        <a:pt x="13837" y="5080"/>
                        <a:pt x="13837" y="10800"/>
                      </a:cubicBezTo>
                      <a:cubicBezTo>
                        <a:pt x="13837" y="16520"/>
                        <a:pt x="17719" y="1911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AutoShape 238"/>
                <p:cNvSpPr/>
                <p:nvPr/>
              </p:nvSpPr>
              <p:spPr>
                <a:xfrm flipH="1" rot="18252000">
                  <a:off x="7233120" y="1864440"/>
                  <a:ext cx="23040" cy="23040"/>
                </a:xfrm>
                <a:custGeom>
                  <a:avLst/>
                  <a:gdLst>
                    <a:gd name="textAreaLeft" fmla="*/ 14040 w 23040"/>
                    <a:gd name="textAreaRight" fmla="*/ 14760 w 23040"/>
                    <a:gd name="textAreaTop" fmla="*/ 720 h 23040"/>
                    <a:gd name="textAreaBottom" fmla="*/ 22320 h 23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7719" y="2482"/>
                        <a:pt x="13837" y="5080"/>
                        <a:pt x="13837" y="10800"/>
                      </a:cubicBezTo>
                      <a:cubicBezTo>
                        <a:pt x="13837" y="16520"/>
                        <a:pt x="17719" y="1911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Freeform 239"/>
                <p:cNvSpPr/>
                <p:nvPr/>
              </p:nvSpPr>
              <p:spPr>
                <a:xfrm flipH="1" rot="1574400">
                  <a:off x="7234560" y="1806840"/>
                  <a:ext cx="12240" cy="27360"/>
                </a:xfrm>
                <a:custGeom>
                  <a:avLst/>
                  <a:gdLst>
                    <a:gd name="textAreaLeft" fmla="*/ 360 w 12240"/>
                    <a:gd name="textAreaRight" fmla="*/ 12960 w 12240"/>
                    <a:gd name="textAreaTop" fmla="*/ 0 h 27360"/>
                    <a:gd name="textAreaBottom" fmla="*/ 27720 h 2736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8" name="Freeform 240"/>
                <p:cNvSpPr/>
                <p:nvPr/>
              </p:nvSpPr>
              <p:spPr>
                <a:xfrm flipH="1" rot="468600">
                  <a:off x="7231320" y="1806840"/>
                  <a:ext cx="12600" cy="27360"/>
                </a:xfrm>
                <a:custGeom>
                  <a:avLst/>
                  <a:gdLst>
                    <a:gd name="textAreaLeft" fmla="*/ -360 w 12600"/>
                    <a:gd name="textAreaRight" fmla="*/ 12600 w 12600"/>
                    <a:gd name="textAreaTop" fmla="*/ 0 h 27360"/>
                    <a:gd name="textAreaBottom" fmla="*/ 27720 h 2736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9" name="Freeform 241"/>
                <p:cNvSpPr/>
                <p:nvPr/>
              </p:nvSpPr>
              <p:spPr>
                <a:xfrm flipH="1" rot="20812200">
                  <a:off x="7226640" y="1807200"/>
                  <a:ext cx="12960" cy="26640"/>
                </a:xfrm>
                <a:custGeom>
                  <a:avLst/>
                  <a:gdLst>
                    <a:gd name="textAreaLeft" fmla="*/ 360 w 12960"/>
                    <a:gd name="textAreaRight" fmla="*/ 13680 w 12960"/>
                    <a:gd name="textAreaTop" fmla="*/ 0 h 26640"/>
                    <a:gd name="textAreaBottom" fmla="*/ 27000 h 2664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0" name="Freeform 242"/>
                <p:cNvSpPr/>
                <p:nvPr/>
              </p:nvSpPr>
              <p:spPr>
                <a:xfrm rot="13330200">
                  <a:off x="7211880" y="1838880"/>
                  <a:ext cx="12960" cy="2700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1" name="Freeform 243"/>
                <p:cNvSpPr/>
                <p:nvPr/>
              </p:nvSpPr>
              <p:spPr>
                <a:xfrm rot="14436600">
                  <a:off x="7210080" y="1834920"/>
                  <a:ext cx="11160" cy="29520"/>
                </a:xfrm>
                <a:custGeom>
                  <a:avLst/>
                  <a:gdLst>
                    <a:gd name="textAreaLeft" fmla="*/ 0 w 11160"/>
                    <a:gd name="textAreaRight" fmla="*/ 11520 w 11160"/>
                    <a:gd name="textAreaTop" fmla="*/ 0 h 29520"/>
                    <a:gd name="textAreaBottom" fmla="*/ 29880 h 2952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2" name="Freeform 244"/>
                <p:cNvSpPr/>
                <p:nvPr/>
              </p:nvSpPr>
              <p:spPr>
                <a:xfrm rot="15692400">
                  <a:off x="7208640" y="1830960"/>
                  <a:ext cx="11880" cy="2880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3" name="Freeform 245"/>
                <p:cNvSpPr/>
                <p:nvPr/>
              </p:nvSpPr>
              <p:spPr>
                <a:xfrm flipH="1" rot="18252000">
                  <a:off x="7291800" y="1868760"/>
                  <a:ext cx="9720" cy="19440"/>
                </a:xfrm>
                <a:custGeom>
                  <a:avLst/>
                  <a:gdLst>
                    <a:gd name="textAreaLeft" fmla="*/ -360 w 9720"/>
                    <a:gd name="textAreaRight" fmla="*/ 9720 w 9720"/>
                    <a:gd name="textAreaTop" fmla="*/ 0 h 19440"/>
                    <a:gd name="textAreaBottom" fmla="*/ 19800 h 19440"/>
                  </a:gdLst>
                  <a:ahLst/>
                  <a:rect l="textAreaLeft" t="textAreaTop" r="textAreaRight" b="textAreaBottom"/>
                  <a:pathLst>
                    <a:path w="36" h="68">
                      <a:moveTo>
                        <a:pt x="9" y="0"/>
                      </a:moveTo>
                      <a:cubicBezTo>
                        <a:pt x="10" y="0"/>
                        <a:pt x="30" y="5"/>
                        <a:pt x="24" y="12"/>
                      </a:cubicBezTo>
                      <a:cubicBezTo>
                        <a:pt x="20" y="17"/>
                        <a:pt x="6" y="18"/>
                        <a:pt x="6" y="18"/>
                      </a:cubicBezTo>
                      <a:cubicBezTo>
                        <a:pt x="8" y="21"/>
                        <a:pt x="9" y="25"/>
                        <a:pt x="12" y="27"/>
                      </a:cubicBezTo>
                      <a:cubicBezTo>
                        <a:pt x="22" y="35"/>
                        <a:pt x="32" y="35"/>
                        <a:pt x="6" y="42"/>
                      </a:cubicBezTo>
                      <a:cubicBezTo>
                        <a:pt x="36" y="52"/>
                        <a:pt x="23" y="55"/>
                        <a:pt x="0" y="60"/>
                      </a:cubicBezTo>
                      <a:cubicBezTo>
                        <a:pt x="13" y="68"/>
                        <a:pt x="8" y="63"/>
                        <a:pt x="21" y="63"/>
                      </a:cubicBezTo>
                    </a:path>
                  </a:pathLst>
                </a:custGeom>
                <a:solidFill>
                  <a:srgbClr val="663366"/>
                </a:solidFill>
                <a:ln w="9360">
                  <a:solidFill>
                    <a:srgbClr val="66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Freeform 246"/>
                <p:cNvSpPr/>
                <p:nvPr/>
              </p:nvSpPr>
              <p:spPr>
                <a:xfrm flipH="1" rot="18252000">
                  <a:off x="7288560" y="1874160"/>
                  <a:ext cx="9720" cy="19440"/>
                </a:xfrm>
                <a:custGeom>
                  <a:avLst/>
                  <a:gdLst>
                    <a:gd name="textAreaLeft" fmla="*/ -360 w 9720"/>
                    <a:gd name="textAreaRight" fmla="*/ 9720 w 9720"/>
                    <a:gd name="textAreaTop" fmla="*/ 0 h 19440"/>
                    <a:gd name="textAreaBottom" fmla="*/ 19800 h 19440"/>
                  </a:gdLst>
                  <a:ahLst/>
                  <a:rect l="textAreaLeft" t="textAreaTop" r="textAreaRight" b="textAreaBottom"/>
                  <a:pathLst>
                    <a:path w="36" h="68">
                      <a:moveTo>
                        <a:pt x="9" y="0"/>
                      </a:moveTo>
                      <a:cubicBezTo>
                        <a:pt x="10" y="0"/>
                        <a:pt x="30" y="5"/>
                        <a:pt x="24" y="12"/>
                      </a:cubicBezTo>
                      <a:cubicBezTo>
                        <a:pt x="20" y="17"/>
                        <a:pt x="6" y="18"/>
                        <a:pt x="6" y="18"/>
                      </a:cubicBezTo>
                      <a:cubicBezTo>
                        <a:pt x="8" y="21"/>
                        <a:pt x="9" y="25"/>
                        <a:pt x="12" y="27"/>
                      </a:cubicBezTo>
                      <a:cubicBezTo>
                        <a:pt x="22" y="35"/>
                        <a:pt x="32" y="35"/>
                        <a:pt x="6" y="42"/>
                      </a:cubicBezTo>
                      <a:cubicBezTo>
                        <a:pt x="36" y="52"/>
                        <a:pt x="23" y="55"/>
                        <a:pt x="0" y="60"/>
                      </a:cubicBezTo>
                      <a:cubicBezTo>
                        <a:pt x="13" y="68"/>
                        <a:pt x="8" y="63"/>
                        <a:pt x="21" y="63"/>
                      </a:cubicBezTo>
                    </a:path>
                  </a:pathLst>
                </a:custGeom>
                <a:solidFill>
                  <a:srgbClr val="663366"/>
                </a:solidFill>
                <a:ln w="9360">
                  <a:solidFill>
                    <a:srgbClr val="66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5" name="Oval 247"/>
                <p:cNvSpPr/>
                <p:nvPr/>
              </p:nvSpPr>
              <p:spPr>
                <a:xfrm flipH="1" rot="18252000">
                  <a:off x="7307280" y="1879560"/>
                  <a:ext cx="6120" cy="13320"/>
                </a:xfrm>
                <a:prstGeom prst="ellipse">
                  <a:avLst/>
                </a:prstGeom>
                <a:solidFill>
                  <a:srgbClr val="663366"/>
                </a:solidFill>
                <a:ln w="9360">
                  <a:solidFill>
                    <a:srgbClr val="66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6" name="Oval 248"/>
                <p:cNvSpPr/>
                <p:nvPr/>
              </p:nvSpPr>
              <p:spPr>
                <a:xfrm flipH="1" rot="18252000">
                  <a:off x="7303680" y="1884600"/>
                  <a:ext cx="6120" cy="13320"/>
                </a:xfrm>
                <a:prstGeom prst="ellipse">
                  <a:avLst/>
                </a:prstGeom>
                <a:solidFill>
                  <a:srgbClr val="663366"/>
                </a:solidFill>
                <a:ln w="9360">
                  <a:solidFill>
                    <a:srgbClr val="66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Oval 249"/>
                <p:cNvSpPr/>
                <p:nvPr/>
              </p:nvSpPr>
              <p:spPr>
                <a:xfrm flipV="1" rot="18252000">
                  <a:off x="7497720" y="1998000"/>
                  <a:ext cx="49680" cy="6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424267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 anchorCtr="1" vert="eaVert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AutoShape 250"/>
                <p:cNvSpPr/>
                <p:nvPr/>
              </p:nvSpPr>
              <p:spPr>
                <a:xfrm flipH="1" flipV="1" rot="18252000">
                  <a:off x="7497000" y="2038320"/>
                  <a:ext cx="23040" cy="22680"/>
                </a:xfrm>
                <a:custGeom>
                  <a:avLst/>
                  <a:gdLst>
                    <a:gd name="textAreaLeft" fmla="*/ 14040 w 23040"/>
                    <a:gd name="textAreaRight" fmla="*/ 14760 w 23040"/>
                    <a:gd name="textAreaTop" fmla="*/ 720 h 22680"/>
                    <a:gd name="textAreaBottom" fmla="*/ 21960 h 22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7719" y="2482"/>
                        <a:pt x="13837" y="5080"/>
                        <a:pt x="13837" y="10800"/>
                      </a:cubicBezTo>
                      <a:cubicBezTo>
                        <a:pt x="13837" y="16520"/>
                        <a:pt x="17719" y="1911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 anchorCtr="1" vert="eaVert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AutoShape 251"/>
                <p:cNvSpPr/>
                <p:nvPr/>
              </p:nvSpPr>
              <p:spPr>
                <a:xfrm flipV="1" rot="18252000">
                  <a:off x="7524000" y="2001240"/>
                  <a:ext cx="23040" cy="22680"/>
                </a:xfrm>
                <a:custGeom>
                  <a:avLst/>
                  <a:gdLst>
                    <a:gd name="textAreaLeft" fmla="*/ 14040 w 23040"/>
                    <a:gd name="textAreaRight" fmla="*/ 14760 w 23040"/>
                    <a:gd name="textAreaTop" fmla="*/ 720 h 22680"/>
                    <a:gd name="textAreaBottom" fmla="*/ 21960 h 22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7719" y="2482"/>
                        <a:pt x="13837" y="5080"/>
                        <a:pt x="13837" y="10800"/>
                      </a:cubicBezTo>
                      <a:cubicBezTo>
                        <a:pt x="13837" y="16520"/>
                        <a:pt x="17719" y="1911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 anchorCtr="1" vert="eaVert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0" name="Freeform 252"/>
                <p:cNvSpPr/>
                <p:nvPr/>
              </p:nvSpPr>
              <p:spPr>
                <a:xfrm flipV="1" rot="1574400">
                  <a:off x="7533360" y="2052000"/>
                  <a:ext cx="12240" cy="27360"/>
                </a:xfrm>
                <a:custGeom>
                  <a:avLst/>
                  <a:gdLst>
                    <a:gd name="textAreaLeft" fmla="*/ 0 w 12240"/>
                    <a:gd name="textAreaRight" fmla="*/ 12600 w 12240"/>
                    <a:gd name="textAreaTop" fmla="*/ 360 h 27360"/>
                    <a:gd name="textAreaBottom" fmla="*/ 28080 h 2736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1" name="Freeform 253"/>
                <p:cNvSpPr/>
                <p:nvPr/>
              </p:nvSpPr>
              <p:spPr>
                <a:xfrm flipV="1" rot="468600">
                  <a:off x="7536960" y="2053440"/>
                  <a:ext cx="12240" cy="27720"/>
                </a:xfrm>
                <a:custGeom>
                  <a:avLst/>
                  <a:gdLst>
                    <a:gd name="textAreaLeft" fmla="*/ 0 w 12240"/>
                    <a:gd name="textAreaRight" fmla="*/ 12600 w 12240"/>
                    <a:gd name="textAreaTop" fmla="*/ -360 h 27720"/>
                    <a:gd name="textAreaBottom" fmla="*/ 27720 h 2772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2" name="Freeform 254"/>
                <p:cNvSpPr/>
                <p:nvPr/>
              </p:nvSpPr>
              <p:spPr>
                <a:xfrm flipV="1" rot="20812200">
                  <a:off x="7542000" y="2054160"/>
                  <a:ext cx="12600" cy="26640"/>
                </a:xfrm>
                <a:custGeom>
                  <a:avLst/>
                  <a:gdLst>
                    <a:gd name="textAreaLeft" fmla="*/ 0 w 12600"/>
                    <a:gd name="textAreaRight" fmla="*/ 12960 w 12600"/>
                    <a:gd name="textAreaTop" fmla="*/ 360 h 26640"/>
                    <a:gd name="textAreaBottom" fmla="*/ 27360 h 2664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3" name="Freeform 255"/>
                <p:cNvSpPr/>
                <p:nvPr/>
              </p:nvSpPr>
              <p:spPr>
                <a:xfrm flipH="1" flipV="1" rot="13330200">
                  <a:off x="7556400" y="2021760"/>
                  <a:ext cx="12600" cy="27360"/>
                </a:xfrm>
                <a:custGeom>
                  <a:avLst/>
                  <a:gdLst>
                    <a:gd name="textAreaLeft" fmla="*/ -360 w 12600"/>
                    <a:gd name="textAreaRight" fmla="*/ 12600 w 12600"/>
                    <a:gd name="textAreaTop" fmla="*/ 360 h 27360"/>
                    <a:gd name="textAreaBottom" fmla="*/ 28080 h 2736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4" name="Freeform 256"/>
                <p:cNvSpPr/>
                <p:nvPr/>
              </p:nvSpPr>
              <p:spPr>
                <a:xfrm flipH="1" flipV="1" rot="14436600">
                  <a:off x="7558200" y="2022120"/>
                  <a:ext cx="11520" cy="29520"/>
                </a:xfrm>
                <a:custGeom>
                  <a:avLst/>
                  <a:gdLst>
                    <a:gd name="textAreaLeft" fmla="*/ 360 w 11520"/>
                    <a:gd name="textAreaRight" fmla="*/ 12240 w 11520"/>
                    <a:gd name="textAreaTop" fmla="*/ 360 h 29520"/>
                    <a:gd name="textAreaBottom" fmla="*/ 30240 h 2952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5" name="Freeform 257"/>
                <p:cNvSpPr/>
                <p:nvPr/>
              </p:nvSpPr>
              <p:spPr>
                <a:xfrm flipH="1" flipV="1" rot="15692400">
                  <a:off x="7560360" y="2027160"/>
                  <a:ext cx="11520" cy="29160"/>
                </a:xfrm>
                <a:custGeom>
                  <a:avLst/>
                  <a:gdLst>
                    <a:gd name="textAreaLeft" fmla="*/ 360 w 11520"/>
                    <a:gd name="textAreaRight" fmla="*/ 12240 w 11520"/>
                    <a:gd name="textAreaTop" fmla="*/ -360 h 29160"/>
                    <a:gd name="textAreaBottom" fmla="*/ 29160 h 2916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6" name="Freeform 258"/>
                <p:cNvSpPr/>
                <p:nvPr/>
              </p:nvSpPr>
              <p:spPr>
                <a:xfrm flipV="1" rot="18252000">
                  <a:off x="7480080" y="1999800"/>
                  <a:ext cx="10080" cy="1980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-360 h 19800"/>
                    <a:gd name="textAreaBottom" fmla="*/ 19800 h 19800"/>
                  </a:gdLst>
                  <a:ahLst/>
                  <a:rect l="textAreaLeft" t="textAreaTop" r="textAreaRight" b="textAreaBottom"/>
                  <a:pathLst>
                    <a:path w="36" h="68">
                      <a:moveTo>
                        <a:pt x="9" y="0"/>
                      </a:moveTo>
                      <a:cubicBezTo>
                        <a:pt x="10" y="0"/>
                        <a:pt x="30" y="5"/>
                        <a:pt x="24" y="12"/>
                      </a:cubicBezTo>
                      <a:cubicBezTo>
                        <a:pt x="20" y="17"/>
                        <a:pt x="6" y="18"/>
                        <a:pt x="6" y="18"/>
                      </a:cubicBezTo>
                      <a:cubicBezTo>
                        <a:pt x="8" y="21"/>
                        <a:pt x="9" y="25"/>
                        <a:pt x="12" y="27"/>
                      </a:cubicBezTo>
                      <a:cubicBezTo>
                        <a:pt x="22" y="35"/>
                        <a:pt x="32" y="35"/>
                        <a:pt x="6" y="42"/>
                      </a:cubicBezTo>
                      <a:cubicBezTo>
                        <a:pt x="36" y="52"/>
                        <a:pt x="23" y="55"/>
                        <a:pt x="0" y="60"/>
                      </a:cubicBezTo>
                      <a:cubicBezTo>
                        <a:pt x="13" y="68"/>
                        <a:pt x="8" y="63"/>
                        <a:pt x="21" y="63"/>
                      </a:cubicBezTo>
                    </a:path>
                  </a:pathLst>
                </a:custGeom>
                <a:solidFill>
                  <a:srgbClr val="663366"/>
                </a:solidFill>
                <a:ln w="9360">
                  <a:solidFill>
                    <a:srgbClr val="66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7" name="Freeform 259"/>
                <p:cNvSpPr/>
                <p:nvPr/>
              </p:nvSpPr>
              <p:spPr>
                <a:xfrm flipV="1" rot="18252000">
                  <a:off x="7484040" y="1995120"/>
                  <a:ext cx="9720" cy="19440"/>
                </a:xfrm>
                <a:custGeom>
                  <a:avLst/>
                  <a:gdLst>
                    <a:gd name="textAreaLeft" fmla="*/ 0 w 9720"/>
                    <a:gd name="textAreaRight" fmla="*/ 10080 w 9720"/>
                    <a:gd name="textAreaTop" fmla="*/ 360 h 19440"/>
                    <a:gd name="textAreaBottom" fmla="*/ 20160 h 19440"/>
                  </a:gdLst>
                  <a:ahLst/>
                  <a:rect l="textAreaLeft" t="textAreaTop" r="textAreaRight" b="textAreaBottom"/>
                  <a:pathLst>
                    <a:path w="36" h="68">
                      <a:moveTo>
                        <a:pt x="9" y="0"/>
                      </a:moveTo>
                      <a:cubicBezTo>
                        <a:pt x="10" y="0"/>
                        <a:pt x="30" y="5"/>
                        <a:pt x="24" y="12"/>
                      </a:cubicBezTo>
                      <a:cubicBezTo>
                        <a:pt x="20" y="17"/>
                        <a:pt x="6" y="18"/>
                        <a:pt x="6" y="18"/>
                      </a:cubicBezTo>
                      <a:cubicBezTo>
                        <a:pt x="8" y="21"/>
                        <a:pt x="9" y="25"/>
                        <a:pt x="12" y="27"/>
                      </a:cubicBezTo>
                      <a:cubicBezTo>
                        <a:pt x="22" y="35"/>
                        <a:pt x="32" y="35"/>
                        <a:pt x="6" y="42"/>
                      </a:cubicBezTo>
                      <a:cubicBezTo>
                        <a:pt x="36" y="52"/>
                        <a:pt x="23" y="55"/>
                        <a:pt x="0" y="60"/>
                      </a:cubicBezTo>
                      <a:cubicBezTo>
                        <a:pt x="13" y="68"/>
                        <a:pt x="8" y="63"/>
                        <a:pt x="21" y="63"/>
                      </a:cubicBezTo>
                    </a:path>
                  </a:pathLst>
                </a:custGeom>
                <a:solidFill>
                  <a:srgbClr val="663366"/>
                </a:solidFill>
                <a:ln w="9360">
                  <a:solidFill>
                    <a:srgbClr val="66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8" name="Oval 260"/>
                <p:cNvSpPr/>
                <p:nvPr/>
              </p:nvSpPr>
              <p:spPr>
                <a:xfrm flipV="1" rot="18252000">
                  <a:off x="7468200" y="1994400"/>
                  <a:ext cx="6120" cy="13320"/>
                </a:xfrm>
                <a:prstGeom prst="ellipse">
                  <a:avLst/>
                </a:prstGeom>
                <a:solidFill>
                  <a:srgbClr val="663366"/>
                </a:solidFill>
                <a:ln w="9360">
                  <a:solidFill>
                    <a:srgbClr val="66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 anchorCtr="1" vert="eaVert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9" name="Oval 261"/>
                <p:cNvSpPr/>
                <p:nvPr/>
              </p:nvSpPr>
              <p:spPr>
                <a:xfrm flipV="1" rot="18252000">
                  <a:off x="7470720" y="1990080"/>
                  <a:ext cx="6480" cy="13320"/>
                </a:xfrm>
                <a:prstGeom prst="ellipse">
                  <a:avLst/>
                </a:prstGeom>
                <a:solidFill>
                  <a:srgbClr val="663366"/>
                </a:solidFill>
                <a:ln w="9360">
                  <a:solidFill>
                    <a:srgbClr val="66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 anchorCtr="1" vert="eaVert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0" name="Oval 262"/>
                <p:cNvSpPr/>
                <p:nvPr/>
              </p:nvSpPr>
              <p:spPr>
                <a:xfrm flipH="1" flipV="1" rot="3727800">
                  <a:off x="7220880" y="1971000"/>
                  <a:ext cx="49320" cy="6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424267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1" name="AutoShape 263"/>
                <p:cNvSpPr/>
                <p:nvPr/>
              </p:nvSpPr>
              <p:spPr>
                <a:xfrm flipV="1" rot="3728400">
                  <a:off x="7246440" y="2012400"/>
                  <a:ext cx="23040" cy="23040"/>
                </a:xfrm>
                <a:custGeom>
                  <a:avLst/>
                  <a:gdLst>
                    <a:gd name="textAreaLeft" fmla="*/ 14040 w 23040"/>
                    <a:gd name="textAreaRight" fmla="*/ 14760 w 23040"/>
                    <a:gd name="textAreaTop" fmla="*/ 720 h 23040"/>
                    <a:gd name="textAreaBottom" fmla="*/ 22320 h 23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7719" y="2482"/>
                        <a:pt x="13837" y="5080"/>
                        <a:pt x="13837" y="10800"/>
                      </a:cubicBezTo>
                      <a:cubicBezTo>
                        <a:pt x="13837" y="16520"/>
                        <a:pt x="17719" y="1911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2" name="AutoShape 264"/>
                <p:cNvSpPr/>
                <p:nvPr/>
              </p:nvSpPr>
              <p:spPr>
                <a:xfrm flipH="1" flipV="1" rot="3727800">
                  <a:off x="7223040" y="1972440"/>
                  <a:ext cx="23040" cy="23400"/>
                </a:xfrm>
                <a:custGeom>
                  <a:avLst/>
                  <a:gdLst>
                    <a:gd name="textAreaLeft" fmla="*/ 14040 w 23040"/>
                    <a:gd name="textAreaRight" fmla="*/ 14760 w 23040"/>
                    <a:gd name="textAreaTop" fmla="*/ 720 h 23400"/>
                    <a:gd name="textAreaBottom" fmla="*/ 22680 h 234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7719" y="2482"/>
                        <a:pt x="13837" y="5080"/>
                        <a:pt x="13837" y="10800"/>
                      </a:cubicBezTo>
                      <a:cubicBezTo>
                        <a:pt x="13837" y="16520"/>
                        <a:pt x="17719" y="1911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Freeform 265"/>
                <p:cNvSpPr/>
                <p:nvPr/>
              </p:nvSpPr>
              <p:spPr>
                <a:xfrm flipH="1" flipV="1" rot="20406600">
                  <a:off x="7218000" y="2023920"/>
                  <a:ext cx="12960" cy="27360"/>
                </a:xfrm>
                <a:custGeom>
                  <a:avLst/>
                  <a:gdLst>
                    <a:gd name="textAreaLeft" fmla="*/ 360 w 12960"/>
                    <a:gd name="textAreaRight" fmla="*/ 13680 w 12960"/>
                    <a:gd name="textAreaTop" fmla="*/ 360 h 27360"/>
                    <a:gd name="textAreaBottom" fmla="*/ 28080 h 2736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4" name="Freeform 266"/>
                <p:cNvSpPr/>
                <p:nvPr/>
              </p:nvSpPr>
              <p:spPr>
                <a:xfrm flipH="1" flipV="1" rot="21512400">
                  <a:off x="7214760" y="2023920"/>
                  <a:ext cx="12600" cy="27360"/>
                </a:xfrm>
                <a:custGeom>
                  <a:avLst/>
                  <a:gdLst>
                    <a:gd name="textAreaLeft" fmla="*/ -360 w 12600"/>
                    <a:gd name="textAreaRight" fmla="*/ 12600 w 12600"/>
                    <a:gd name="textAreaTop" fmla="*/ 360 h 27360"/>
                    <a:gd name="textAreaBottom" fmla="*/ 28080 h 2736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5" name="Freeform 267"/>
                <p:cNvSpPr/>
                <p:nvPr/>
              </p:nvSpPr>
              <p:spPr>
                <a:xfrm flipH="1" flipV="1" rot="1168200">
                  <a:off x="7209000" y="2023200"/>
                  <a:ext cx="12960" cy="27000"/>
                </a:xfrm>
                <a:custGeom>
                  <a:avLst/>
                  <a:gdLst>
                    <a:gd name="textAreaLeft" fmla="*/ 360 w 12960"/>
                    <a:gd name="textAreaRight" fmla="*/ 13680 w 12960"/>
                    <a:gd name="textAreaTop" fmla="*/ -360 h 27000"/>
                    <a:gd name="textAreaBottom" fmla="*/ 27000 h 2700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Freeform 268"/>
                <p:cNvSpPr/>
                <p:nvPr/>
              </p:nvSpPr>
              <p:spPr>
                <a:xfrm flipV="1" rot="8649600">
                  <a:off x="7198560" y="1989720"/>
                  <a:ext cx="12960" cy="2736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360 h 27360"/>
                    <a:gd name="textAreaBottom" fmla="*/ 28080 h 2736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Freeform 269"/>
                <p:cNvSpPr/>
                <p:nvPr/>
              </p:nvSpPr>
              <p:spPr>
                <a:xfrm flipV="1" rot="7544400">
                  <a:off x="7197120" y="1991520"/>
                  <a:ext cx="11520" cy="2952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360 h 29520"/>
                    <a:gd name="textAreaBottom" fmla="*/ 30240 h 2952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Freeform 270"/>
                <p:cNvSpPr/>
                <p:nvPr/>
              </p:nvSpPr>
              <p:spPr>
                <a:xfrm flipV="1" rot="6288000">
                  <a:off x="7195320" y="1995480"/>
                  <a:ext cx="11520" cy="2916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-360 h 29160"/>
                    <a:gd name="textAreaBottom" fmla="*/ 29160 h 2916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9" name="Freeform 271"/>
                <p:cNvSpPr/>
                <p:nvPr/>
              </p:nvSpPr>
              <p:spPr>
                <a:xfrm flipH="1" flipV="1" rot="3727800">
                  <a:off x="7281000" y="1976760"/>
                  <a:ext cx="9720" cy="19440"/>
                </a:xfrm>
                <a:custGeom>
                  <a:avLst/>
                  <a:gdLst>
                    <a:gd name="textAreaLeft" fmla="*/ -360 w 9720"/>
                    <a:gd name="textAreaRight" fmla="*/ 9720 w 9720"/>
                    <a:gd name="textAreaTop" fmla="*/ 360 h 19440"/>
                    <a:gd name="textAreaBottom" fmla="*/ 20160 h 19440"/>
                  </a:gdLst>
                  <a:ahLst/>
                  <a:rect l="textAreaLeft" t="textAreaTop" r="textAreaRight" b="textAreaBottom"/>
                  <a:pathLst>
                    <a:path w="36" h="68">
                      <a:moveTo>
                        <a:pt x="9" y="0"/>
                      </a:moveTo>
                      <a:cubicBezTo>
                        <a:pt x="10" y="0"/>
                        <a:pt x="30" y="5"/>
                        <a:pt x="24" y="12"/>
                      </a:cubicBezTo>
                      <a:cubicBezTo>
                        <a:pt x="20" y="17"/>
                        <a:pt x="6" y="18"/>
                        <a:pt x="6" y="18"/>
                      </a:cubicBezTo>
                      <a:cubicBezTo>
                        <a:pt x="8" y="21"/>
                        <a:pt x="9" y="25"/>
                        <a:pt x="12" y="27"/>
                      </a:cubicBezTo>
                      <a:cubicBezTo>
                        <a:pt x="22" y="35"/>
                        <a:pt x="32" y="35"/>
                        <a:pt x="6" y="42"/>
                      </a:cubicBezTo>
                      <a:cubicBezTo>
                        <a:pt x="36" y="52"/>
                        <a:pt x="23" y="55"/>
                        <a:pt x="0" y="60"/>
                      </a:cubicBezTo>
                      <a:cubicBezTo>
                        <a:pt x="13" y="68"/>
                        <a:pt x="8" y="63"/>
                        <a:pt x="21" y="63"/>
                      </a:cubicBezTo>
                    </a:path>
                  </a:pathLst>
                </a:custGeom>
                <a:solidFill>
                  <a:srgbClr val="663366"/>
                </a:solidFill>
                <a:ln w="9360">
                  <a:solidFill>
                    <a:srgbClr val="66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0" name="Freeform 272"/>
                <p:cNvSpPr/>
                <p:nvPr/>
              </p:nvSpPr>
              <p:spPr>
                <a:xfrm flipH="1" flipV="1" rot="3727800">
                  <a:off x="7279200" y="1971720"/>
                  <a:ext cx="9360" cy="19440"/>
                </a:xfrm>
                <a:custGeom>
                  <a:avLst/>
                  <a:gdLst>
                    <a:gd name="textAreaLeft" fmla="*/ 360 w 9360"/>
                    <a:gd name="textAreaRight" fmla="*/ 10080 w 9360"/>
                    <a:gd name="textAreaTop" fmla="*/ 360 h 19440"/>
                    <a:gd name="textAreaBottom" fmla="*/ 20160 h 19440"/>
                  </a:gdLst>
                  <a:ahLst/>
                  <a:rect l="textAreaLeft" t="textAreaTop" r="textAreaRight" b="textAreaBottom"/>
                  <a:pathLst>
                    <a:path w="36" h="68">
                      <a:moveTo>
                        <a:pt x="9" y="0"/>
                      </a:moveTo>
                      <a:cubicBezTo>
                        <a:pt x="10" y="0"/>
                        <a:pt x="30" y="5"/>
                        <a:pt x="24" y="12"/>
                      </a:cubicBezTo>
                      <a:cubicBezTo>
                        <a:pt x="20" y="17"/>
                        <a:pt x="6" y="18"/>
                        <a:pt x="6" y="18"/>
                      </a:cubicBezTo>
                      <a:cubicBezTo>
                        <a:pt x="8" y="21"/>
                        <a:pt x="9" y="25"/>
                        <a:pt x="12" y="27"/>
                      </a:cubicBezTo>
                      <a:cubicBezTo>
                        <a:pt x="22" y="35"/>
                        <a:pt x="32" y="35"/>
                        <a:pt x="6" y="42"/>
                      </a:cubicBezTo>
                      <a:cubicBezTo>
                        <a:pt x="36" y="52"/>
                        <a:pt x="23" y="55"/>
                        <a:pt x="0" y="60"/>
                      </a:cubicBezTo>
                      <a:cubicBezTo>
                        <a:pt x="13" y="68"/>
                        <a:pt x="8" y="63"/>
                        <a:pt x="21" y="63"/>
                      </a:cubicBezTo>
                    </a:path>
                  </a:pathLst>
                </a:custGeom>
                <a:solidFill>
                  <a:srgbClr val="663366"/>
                </a:solidFill>
                <a:ln w="9360">
                  <a:solidFill>
                    <a:srgbClr val="66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1" name="Oval 273"/>
                <p:cNvSpPr/>
                <p:nvPr/>
              </p:nvSpPr>
              <p:spPr>
                <a:xfrm flipH="1" flipV="1" rot="3727800">
                  <a:off x="7297920" y="1974240"/>
                  <a:ext cx="6120" cy="13320"/>
                </a:xfrm>
                <a:prstGeom prst="ellipse">
                  <a:avLst/>
                </a:prstGeom>
                <a:solidFill>
                  <a:srgbClr val="663366"/>
                </a:solidFill>
                <a:ln w="9360">
                  <a:solidFill>
                    <a:srgbClr val="66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2" name="Oval 274"/>
                <p:cNvSpPr/>
                <p:nvPr/>
              </p:nvSpPr>
              <p:spPr>
                <a:xfrm flipH="1" flipV="1" rot="3727800">
                  <a:off x="7294680" y="1968840"/>
                  <a:ext cx="6480" cy="12960"/>
                </a:xfrm>
                <a:prstGeom prst="ellipse">
                  <a:avLst/>
                </a:prstGeom>
                <a:solidFill>
                  <a:srgbClr val="663366"/>
                </a:solidFill>
                <a:ln w="9360">
                  <a:solidFill>
                    <a:srgbClr val="66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3" name="AutoShape 275"/>
                <p:cNvSpPr/>
                <p:nvPr/>
              </p:nvSpPr>
              <p:spPr>
                <a:xfrm flipH="1" flipV="1">
                  <a:off x="7554240" y="2048400"/>
                  <a:ext cx="24480" cy="21600"/>
                </a:xfrm>
                <a:custGeom>
                  <a:avLst/>
                  <a:gdLst>
                    <a:gd name="textAreaLeft" fmla="*/ 15120 w 24480"/>
                    <a:gd name="textAreaRight" fmla="*/ 15840 w 24480"/>
                    <a:gd name="textAreaTop" fmla="*/ 720 h 21600"/>
                    <a:gd name="textAreaBottom" fmla="*/ 20880 h 21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7719" y="2482"/>
                        <a:pt x="13837" y="5080"/>
                        <a:pt x="13837" y="10800"/>
                      </a:cubicBezTo>
                      <a:cubicBezTo>
                        <a:pt x="13837" y="16520"/>
                        <a:pt x="17719" y="1911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4" name="Freeform 276"/>
                <p:cNvSpPr/>
                <p:nvPr/>
              </p:nvSpPr>
              <p:spPr>
                <a:xfrm rot="444000">
                  <a:off x="7351560" y="1882080"/>
                  <a:ext cx="83880" cy="136080"/>
                </a:xfrm>
                <a:custGeom>
                  <a:avLst/>
                  <a:gdLst>
                    <a:gd name="textAreaLeft" fmla="*/ 0 w 83880"/>
                    <a:gd name="textAreaRight" fmla="*/ 84240 w 83880"/>
                    <a:gd name="textAreaTop" fmla="*/ 0 h 136080"/>
                    <a:gd name="textAreaBottom" fmla="*/ 136440 h 136080"/>
                  </a:gdLst>
                  <a:ahLst/>
                  <a:rect l="textAreaLeft" t="textAreaTop" r="textAreaRight" b="textAreaBottom"/>
                  <a:pathLst>
                    <a:path w="196" h="430">
                      <a:moveTo>
                        <a:pt x="15" y="60"/>
                      </a:moveTo>
                      <a:cubicBezTo>
                        <a:pt x="30" y="0"/>
                        <a:pt x="76" y="7"/>
                        <a:pt x="106" y="14"/>
                      </a:cubicBezTo>
                      <a:cubicBezTo>
                        <a:pt x="136" y="21"/>
                        <a:pt x="196" y="45"/>
                        <a:pt x="196" y="105"/>
                      </a:cubicBezTo>
                      <a:cubicBezTo>
                        <a:pt x="196" y="165"/>
                        <a:pt x="136" y="332"/>
                        <a:pt x="106" y="377"/>
                      </a:cubicBezTo>
                      <a:cubicBezTo>
                        <a:pt x="76" y="422"/>
                        <a:pt x="30" y="430"/>
                        <a:pt x="15" y="377"/>
                      </a:cubicBezTo>
                      <a:cubicBezTo>
                        <a:pt x="0" y="324"/>
                        <a:pt x="0" y="120"/>
                        <a:pt x="15" y="60"/>
                      </a:cubicBezTo>
                      <a:close/>
                    </a:path>
                  </a:pathLst>
                </a:cu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66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5" name="Group 277"/>
            <p:cNvGrpSpPr/>
            <p:nvPr/>
          </p:nvGrpSpPr>
          <p:grpSpPr>
            <a:xfrm>
              <a:off x="6671160" y="1972440"/>
              <a:ext cx="398160" cy="414360"/>
              <a:chOff x="6671160" y="1972440"/>
              <a:chExt cx="398160" cy="414360"/>
            </a:xfrm>
          </p:grpSpPr>
          <p:sp>
            <p:nvSpPr>
              <p:cNvPr id="1036" name="Oval 278"/>
              <p:cNvSpPr/>
              <p:nvPr/>
            </p:nvSpPr>
            <p:spPr>
              <a:xfrm flipV="1" rot="21360000">
                <a:off x="6848280" y="2297160"/>
                <a:ext cx="53640" cy="61920"/>
              </a:xfrm>
              <a:prstGeom prst="ellips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42426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AutoShape 279"/>
              <p:cNvSpPr/>
              <p:nvPr/>
            </p:nvSpPr>
            <p:spPr>
              <a:xfrm flipV="1" rot="21360000">
                <a:off x="6886080" y="2315160"/>
                <a:ext cx="24840" cy="21600"/>
              </a:xfrm>
              <a:custGeom>
                <a:avLst/>
                <a:gdLst>
                  <a:gd name="textAreaLeft" fmla="*/ 15120 w 24840"/>
                  <a:gd name="textAreaRight" fmla="*/ 15840 w 24840"/>
                  <a:gd name="textAreaTop" fmla="*/ 720 h 21600"/>
                  <a:gd name="textAreaBottom" fmla="*/ 20880 h 21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7719" y="2482"/>
                      <a:pt x="13837" y="5080"/>
                      <a:pt x="13837" y="10800"/>
                    </a:cubicBezTo>
                    <a:cubicBezTo>
                      <a:pt x="13837" y="16520"/>
                      <a:pt x="17719" y="1911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Freeform 280"/>
              <p:cNvSpPr/>
              <p:nvPr/>
            </p:nvSpPr>
            <p:spPr>
              <a:xfrm flipV="1" rot="297000">
                <a:off x="6863760" y="2359080"/>
                <a:ext cx="12600" cy="2700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-360 h 27000"/>
                  <a:gd name="textAreaBottom" fmla="*/ 27000 h 27000"/>
                </a:gdLst>
                <a:ahLst/>
                <a:rect l="textAreaLeft" t="textAreaTop" r="textAreaRight" b="textAreaBottom"/>
                <a:pathLst>
                  <a:path w="90" h="181">
                    <a:moveTo>
                      <a:pt x="45" y="181"/>
                    </a:moveTo>
                    <a:cubicBezTo>
                      <a:pt x="30" y="181"/>
                      <a:pt x="0" y="120"/>
                      <a:pt x="0" y="90"/>
                    </a:cubicBezTo>
                    <a:cubicBezTo>
                      <a:pt x="0" y="60"/>
                      <a:pt x="30" y="0"/>
                      <a:pt x="45" y="0"/>
                    </a:cubicBezTo>
                    <a:cubicBezTo>
                      <a:pt x="60" y="0"/>
                      <a:pt x="90" y="60"/>
                      <a:pt x="90" y="90"/>
                    </a:cubicBezTo>
                    <a:cubicBezTo>
                      <a:pt x="90" y="120"/>
                      <a:pt x="60" y="181"/>
                      <a:pt x="45" y="181"/>
                    </a:cubicBezTo>
                    <a:close/>
                  </a:path>
                </a:pathLst>
              </a:custGeom>
              <a:noFill/>
              <a:ln w="64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Freeform 281"/>
              <p:cNvSpPr/>
              <p:nvPr/>
            </p:nvSpPr>
            <p:spPr>
              <a:xfrm flipV="1" rot="20640600">
                <a:off x="6868800" y="2358000"/>
                <a:ext cx="12960" cy="2700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-360 h 27000"/>
                  <a:gd name="textAreaBottom" fmla="*/ 27000 h 27000"/>
                </a:gdLst>
                <a:ahLst/>
                <a:rect l="textAreaLeft" t="textAreaTop" r="textAreaRight" b="textAreaBottom"/>
                <a:pathLst>
                  <a:path w="90" h="181">
                    <a:moveTo>
                      <a:pt x="45" y="181"/>
                    </a:moveTo>
                    <a:cubicBezTo>
                      <a:pt x="30" y="181"/>
                      <a:pt x="0" y="120"/>
                      <a:pt x="0" y="90"/>
                    </a:cubicBezTo>
                    <a:cubicBezTo>
                      <a:pt x="0" y="60"/>
                      <a:pt x="30" y="0"/>
                      <a:pt x="45" y="0"/>
                    </a:cubicBezTo>
                    <a:cubicBezTo>
                      <a:pt x="60" y="0"/>
                      <a:pt x="90" y="60"/>
                      <a:pt x="90" y="90"/>
                    </a:cubicBezTo>
                    <a:cubicBezTo>
                      <a:pt x="90" y="120"/>
                      <a:pt x="60" y="181"/>
                      <a:pt x="45" y="181"/>
                    </a:cubicBezTo>
                    <a:close/>
                  </a:path>
                </a:pathLst>
              </a:custGeom>
              <a:noFill/>
              <a:ln w="64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282"/>
              <p:cNvSpPr/>
              <p:nvPr/>
            </p:nvSpPr>
            <p:spPr>
              <a:xfrm flipH="1" flipV="1" rot="16437600">
                <a:off x="6889680" y="2344680"/>
                <a:ext cx="11520" cy="29160"/>
              </a:xfrm>
              <a:custGeom>
                <a:avLst/>
                <a:gdLst>
                  <a:gd name="textAreaLeft" fmla="*/ 360 w 11520"/>
                  <a:gd name="textAreaRight" fmla="*/ 12240 w 11520"/>
                  <a:gd name="textAreaTop" fmla="*/ -360 h 29160"/>
                  <a:gd name="textAreaBottom" fmla="*/ 29160 h 29160"/>
                </a:gdLst>
                <a:ahLst/>
                <a:rect l="textAreaLeft" t="textAreaTop" r="textAreaRight" b="textAreaBottom"/>
                <a:pathLst>
                  <a:path w="90" h="181">
                    <a:moveTo>
                      <a:pt x="45" y="181"/>
                    </a:moveTo>
                    <a:cubicBezTo>
                      <a:pt x="30" y="181"/>
                      <a:pt x="0" y="120"/>
                      <a:pt x="0" y="90"/>
                    </a:cubicBezTo>
                    <a:cubicBezTo>
                      <a:pt x="0" y="60"/>
                      <a:pt x="30" y="0"/>
                      <a:pt x="45" y="0"/>
                    </a:cubicBezTo>
                    <a:cubicBezTo>
                      <a:pt x="60" y="0"/>
                      <a:pt x="90" y="60"/>
                      <a:pt x="90" y="90"/>
                    </a:cubicBezTo>
                    <a:cubicBezTo>
                      <a:pt x="90" y="120"/>
                      <a:pt x="60" y="181"/>
                      <a:pt x="45" y="181"/>
                    </a:cubicBezTo>
                    <a:close/>
                  </a:path>
                </a:pathLst>
              </a:custGeom>
              <a:noFill/>
              <a:ln w="64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Freeform 283"/>
              <p:cNvSpPr/>
              <p:nvPr/>
            </p:nvSpPr>
            <p:spPr>
              <a:xfrm flipH="1" flipV="1" rot="17543400">
                <a:off x="6889320" y="2348640"/>
                <a:ext cx="11520" cy="29160"/>
              </a:xfrm>
              <a:custGeom>
                <a:avLst/>
                <a:gdLst>
                  <a:gd name="textAreaLeft" fmla="*/ 360 w 11520"/>
                  <a:gd name="textAreaRight" fmla="*/ 12240 w 11520"/>
                  <a:gd name="textAreaTop" fmla="*/ -360 h 29160"/>
                  <a:gd name="textAreaBottom" fmla="*/ 29160 h 29160"/>
                </a:gdLst>
                <a:ahLst/>
                <a:rect l="textAreaLeft" t="textAreaTop" r="textAreaRight" b="textAreaBottom"/>
                <a:pathLst>
                  <a:path w="90" h="181">
                    <a:moveTo>
                      <a:pt x="45" y="181"/>
                    </a:moveTo>
                    <a:cubicBezTo>
                      <a:pt x="30" y="181"/>
                      <a:pt x="0" y="120"/>
                      <a:pt x="0" y="90"/>
                    </a:cubicBezTo>
                    <a:cubicBezTo>
                      <a:pt x="0" y="60"/>
                      <a:pt x="30" y="0"/>
                      <a:pt x="45" y="0"/>
                    </a:cubicBezTo>
                    <a:cubicBezTo>
                      <a:pt x="60" y="0"/>
                      <a:pt x="90" y="60"/>
                      <a:pt x="90" y="90"/>
                    </a:cubicBezTo>
                    <a:cubicBezTo>
                      <a:pt x="90" y="120"/>
                      <a:pt x="60" y="181"/>
                      <a:pt x="45" y="181"/>
                    </a:cubicBezTo>
                    <a:close/>
                  </a:path>
                </a:pathLst>
              </a:custGeom>
              <a:noFill/>
              <a:ln w="64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Freeform 284"/>
              <p:cNvSpPr/>
              <p:nvPr/>
            </p:nvSpPr>
            <p:spPr>
              <a:xfrm flipH="1" flipV="1" rot="18799800">
                <a:off x="6886440" y="2351520"/>
                <a:ext cx="11520" cy="29160"/>
              </a:xfrm>
              <a:custGeom>
                <a:avLst/>
                <a:gdLst>
                  <a:gd name="textAreaLeft" fmla="*/ 360 w 11520"/>
                  <a:gd name="textAreaRight" fmla="*/ 12240 w 11520"/>
                  <a:gd name="textAreaTop" fmla="*/ -360 h 29160"/>
                  <a:gd name="textAreaBottom" fmla="*/ 29160 h 29160"/>
                </a:gdLst>
                <a:ahLst/>
                <a:rect l="textAreaLeft" t="textAreaTop" r="textAreaRight" b="textAreaBottom"/>
                <a:pathLst>
                  <a:path w="90" h="181">
                    <a:moveTo>
                      <a:pt x="45" y="181"/>
                    </a:moveTo>
                    <a:cubicBezTo>
                      <a:pt x="30" y="181"/>
                      <a:pt x="0" y="120"/>
                      <a:pt x="0" y="90"/>
                    </a:cubicBezTo>
                    <a:cubicBezTo>
                      <a:pt x="0" y="60"/>
                      <a:pt x="30" y="0"/>
                      <a:pt x="45" y="0"/>
                    </a:cubicBezTo>
                    <a:cubicBezTo>
                      <a:pt x="60" y="0"/>
                      <a:pt x="90" y="60"/>
                      <a:pt x="90" y="90"/>
                    </a:cubicBezTo>
                    <a:cubicBezTo>
                      <a:pt x="90" y="120"/>
                      <a:pt x="60" y="181"/>
                      <a:pt x="45" y="181"/>
                    </a:cubicBezTo>
                    <a:close/>
                  </a:path>
                </a:pathLst>
              </a:custGeom>
              <a:noFill/>
              <a:ln w="64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Freeform 285"/>
              <p:cNvSpPr/>
              <p:nvPr/>
            </p:nvSpPr>
            <p:spPr>
              <a:xfrm flipV="1" rot="21360000">
                <a:off x="6864840" y="2278080"/>
                <a:ext cx="10440" cy="1800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360 h 18000"/>
                  <a:gd name="textAreaBottom" fmla="*/ 18720 h 18000"/>
                </a:gdLst>
                <a:ahLst/>
                <a:rect l="textAreaLeft" t="textAreaTop" r="textAreaRight" b="textAreaBottom"/>
                <a:pathLst>
                  <a:path w="36" h="68">
                    <a:moveTo>
                      <a:pt x="9" y="0"/>
                    </a:moveTo>
                    <a:cubicBezTo>
                      <a:pt x="10" y="0"/>
                      <a:pt x="30" y="5"/>
                      <a:pt x="24" y="12"/>
                    </a:cubicBezTo>
                    <a:cubicBezTo>
                      <a:pt x="20" y="17"/>
                      <a:pt x="6" y="18"/>
                      <a:pt x="6" y="18"/>
                    </a:cubicBezTo>
                    <a:cubicBezTo>
                      <a:pt x="8" y="21"/>
                      <a:pt x="9" y="25"/>
                      <a:pt x="12" y="27"/>
                    </a:cubicBezTo>
                    <a:cubicBezTo>
                      <a:pt x="22" y="35"/>
                      <a:pt x="32" y="35"/>
                      <a:pt x="6" y="42"/>
                    </a:cubicBezTo>
                    <a:cubicBezTo>
                      <a:pt x="36" y="52"/>
                      <a:pt x="23" y="55"/>
                      <a:pt x="0" y="60"/>
                    </a:cubicBezTo>
                    <a:cubicBezTo>
                      <a:pt x="13" y="68"/>
                      <a:pt x="8" y="63"/>
                      <a:pt x="21" y="63"/>
                    </a:cubicBezTo>
                  </a:path>
                </a:pathLst>
              </a:custGeom>
              <a:noFill/>
              <a:ln w="9360">
                <a:solidFill>
                  <a:srgbClr val="66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Freeform 286"/>
              <p:cNvSpPr/>
              <p:nvPr/>
            </p:nvSpPr>
            <p:spPr>
              <a:xfrm flipV="1" rot="21360000">
                <a:off x="6871320" y="2276280"/>
                <a:ext cx="10440" cy="1836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-360 h 18360"/>
                  <a:gd name="textAreaBottom" fmla="*/ 18360 h 18360"/>
                </a:gdLst>
                <a:ahLst/>
                <a:rect l="textAreaLeft" t="textAreaTop" r="textAreaRight" b="textAreaBottom"/>
                <a:pathLst>
                  <a:path w="36" h="68">
                    <a:moveTo>
                      <a:pt x="9" y="0"/>
                    </a:moveTo>
                    <a:cubicBezTo>
                      <a:pt x="10" y="0"/>
                      <a:pt x="30" y="5"/>
                      <a:pt x="24" y="12"/>
                    </a:cubicBezTo>
                    <a:cubicBezTo>
                      <a:pt x="20" y="17"/>
                      <a:pt x="6" y="18"/>
                      <a:pt x="6" y="18"/>
                    </a:cubicBezTo>
                    <a:cubicBezTo>
                      <a:pt x="8" y="21"/>
                      <a:pt x="9" y="25"/>
                      <a:pt x="12" y="27"/>
                    </a:cubicBezTo>
                    <a:cubicBezTo>
                      <a:pt x="22" y="35"/>
                      <a:pt x="32" y="35"/>
                      <a:pt x="6" y="42"/>
                    </a:cubicBezTo>
                    <a:cubicBezTo>
                      <a:pt x="36" y="52"/>
                      <a:pt x="23" y="55"/>
                      <a:pt x="0" y="60"/>
                    </a:cubicBezTo>
                    <a:cubicBezTo>
                      <a:pt x="13" y="68"/>
                      <a:pt x="8" y="63"/>
                      <a:pt x="21" y="63"/>
                    </a:cubicBezTo>
                  </a:path>
                </a:pathLst>
              </a:custGeom>
              <a:noFill/>
              <a:ln w="9360">
                <a:solidFill>
                  <a:srgbClr val="66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Oval 287"/>
              <p:cNvSpPr/>
              <p:nvPr/>
            </p:nvSpPr>
            <p:spPr>
              <a:xfrm flipV="1" rot="21360000">
                <a:off x="6864120" y="2264760"/>
                <a:ext cx="6120" cy="12240"/>
              </a:xfrm>
              <a:prstGeom prst="ellipse">
                <a:avLst/>
              </a:prstGeom>
              <a:solidFill>
                <a:srgbClr val="663366"/>
              </a:solidFill>
              <a:ln w="9360">
                <a:solidFill>
                  <a:srgbClr val="66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Oval 288"/>
              <p:cNvSpPr/>
              <p:nvPr/>
            </p:nvSpPr>
            <p:spPr>
              <a:xfrm flipV="1" rot="21360000">
                <a:off x="6870600" y="2264040"/>
                <a:ext cx="6840" cy="12240"/>
              </a:xfrm>
              <a:prstGeom prst="ellipse">
                <a:avLst/>
              </a:prstGeom>
              <a:solidFill>
                <a:srgbClr val="663366"/>
              </a:solidFill>
              <a:ln w="9360">
                <a:solidFill>
                  <a:srgbClr val="66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Freeform 289"/>
              <p:cNvSpPr/>
              <p:nvPr/>
            </p:nvSpPr>
            <p:spPr>
              <a:xfrm flipV="1" rot="1402800">
                <a:off x="6860520" y="2357280"/>
                <a:ext cx="12960" cy="2700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-360 h 27000"/>
                  <a:gd name="textAreaBottom" fmla="*/ 27000 h 27000"/>
                </a:gdLst>
                <a:ahLst/>
                <a:rect l="textAreaLeft" t="textAreaTop" r="textAreaRight" b="textAreaBottom"/>
                <a:pathLst>
                  <a:path w="90" h="181">
                    <a:moveTo>
                      <a:pt x="45" y="181"/>
                    </a:moveTo>
                    <a:cubicBezTo>
                      <a:pt x="30" y="181"/>
                      <a:pt x="0" y="120"/>
                      <a:pt x="0" y="90"/>
                    </a:cubicBezTo>
                    <a:cubicBezTo>
                      <a:pt x="0" y="60"/>
                      <a:pt x="30" y="0"/>
                      <a:pt x="45" y="0"/>
                    </a:cubicBezTo>
                    <a:cubicBezTo>
                      <a:pt x="60" y="0"/>
                      <a:pt x="90" y="60"/>
                      <a:pt x="90" y="90"/>
                    </a:cubicBezTo>
                    <a:cubicBezTo>
                      <a:pt x="90" y="120"/>
                      <a:pt x="60" y="181"/>
                      <a:pt x="45" y="181"/>
                    </a:cubicBezTo>
                    <a:close/>
                  </a:path>
                </a:pathLst>
              </a:custGeom>
              <a:noFill/>
              <a:ln w="64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Oval 290"/>
              <p:cNvSpPr/>
              <p:nvPr/>
            </p:nvSpPr>
            <p:spPr>
              <a:xfrm rot="720000">
                <a:off x="6843600" y="2320200"/>
                <a:ext cx="19800" cy="18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9" name="Group 291"/>
              <p:cNvGrpSpPr/>
              <p:nvPr/>
            </p:nvGrpSpPr>
            <p:grpSpPr>
              <a:xfrm>
                <a:off x="6671160" y="1972440"/>
                <a:ext cx="398160" cy="341280"/>
                <a:chOff x="6671160" y="1972440"/>
                <a:chExt cx="398160" cy="341280"/>
              </a:xfrm>
            </p:grpSpPr>
            <p:sp>
              <p:nvSpPr>
                <p:cNvPr id="1050" name="Oval 292"/>
                <p:cNvSpPr/>
                <p:nvPr/>
              </p:nvSpPr>
              <p:spPr>
                <a:xfrm>
                  <a:off x="6751440" y="2057760"/>
                  <a:ext cx="254160" cy="236880"/>
                </a:xfrm>
                <a:prstGeom prst="ellipse">
                  <a:avLst/>
                </a:prstGeom>
                <a:solidFill>
                  <a:srgbClr val="666699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1" name="Oval 293"/>
                <p:cNvSpPr/>
                <p:nvPr/>
              </p:nvSpPr>
              <p:spPr>
                <a:xfrm>
                  <a:off x="6772680" y="2077560"/>
                  <a:ext cx="211680" cy="197280"/>
                </a:xfrm>
                <a:prstGeom prst="ellipse">
                  <a:avLst/>
                </a:prstGeom>
                <a:solidFill>
                  <a:srgbClr val="66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2" name="Oval 294"/>
                <p:cNvSpPr/>
                <p:nvPr/>
              </p:nvSpPr>
              <p:spPr>
                <a:xfrm>
                  <a:off x="6851160" y="1995840"/>
                  <a:ext cx="53280" cy="6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424267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3" name="AutoShape 295"/>
                <p:cNvSpPr/>
                <p:nvPr/>
              </p:nvSpPr>
              <p:spPr>
                <a:xfrm flipH="1">
                  <a:off x="6841440" y="2016360"/>
                  <a:ext cx="24480" cy="21600"/>
                </a:xfrm>
                <a:custGeom>
                  <a:avLst/>
                  <a:gdLst>
                    <a:gd name="textAreaLeft" fmla="*/ 15120 w 24480"/>
                    <a:gd name="textAreaRight" fmla="*/ 15840 w 24480"/>
                    <a:gd name="textAreaTop" fmla="*/ 720 h 21600"/>
                    <a:gd name="textAreaBottom" fmla="*/ 20880 h 21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7719" y="2482"/>
                        <a:pt x="13837" y="5080"/>
                        <a:pt x="13837" y="10800"/>
                      </a:cubicBezTo>
                      <a:cubicBezTo>
                        <a:pt x="13837" y="16520"/>
                        <a:pt x="17719" y="1911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4" name="AutoShape 296"/>
                <p:cNvSpPr/>
                <p:nvPr/>
              </p:nvSpPr>
              <p:spPr>
                <a:xfrm>
                  <a:off x="6889320" y="2016360"/>
                  <a:ext cx="24480" cy="21600"/>
                </a:xfrm>
                <a:custGeom>
                  <a:avLst/>
                  <a:gdLst>
                    <a:gd name="textAreaLeft" fmla="*/ 15120 w 24480"/>
                    <a:gd name="textAreaRight" fmla="*/ 15840 w 24480"/>
                    <a:gd name="textAreaTop" fmla="*/ 720 h 21600"/>
                    <a:gd name="textAreaBottom" fmla="*/ 20880 h 21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7719" y="2482"/>
                        <a:pt x="13837" y="5080"/>
                        <a:pt x="13837" y="10800"/>
                      </a:cubicBezTo>
                      <a:cubicBezTo>
                        <a:pt x="13837" y="16520"/>
                        <a:pt x="17719" y="1911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Freeform 297"/>
                <p:cNvSpPr/>
                <p:nvPr/>
              </p:nvSpPr>
              <p:spPr>
                <a:xfrm rot="16677600">
                  <a:off x="6849720" y="1978920"/>
                  <a:ext cx="12240" cy="29160"/>
                </a:xfrm>
                <a:custGeom>
                  <a:avLst/>
                  <a:gdLst>
                    <a:gd name="textAreaLeft" fmla="*/ 0 w 12240"/>
                    <a:gd name="textAreaRight" fmla="*/ 12600 w 1224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Freeform 298"/>
                <p:cNvSpPr/>
                <p:nvPr/>
              </p:nvSpPr>
              <p:spPr>
                <a:xfrm rot="17784000">
                  <a:off x="6851160" y="1976040"/>
                  <a:ext cx="11520" cy="2916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Freeform 299"/>
                <p:cNvSpPr/>
                <p:nvPr/>
              </p:nvSpPr>
              <p:spPr>
                <a:xfrm rot="19039800">
                  <a:off x="6853680" y="1973160"/>
                  <a:ext cx="12600" cy="27360"/>
                </a:xfrm>
                <a:custGeom>
                  <a:avLst/>
                  <a:gdLst>
                    <a:gd name="textAreaLeft" fmla="*/ 0 w 12600"/>
                    <a:gd name="textAreaRight" fmla="*/ 12960 w 12600"/>
                    <a:gd name="textAreaTop" fmla="*/ 0 h 27360"/>
                    <a:gd name="textAreaBottom" fmla="*/ 27720 h 2736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8" name="Freeform 300"/>
                <p:cNvSpPr/>
                <p:nvPr/>
              </p:nvSpPr>
              <p:spPr>
                <a:xfrm flipH="1" rot="4922400">
                  <a:off x="6890040" y="1978920"/>
                  <a:ext cx="12240" cy="29160"/>
                </a:xfrm>
                <a:custGeom>
                  <a:avLst/>
                  <a:gdLst>
                    <a:gd name="textAreaLeft" fmla="*/ 360 w 12240"/>
                    <a:gd name="textAreaRight" fmla="*/ 12960 w 1224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9" name="Freeform 301"/>
                <p:cNvSpPr/>
                <p:nvPr/>
              </p:nvSpPr>
              <p:spPr>
                <a:xfrm flipH="1" rot="3816000">
                  <a:off x="6889680" y="1975680"/>
                  <a:ext cx="11520" cy="28800"/>
                </a:xfrm>
                <a:custGeom>
                  <a:avLst/>
                  <a:gdLst>
                    <a:gd name="textAreaLeft" fmla="*/ 360 w 11520"/>
                    <a:gd name="textAreaRight" fmla="*/ 12240 w 1152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0" name="Freeform 302"/>
                <p:cNvSpPr/>
                <p:nvPr/>
              </p:nvSpPr>
              <p:spPr>
                <a:xfrm flipH="1" rot="2560200">
                  <a:off x="6885720" y="1973160"/>
                  <a:ext cx="12600" cy="27360"/>
                </a:xfrm>
                <a:custGeom>
                  <a:avLst/>
                  <a:gdLst>
                    <a:gd name="textAreaLeft" fmla="*/ -360 w 12600"/>
                    <a:gd name="textAreaRight" fmla="*/ 12600 w 12600"/>
                    <a:gd name="textAreaTop" fmla="*/ 0 h 27360"/>
                    <a:gd name="textAreaBottom" fmla="*/ 27720 h 2736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Freeform 303"/>
                <p:cNvSpPr/>
                <p:nvPr/>
              </p:nvSpPr>
              <p:spPr>
                <a:xfrm>
                  <a:off x="6870960" y="2059200"/>
                  <a:ext cx="10080" cy="1872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18720"/>
                    <a:gd name="textAreaBottom" fmla="*/ 19080 h 18720"/>
                  </a:gdLst>
                  <a:ahLst/>
                  <a:rect l="textAreaLeft" t="textAreaTop" r="textAreaRight" b="textAreaBottom"/>
                  <a:pathLst>
                    <a:path w="36" h="68">
                      <a:moveTo>
                        <a:pt x="9" y="0"/>
                      </a:moveTo>
                      <a:cubicBezTo>
                        <a:pt x="10" y="0"/>
                        <a:pt x="30" y="5"/>
                        <a:pt x="24" y="12"/>
                      </a:cubicBezTo>
                      <a:cubicBezTo>
                        <a:pt x="20" y="17"/>
                        <a:pt x="6" y="18"/>
                        <a:pt x="6" y="18"/>
                      </a:cubicBezTo>
                      <a:cubicBezTo>
                        <a:pt x="8" y="21"/>
                        <a:pt x="9" y="25"/>
                        <a:pt x="12" y="27"/>
                      </a:cubicBezTo>
                      <a:cubicBezTo>
                        <a:pt x="22" y="35"/>
                        <a:pt x="32" y="35"/>
                        <a:pt x="6" y="42"/>
                      </a:cubicBezTo>
                      <a:cubicBezTo>
                        <a:pt x="36" y="52"/>
                        <a:pt x="23" y="55"/>
                        <a:pt x="0" y="60"/>
                      </a:cubicBezTo>
                      <a:cubicBezTo>
                        <a:pt x="13" y="68"/>
                        <a:pt x="8" y="63"/>
                        <a:pt x="21" y="63"/>
                      </a:cubicBezTo>
                    </a:path>
                  </a:pathLst>
                </a:custGeom>
                <a:solidFill>
                  <a:srgbClr val="663366"/>
                </a:solidFill>
                <a:ln w="9360">
                  <a:solidFill>
                    <a:srgbClr val="66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Freeform 304"/>
                <p:cNvSpPr/>
                <p:nvPr/>
              </p:nvSpPr>
              <p:spPr>
                <a:xfrm>
                  <a:off x="6877440" y="2059920"/>
                  <a:ext cx="10080" cy="1800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18000"/>
                    <a:gd name="textAreaBottom" fmla="*/ 18360 h 18000"/>
                  </a:gdLst>
                  <a:ahLst/>
                  <a:rect l="textAreaLeft" t="textAreaTop" r="textAreaRight" b="textAreaBottom"/>
                  <a:pathLst>
                    <a:path w="36" h="68">
                      <a:moveTo>
                        <a:pt x="9" y="0"/>
                      </a:moveTo>
                      <a:cubicBezTo>
                        <a:pt x="10" y="0"/>
                        <a:pt x="30" y="5"/>
                        <a:pt x="24" y="12"/>
                      </a:cubicBezTo>
                      <a:cubicBezTo>
                        <a:pt x="20" y="17"/>
                        <a:pt x="6" y="18"/>
                        <a:pt x="6" y="18"/>
                      </a:cubicBezTo>
                      <a:cubicBezTo>
                        <a:pt x="8" y="21"/>
                        <a:pt x="9" y="25"/>
                        <a:pt x="12" y="27"/>
                      </a:cubicBezTo>
                      <a:cubicBezTo>
                        <a:pt x="22" y="35"/>
                        <a:pt x="32" y="35"/>
                        <a:pt x="6" y="42"/>
                      </a:cubicBezTo>
                      <a:cubicBezTo>
                        <a:pt x="36" y="52"/>
                        <a:pt x="23" y="55"/>
                        <a:pt x="0" y="60"/>
                      </a:cubicBezTo>
                      <a:cubicBezTo>
                        <a:pt x="13" y="68"/>
                        <a:pt x="8" y="63"/>
                        <a:pt x="21" y="63"/>
                      </a:cubicBezTo>
                    </a:path>
                  </a:pathLst>
                </a:custGeom>
                <a:solidFill>
                  <a:srgbClr val="663366"/>
                </a:solidFill>
                <a:ln w="9360">
                  <a:solidFill>
                    <a:srgbClr val="66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3" name="Oval 305"/>
                <p:cNvSpPr/>
                <p:nvPr/>
              </p:nvSpPr>
              <p:spPr>
                <a:xfrm>
                  <a:off x="6871680" y="2077920"/>
                  <a:ext cx="6120" cy="12240"/>
                </a:xfrm>
                <a:prstGeom prst="ellipse">
                  <a:avLst/>
                </a:prstGeom>
                <a:solidFill>
                  <a:srgbClr val="663366"/>
                </a:solidFill>
                <a:ln w="9360">
                  <a:solidFill>
                    <a:srgbClr val="66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4" name="Oval 306"/>
                <p:cNvSpPr/>
                <p:nvPr/>
              </p:nvSpPr>
              <p:spPr>
                <a:xfrm>
                  <a:off x="6877440" y="2078280"/>
                  <a:ext cx="6480" cy="12240"/>
                </a:xfrm>
                <a:prstGeom prst="ellipse">
                  <a:avLst/>
                </a:prstGeom>
                <a:solidFill>
                  <a:srgbClr val="663366"/>
                </a:solidFill>
                <a:ln w="9360">
                  <a:solidFill>
                    <a:srgbClr val="66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5" name="Oval 307"/>
                <p:cNvSpPr/>
                <p:nvPr/>
              </p:nvSpPr>
              <p:spPr>
                <a:xfrm rot="3348000">
                  <a:off x="6985440" y="2059920"/>
                  <a:ext cx="49320" cy="6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424267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 anchorCtr="1" vert="eaVert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6" name="AutoShape 308"/>
                <p:cNvSpPr/>
                <p:nvPr/>
              </p:nvSpPr>
              <p:spPr>
                <a:xfrm flipH="1" rot="3348000">
                  <a:off x="6983640" y="2063160"/>
                  <a:ext cx="23400" cy="22680"/>
                </a:xfrm>
                <a:custGeom>
                  <a:avLst/>
                  <a:gdLst>
                    <a:gd name="textAreaLeft" fmla="*/ 14040 w 23400"/>
                    <a:gd name="textAreaRight" fmla="*/ 14760 w 23400"/>
                    <a:gd name="textAreaTop" fmla="*/ 720 h 22680"/>
                    <a:gd name="textAreaBottom" fmla="*/ 21960 h 22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7719" y="2482"/>
                        <a:pt x="13837" y="5080"/>
                        <a:pt x="13837" y="10800"/>
                      </a:cubicBezTo>
                      <a:cubicBezTo>
                        <a:pt x="13837" y="16520"/>
                        <a:pt x="17719" y="1911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 anchorCtr="1" vert="eaVert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7" name="AutoShape 309"/>
                <p:cNvSpPr/>
                <p:nvPr/>
              </p:nvSpPr>
              <p:spPr>
                <a:xfrm rot="3348000">
                  <a:off x="7011360" y="2100600"/>
                  <a:ext cx="23040" cy="23040"/>
                </a:xfrm>
                <a:custGeom>
                  <a:avLst/>
                  <a:gdLst>
                    <a:gd name="textAreaLeft" fmla="*/ 14040 w 23040"/>
                    <a:gd name="textAreaRight" fmla="*/ 14760 w 23040"/>
                    <a:gd name="textAreaTop" fmla="*/ 720 h 23040"/>
                    <a:gd name="textAreaBottom" fmla="*/ 22320 h 23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7719" y="2482"/>
                        <a:pt x="13837" y="5080"/>
                        <a:pt x="13837" y="10800"/>
                      </a:cubicBezTo>
                      <a:cubicBezTo>
                        <a:pt x="13837" y="16520"/>
                        <a:pt x="17719" y="1911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 anchorCtr="1" vert="eaVert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8" name="Freeform 310"/>
                <p:cNvSpPr/>
                <p:nvPr/>
              </p:nvSpPr>
              <p:spPr>
                <a:xfrm rot="20025600">
                  <a:off x="7020360" y="2044080"/>
                  <a:ext cx="12960" cy="2736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0 h 27360"/>
                    <a:gd name="textAreaBottom" fmla="*/ 27720 h 2736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9" name="Freeform 311"/>
                <p:cNvSpPr/>
                <p:nvPr/>
              </p:nvSpPr>
              <p:spPr>
                <a:xfrm rot="21131400">
                  <a:off x="7024680" y="2043000"/>
                  <a:ext cx="12600" cy="27360"/>
                </a:xfrm>
                <a:custGeom>
                  <a:avLst/>
                  <a:gdLst>
                    <a:gd name="textAreaLeft" fmla="*/ 0 w 12600"/>
                    <a:gd name="textAreaRight" fmla="*/ 12960 w 12600"/>
                    <a:gd name="textAreaTop" fmla="*/ 0 h 27360"/>
                    <a:gd name="textAreaBottom" fmla="*/ 27720 h 2736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Freeform 312"/>
                <p:cNvSpPr/>
                <p:nvPr/>
              </p:nvSpPr>
              <p:spPr>
                <a:xfrm rot="787800">
                  <a:off x="7029000" y="2043720"/>
                  <a:ext cx="12960" cy="2664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0 h 26640"/>
                    <a:gd name="textAreaBottom" fmla="*/ 27000 h 2664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1" name="Freeform 313"/>
                <p:cNvSpPr/>
                <p:nvPr/>
              </p:nvSpPr>
              <p:spPr>
                <a:xfrm flipH="1" rot="8269800">
                  <a:off x="7043760" y="2075040"/>
                  <a:ext cx="12960" cy="27360"/>
                </a:xfrm>
                <a:custGeom>
                  <a:avLst/>
                  <a:gdLst>
                    <a:gd name="textAreaLeft" fmla="*/ 360 w 12960"/>
                    <a:gd name="textAreaRight" fmla="*/ 13680 w 12960"/>
                    <a:gd name="textAreaTop" fmla="*/ 0 h 27360"/>
                    <a:gd name="textAreaBottom" fmla="*/ 27720 h 2736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2" name="Freeform 314"/>
                <p:cNvSpPr/>
                <p:nvPr/>
              </p:nvSpPr>
              <p:spPr>
                <a:xfrm flipH="1" rot="7163400">
                  <a:off x="7047000" y="2071800"/>
                  <a:ext cx="11160" cy="29160"/>
                </a:xfrm>
                <a:custGeom>
                  <a:avLst/>
                  <a:gdLst>
                    <a:gd name="textAreaLeft" fmla="*/ -360 w 11160"/>
                    <a:gd name="textAreaRight" fmla="*/ 11160 w 1116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3" name="Freeform 315"/>
                <p:cNvSpPr/>
                <p:nvPr/>
              </p:nvSpPr>
              <p:spPr>
                <a:xfrm flipH="1" rot="5907600">
                  <a:off x="7047720" y="2067120"/>
                  <a:ext cx="11880" cy="29160"/>
                </a:xfrm>
                <a:custGeom>
                  <a:avLst/>
                  <a:gdLst>
                    <a:gd name="textAreaLeft" fmla="*/ -360 w 11880"/>
                    <a:gd name="textAreaRight" fmla="*/ 11880 w 1188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4" name="Freeform 316"/>
                <p:cNvSpPr/>
                <p:nvPr/>
              </p:nvSpPr>
              <p:spPr>
                <a:xfrm rot="3348000">
                  <a:off x="6967800" y="2105280"/>
                  <a:ext cx="9720" cy="19440"/>
                </a:xfrm>
                <a:custGeom>
                  <a:avLst/>
                  <a:gdLst>
                    <a:gd name="textAreaLeft" fmla="*/ 0 w 9720"/>
                    <a:gd name="textAreaRight" fmla="*/ 10080 w 9720"/>
                    <a:gd name="textAreaTop" fmla="*/ 0 h 19440"/>
                    <a:gd name="textAreaBottom" fmla="*/ 19800 h 19440"/>
                  </a:gdLst>
                  <a:ahLst/>
                  <a:rect l="textAreaLeft" t="textAreaTop" r="textAreaRight" b="textAreaBottom"/>
                  <a:pathLst>
                    <a:path w="36" h="68">
                      <a:moveTo>
                        <a:pt x="9" y="0"/>
                      </a:moveTo>
                      <a:cubicBezTo>
                        <a:pt x="10" y="0"/>
                        <a:pt x="30" y="5"/>
                        <a:pt x="24" y="12"/>
                      </a:cubicBezTo>
                      <a:cubicBezTo>
                        <a:pt x="20" y="17"/>
                        <a:pt x="6" y="18"/>
                        <a:pt x="6" y="18"/>
                      </a:cubicBezTo>
                      <a:cubicBezTo>
                        <a:pt x="8" y="21"/>
                        <a:pt x="9" y="25"/>
                        <a:pt x="12" y="27"/>
                      </a:cubicBezTo>
                      <a:cubicBezTo>
                        <a:pt x="22" y="35"/>
                        <a:pt x="32" y="35"/>
                        <a:pt x="6" y="42"/>
                      </a:cubicBezTo>
                      <a:cubicBezTo>
                        <a:pt x="36" y="52"/>
                        <a:pt x="23" y="55"/>
                        <a:pt x="0" y="60"/>
                      </a:cubicBezTo>
                      <a:cubicBezTo>
                        <a:pt x="13" y="68"/>
                        <a:pt x="8" y="63"/>
                        <a:pt x="21" y="63"/>
                      </a:cubicBezTo>
                    </a:path>
                  </a:pathLst>
                </a:custGeom>
                <a:solidFill>
                  <a:srgbClr val="663366"/>
                </a:solidFill>
                <a:ln w="9360">
                  <a:solidFill>
                    <a:srgbClr val="66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5" name="Freeform 317"/>
                <p:cNvSpPr/>
                <p:nvPr/>
              </p:nvSpPr>
              <p:spPr>
                <a:xfrm rot="3348000">
                  <a:off x="6971040" y="2110320"/>
                  <a:ext cx="9360" cy="19440"/>
                </a:xfrm>
                <a:custGeom>
                  <a:avLst/>
                  <a:gdLst>
                    <a:gd name="textAreaLeft" fmla="*/ 0 w 9360"/>
                    <a:gd name="textAreaRight" fmla="*/ 9720 w 9360"/>
                    <a:gd name="textAreaTop" fmla="*/ 0 h 19440"/>
                    <a:gd name="textAreaBottom" fmla="*/ 19800 h 19440"/>
                  </a:gdLst>
                  <a:ahLst/>
                  <a:rect l="textAreaLeft" t="textAreaTop" r="textAreaRight" b="textAreaBottom"/>
                  <a:pathLst>
                    <a:path w="36" h="68">
                      <a:moveTo>
                        <a:pt x="9" y="0"/>
                      </a:moveTo>
                      <a:cubicBezTo>
                        <a:pt x="10" y="0"/>
                        <a:pt x="30" y="5"/>
                        <a:pt x="24" y="12"/>
                      </a:cubicBezTo>
                      <a:cubicBezTo>
                        <a:pt x="20" y="17"/>
                        <a:pt x="6" y="18"/>
                        <a:pt x="6" y="18"/>
                      </a:cubicBezTo>
                      <a:cubicBezTo>
                        <a:pt x="8" y="21"/>
                        <a:pt x="9" y="25"/>
                        <a:pt x="12" y="27"/>
                      </a:cubicBezTo>
                      <a:cubicBezTo>
                        <a:pt x="22" y="35"/>
                        <a:pt x="32" y="35"/>
                        <a:pt x="6" y="42"/>
                      </a:cubicBezTo>
                      <a:cubicBezTo>
                        <a:pt x="36" y="52"/>
                        <a:pt x="23" y="55"/>
                        <a:pt x="0" y="60"/>
                      </a:cubicBezTo>
                      <a:cubicBezTo>
                        <a:pt x="13" y="68"/>
                        <a:pt x="8" y="63"/>
                        <a:pt x="21" y="63"/>
                      </a:cubicBezTo>
                    </a:path>
                  </a:pathLst>
                </a:custGeom>
                <a:solidFill>
                  <a:srgbClr val="663366"/>
                </a:solidFill>
                <a:ln w="9360">
                  <a:solidFill>
                    <a:srgbClr val="66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6" name="Oval 318"/>
                <p:cNvSpPr/>
                <p:nvPr/>
              </p:nvSpPr>
              <p:spPr>
                <a:xfrm rot="3348000">
                  <a:off x="6954840" y="2115720"/>
                  <a:ext cx="6120" cy="13320"/>
                </a:xfrm>
                <a:prstGeom prst="ellipse">
                  <a:avLst/>
                </a:prstGeom>
                <a:solidFill>
                  <a:srgbClr val="663366"/>
                </a:solidFill>
                <a:ln w="9360">
                  <a:solidFill>
                    <a:srgbClr val="66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 anchorCtr="1" vert="eaVert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7" name="Oval 319"/>
                <p:cNvSpPr/>
                <p:nvPr/>
              </p:nvSpPr>
              <p:spPr>
                <a:xfrm rot="3348000">
                  <a:off x="6958440" y="2121120"/>
                  <a:ext cx="6120" cy="13320"/>
                </a:xfrm>
                <a:prstGeom prst="ellipse">
                  <a:avLst/>
                </a:prstGeom>
                <a:solidFill>
                  <a:srgbClr val="663366"/>
                </a:solidFill>
                <a:ln w="9360">
                  <a:solidFill>
                    <a:srgbClr val="66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 anchorCtr="1" vert="eaVert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8" name="Oval 320"/>
                <p:cNvSpPr/>
                <p:nvPr/>
              </p:nvSpPr>
              <p:spPr>
                <a:xfrm flipH="1" rot="18252000">
                  <a:off x="6719040" y="2054880"/>
                  <a:ext cx="49680" cy="66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424267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9" name="AutoShape 321"/>
                <p:cNvSpPr/>
                <p:nvPr/>
              </p:nvSpPr>
              <p:spPr>
                <a:xfrm rot="18252000">
                  <a:off x="6746760" y="2058120"/>
                  <a:ext cx="23040" cy="23040"/>
                </a:xfrm>
                <a:custGeom>
                  <a:avLst/>
                  <a:gdLst>
                    <a:gd name="textAreaLeft" fmla="*/ 14040 w 23040"/>
                    <a:gd name="textAreaRight" fmla="*/ 14760 w 23040"/>
                    <a:gd name="textAreaTop" fmla="*/ 720 h 23040"/>
                    <a:gd name="textAreaBottom" fmla="*/ 22320 h 23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7719" y="2482"/>
                        <a:pt x="13837" y="5080"/>
                        <a:pt x="13837" y="10800"/>
                      </a:cubicBezTo>
                      <a:cubicBezTo>
                        <a:pt x="13837" y="16520"/>
                        <a:pt x="17719" y="1911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0" name="AutoShape 322"/>
                <p:cNvSpPr/>
                <p:nvPr/>
              </p:nvSpPr>
              <p:spPr>
                <a:xfrm flipH="1" rot="18252000">
                  <a:off x="6718680" y="2095920"/>
                  <a:ext cx="23040" cy="23040"/>
                </a:xfrm>
                <a:custGeom>
                  <a:avLst/>
                  <a:gdLst>
                    <a:gd name="textAreaLeft" fmla="*/ 14040 w 23040"/>
                    <a:gd name="textAreaRight" fmla="*/ 14760 w 23040"/>
                    <a:gd name="textAreaTop" fmla="*/ 720 h 23040"/>
                    <a:gd name="textAreaBottom" fmla="*/ 22320 h 23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7719" y="2482"/>
                        <a:pt x="13837" y="5080"/>
                        <a:pt x="13837" y="10800"/>
                      </a:cubicBezTo>
                      <a:cubicBezTo>
                        <a:pt x="13837" y="16520"/>
                        <a:pt x="17719" y="1911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1" name="Freeform 323"/>
                <p:cNvSpPr/>
                <p:nvPr/>
              </p:nvSpPr>
              <p:spPr>
                <a:xfrm flipH="1" rot="1574400">
                  <a:off x="6720120" y="2038320"/>
                  <a:ext cx="12240" cy="27360"/>
                </a:xfrm>
                <a:custGeom>
                  <a:avLst/>
                  <a:gdLst>
                    <a:gd name="textAreaLeft" fmla="*/ 360 w 12240"/>
                    <a:gd name="textAreaRight" fmla="*/ 12960 w 12240"/>
                    <a:gd name="textAreaTop" fmla="*/ 0 h 27360"/>
                    <a:gd name="textAreaBottom" fmla="*/ 27720 h 2736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2" name="Freeform 324"/>
                <p:cNvSpPr/>
                <p:nvPr/>
              </p:nvSpPr>
              <p:spPr>
                <a:xfrm flipH="1" rot="468600">
                  <a:off x="6716880" y="2038320"/>
                  <a:ext cx="12600" cy="27360"/>
                </a:xfrm>
                <a:custGeom>
                  <a:avLst/>
                  <a:gdLst>
                    <a:gd name="textAreaLeft" fmla="*/ -360 w 12600"/>
                    <a:gd name="textAreaRight" fmla="*/ 12600 w 12600"/>
                    <a:gd name="textAreaTop" fmla="*/ 0 h 27360"/>
                    <a:gd name="textAreaBottom" fmla="*/ 27720 h 2736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Freeform 325"/>
                <p:cNvSpPr/>
                <p:nvPr/>
              </p:nvSpPr>
              <p:spPr>
                <a:xfrm flipH="1" rot="20812200">
                  <a:off x="6712200" y="2038680"/>
                  <a:ext cx="12960" cy="26640"/>
                </a:xfrm>
                <a:custGeom>
                  <a:avLst/>
                  <a:gdLst>
                    <a:gd name="textAreaLeft" fmla="*/ 360 w 12960"/>
                    <a:gd name="textAreaRight" fmla="*/ 13680 w 12960"/>
                    <a:gd name="textAreaTop" fmla="*/ 0 h 26640"/>
                    <a:gd name="textAreaBottom" fmla="*/ 27000 h 2664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4" name="Freeform 326"/>
                <p:cNvSpPr/>
                <p:nvPr/>
              </p:nvSpPr>
              <p:spPr>
                <a:xfrm rot="13330200">
                  <a:off x="6697440" y="2070360"/>
                  <a:ext cx="12960" cy="2700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5" name="Freeform 327"/>
                <p:cNvSpPr/>
                <p:nvPr/>
              </p:nvSpPr>
              <p:spPr>
                <a:xfrm rot="14436600">
                  <a:off x="6695640" y="2066400"/>
                  <a:ext cx="11160" cy="29520"/>
                </a:xfrm>
                <a:custGeom>
                  <a:avLst/>
                  <a:gdLst>
                    <a:gd name="textAreaLeft" fmla="*/ 0 w 11160"/>
                    <a:gd name="textAreaRight" fmla="*/ 11520 w 11160"/>
                    <a:gd name="textAreaTop" fmla="*/ 0 h 29520"/>
                    <a:gd name="textAreaBottom" fmla="*/ 29880 h 2952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6" name="Freeform 328"/>
                <p:cNvSpPr/>
                <p:nvPr/>
              </p:nvSpPr>
              <p:spPr>
                <a:xfrm rot="15692400">
                  <a:off x="6694200" y="2062440"/>
                  <a:ext cx="11880" cy="2880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7" name="Freeform 329"/>
                <p:cNvSpPr/>
                <p:nvPr/>
              </p:nvSpPr>
              <p:spPr>
                <a:xfrm flipH="1" rot="18252000">
                  <a:off x="6777360" y="2100240"/>
                  <a:ext cx="9720" cy="19440"/>
                </a:xfrm>
                <a:custGeom>
                  <a:avLst/>
                  <a:gdLst>
                    <a:gd name="textAreaLeft" fmla="*/ -360 w 9720"/>
                    <a:gd name="textAreaRight" fmla="*/ 9720 w 9720"/>
                    <a:gd name="textAreaTop" fmla="*/ 0 h 19440"/>
                    <a:gd name="textAreaBottom" fmla="*/ 19800 h 19440"/>
                  </a:gdLst>
                  <a:ahLst/>
                  <a:rect l="textAreaLeft" t="textAreaTop" r="textAreaRight" b="textAreaBottom"/>
                  <a:pathLst>
                    <a:path w="36" h="68">
                      <a:moveTo>
                        <a:pt x="9" y="0"/>
                      </a:moveTo>
                      <a:cubicBezTo>
                        <a:pt x="10" y="0"/>
                        <a:pt x="30" y="5"/>
                        <a:pt x="24" y="12"/>
                      </a:cubicBezTo>
                      <a:cubicBezTo>
                        <a:pt x="20" y="17"/>
                        <a:pt x="6" y="18"/>
                        <a:pt x="6" y="18"/>
                      </a:cubicBezTo>
                      <a:cubicBezTo>
                        <a:pt x="8" y="21"/>
                        <a:pt x="9" y="25"/>
                        <a:pt x="12" y="27"/>
                      </a:cubicBezTo>
                      <a:cubicBezTo>
                        <a:pt x="22" y="35"/>
                        <a:pt x="32" y="35"/>
                        <a:pt x="6" y="42"/>
                      </a:cubicBezTo>
                      <a:cubicBezTo>
                        <a:pt x="36" y="52"/>
                        <a:pt x="23" y="55"/>
                        <a:pt x="0" y="60"/>
                      </a:cubicBezTo>
                      <a:cubicBezTo>
                        <a:pt x="13" y="68"/>
                        <a:pt x="8" y="63"/>
                        <a:pt x="21" y="63"/>
                      </a:cubicBezTo>
                    </a:path>
                  </a:pathLst>
                </a:custGeom>
                <a:solidFill>
                  <a:srgbClr val="663366"/>
                </a:solidFill>
                <a:ln w="9360">
                  <a:solidFill>
                    <a:srgbClr val="66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8" name="Freeform 330"/>
                <p:cNvSpPr/>
                <p:nvPr/>
              </p:nvSpPr>
              <p:spPr>
                <a:xfrm flipH="1" rot="18252000">
                  <a:off x="6774120" y="2105640"/>
                  <a:ext cx="9720" cy="19440"/>
                </a:xfrm>
                <a:custGeom>
                  <a:avLst/>
                  <a:gdLst>
                    <a:gd name="textAreaLeft" fmla="*/ -360 w 9720"/>
                    <a:gd name="textAreaRight" fmla="*/ 9720 w 9720"/>
                    <a:gd name="textAreaTop" fmla="*/ 0 h 19440"/>
                    <a:gd name="textAreaBottom" fmla="*/ 19800 h 19440"/>
                  </a:gdLst>
                  <a:ahLst/>
                  <a:rect l="textAreaLeft" t="textAreaTop" r="textAreaRight" b="textAreaBottom"/>
                  <a:pathLst>
                    <a:path w="36" h="68">
                      <a:moveTo>
                        <a:pt x="9" y="0"/>
                      </a:moveTo>
                      <a:cubicBezTo>
                        <a:pt x="10" y="0"/>
                        <a:pt x="30" y="5"/>
                        <a:pt x="24" y="12"/>
                      </a:cubicBezTo>
                      <a:cubicBezTo>
                        <a:pt x="20" y="17"/>
                        <a:pt x="6" y="18"/>
                        <a:pt x="6" y="18"/>
                      </a:cubicBezTo>
                      <a:cubicBezTo>
                        <a:pt x="8" y="21"/>
                        <a:pt x="9" y="25"/>
                        <a:pt x="12" y="27"/>
                      </a:cubicBezTo>
                      <a:cubicBezTo>
                        <a:pt x="22" y="35"/>
                        <a:pt x="32" y="35"/>
                        <a:pt x="6" y="42"/>
                      </a:cubicBezTo>
                      <a:cubicBezTo>
                        <a:pt x="36" y="52"/>
                        <a:pt x="23" y="55"/>
                        <a:pt x="0" y="60"/>
                      </a:cubicBezTo>
                      <a:cubicBezTo>
                        <a:pt x="13" y="68"/>
                        <a:pt x="8" y="63"/>
                        <a:pt x="21" y="63"/>
                      </a:cubicBezTo>
                    </a:path>
                  </a:pathLst>
                </a:custGeom>
                <a:solidFill>
                  <a:srgbClr val="663366"/>
                </a:solidFill>
                <a:ln w="9360">
                  <a:solidFill>
                    <a:srgbClr val="66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9" name="Oval 331"/>
                <p:cNvSpPr/>
                <p:nvPr/>
              </p:nvSpPr>
              <p:spPr>
                <a:xfrm flipH="1" rot="18252000">
                  <a:off x="6792840" y="2111040"/>
                  <a:ext cx="6120" cy="13320"/>
                </a:xfrm>
                <a:prstGeom prst="ellipse">
                  <a:avLst/>
                </a:prstGeom>
                <a:solidFill>
                  <a:srgbClr val="663366"/>
                </a:solidFill>
                <a:ln w="9360">
                  <a:solidFill>
                    <a:srgbClr val="66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0" name="Oval 332"/>
                <p:cNvSpPr/>
                <p:nvPr/>
              </p:nvSpPr>
              <p:spPr>
                <a:xfrm flipH="1" rot="18252000">
                  <a:off x="6789240" y="2116080"/>
                  <a:ext cx="6120" cy="13320"/>
                </a:xfrm>
                <a:prstGeom prst="ellipse">
                  <a:avLst/>
                </a:prstGeom>
                <a:solidFill>
                  <a:srgbClr val="663366"/>
                </a:solidFill>
                <a:ln w="9360">
                  <a:solidFill>
                    <a:srgbClr val="66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1" name="Oval 333"/>
                <p:cNvSpPr/>
                <p:nvPr/>
              </p:nvSpPr>
              <p:spPr>
                <a:xfrm flipV="1" rot="18252000">
                  <a:off x="6983280" y="2229480"/>
                  <a:ext cx="49680" cy="6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424267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 anchorCtr="1" vert="eaVert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2" name="AutoShape 334"/>
                <p:cNvSpPr/>
                <p:nvPr/>
              </p:nvSpPr>
              <p:spPr>
                <a:xfrm flipH="1" flipV="1" rot="18252000">
                  <a:off x="6982560" y="2269800"/>
                  <a:ext cx="23040" cy="22680"/>
                </a:xfrm>
                <a:custGeom>
                  <a:avLst/>
                  <a:gdLst>
                    <a:gd name="textAreaLeft" fmla="*/ 14040 w 23040"/>
                    <a:gd name="textAreaRight" fmla="*/ 14760 w 23040"/>
                    <a:gd name="textAreaTop" fmla="*/ 720 h 22680"/>
                    <a:gd name="textAreaBottom" fmla="*/ 21960 h 22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7719" y="2482"/>
                        <a:pt x="13837" y="5080"/>
                        <a:pt x="13837" y="10800"/>
                      </a:cubicBezTo>
                      <a:cubicBezTo>
                        <a:pt x="13837" y="16520"/>
                        <a:pt x="17719" y="1911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 anchorCtr="1" vert="eaVert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3" name="AutoShape 335"/>
                <p:cNvSpPr/>
                <p:nvPr/>
              </p:nvSpPr>
              <p:spPr>
                <a:xfrm flipV="1" rot="18252000">
                  <a:off x="7009560" y="2232720"/>
                  <a:ext cx="23040" cy="22680"/>
                </a:xfrm>
                <a:custGeom>
                  <a:avLst/>
                  <a:gdLst>
                    <a:gd name="textAreaLeft" fmla="*/ 14040 w 23040"/>
                    <a:gd name="textAreaRight" fmla="*/ 14760 w 23040"/>
                    <a:gd name="textAreaTop" fmla="*/ 720 h 22680"/>
                    <a:gd name="textAreaBottom" fmla="*/ 21960 h 22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7719" y="2482"/>
                        <a:pt x="13837" y="5080"/>
                        <a:pt x="13837" y="10800"/>
                      </a:cubicBezTo>
                      <a:cubicBezTo>
                        <a:pt x="13837" y="16520"/>
                        <a:pt x="17719" y="1911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 anchorCtr="1" vert="eaVert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4" name="Freeform 336"/>
                <p:cNvSpPr/>
                <p:nvPr/>
              </p:nvSpPr>
              <p:spPr>
                <a:xfrm flipV="1" rot="1574400">
                  <a:off x="7018920" y="2283480"/>
                  <a:ext cx="12240" cy="27360"/>
                </a:xfrm>
                <a:custGeom>
                  <a:avLst/>
                  <a:gdLst>
                    <a:gd name="textAreaLeft" fmla="*/ 0 w 12240"/>
                    <a:gd name="textAreaRight" fmla="*/ 12600 w 12240"/>
                    <a:gd name="textAreaTop" fmla="*/ 360 h 27360"/>
                    <a:gd name="textAreaBottom" fmla="*/ 28080 h 2736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5" name="Freeform 337"/>
                <p:cNvSpPr/>
                <p:nvPr/>
              </p:nvSpPr>
              <p:spPr>
                <a:xfrm flipV="1" rot="468600">
                  <a:off x="7022520" y="2284920"/>
                  <a:ext cx="12240" cy="27720"/>
                </a:xfrm>
                <a:custGeom>
                  <a:avLst/>
                  <a:gdLst>
                    <a:gd name="textAreaLeft" fmla="*/ 0 w 12240"/>
                    <a:gd name="textAreaRight" fmla="*/ 12600 w 12240"/>
                    <a:gd name="textAreaTop" fmla="*/ -360 h 27720"/>
                    <a:gd name="textAreaBottom" fmla="*/ 27720 h 2772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Freeform 338"/>
                <p:cNvSpPr/>
                <p:nvPr/>
              </p:nvSpPr>
              <p:spPr>
                <a:xfrm flipV="1" rot="20812200">
                  <a:off x="7027560" y="2285640"/>
                  <a:ext cx="12600" cy="26640"/>
                </a:xfrm>
                <a:custGeom>
                  <a:avLst/>
                  <a:gdLst>
                    <a:gd name="textAreaLeft" fmla="*/ 0 w 12600"/>
                    <a:gd name="textAreaRight" fmla="*/ 12960 w 12600"/>
                    <a:gd name="textAreaTop" fmla="*/ 360 h 26640"/>
                    <a:gd name="textAreaBottom" fmla="*/ 27360 h 2664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7" name="Freeform 339"/>
                <p:cNvSpPr/>
                <p:nvPr/>
              </p:nvSpPr>
              <p:spPr>
                <a:xfrm flipH="1" flipV="1" rot="13330200">
                  <a:off x="7041960" y="2253240"/>
                  <a:ext cx="12600" cy="27360"/>
                </a:xfrm>
                <a:custGeom>
                  <a:avLst/>
                  <a:gdLst>
                    <a:gd name="textAreaLeft" fmla="*/ -360 w 12600"/>
                    <a:gd name="textAreaRight" fmla="*/ 12600 w 12600"/>
                    <a:gd name="textAreaTop" fmla="*/ 360 h 27360"/>
                    <a:gd name="textAreaBottom" fmla="*/ 28080 h 2736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8" name="Freeform 340"/>
                <p:cNvSpPr/>
                <p:nvPr/>
              </p:nvSpPr>
              <p:spPr>
                <a:xfrm flipH="1" flipV="1" rot="14436600">
                  <a:off x="7043760" y="2253600"/>
                  <a:ext cx="11520" cy="29520"/>
                </a:xfrm>
                <a:custGeom>
                  <a:avLst/>
                  <a:gdLst>
                    <a:gd name="textAreaLeft" fmla="*/ 360 w 11520"/>
                    <a:gd name="textAreaRight" fmla="*/ 12240 w 11520"/>
                    <a:gd name="textAreaTop" fmla="*/ 360 h 29520"/>
                    <a:gd name="textAreaBottom" fmla="*/ 30240 h 2952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Freeform 341"/>
                <p:cNvSpPr/>
                <p:nvPr/>
              </p:nvSpPr>
              <p:spPr>
                <a:xfrm flipH="1" flipV="1" rot="15692400">
                  <a:off x="7045920" y="2258640"/>
                  <a:ext cx="11520" cy="29160"/>
                </a:xfrm>
                <a:custGeom>
                  <a:avLst/>
                  <a:gdLst>
                    <a:gd name="textAreaLeft" fmla="*/ 360 w 11520"/>
                    <a:gd name="textAreaRight" fmla="*/ 12240 w 11520"/>
                    <a:gd name="textAreaTop" fmla="*/ -360 h 29160"/>
                    <a:gd name="textAreaBottom" fmla="*/ 29160 h 2916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0" name="Freeform 342"/>
                <p:cNvSpPr/>
                <p:nvPr/>
              </p:nvSpPr>
              <p:spPr>
                <a:xfrm flipV="1" rot="18252000">
                  <a:off x="6965640" y="2231280"/>
                  <a:ext cx="10080" cy="1980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-360 h 19800"/>
                    <a:gd name="textAreaBottom" fmla="*/ 19800 h 19800"/>
                  </a:gdLst>
                  <a:ahLst/>
                  <a:rect l="textAreaLeft" t="textAreaTop" r="textAreaRight" b="textAreaBottom"/>
                  <a:pathLst>
                    <a:path w="36" h="68">
                      <a:moveTo>
                        <a:pt x="9" y="0"/>
                      </a:moveTo>
                      <a:cubicBezTo>
                        <a:pt x="10" y="0"/>
                        <a:pt x="30" y="5"/>
                        <a:pt x="24" y="12"/>
                      </a:cubicBezTo>
                      <a:cubicBezTo>
                        <a:pt x="20" y="17"/>
                        <a:pt x="6" y="18"/>
                        <a:pt x="6" y="18"/>
                      </a:cubicBezTo>
                      <a:cubicBezTo>
                        <a:pt x="8" y="21"/>
                        <a:pt x="9" y="25"/>
                        <a:pt x="12" y="27"/>
                      </a:cubicBezTo>
                      <a:cubicBezTo>
                        <a:pt x="22" y="35"/>
                        <a:pt x="32" y="35"/>
                        <a:pt x="6" y="42"/>
                      </a:cubicBezTo>
                      <a:cubicBezTo>
                        <a:pt x="36" y="52"/>
                        <a:pt x="23" y="55"/>
                        <a:pt x="0" y="60"/>
                      </a:cubicBezTo>
                      <a:cubicBezTo>
                        <a:pt x="13" y="68"/>
                        <a:pt x="8" y="63"/>
                        <a:pt x="21" y="63"/>
                      </a:cubicBezTo>
                    </a:path>
                  </a:pathLst>
                </a:custGeom>
                <a:solidFill>
                  <a:srgbClr val="663366"/>
                </a:solidFill>
                <a:ln w="9360">
                  <a:solidFill>
                    <a:srgbClr val="66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Freeform 343"/>
                <p:cNvSpPr/>
                <p:nvPr/>
              </p:nvSpPr>
              <p:spPr>
                <a:xfrm flipV="1" rot="18252000">
                  <a:off x="6969600" y="2226600"/>
                  <a:ext cx="9720" cy="19440"/>
                </a:xfrm>
                <a:custGeom>
                  <a:avLst/>
                  <a:gdLst>
                    <a:gd name="textAreaLeft" fmla="*/ 0 w 9720"/>
                    <a:gd name="textAreaRight" fmla="*/ 10080 w 9720"/>
                    <a:gd name="textAreaTop" fmla="*/ 360 h 19440"/>
                    <a:gd name="textAreaBottom" fmla="*/ 20160 h 19440"/>
                  </a:gdLst>
                  <a:ahLst/>
                  <a:rect l="textAreaLeft" t="textAreaTop" r="textAreaRight" b="textAreaBottom"/>
                  <a:pathLst>
                    <a:path w="36" h="68">
                      <a:moveTo>
                        <a:pt x="9" y="0"/>
                      </a:moveTo>
                      <a:cubicBezTo>
                        <a:pt x="10" y="0"/>
                        <a:pt x="30" y="5"/>
                        <a:pt x="24" y="12"/>
                      </a:cubicBezTo>
                      <a:cubicBezTo>
                        <a:pt x="20" y="17"/>
                        <a:pt x="6" y="18"/>
                        <a:pt x="6" y="18"/>
                      </a:cubicBezTo>
                      <a:cubicBezTo>
                        <a:pt x="8" y="21"/>
                        <a:pt x="9" y="25"/>
                        <a:pt x="12" y="27"/>
                      </a:cubicBezTo>
                      <a:cubicBezTo>
                        <a:pt x="22" y="35"/>
                        <a:pt x="32" y="35"/>
                        <a:pt x="6" y="42"/>
                      </a:cubicBezTo>
                      <a:cubicBezTo>
                        <a:pt x="36" y="52"/>
                        <a:pt x="23" y="55"/>
                        <a:pt x="0" y="60"/>
                      </a:cubicBezTo>
                      <a:cubicBezTo>
                        <a:pt x="13" y="68"/>
                        <a:pt x="8" y="63"/>
                        <a:pt x="21" y="63"/>
                      </a:cubicBezTo>
                    </a:path>
                  </a:pathLst>
                </a:custGeom>
                <a:solidFill>
                  <a:srgbClr val="663366"/>
                </a:solidFill>
                <a:ln w="9360">
                  <a:solidFill>
                    <a:srgbClr val="66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Oval 344"/>
                <p:cNvSpPr/>
                <p:nvPr/>
              </p:nvSpPr>
              <p:spPr>
                <a:xfrm flipV="1" rot="18252000">
                  <a:off x="6953760" y="2225880"/>
                  <a:ext cx="6120" cy="13320"/>
                </a:xfrm>
                <a:prstGeom prst="ellipse">
                  <a:avLst/>
                </a:prstGeom>
                <a:solidFill>
                  <a:srgbClr val="663366"/>
                </a:solidFill>
                <a:ln w="9360">
                  <a:solidFill>
                    <a:srgbClr val="66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 anchorCtr="1" vert="eaVert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3" name="Oval 345"/>
                <p:cNvSpPr/>
                <p:nvPr/>
              </p:nvSpPr>
              <p:spPr>
                <a:xfrm flipV="1" rot="18252000">
                  <a:off x="6956280" y="2221560"/>
                  <a:ext cx="6480" cy="13320"/>
                </a:xfrm>
                <a:prstGeom prst="ellipse">
                  <a:avLst/>
                </a:prstGeom>
                <a:solidFill>
                  <a:srgbClr val="663366"/>
                </a:solidFill>
                <a:ln w="9360">
                  <a:solidFill>
                    <a:srgbClr val="66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 anchorCtr="1" vert="eaVert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Oval 346"/>
                <p:cNvSpPr/>
                <p:nvPr/>
              </p:nvSpPr>
              <p:spPr>
                <a:xfrm flipH="1" flipV="1" rot="3727800">
                  <a:off x="6706440" y="2202480"/>
                  <a:ext cx="49320" cy="6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424267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5" name="AutoShape 347"/>
                <p:cNvSpPr/>
                <p:nvPr/>
              </p:nvSpPr>
              <p:spPr>
                <a:xfrm flipV="1" rot="3728400">
                  <a:off x="6732000" y="2243880"/>
                  <a:ext cx="23040" cy="23040"/>
                </a:xfrm>
                <a:custGeom>
                  <a:avLst/>
                  <a:gdLst>
                    <a:gd name="textAreaLeft" fmla="*/ 14040 w 23040"/>
                    <a:gd name="textAreaRight" fmla="*/ 14760 w 23040"/>
                    <a:gd name="textAreaTop" fmla="*/ 720 h 23040"/>
                    <a:gd name="textAreaBottom" fmla="*/ 22320 h 23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7719" y="2482"/>
                        <a:pt x="13837" y="5080"/>
                        <a:pt x="13837" y="10800"/>
                      </a:cubicBezTo>
                      <a:cubicBezTo>
                        <a:pt x="13837" y="16520"/>
                        <a:pt x="17719" y="1911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6" name="AutoShape 348"/>
                <p:cNvSpPr/>
                <p:nvPr/>
              </p:nvSpPr>
              <p:spPr>
                <a:xfrm flipH="1" flipV="1" rot="3727800">
                  <a:off x="6708600" y="2203920"/>
                  <a:ext cx="23040" cy="23400"/>
                </a:xfrm>
                <a:custGeom>
                  <a:avLst/>
                  <a:gdLst>
                    <a:gd name="textAreaLeft" fmla="*/ 14040 w 23040"/>
                    <a:gd name="textAreaRight" fmla="*/ 14760 w 23040"/>
                    <a:gd name="textAreaTop" fmla="*/ 720 h 23400"/>
                    <a:gd name="textAreaBottom" fmla="*/ 22680 h 234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7719" y="2482"/>
                        <a:pt x="13837" y="5080"/>
                        <a:pt x="13837" y="10800"/>
                      </a:cubicBezTo>
                      <a:cubicBezTo>
                        <a:pt x="13837" y="16520"/>
                        <a:pt x="17719" y="1911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Freeform 349"/>
                <p:cNvSpPr/>
                <p:nvPr/>
              </p:nvSpPr>
              <p:spPr>
                <a:xfrm flipH="1" flipV="1" rot="20406600">
                  <a:off x="6703560" y="2255400"/>
                  <a:ext cx="12960" cy="27360"/>
                </a:xfrm>
                <a:custGeom>
                  <a:avLst/>
                  <a:gdLst>
                    <a:gd name="textAreaLeft" fmla="*/ 360 w 12960"/>
                    <a:gd name="textAreaRight" fmla="*/ 13680 w 12960"/>
                    <a:gd name="textAreaTop" fmla="*/ 360 h 27360"/>
                    <a:gd name="textAreaBottom" fmla="*/ 28080 h 2736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8" name="Freeform 350"/>
                <p:cNvSpPr/>
                <p:nvPr/>
              </p:nvSpPr>
              <p:spPr>
                <a:xfrm flipH="1" flipV="1" rot="21512400">
                  <a:off x="6700320" y="2255400"/>
                  <a:ext cx="12600" cy="27360"/>
                </a:xfrm>
                <a:custGeom>
                  <a:avLst/>
                  <a:gdLst>
                    <a:gd name="textAreaLeft" fmla="*/ -360 w 12600"/>
                    <a:gd name="textAreaRight" fmla="*/ 12600 w 12600"/>
                    <a:gd name="textAreaTop" fmla="*/ 360 h 27360"/>
                    <a:gd name="textAreaBottom" fmla="*/ 28080 h 2736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Freeform 351"/>
                <p:cNvSpPr/>
                <p:nvPr/>
              </p:nvSpPr>
              <p:spPr>
                <a:xfrm flipH="1" flipV="1" rot="1168200">
                  <a:off x="6694560" y="2254680"/>
                  <a:ext cx="12960" cy="27000"/>
                </a:xfrm>
                <a:custGeom>
                  <a:avLst/>
                  <a:gdLst>
                    <a:gd name="textAreaLeft" fmla="*/ 360 w 12960"/>
                    <a:gd name="textAreaRight" fmla="*/ 13680 w 12960"/>
                    <a:gd name="textAreaTop" fmla="*/ -360 h 27000"/>
                    <a:gd name="textAreaBottom" fmla="*/ 27000 h 2700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Freeform 352"/>
                <p:cNvSpPr/>
                <p:nvPr/>
              </p:nvSpPr>
              <p:spPr>
                <a:xfrm flipV="1" rot="8649600">
                  <a:off x="6684120" y="2221200"/>
                  <a:ext cx="12960" cy="2736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360 h 27360"/>
                    <a:gd name="textAreaBottom" fmla="*/ 28080 h 2736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1" name="Freeform 353"/>
                <p:cNvSpPr/>
                <p:nvPr/>
              </p:nvSpPr>
              <p:spPr>
                <a:xfrm flipV="1" rot="7544400">
                  <a:off x="6682680" y="2223000"/>
                  <a:ext cx="11520" cy="2952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360 h 29520"/>
                    <a:gd name="textAreaBottom" fmla="*/ 30240 h 2952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2" name="Freeform 354"/>
                <p:cNvSpPr/>
                <p:nvPr/>
              </p:nvSpPr>
              <p:spPr>
                <a:xfrm flipV="1" rot="6288000">
                  <a:off x="6680880" y="2226960"/>
                  <a:ext cx="11520" cy="2916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-360 h 29160"/>
                    <a:gd name="textAreaBottom" fmla="*/ 29160 h 2916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3" name="Freeform 355"/>
                <p:cNvSpPr/>
                <p:nvPr/>
              </p:nvSpPr>
              <p:spPr>
                <a:xfrm flipH="1" flipV="1" rot="3727800">
                  <a:off x="6766560" y="2208240"/>
                  <a:ext cx="9720" cy="19440"/>
                </a:xfrm>
                <a:custGeom>
                  <a:avLst/>
                  <a:gdLst>
                    <a:gd name="textAreaLeft" fmla="*/ -360 w 9720"/>
                    <a:gd name="textAreaRight" fmla="*/ 9720 w 9720"/>
                    <a:gd name="textAreaTop" fmla="*/ 360 h 19440"/>
                    <a:gd name="textAreaBottom" fmla="*/ 20160 h 19440"/>
                  </a:gdLst>
                  <a:ahLst/>
                  <a:rect l="textAreaLeft" t="textAreaTop" r="textAreaRight" b="textAreaBottom"/>
                  <a:pathLst>
                    <a:path w="36" h="68">
                      <a:moveTo>
                        <a:pt x="9" y="0"/>
                      </a:moveTo>
                      <a:cubicBezTo>
                        <a:pt x="10" y="0"/>
                        <a:pt x="30" y="5"/>
                        <a:pt x="24" y="12"/>
                      </a:cubicBezTo>
                      <a:cubicBezTo>
                        <a:pt x="20" y="17"/>
                        <a:pt x="6" y="18"/>
                        <a:pt x="6" y="18"/>
                      </a:cubicBezTo>
                      <a:cubicBezTo>
                        <a:pt x="8" y="21"/>
                        <a:pt x="9" y="25"/>
                        <a:pt x="12" y="27"/>
                      </a:cubicBezTo>
                      <a:cubicBezTo>
                        <a:pt x="22" y="35"/>
                        <a:pt x="32" y="35"/>
                        <a:pt x="6" y="42"/>
                      </a:cubicBezTo>
                      <a:cubicBezTo>
                        <a:pt x="36" y="52"/>
                        <a:pt x="23" y="55"/>
                        <a:pt x="0" y="60"/>
                      </a:cubicBezTo>
                      <a:cubicBezTo>
                        <a:pt x="13" y="68"/>
                        <a:pt x="8" y="63"/>
                        <a:pt x="21" y="63"/>
                      </a:cubicBezTo>
                    </a:path>
                  </a:pathLst>
                </a:custGeom>
                <a:solidFill>
                  <a:srgbClr val="663366"/>
                </a:solidFill>
                <a:ln w="9360">
                  <a:solidFill>
                    <a:srgbClr val="66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Freeform 356"/>
                <p:cNvSpPr/>
                <p:nvPr/>
              </p:nvSpPr>
              <p:spPr>
                <a:xfrm flipH="1" flipV="1" rot="3727800">
                  <a:off x="6764760" y="2203200"/>
                  <a:ext cx="9360" cy="19440"/>
                </a:xfrm>
                <a:custGeom>
                  <a:avLst/>
                  <a:gdLst>
                    <a:gd name="textAreaLeft" fmla="*/ 360 w 9360"/>
                    <a:gd name="textAreaRight" fmla="*/ 10080 w 9360"/>
                    <a:gd name="textAreaTop" fmla="*/ 360 h 19440"/>
                    <a:gd name="textAreaBottom" fmla="*/ 20160 h 19440"/>
                  </a:gdLst>
                  <a:ahLst/>
                  <a:rect l="textAreaLeft" t="textAreaTop" r="textAreaRight" b="textAreaBottom"/>
                  <a:pathLst>
                    <a:path w="36" h="68">
                      <a:moveTo>
                        <a:pt x="9" y="0"/>
                      </a:moveTo>
                      <a:cubicBezTo>
                        <a:pt x="10" y="0"/>
                        <a:pt x="30" y="5"/>
                        <a:pt x="24" y="12"/>
                      </a:cubicBezTo>
                      <a:cubicBezTo>
                        <a:pt x="20" y="17"/>
                        <a:pt x="6" y="18"/>
                        <a:pt x="6" y="18"/>
                      </a:cubicBezTo>
                      <a:cubicBezTo>
                        <a:pt x="8" y="21"/>
                        <a:pt x="9" y="25"/>
                        <a:pt x="12" y="27"/>
                      </a:cubicBezTo>
                      <a:cubicBezTo>
                        <a:pt x="22" y="35"/>
                        <a:pt x="32" y="35"/>
                        <a:pt x="6" y="42"/>
                      </a:cubicBezTo>
                      <a:cubicBezTo>
                        <a:pt x="36" y="52"/>
                        <a:pt x="23" y="55"/>
                        <a:pt x="0" y="60"/>
                      </a:cubicBezTo>
                      <a:cubicBezTo>
                        <a:pt x="13" y="68"/>
                        <a:pt x="8" y="63"/>
                        <a:pt x="21" y="63"/>
                      </a:cubicBezTo>
                    </a:path>
                  </a:pathLst>
                </a:custGeom>
                <a:solidFill>
                  <a:srgbClr val="663366"/>
                </a:solidFill>
                <a:ln w="9360">
                  <a:solidFill>
                    <a:srgbClr val="66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Oval 357"/>
                <p:cNvSpPr/>
                <p:nvPr/>
              </p:nvSpPr>
              <p:spPr>
                <a:xfrm flipH="1" flipV="1" rot="3727800">
                  <a:off x="6783480" y="2205720"/>
                  <a:ext cx="6120" cy="13320"/>
                </a:xfrm>
                <a:prstGeom prst="ellipse">
                  <a:avLst/>
                </a:prstGeom>
                <a:solidFill>
                  <a:srgbClr val="663366"/>
                </a:solidFill>
                <a:ln w="9360">
                  <a:solidFill>
                    <a:srgbClr val="66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Oval 358"/>
                <p:cNvSpPr/>
                <p:nvPr/>
              </p:nvSpPr>
              <p:spPr>
                <a:xfrm flipH="1" flipV="1" rot="3727800">
                  <a:off x="6780240" y="2200320"/>
                  <a:ext cx="6480" cy="12960"/>
                </a:xfrm>
                <a:prstGeom prst="ellipse">
                  <a:avLst/>
                </a:prstGeom>
                <a:solidFill>
                  <a:srgbClr val="663366"/>
                </a:solidFill>
                <a:ln w="9360">
                  <a:solidFill>
                    <a:srgbClr val="66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7" name="AutoShape 359"/>
                <p:cNvSpPr/>
                <p:nvPr/>
              </p:nvSpPr>
              <p:spPr>
                <a:xfrm flipH="1" flipV="1">
                  <a:off x="7039800" y="2279880"/>
                  <a:ext cx="24480" cy="21600"/>
                </a:xfrm>
                <a:custGeom>
                  <a:avLst/>
                  <a:gdLst>
                    <a:gd name="textAreaLeft" fmla="*/ 15120 w 24480"/>
                    <a:gd name="textAreaRight" fmla="*/ 15840 w 24480"/>
                    <a:gd name="textAreaTop" fmla="*/ 720 h 21600"/>
                    <a:gd name="textAreaBottom" fmla="*/ 20880 h 21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7719" y="2482"/>
                        <a:pt x="13837" y="5080"/>
                        <a:pt x="13837" y="10800"/>
                      </a:cubicBezTo>
                      <a:cubicBezTo>
                        <a:pt x="13837" y="16520"/>
                        <a:pt x="17719" y="1911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8" name="Freeform 360"/>
                <p:cNvSpPr/>
                <p:nvPr/>
              </p:nvSpPr>
              <p:spPr>
                <a:xfrm rot="444000">
                  <a:off x="6837120" y="2113560"/>
                  <a:ext cx="83880" cy="136080"/>
                </a:xfrm>
                <a:custGeom>
                  <a:avLst/>
                  <a:gdLst>
                    <a:gd name="textAreaLeft" fmla="*/ 0 w 83880"/>
                    <a:gd name="textAreaRight" fmla="*/ 84240 w 83880"/>
                    <a:gd name="textAreaTop" fmla="*/ 0 h 136080"/>
                    <a:gd name="textAreaBottom" fmla="*/ 136440 h 136080"/>
                  </a:gdLst>
                  <a:ahLst/>
                  <a:rect l="textAreaLeft" t="textAreaTop" r="textAreaRight" b="textAreaBottom"/>
                  <a:pathLst>
                    <a:path w="196" h="430">
                      <a:moveTo>
                        <a:pt x="15" y="60"/>
                      </a:moveTo>
                      <a:cubicBezTo>
                        <a:pt x="30" y="0"/>
                        <a:pt x="76" y="7"/>
                        <a:pt x="106" y="14"/>
                      </a:cubicBezTo>
                      <a:cubicBezTo>
                        <a:pt x="136" y="21"/>
                        <a:pt x="196" y="45"/>
                        <a:pt x="196" y="105"/>
                      </a:cubicBezTo>
                      <a:cubicBezTo>
                        <a:pt x="196" y="165"/>
                        <a:pt x="136" y="332"/>
                        <a:pt x="106" y="377"/>
                      </a:cubicBezTo>
                      <a:cubicBezTo>
                        <a:pt x="76" y="422"/>
                        <a:pt x="30" y="430"/>
                        <a:pt x="15" y="377"/>
                      </a:cubicBezTo>
                      <a:cubicBezTo>
                        <a:pt x="0" y="324"/>
                        <a:pt x="0" y="120"/>
                        <a:pt x="15" y="60"/>
                      </a:cubicBezTo>
                      <a:close/>
                    </a:path>
                  </a:pathLst>
                </a:custGeom>
                <a:blipFill rotWithShape="0">
                  <a:blip r:embed="rId4"/>
                  <a:srcRect/>
                  <a:tile tx="0" ty="0" sx="100000" sy="100000" algn="ctr"/>
                </a:blipFill>
                <a:ln w="9360">
                  <a:solidFill>
                    <a:srgbClr val="66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19" name="Group 361"/>
            <p:cNvGrpSpPr/>
            <p:nvPr/>
          </p:nvGrpSpPr>
          <p:grpSpPr>
            <a:xfrm>
              <a:off x="6788520" y="1412280"/>
              <a:ext cx="398520" cy="414000"/>
              <a:chOff x="6788520" y="1412280"/>
              <a:chExt cx="398520" cy="414000"/>
            </a:xfrm>
          </p:grpSpPr>
          <p:sp>
            <p:nvSpPr>
              <p:cNvPr id="1120" name="Oval 362"/>
              <p:cNvSpPr/>
              <p:nvPr/>
            </p:nvSpPr>
            <p:spPr>
              <a:xfrm flipV="1" rot="21360000">
                <a:off x="6966000" y="1737000"/>
                <a:ext cx="53640" cy="61920"/>
              </a:xfrm>
              <a:prstGeom prst="ellips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42426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AutoShape 363"/>
              <p:cNvSpPr/>
              <p:nvPr/>
            </p:nvSpPr>
            <p:spPr>
              <a:xfrm flipV="1" rot="21360000">
                <a:off x="7003440" y="1754640"/>
                <a:ext cx="24840" cy="21600"/>
              </a:xfrm>
              <a:custGeom>
                <a:avLst/>
                <a:gdLst>
                  <a:gd name="textAreaLeft" fmla="*/ 15120 w 24840"/>
                  <a:gd name="textAreaRight" fmla="*/ 15840 w 24840"/>
                  <a:gd name="textAreaTop" fmla="*/ 720 h 21600"/>
                  <a:gd name="textAreaBottom" fmla="*/ 20880 h 21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7719" y="2482"/>
                      <a:pt x="13837" y="5080"/>
                      <a:pt x="13837" y="10800"/>
                    </a:cubicBezTo>
                    <a:cubicBezTo>
                      <a:pt x="13837" y="16520"/>
                      <a:pt x="17719" y="1911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364"/>
              <p:cNvSpPr/>
              <p:nvPr/>
            </p:nvSpPr>
            <p:spPr>
              <a:xfrm flipV="1" rot="297000">
                <a:off x="6981480" y="1798560"/>
                <a:ext cx="12600" cy="2700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-360 h 27000"/>
                  <a:gd name="textAreaBottom" fmla="*/ 27000 h 27000"/>
                </a:gdLst>
                <a:ahLst/>
                <a:rect l="textAreaLeft" t="textAreaTop" r="textAreaRight" b="textAreaBottom"/>
                <a:pathLst>
                  <a:path w="90" h="181">
                    <a:moveTo>
                      <a:pt x="45" y="181"/>
                    </a:moveTo>
                    <a:cubicBezTo>
                      <a:pt x="30" y="181"/>
                      <a:pt x="0" y="120"/>
                      <a:pt x="0" y="90"/>
                    </a:cubicBezTo>
                    <a:cubicBezTo>
                      <a:pt x="0" y="60"/>
                      <a:pt x="30" y="0"/>
                      <a:pt x="45" y="0"/>
                    </a:cubicBezTo>
                    <a:cubicBezTo>
                      <a:pt x="60" y="0"/>
                      <a:pt x="90" y="60"/>
                      <a:pt x="90" y="90"/>
                    </a:cubicBezTo>
                    <a:cubicBezTo>
                      <a:pt x="90" y="120"/>
                      <a:pt x="60" y="181"/>
                      <a:pt x="45" y="181"/>
                    </a:cubicBezTo>
                    <a:close/>
                  </a:path>
                </a:pathLst>
              </a:custGeom>
              <a:noFill/>
              <a:ln w="64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Freeform 365"/>
              <p:cNvSpPr/>
              <p:nvPr/>
            </p:nvSpPr>
            <p:spPr>
              <a:xfrm flipV="1" rot="20640600">
                <a:off x="6986520" y="1797480"/>
                <a:ext cx="12960" cy="2700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-360 h 27000"/>
                  <a:gd name="textAreaBottom" fmla="*/ 27000 h 27000"/>
                </a:gdLst>
                <a:ahLst/>
                <a:rect l="textAreaLeft" t="textAreaTop" r="textAreaRight" b="textAreaBottom"/>
                <a:pathLst>
                  <a:path w="90" h="181">
                    <a:moveTo>
                      <a:pt x="45" y="181"/>
                    </a:moveTo>
                    <a:cubicBezTo>
                      <a:pt x="30" y="181"/>
                      <a:pt x="0" y="120"/>
                      <a:pt x="0" y="90"/>
                    </a:cubicBezTo>
                    <a:cubicBezTo>
                      <a:pt x="0" y="60"/>
                      <a:pt x="30" y="0"/>
                      <a:pt x="45" y="0"/>
                    </a:cubicBezTo>
                    <a:cubicBezTo>
                      <a:pt x="60" y="0"/>
                      <a:pt x="90" y="60"/>
                      <a:pt x="90" y="90"/>
                    </a:cubicBezTo>
                    <a:cubicBezTo>
                      <a:pt x="90" y="120"/>
                      <a:pt x="60" y="181"/>
                      <a:pt x="45" y="181"/>
                    </a:cubicBezTo>
                    <a:close/>
                  </a:path>
                </a:pathLst>
              </a:custGeom>
              <a:noFill/>
              <a:ln w="64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366"/>
              <p:cNvSpPr/>
              <p:nvPr/>
            </p:nvSpPr>
            <p:spPr>
              <a:xfrm flipH="1" flipV="1" rot="16437600">
                <a:off x="7008120" y="1783800"/>
                <a:ext cx="11520" cy="29520"/>
              </a:xfrm>
              <a:custGeom>
                <a:avLst/>
                <a:gdLst>
                  <a:gd name="textAreaLeft" fmla="*/ 360 w 11520"/>
                  <a:gd name="textAreaRight" fmla="*/ 12240 w 11520"/>
                  <a:gd name="textAreaTop" fmla="*/ 360 h 29520"/>
                  <a:gd name="textAreaBottom" fmla="*/ 30240 h 29520"/>
                </a:gdLst>
                <a:ahLst/>
                <a:rect l="textAreaLeft" t="textAreaTop" r="textAreaRight" b="textAreaBottom"/>
                <a:pathLst>
                  <a:path w="90" h="181">
                    <a:moveTo>
                      <a:pt x="45" y="181"/>
                    </a:moveTo>
                    <a:cubicBezTo>
                      <a:pt x="30" y="181"/>
                      <a:pt x="0" y="120"/>
                      <a:pt x="0" y="90"/>
                    </a:cubicBezTo>
                    <a:cubicBezTo>
                      <a:pt x="0" y="60"/>
                      <a:pt x="30" y="0"/>
                      <a:pt x="45" y="0"/>
                    </a:cubicBezTo>
                    <a:cubicBezTo>
                      <a:pt x="60" y="0"/>
                      <a:pt x="90" y="60"/>
                      <a:pt x="90" y="90"/>
                    </a:cubicBezTo>
                    <a:cubicBezTo>
                      <a:pt x="90" y="120"/>
                      <a:pt x="60" y="181"/>
                      <a:pt x="45" y="181"/>
                    </a:cubicBezTo>
                    <a:close/>
                  </a:path>
                </a:pathLst>
              </a:custGeom>
              <a:noFill/>
              <a:ln w="64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Freeform 367"/>
              <p:cNvSpPr/>
              <p:nvPr/>
            </p:nvSpPr>
            <p:spPr>
              <a:xfrm flipH="1" flipV="1" rot="17543400">
                <a:off x="7007760" y="1787040"/>
                <a:ext cx="11520" cy="29520"/>
              </a:xfrm>
              <a:custGeom>
                <a:avLst/>
                <a:gdLst>
                  <a:gd name="textAreaLeft" fmla="*/ 360 w 11520"/>
                  <a:gd name="textAreaRight" fmla="*/ 12240 w 11520"/>
                  <a:gd name="textAreaTop" fmla="*/ 360 h 29520"/>
                  <a:gd name="textAreaBottom" fmla="*/ 30240 h 29520"/>
                </a:gdLst>
                <a:ahLst/>
                <a:rect l="textAreaLeft" t="textAreaTop" r="textAreaRight" b="textAreaBottom"/>
                <a:pathLst>
                  <a:path w="90" h="181">
                    <a:moveTo>
                      <a:pt x="45" y="181"/>
                    </a:moveTo>
                    <a:cubicBezTo>
                      <a:pt x="30" y="181"/>
                      <a:pt x="0" y="120"/>
                      <a:pt x="0" y="90"/>
                    </a:cubicBezTo>
                    <a:cubicBezTo>
                      <a:pt x="0" y="60"/>
                      <a:pt x="30" y="0"/>
                      <a:pt x="45" y="0"/>
                    </a:cubicBezTo>
                    <a:cubicBezTo>
                      <a:pt x="60" y="0"/>
                      <a:pt x="90" y="60"/>
                      <a:pt x="90" y="90"/>
                    </a:cubicBezTo>
                    <a:cubicBezTo>
                      <a:pt x="90" y="120"/>
                      <a:pt x="60" y="181"/>
                      <a:pt x="45" y="181"/>
                    </a:cubicBezTo>
                    <a:close/>
                  </a:path>
                </a:pathLst>
              </a:custGeom>
              <a:noFill/>
              <a:ln w="64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Freeform 368"/>
              <p:cNvSpPr/>
              <p:nvPr/>
            </p:nvSpPr>
            <p:spPr>
              <a:xfrm flipH="1" flipV="1" rot="18799800">
                <a:off x="7004880" y="1791720"/>
                <a:ext cx="11520" cy="29520"/>
              </a:xfrm>
              <a:custGeom>
                <a:avLst/>
                <a:gdLst>
                  <a:gd name="textAreaLeft" fmla="*/ 360 w 11520"/>
                  <a:gd name="textAreaRight" fmla="*/ 12240 w 11520"/>
                  <a:gd name="textAreaTop" fmla="*/ 360 h 29520"/>
                  <a:gd name="textAreaBottom" fmla="*/ 30240 h 29520"/>
                </a:gdLst>
                <a:ahLst/>
                <a:rect l="textAreaLeft" t="textAreaTop" r="textAreaRight" b="textAreaBottom"/>
                <a:pathLst>
                  <a:path w="90" h="181">
                    <a:moveTo>
                      <a:pt x="45" y="181"/>
                    </a:moveTo>
                    <a:cubicBezTo>
                      <a:pt x="30" y="181"/>
                      <a:pt x="0" y="120"/>
                      <a:pt x="0" y="90"/>
                    </a:cubicBezTo>
                    <a:cubicBezTo>
                      <a:pt x="0" y="60"/>
                      <a:pt x="30" y="0"/>
                      <a:pt x="45" y="0"/>
                    </a:cubicBezTo>
                    <a:cubicBezTo>
                      <a:pt x="60" y="0"/>
                      <a:pt x="90" y="60"/>
                      <a:pt x="90" y="90"/>
                    </a:cubicBezTo>
                    <a:cubicBezTo>
                      <a:pt x="90" y="120"/>
                      <a:pt x="60" y="181"/>
                      <a:pt x="45" y="181"/>
                    </a:cubicBezTo>
                    <a:close/>
                  </a:path>
                </a:pathLst>
              </a:custGeom>
              <a:noFill/>
              <a:ln w="64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Freeform 369"/>
              <p:cNvSpPr/>
              <p:nvPr/>
            </p:nvSpPr>
            <p:spPr>
              <a:xfrm flipV="1" rot="21360000">
                <a:off x="6982200" y="1717560"/>
                <a:ext cx="10440" cy="1800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360 h 18000"/>
                  <a:gd name="textAreaBottom" fmla="*/ 18720 h 18000"/>
                </a:gdLst>
                <a:ahLst/>
                <a:rect l="textAreaLeft" t="textAreaTop" r="textAreaRight" b="textAreaBottom"/>
                <a:pathLst>
                  <a:path w="36" h="68">
                    <a:moveTo>
                      <a:pt x="9" y="0"/>
                    </a:moveTo>
                    <a:cubicBezTo>
                      <a:pt x="10" y="0"/>
                      <a:pt x="30" y="5"/>
                      <a:pt x="24" y="12"/>
                    </a:cubicBezTo>
                    <a:cubicBezTo>
                      <a:pt x="20" y="17"/>
                      <a:pt x="6" y="18"/>
                      <a:pt x="6" y="18"/>
                    </a:cubicBezTo>
                    <a:cubicBezTo>
                      <a:pt x="8" y="21"/>
                      <a:pt x="9" y="25"/>
                      <a:pt x="12" y="27"/>
                    </a:cubicBezTo>
                    <a:cubicBezTo>
                      <a:pt x="22" y="35"/>
                      <a:pt x="32" y="35"/>
                      <a:pt x="6" y="42"/>
                    </a:cubicBezTo>
                    <a:cubicBezTo>
                      <a:pt x="36" y="52"/>
                      <a:pt x="23" y="55"/>
                      <a:pt x="0" y="60"/>
                    </a:cubicBezTo>
                    <a:cubicBezTo>
                      <a:pt x="13" y="68"/>
                      <a:pt x="8" y="63"/>
                      <a:pt x="21" y="63"/>
                    </a:cubicBezTo>
                  </a:path>
                </a:pathLst>
              </a:custGeom>
              <a:noFill/>
              <a:ln w="9360">
                <a:solidFill>
                  <a:srgbClr val="66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Freeform 370"/>
              <p:cNvSpPr/>
              <p:nvPr/>
            </p:nvSpPr>
            <p:spPr>
              <a:xfrm flipV="1" rot="21360000">
                <a:off x="6988680" y="1715760"/>
                <a:ext cx="10440" cy="1836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-360 h 18360"/>
                  <a:gd name="textAreaBottom" fmla="*/ 18360 h 18360"/>
                </a:gdLst>
                <a:ahLst/>
                <a:rect l="textAreaLeft" t="textAreaTop" r="textAreaRight" b="textAreaBottom"/>
                <a:pathLst>
                  <a:path w="36" h="68">
                    <a:moveTo>
                      <a:pt x="9" y="0"/>
                    </a:moveTo>
                    <a:cubicBezTo>
                      <a:pt x="10" y="0"/>
                      <a:pt x="30" y="5"/>
                      <a:pt x="24" y="12"/>
                    </a:cubicBezTo>
                    <a:cubicBezTo>
                      <a:pt x="20" y="17"/>
                      <a:pt x="6" y="18"/>
                      <a:pt x="6" y="18"/>
                    </a:cubicBezTo>
                    <a:cubicBezTo>
                      <a:pt x="8" y="21"/>
                      <a:pt x="9" y="25"/>
                      <a:pt x="12" y="27"/>
                    </a:cubicBezTo>
                    <a:cubicBezTo>
                      <a:pt x="22" y="35"/>
                      <a:pt x="32" y="35"/>
                      <a:pt x="6" y="42"/>
                    </a:cubicBezTo>
                    <a:cubicBezTo>
                      <a:pt x="36" y="52"/>
                      <a:pt x="23" y="55"/>
                      <a:pt x="0" y="60"/>
                    </a:cubicBezTo>
                    <a:cubicBezTo>
                      <a:pt x="13" y="68"/>
                      <a:pt x="8" y="63"/>
                      <a:pt x="21" y="63"/>
                    </a:cubicBezTo>
                  </a:path>
                </a:pathLst>
              </a:custGeom>
              <a:noFill/>
              <a:ln w="9360">
                <a:solidFill>
                  <a:srgbClr val="66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Oval 371"/>
              <p:cNvSpPr/>
              <p:nvPr/>
            </p:nvSpPr>
            <p:spPr>
              <a:xfrm flipV="1" rot="21360000">
                <a:off x="6981840" y="1704600"/>
                <a:ext cx="6120" cy="12240"/>
              </a:xfrm>
              <a:prstGeom prst="ellipse">
                <a:avLst/>
              </a:prstGeom>
              <a:solidFill>
                <a:srgbClr val="663366"/>
              </a:solidFill>
              <a:ln w="9360">
                <a:solidFill>
                  <a:srgbClr val="66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Oval 372"/>
              <p:cNvSpPr/>
              <p:nvPr/>
            </p:nvSpPr>
            <p:spPr>
              <a:xfrm flipV="1" rot="21360000">
                <a:off x="6987960" y="1703880"/>
                <a:ext cx="6840" cy="12240"/>
              </a:xfrm>
              <a:prstGeom prst="ellipse">
                <a:avLst/>
              </a:prstGeom>
              <a:solidFill>
                <a:srgbClr val="663366"/>
              </a:solidFill>
              <a:ln w="9360">
                <a:solidFill>
                  <a:srgbClr val="66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Freeform 373"/>
              <p:cNvSpPr/>
              <p:nvPr/>
            </p:nvSpPr>
            <p:spPr>
              <a:xfrm flipV="1" rot="1402800">
                <a:off x="6977880" y="1796760"/>
                <a:ext cx="12960" cy="2700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-360 h 27000"/>
                  <a:gd name="textAreaBottom" fmla="*/ 27000 h 27000"/>
                </a:gdLst>
                <a:ahLst/>
                <a:rect l="textAreaLeft" t="textAreaTop" r="textAreaRight" b="textAreaBottom"/>
                <a:pathLst>
                  <a:path w="90" h="181">
                    <a:moveTo>
                      <a:pt x="45" y="181"/>
                    </a:moveTo>
                    <a:cubicBezTo>
                      <a:pt x="30" y="181"/>
                      <a:pt x="0" y="120"/>
                      <a:pt x="0" y="90"/>
                    </a:cubicBezTo>
                    <a:cubicBezTo>
                      <a:pt x="0" y="60"/>
                      <a:pt x="30" y="0"/>
                      <a:pt x="45" y="0"/>
                    </a:cubicBezTo>
                    <a:cubicBezTo>
                      <a:pt x="60" y="0"/>
                      <a:pt x="90" y="60"/>
                      <a:pt x="90" y="90"/>
                    </a:cubicBezTo>
                    <a:cubicBezTo>
                      <a:pt x="90" y="120"/>
                      <a:pt x="60" y="181"/>
                      <a:pt x="45" y="181"/>
                    </a:cubicBezTo>
                    <a:close/>
                  </a:path>
                </a:pathLst>
              </a:custGeom>
              <a:noFill/>
              <a:ln w="64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Oval 374"/>
              <p:cNvSpPr/>
              <p:nvPr/>
            </p:nvSpPr>
            <p:spPr>
              <a:xfrm rot="720000">
                <a:off x="6961320" y="1760040"/>
                <a:ext cx="19800" cy="18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3" name="Group 375"/>
              <p:cNvGrpSpPr/>
              <p:nvPr/>
            </p:nvGrpSpPr>
            <p:grpSpPr>
              <a:xfrm>
                <a:off x="6788520" y="1412280"/>
                <a:ext cx="398520" cy="341280"/>
                <a:chOff x="6788520" y="1412280"/>
                <a:chExt cx="398520" cy="341280"/>
              </a:xfrm>
            </p:grpSpPr>
            <p:sp>
              <p:nvSpPr>
                <p:cNvPr id="1134" name="Oval 376"/>
                <p:cNvSpPr/>
                <p:nvPr/>
              </p:nvSpPr>
              <p:spPr>
                <a:xfrm>
                  <a:off x="6868800" y="1497600"/>
                  <a:ext cx="254160" cy="236880"/>
                </a:xfrm>
                <a:prstGeom prst="ellipse">
                  <a:avLst/>
                </a:prstGeom>
                <a:solidFill>
                  <a:srgbClr val="666699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Oval 377"/>
                <p:cNvSpPr/>
                <p:nvPr/>
              </p:nvSpPr>
              <p:spPr>
                <a:xfrm>
                  <a:off x="6890040" y="1517400"/>
                  <a:ext cx="212040" cy="197280"/>
                </a:xfrm>
                <a:prstGeom prst="ellipse">
                  <a:avLst/>
                </a:prstGeom>
                <a:solidFill>
                  <a:srgbClr val="66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6" name="Oval 378"/>
                <p:cNvSpPr/>
                <p:nvPr/>
              </p:nvSpPr>
              <p:spPr>
                <a:xfrm>
                  <a:off x="6968520" y="1435680"/>
                  <a:ext cx="53280" cy="6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424267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7" name="AutoShape 379"/>
                <p:cNvSpPr/>
                <p:nvPr/>
              </p:nvSpPr>
              <p:spPr>
                <a:xfrm flipH="1">
                  <a:off x="6958800" y="1456200"/>
                  <a:ext cx="24480" cy="21600"/>
                </a:xfrm>
                <a:custGeom>
                  <a:avLst/>
                  <a:gdLst>
                    <a:gd name="textAreaLeft" fmla="*/ 15120 w 24480"/>
                    <a:gd name="textAreaRight" fmla="*/ 15840 w 24480"/>
                    <a:gd name="textAreaTop" fmla="*/ 720 h 21600"/>
                    <a:gd name="textAreaBottom" fmla="*/ 20880 h 21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7719" y="2482"/>
                        <a:pt x="13837" y="5080"/>
                        <a:pt x="13837" y="10800"/>
                      </a:cubicBezTo>
                      <a:cubicBezTo>
                        <a:pt x="13837" y="16520"/>
                        <a:pt x="17719" y="1911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AutoShape 380"/>
                <p:cNvSpPr/>
                <p:nvPr/>
              </p:nvSpPr>
              <p:spPr>
                <a:xfrm>
                  <a:off x="7007040" y="1456200"/>
                  <a:ext cx="24480" cy="21600"/>
                </a:xfrm>
                <a:custGeom>
                  <a:avLst/>
                  <a:gdLst>
                    <a:gd name="textAreaLeft" fmla="*/ 15120 w 24480"/>
                    <a:gd name="textAreaRight" fmla="*/ 15840 w 24480"/>
                    <a:gd name="textAreaTop" fmla="*/ 720 h 21600"/>
                    <a:gd name="textAreaBottom" fmla="*/ 20880 h 21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7719" y="2482"/>
                        <a:pt x="13837" y="5080"/>
                        <a:pt x="13837" y="10800"/>
                      </a:cubicBezTo>
                      <a:cubicBezTo>
                        <a:pt x="13837" y="16520"/>
                        <a:pt x="17719" y="1911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9" name="Freeform 381"/>
                <p:cNvSpPr/>
                <p:nvPr/>
              </p:nvSpPr>
              <p:spPr>
                <a:xfrm rot="16677600">
                  <a:off x="6967080" y="1418400"/>
                  <a:ext cx="12240" cy="29520"/>
                </a:xfrm>
                <a:custGeom>
                  <a:avLst/>
                  <a:gdLst>
                    <a:gd name="textAreaLeft" fmla="*/ 0 w 12240"/>
                    <a:gd name="textAreaRight" fmla="*/ 12600 w 12240"/>
                    <a:gd name="textAreaTop" fmla="*/ 0 h 29520"/>
                    <a:gd name="textAreaBottom" fmla="*/ 29880 h 2952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0" name="Freeform 382"/>
                <p:cNvSpPr/>
                <p:nvPr/>
              </p:nvSpPr>
              <p:spPr>
                <a:xfrm rot="17784000">
                  <a:off x="6968520" y="1415160"/>
                  <a:ext cx="11520" cy="2952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0 h 29520"/>
                    <a:gd name="textAreaBottom" fmla="*/ 29880 h 2952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1" name="Freeform 383"/>
                <p:cNvSpPr/>
                <p:nvPr/>
              </p:nvSpPr>
              <p:spPr>
                <a:xfrm rot="19039800">
                  <a:off x="6971400" y="1413000"/>
                  <a:ext cx="12600" cy="27360"/>
                </a:xfrm>
                <a:custGeom>
                  <a:avLst/>
                  <a:gdLst>
                    <a:gd name="textAreaLeft" fmla="*/ 0 w 12600"/>
                    <a:gd name="textAreaRight" fmla="*/ 12960 w 12600"/>
                    <a:gd name="textAreaTop" fmla="*/ 0 h 27360"/>
                    <a:gd name="textAreaBottom" fmla="*/ 27720 h 2736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2" name="Freeform 384"/>
                <p:cNvSpPr/>
                <p:nvPr/>
              </p:nvSpPr>
              <p:spPr>
                <a:xfrm flipH="1" rot="4922400">
                  <a:off x="7007400" y="1418760"/>
                  <a:ext cx="12240" cy="29160"/>
                </a:xfrm>
                <a:custGeom>
                  <a:avLst/>
                  <a:gdLst>
                    <a:gd name="textAreaLeft" fmla="*/ 360 w 12240"/>
                    <a:gd name="textAreaRight" fmla="*/ 12960 w 1224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3" name="Freeform 385"/>
                <p:cNvSpPr/>
                <p:nvPr/>
              </p:nvSpPr>
              <p:spPr>
                <a:xfrm flipH="1" rot="3816000">
                  <a:off x="7007040" y="1415520"/>
                  <a:ext cx="11520" cy="28800"/>
                </a:xfrm>
                <a:custGeom>
                  <a:avLst/>
                  <a:gdLst>
                    <a:gd name="textAreaLeft" fmla="*/ 360 w 11520"/>
                    <a:gd name="textAreaRight" fmla="*/ 12240 w 1152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Freeform 386"/>
                <p:cNvSpPr/>
                <p:nvPr/>
              </p:nvSpPr>
              <p:spPr>
                <a:xfrm flipH="1" rot="2560200">
                  <a:off x="7003080" y="1413000"/>
                  <a:ext cx="12600" cy="27360"/>
                </a:xfrm>
                <a:custGeom>
                  <a:avLst/>
                  <a:gdLst>
                    <a:gd name="textAreaLeft" fmla="*/ -360 w 12600"/>
                    <a:gd name="textAreaRight" fmla="*/ 12600 w 12600"/>
                    <a:gd name="textAreaTop" fmla="*/ 0 h 27360"/>
                    <a:gd name="textAreaBottom" fmla="*/ 27720 h 2736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5" name="Freeform 387"/>
                <p:cNvSpPr/>
                <p:nvPr/>
              </p:nvSpPr>
              <p:spPr>
                <a:xfrm>
                  <a:off x="6988320" y="1499040"/>
                  <a:ext cx="10080" cy="1872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18720"/>
                    <a:gd name="textAreaBottom" fmla="*/ 19080 h 18720"/>
                  </a:gdLst>
                  <a:ahLst/>
                  <a:rect l="textAreaLeft" t="textAreaTop" r="textAreaRight" b="textAreaBottom"/>
                  <a:pathLst>
                    <a:path w="36" h="68">
                      <a:moveTo>
                        <a:pt x="9" y="0"/>
                      </a:moveTo>
                      <a:cubicBezTo>
                        <a:pt x="10" y="0"/>
                        <a:pt x="30" y="5"/>
                        <a:pt x="24" y="12"/>
                      </a:cubicBezTo>
                      <a:cubicBezTo>
                        <a:pt x="20" y="17"/>
                        <a:pt x="6" y="18"/>
                        <a:pt x="6" y="18"/>
                      </a:cubicBezTo>
                      <a:cubicBezTo>
                        <a:pt x="8" y="21"/>
                        <a:pt x="9" y="25"/>
                        <a:pt x="12" y="27"/>
                      </a:cubicBezTo>
                      <a:cubicBezTo>
                        <a:pt x="22" y="35"/>
                        <a:pt x="32" y="35"/>
                        <a:pt x="6" y="42"/>
                      </a:cubicBezTo>
                      <a:cubicBezTo>
                        <a:pt x="36" y="52"/>
                        <a:pt x="23" y="55"/>
                        <a:pt x="0" y="60"/>
                      </a:cubicBezTo>
                      <a:cubicBezTo>
                        <a:pt x="13" y="68"/>
                        <a:pt x="8" y="63"/>
                        <a:pt x="21" y="63"/>
                      </a:cubicBezTo>
                    </a:path>
                  </a:pathLst>
                </a:custGeom>
                <a:solidFill>
                  <a:srgbClr val="663366"/>
                </a:solidFill>
                <a:ln w="9360">
                  <a:solidFill>
                    <a:srgbClr val="66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6" name="Freeform 388"/>
                <p:cNvSpPr/>
                <p:nvPr/>
              </p:nvSpPr>
              <p:spPr>
                <a:xfrm>
                  <a:off x="6994800" y="1499760"/>
                  <a:ext cx="10080" cy="1800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18000"/>
                    <a:gd name="textAreaBottom" fmla="*/ 18360 h 18000"/>
                  </a:gdLst>
                  <a:ahLst/>
                  <a:rect l="textAreaLeft" t="textAreaTop" r="textAreaRight" b="textAreaBottom"/>
                  <a:pathLst>
                    <a:path w="36" h="68">
                      <a:moveTo>
                        <a:pt x="9" y="0"/>
                      </a:moveTo>
                      <a:cubicBezTo>
                        <a:pt x="10" y="0"/>
                        <a:pt x="30" y="5"/>
                        <a:pt x="24" y="12"/>
                      </a:cubicBezTo>
                      <a:cubicBezTo>
                        <a:pt x="20" y="17"/>
                        <a:pt x="6" y="18"/>
                        <a:pt x="6" y="18"/>
                      </a:cubicBezTo>
                      <a:cubicBezTo>
                        <a:pt x="8" y="21"/>
                        <a:pt x="9" y="25"/>
                        <a:pt x="12" y="27"/>
                      </a:cubicBezTo>
                      <a:cubicBezTo>
                        <a:pt x="22" y="35"/>
                        <a:pt x="32" y="35"/>
                        <a:pt x="6" y="42"/>
                      </a:cubicBezTo>
                      <a:cubicBezTo>
                        <a:pt x="36" y="52"/>
                        <a:pt x="23" y="55"/>
                        <a:pt x="0" y="60"/>
                      </a:cubicBezTo>
                      <a:cubicBezTo>
                        <a:pt x="13" y="68"/>
                        <a:pt x="8" y="63"/>
                        <a:pt x="21" y="63"/>
                      </a:cubicBezTo>
                    </a:path>
                  </a:pathLst>
                </a:custGeom>
                <a:solidFill>
                  <a:srgbClr val="663366"/>
                </a:solidFill>
                <a:ln w="9360">
                  <a:solidFill>
                    <a:srgbClr val="66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Oval 389"/>
                <p:cNvSpPr/>
                <p:nvPr/>
              </p:nvSpPr>
              <p:spPr>
                <a:xfrm>
                  <a:off x="6989040" y="1517760"/>
                  <a:ext cx="6120" cy="12240"/>
                </a:xfrm>
                <a:prstGeom prst="ellipse">
                  <a:avLst/>
                </a:prstGeom>
                <a:solidFill>
                  <a:srgbClr val="663366"/>
                </a:solidFill>
                <a:ln w="9360">
                  <a:solidFill>
                    <a:srgbClr val="66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8" name="Oval 390"/>
                <p:cNvSpPr/>
                <p:nvPr/>
              </p:nvSpPr>
              <p:spPr>
                <a:xfrm>
                  <a:off x="6995160" y="1518120"/>
                  <a:ext cx="6480" cy="12240"/>
                </a:xfrm>
                <a:prstGeom prst="ellipse">
                  <a:avLst/>
                </a:prstGeom>
                <a:solidFill>
                  <a:srgbClr val="663366"/>
                </a:solidFill>
                <a:ln w="9360">
                  <a:solidFill>
                    <a:srgbClr val="66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9" name="Oval 391"/>
                <p:cNvSpPr/>
                <p:nvPr/>
              </p:nvSpPr>
              <p:spPr>
                <a:xfrm rot="3348000">
                  <a:off x="7103160" y="1499760"/>
                  <a:ext cx="49320" cy="6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424267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 anchorCtr="1" vert="eaVert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0" name="AutoShape 392"/>
                <p:cNvSpPr/>
                <p:nvPr/>
              </p:nvSpPr>
              <p:spPr>
                <a:xfrm flipH="1" rot="3348000">
                  <a:off x="7101000" y="1503000"/>
                  <a:ext cx="23400" cy="22680"/>
                </a:xfrm>
                <a:custGeom>
                  <a:avLst/>
                  <a:gdLst>
                    <a:gd name="textAreaLeft" fmla="*/ 14040 w 23400"/>
                    <a:gd name="textAreaRight" fmla="*/ 14760 w 23400"/>
                    <a:gd name="textAreaTop" fmla="*/ 720 h 22680"/>
                    <a:gd name="textAreaBottom" fmla="*/ 21960 h 22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7719" y="2482"/>
                        <a:pt x="13837" y="5080"/>
                        <a:pt x="13837" y="10800"/>
                      </a:cubicBezTo>
                      <a:cubicBezTo>
                        <a:pt x="13837" y="16520"/>
                        <a:pt x="17719" y="1911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 anchorCtr="1" vert="eaVert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AutoShape 393"/>
                <p:cNvSpPr/>
                <p:nvPr/>
              </p:nvSpPr>
              <p:spPr>
                <a:xfrm rot="3348000">
                  <a:off x="7129080" y="1540440"/>
                  <a:ext cx="23040" cy="23040"/>
                </a:xfrm>
                <a:custGeom>
                  <a:avLst/>
                  <a:gdLst>
                    <a:gd name="textAreaLeft" fmla="*/ 14040 w 23040"/>
                    <a:gd name="textAreaRight" fmla="*/ 14760 w 23040"/>
                    <a:gd name="textAreaTop" fmla="*/ 720 h 23040"/>
                    <a:gd name="textAreaBottom" fmla="*/ 22320 h 23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7719" y="2482"/>
                        <a:pt x="13837" y="5080"/>
                        <a:pt x="13837" y="10800"/>
                      </a:cubicBezTo>
                      <a:cubicBezTo>
                        <a:pt x="13837" y="16520"/>
                        <a:pt x="17719" y="1911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 anchorCtr="1" vert="eaVert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2" name="Freeform 394"/>
                <p:cNvSpPr/>
                <p:nvPr/>
              </p:nvSpPr>
              <p:spPr>
                <a:xfrm rot="20025600">
                  <a:off x="7138080" y="1483920"/>
                  <a:ext cx="12960" cy="2736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0 h 27360"/>
                    <a:gd name="textAreaBottom" fmla="*/ 27720 h 2736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3" name="Freeform 395"/>
                <p:cNvSpPr/>
                <p:nvPr/>
              </p:nvSpPr>
              <p:spPr>
                <a:xfrm rot="21131400">
                  <a:off x="7142040" y="1482840"/>
                  <a:ext cx="12600" cy="27360"/>
                </a:xfrm>
                <a:custGeom>
                  <a:avLst/>
                  <a:gdLst>
                    <a:gd name="textAreaLeft" fmla="*/ 0 w 12600"/>
                    <a:gd name="textAreaRight" fmla="*/ 12960 w 12600"/>
                    <a:gd name="textAreaTop" fmla="*/ 0 h 27360"/>
                    <a:gd name="textAreaBottom" fmla="*/ 27720 h 2736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Freeform 396"/>
                <p:cNvSpPr/>
                <p:nvPr/>
              </p:nvSpPr>
              <p:spPr>
                <a:xfrm rot="787800">
                  <a:off x="7146720" y="1483560"/>
                  <a:ext cx="12960" cy="2664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0 h 26640"/>
                    <a:gd name="textAreaBottom" fmla="*/ 27000 h 2664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5" name="Freeform 397"/>
                <p:cNvSpPr/>
                <p:nvPr/>
              </p:nvSpPr>
              <p:spPr>
                <a:xfrm flipH="1" rot="8269800">
                  <a:off x="7161480" y="1514880"/>
                  <a:ext cx="12960" cy="27360"/>
                </a:xfrm>
                <a:custGeom>
                  <a:avLst/>
                  <a:gdLst>
                    <a:gd name="textAreaLeft" fmla="*/ 360 w 12960"/>
                    <a:gd name="textAreaRight" fmla="*/ 13680 w 12960"/>
                    <a:gd name="textAreaTop" fmla="*/ 0 h 27360"/>
                    <a:gd name="textAreaBottom" fmla="*/ 27720 h 2736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Freeform 398"/>
                <p:cNvSpPr/>
                <p:nvPr/>
              </p:nvSpPr>
              <p:spPr>
                <a:xfrm flipH="1" rot="7163400">
                  <a:off x="7164720" y="1511640"/>
                  <a:ext cx="11160" cy="29160"/>
                </a:xfrm>
                <a:custGeom>
                  <a:avLst/>
                  <a:gdLst>
                    <a:gd name="textAreaLeft" fmla="*/ -360 w 11160"/>
                    <a:gd name="textAreaRight" fmla="*/ 11160 w 1116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Freeform 399"/>
                <p:cNvSpPr/>
                <p:nvPr/>
              </p:nvSpPr>
              <p:spPr>
                <a:xfrm flipH="1" rot="5907600">
                  <a:off x="7165440" y="1506960"/>
                  <a:ext cx="11880" cy="29160"/>
                </a:xfrm>
                <a:custGeom>
                  <a:avLst/>
                  <a:gdLst>
                    <a:gd name="textAreaLeft" fmla="*/ -360 w 11880"/>
                    <a:gd name="textAreaRight" fmla="*/ 11880 w 1188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8" name="Freeform 400"/>
                <p:cNvSpPr/>
                <p:nvPr/>
              </p:nvSpPr>
              <p:spPr>
                <a:xfrm rot="3348000">
                  <a:off x="7085520" y="1545120"/>
                  <a:ext cx="9720" cy="19440"/>
                </a:xfrm>
                <a:custGeom>
                  <a:avLst/>
                  <a:gdLst>
                    <a:gd name="textAreaLeft" fmla="*/ 0 w 9720"/>
                    <a:gd name="textAreaRight" fmla="*/ 10080 w 9720"/>
                    <a:gd name="textAreaTop" fmla="*/ 0 h 19440"/>
                    <a:gd name="textAreaBottom" fmla="*/ 19800 h 19440"/>
                  </a:gdLst>
                  <a:ahLst/>
                  <a:rect l="textAreaLeft" t="textAreaTop" r="textAreaRight" b="textAreaBottom"/>
                  <a:pathLst>
                    <a:path w="36" h="68">
                      <a:moveTo>
                        <a:pt x="9" y="0"/>
                      </a:moveTo>
                      <a:cubicBezTo>
                        <a:pt x="10" y="0"/>
                        <a:pt x="30" y="5"/>
                        <a:pt x="24" y="12"/>
                      </a:cubicBezTo>
                      <a:cubicBezTo>
                        <a:pt x="20" y="17"/>
                        <a:pt x="6" y="18"/>
                        <a:pt x="6" y="18"/>
                      </a:cubicBezTo>
                      <a:cubicBezTo>
                        <a:pt x="8" y="21"/>
                        <a:pt x="9" y="25"/>
                        <a:pt x="12" y="27"/>
                      </a:cubicBezTo>
                      <a:cubicBezTo>
                        <a:pt x="22" y="35"/>
                        <a:pt x="32" y="35"/>
                        <a:pt x="6" y="42"/>
                      </a:cubicBezTo>
                      <a:cubicBezTo>
                        <a:pt x="36" y="52"/>
                        <a:pt x="23" y="55"/>
                        <a:pt x="0" y="60"/>
                      </a:cubicBezTo>
                      <a:cubicBezTo>
                        <a:pt x="13" y="68"/>
                        <a:pt x="8" y="63"/>
                        <a:pt x="21" y="63"/>
                      </a:cubicBezTo>
                    </a:path>
                  </a:pathLst>
                </a:custGeom>
                <a:solidFill>
                  <a:srgbClr val="663366"/>
                </a:solidFill>
                <a:ln w="9360">
                  <a:solidFill>
                    <a:srgbClr val="66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9" name="Freeform 401"/>
                <p:cNvSpPr/>
                <p:nvPr/>
              </p:nvSpPr>
              <p:spPr>
                <a:xfrm rot="3348000">
                  <a:off x="7088760" y="1550160"/>
                  <a:ext cx="9360" cy="19440"/>
                </a:xfrm>
                <a:custGeom>
                  <a:avLst/>
                  <a:gdLst>
                    <a:gd name="textAreaLeft" fmla="*/ 0 w 9360"/>
                    <a:gd name="textAreaRight" fmla="*/ 9720 w 9360"/>
                    <a:gd name="textAreaTop" fmla="*/ 0 h 19440"/>
                    <a:gd name="textAreaBottom" fmla="*/ 19800 h 19440"/>
                  </a:gdLst>
                  <a:ahLst/>
                  <a:rect l="textAreaLeft" t="textAreaTop" r="textAreaRight" b="textAreaBottom"/>
                  <a:pathLst>
                    <a:path w="36" h="68">
                      <a:moveTo>
                        <a:pt x="9" y="0"/>
                      </a:moveTo>
                      <a:cubicBezTo>
                        <a:pt x="10" y="0"/>
                        <a:pt x="30" y="5"/>
                        <a:pt x="24" y="12"/>
                      </a:cubicBezTo>
                      <a:cubicBezTo>
                        <a:pt x="20" y="17"/>
                        <a:pt x="6" y="18"/>
                        <a:pt x="6" y="18"/>
                      </a:cubicBezTo>
                      <a:cubicBezTo>
                        <a:pt x="8" y="21"/>
                        <a:pt x="9" y="25"/>
                        <a:pt x="12" y="27"/>
                      </a:cubicBezTo>
                      <a:cubicBezTo>
                        <a:pt x="22" y="35"/>
                        <a:pt x="32" y="35"/>
                        <a:pt x="6" y="42"/>
                      </a:cubicBezTo>
                      <a:cubicBezTo>
                        <a:pt x="36" y="52"/>
                        <a:pt x="23" y="55"/>
                        <a:pt x="0" y="60"/>
                      </a:cubicBezTo>
                      <a:cubicBezTo>
                        <a:pt x="13" y="68"/>
                        <a:pt x="8" y="63"/>
                        <a:pt x="21" y="63"/>
                      </a:cubicBezTo>
                    </a:path>
                  </a:pathLst>
                </a:custGeom>
                <a:solidFill>
                  <a:srgbClr val="663366"/>
                </a:solidFill>
                <a:ln w="9360">
                  <a:solidFill>
                    <a:srgbClr val="66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0" name="Oval 402"/>
                <p:cNvSpPr/>
                <p:nvPr/>
              </p:nvSpPr>
              <p:spPr>
                <a:xfrm rot="3348000">
                  <a:off x="7072560" y="1555560"/>
                  <a:ext cx="6120" cy="13320"/>
                </a:xfrm>
                <a:prstGeom prst="ellipse">
                  <a:avLst/>
                </a:prstGeom>
                <a:solidFill>
                  <a:srgbClr val="663366"/>
                </a:solidFill>
                <a:ln w="9360">
                  <a:solidFill>
                    <a:srgbClr val="66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 anchorCtr="1" vert="eaVert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1" name="Oval 403"/>
                <p:cNvSpPr/>
                <p:nvPr/>
              </p:nvSpPr>
              <p:spPr>
                <a:xfrm rot="3348000">
                  <a:off x="7075800" y="1560960"/>
                  <a:ext cx="6120" cy="13320"/>
                </a:xfrm>
                <a:prstGeom prst="ellipse">
                  <a:avLst/>
                </a:prstGeom>
                <a:solidFill>
                  <a:srgbClr val="663366"/>
                </a:solidFill>
                <a:ln w="9360">
                  <a:solidFill>
                    <a:srgbClr val="66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 anchorCtr="1" vert="eaVert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2" name="Oval 404"/>
                <p:cNvSpPr/>
                <p:nvPr/>
              </p:nvSpPr>
              <p:spPr>
                <a:xfrm flipH="1" rot="18252000">
                  <a:off x="6836760" y="1494720"/>
                  <a:ext cx="49680" cy="66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424267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3" name="AutoShape 405"/>
                <p:cNvSpPr/>
                <p:nvPr/>
              </p:nvSpPr>
              <p:spPr>
                <a:xfrm rot="18252000">
                  <a:off x="6864120" y="1497960"/>
                  <a:ext cx="23040" cy="23040"/>
                </a:xfrm>
                <a:custGeom>
                  <a:avLst/>
                  <a:gdLst>
                    <a:gd name="textAreaLeft" fmla="*/ 14040 w 23040"/>
                    <a:gd name="textAreaRight" fmla="*/ 14760 w 23040"/>
                    <a:gd name="textAreaTop" fmla="*/ 720 h 23040"/>
                    <a:gd name="textAreaBottom" fmla="*/ 22320 h 23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7719" y="2482"/>
                        <a:pt x="13837" y="5080"/>
                        <a:pt x="13837" y="10800"/>
                      </a:cubicBezTo>
                      <a:cubicBezTo>
                        <a:pt x="13837" y="16520"/>
                        <a:pt x="17719" y="1911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AutoShape 406"/>
                <p:cNvSpPr/>
                <p:nvPr/>
              </p:nvSpPr>
              <p:spPr>
                <a:xfrm flipH="1" rot="18252000">
                  <a:off x="6836040" y="1535760"/>
                  <a:ext cx="23040" cy="23040"/>
                </a:xfrm>
                <a:custGeom>
                  <a:avLst/>
                  <a:gdLst>
                    <a:gd name="textAreaLeft" fmla="*/ 14040 w 23040"/>
                    <a:gd name="textAreaRight" fmla="*/ 14760 w 23040"/>
                    <a:gd name="textAreaTop" fmla="*/ 720 h 23040"/>
                    <a:gd name="textAreaBottom" fmla="*/ 22320 h 23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7719" y="2482"/>
                        <a:pt x="13837" y="5080"/>
                        <a:pt x="13837" y="10800"/>
                      </a:cubicBezTo>
                      <a:cubicBezTo>
                        <a:pt x="13837" y="16520"/>
                        <a:pt x="17719" y="1911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5" name="Freeform 407"/>
                <p:cNvSpPr/>
                <p:nvPr/>
              </p:nvSpPr>
              <p:spPr>
                <a:xfrm flipH="1" rot="1574400">
                  <a:off x="6837840" y="1478160"/>
                  <a:ext cx="12240" cy="27360"/>
                </a:xfrm>
                <a:custGeom>
                  <a:avLst/>
                  <a:gdLst>
                    <a:gd name="textAreaLeft" fmla="*/ 360 w 12240"/>
                    <a:gd name="textAreaRight" fmla="*/ 12960 w 12240"/>
                    <a:gd name="textAreaTop" fmla="*/ 0 h 27360"/>
                    <a:gd name="textAreaBottom" fmla="*/ 27720 h 2736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6" name="Freeform 408"/>
                <p:cNvSpPr/>
                <p:nvPr/>
              </p:nvSpPr>
              <p:spPr>
                <a:xfrm flipH="1" rot="468600">
                  <a:off x="6834240" y="1478160"/>
                  <a:ext cx="12600" cy="27360"/>
                </a:xfrm>
                <a:custGeom>
                  <a:avLst/>
                  <a:gdLst>
                    <a:gd name="textAreaLeft" fmla="*/ -360 w 12600"/>
                    <a:gd name="textAreaRight" fmla="*/ 12600 w 12600"/>
                    <a:gd name="textAreaTop" fmla="*/ 0 h 27360"/>
                    <a:gd name="textAreaBottom" fmla="*/ 27720 h 2736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7" name="Freeform 409"/>
                <p:cNvSpPr/>
                <p:nvPr/>
              </p:nvSpPr>
              <p:spPr>
                <a:xfrm flipH="1" rot="20812200">
                  <a:off x="6829560" y="1478520"/>
                  <a:ext cx="12960" cy="26640"/>
                </a:xfrm>
                <a:custGeom>
                  <a:avLst/>
                  <a:gdLst>
                    <a:gd name="textAreaLeft" fmla="*/ 360 w 12960"/>
                    <a:gd name="textAreaRight" fmla="*/ 13680 w 12960"/>
                    <a:gd name="textAreaTop" fmla="*/ 0 h 26640"/>
                    <a:gd name="textAreaBottom" fmla="*/ 27000 h 2664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8" name="Freeform 410"/>
                <p:cNvSpPr/>
                <p:nvPr/>
              </p:nvSpPr>
              <p:spPr>
                <a:xfrm rot="13330200">
                  <a:off x="6814800" y="1510200"/>
                  <a:ext cx="12960" cy="2700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9" name="Freeform 411"/>
                <p:cNvSpPr/>
                <p:nvPr/>
              </p:nvSpPr>
              <p:spPr>
                <a:xfrm rot="14436600">
                  <a:off x="6813360" y="1506240"/>
                  <a:ext cx="11160" cy="29520"/>
                </a:xfrm>
                <a:custGeom>
                  <a:avLst/>
                  <a:gdLst>
                    <a:gd name="textAreaLeft" fmla="*/ 0 w 11160"/>
                    <a:gd name="textAreaRight" fmla="*/ 11520 w 11160"/>
                    <a:gd name="textAreaTop" fmla="*/ 0 h 29520"/>
                    <a:gd name="textAreaBottom" fmla="*/ 29880 h 2952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0" name="Freeform 412"/>
                <p:cNvSpPr/>
                <p:nvPr/>
              </p:nvSpPr>
              <p:spPr>
                <a:xfrm rot="15692400">
                  <a:off x="6811560" y="1502280"/>
                  <a:ext cx="11880" cy="2880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1" name="Freeform 413"/>
                <p:cNvSpPr/>
                <p:nvPr/>
              </p:nvSpPr>
              <p:spPr>
                <a:xfrm flipH="1" rot="18252000">
                  <a:off x="6894720" y="1540080"/>
                  <a:ext cx="9720" cy="19440"/>
                </a:xfrm>
                <a:custGeom>
                  <a:avLst/>
                  <a:gdLst>
                    <a:gd name="textAreaLeft" fmla="*/ -360 w 9720"/>
                    <a:gd name="textAreaRight" fmla="*/ 9720 w 9720"/>
                    <a:gd name="textAreaTop" fmla="*/ 0 h 19440"/>
                    <a:gd name="textAreaBottom" fmla="*/ 19800 h 19440"/>
                  </a:gdLst>
                  <a:ahLst/>
                  <a:rect l="textAreaLeft" t="textAreaTop" r="textAreaRight" b="textAreaBottom"/>
                  <a:pathLst>
                    <a:path w="36" h="68">
                      <a:moveTo>
                        <a:pt x="9" y="0"/>
                      </a:moveTo>
                      <a:cubicBezTo>
                        <a:pt x="10" y="0"/>
                        <a:pt x="30" y="5"/>
                        <a:pt x="24" y="12"/>
                      </a:cubicBezTo>
                      <a:cubicBezTo>
                        <a:pt x="20" y="17"/>
                        <a:pt x="6" y="18"/>
                        <a:pt x="6" y="18"/>
                      </a:cubicBezTo>
                      <a:cubicBezTo>
                        <a:pt x="8" y="21"/>
                        <a:pt x="9" y="25"/>
                        <a:pt x="12" y="27"/>
                      </a:cubicBezTo>
                      <a:cubicBezTo>
                        <a:pt x="22" y="35"/>
                        <a:pt x="32" y="35"/>
                        <a:pt x="6" y="42"/>
                      </a:cubicBezTo>
                      <a:cubicBezTo>
                        <a:pt x="36" y="52"/>
                        <a:pt x="23" y="55"/>
                        <a:pt x="0" y="60"/>
                      </a:cubicBezTo>
                      <a:cubicBezTo>
                        <a:pt x="13" y="68"/>
                        <a:pt x="8" y="63"/>
                        <a:pt x="21" y="63"/>
                      </a:cubicBezTo>
                    </a:path>
                  </a:pathLst>
                </a:custGeom>
                <a:solidFill>
                  <a:srgbClr val="663366"/>
                </a:solidFill>
                <a:ln w="9360">
                  <a:solidFill>
                    <a:srgbClr val="66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2" name="Freeform 414"/>
                <p:cNvSpPr/>
                <p:nvPr/>
              </p:nvSpPr>
              <p:spPr>
                <a:xfrm flipH="1" rot="18252000">
                  <a:off x="6891480" y="1545480"/>
                  <a:ext cx="9720" cy="19440"/>
                </a:xfrm>
                <a:custGeom>
                  <a:avLst/>
                  <a:gdLst>
                    <a:gd name="textAreaLeft" fmla="*/ -360 w 9720"/>
                    <a:gd name="textAreaRight" fmla="*/ 9720 w 9720"/>
                    <a:gd name="textAreaTop" fmla="*/ 0 h 19440"/>
                    <a:gd name="textAreaBottom" fmla="*/ 19800 h 19440"/>
                  </a:gdLst>
                  <a:ahLst/>
                  <a:rect l="textAreaLeft" t="textAreaTop" r="textAreaRight" b="textAreaBottom"/>
                  <a:pathLst>
                    <a:path w="36" h="68">
                      <a:moveTo>
                        <a:pt x="9" y="0"/>
                      </a:moveTo>
                      <a:cubicBezTo>
                        <a:pt x="10" y="0"/>
                        <a:pt x="30" y="5"/>
                        <a:pt x="24" y="12"/>
                      </a:cubicBezTo>
                      <a:cubicBezTo>
                        <a:pt x="20" y="17"/>
                        <a:pt x="6" y="18"/>
                        <a:pt x="6" y="18"/>
                      </a:cubicBezTo>
                      <a:cubicBezTo>
                        <a:pt x="8" y="21"/>
                        <a:pt x="9" y="25"/>
                        <a:pt x="12" y="27"/>
                      </a:cubicBezTo>
                      <a:cubicBezTo>
                        <a:pt x="22" y="35"/>
                        <a:pt x="32" y="35"/>
                        <a:pt x="6" y="42"/>
                      </a:cubicBezTo>
                      <a:cubicBezTo>
                        <a:pt x="36" y="52"/>
                        <a:pt x="23" y="55"/>
                        <a:pt x="0" y="60"/>
                      </a:cubicBezTo>
                      <a:cubicBezTo>
                        <a:pt x="13" y="68"/>
                        <a:pt x="8" y="63"/>
                        <a:pt x="21" y="63"/>
                      </a:cubicBezTo>
                    </a:path>
                  </a:pathLst>
                </a:custGeom>
                <a:solidFill>
                  <a:srgbClr val="663366"/>
                </a:solidFill>
                <a:ln w="9360">
                  <a:solidFill>
                    <a:srgbClr val="66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3" name="Oval 415"/>
                <p:cNvSpPr/>
                <p:nvPr/>
              </p:nvSpPr>
              <p:spPr>
                <a:xfrm flipH="1" rot="18252000">
                  <a:off x="6910560" y="1550880"/>
                  <a:ext cx="6120" cy="13320"/>
                </a:xfrm>
                <a:prstGeom prst="ellipse">
                  <a:avLst/>
                </a:prstGeom>
                <a:solidFill>
                  <a:srgbClr val="663366"/>
                </a:solidFill>
                <a:ln w="9360">
                  <a:solidFill>
                    <a:srgbClr val="66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4" name="Oval 416"/>
                <p:cNvSpPr/>
                <p:nvPr/>
              </p:nvSpPr>
              <p:spPr>
                <a:xfrm flipH="1" rot="18252000">
                  <a:off x="6906600" y="1555920"/>
                  <a:ext cx="6120" cy="13320"/>
                </a:xfrm>
                <a:prstGeom prst="ellipse">
                  <a:avLst/>
                </a:prstGeom>
                <a:solidFill>
                  <a:srgbClr val="663366"/>
                </a:solidFill>
                <a:ln w="9360">
                  <a:solidFill>
                    <a:srgbClr val="66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5" name="Oval 417"/>
                <p:cNvSpPr/>
                <p:nvPr/>
              </p:nvSpPr>
              <p:spPr>
                <a:xfrm flipV="1" rot="18252000">
                  <a:off x="7101000" y="1669320"/>
                  <a:ext cx="49680" cy="6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424267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 anchorCtr="1" vert="eaVert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6" name="AutoShape 418"/>
                <p:cNvSpPr/>
                <p:nvPr/>
              </p:nvSpPr>
              <p:spPr>
                <a:xfrm flipH="1" flipV="1" rot="18252000">
                  <a:off x="7100280" y="1709640"/>
                  <a:ext cx="23040" cy="22680"/>
                </a:xfrm>
                <a:custGeom>
                  <a:avLst/>
                  <a:gdLst>
                    <a:gd name="textAreaLeft" fmla="*/ 14040 w 23040"/>
                    <a:gd name="textAreaRight" fmla="*/ 14760 w 23040"/>
                    <a:gd name="textAreaTop" fmla="*/ 720 h 22680"/>
                    <a:gd name="textAreaBottom" fmla="*/ 21960 h 22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7719" y="2482"/>
                        <a:pt x="13837" y="5080"/>
                        <a:pt x="13837" y="10800"/>
                      </a:cubicBezTo>
                      <a:cubicBezTo>
                        <a:pt x="13837" y="16520"/>
                        <a:pt x="17719" y="1911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 anchorCtr="1" vert="eaVert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AutoShape 419"/>
                <p:cNvSpPr/>
                <p:nvPr/>
              </p:nvSpPr>
              <p:spPr>
                <a:xfrm flipV="1" rot="18252000">
                  <a:off x="7127280" y="1672560"/>
                  <a:ext cx="23040" cy="22680"/>
                </a:xfrm>
                <a:custGeom>
                  <a:avLst/>
                  <a:gdLst>
                    <a:gd name="textAreaLeft" fmla="*/ 14040 w 23040"/>
                    <a:gd name="textAreaRight" fmla="*/ 14760 w 23040"/>
                    <a:gd name="textAreaTop" fmla="*/ 720 h 22680"/>
                    <a:gd name="textAreaBottom" fmla="*/ 21960 h 22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7719" y="2482"/>
                        <a:pt x="13837" y="5080"/>
                        <a:pt x="13837" y="10800"/>
                      </a:cubicBezTo>
                      <a:cubicBezTo>
                        <a:pt x="13837" y="16520"/>
                        <a:pt x="17719" y="1911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 anchorCtr="1" vert="eaVert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8" name="Freeform 420"/>
                <p:cNvSpPr/>
                <p:nvPr/>
              </p:nvSpPr>
              <p:spPr>
                <a:xfrm flipV="1" rot="1574400">
                  <a:off x="7136280" y="1723320"/>
                  <a:ext cx="12240" cy="27360"/>
                </a:xfrm>
                <a:custGeom>
                  <a:avLst/>
                  <a:gdLst>
                    <a:gd name="textAreaLeft" fmla="*/ 0 w 12240"/>
                    <a:gd name="textAreaRight" fmla="*/ 12600 w 12240"/>
                    <a:gd name="textAreaTop" fmla="*/ 360 h 27360"/>
                    <a:gd name="textAreaBottom" fmla="*/ 28080 h 2736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9" name="Freeform 421"/>
                <p:cNvSpPr/>
                <p:nvPr/>
              </p:nvSpPr>
              <p:spPr>
                <a:xfrm flipV="1" rot="468600">
                  <a:off x="7140240" y="1724760"/>
                  <a:ext cx="12240" cy="27720"/>
                </a:xfrm>
                <a:custGeom>
                  <a:avLst/>
                  <a:gdLst>
                    <a:gd name="textAreaLeft" fmla="*/ 0 w 12240"/>
                    <a:gd name="textAreaRight" fmla="*/ 12600 w 12240"/>
                    <a:gd name="textAreaTop" fmla="*/ -360 h 27720"/>
                    <a:gd name="textAreaBottom" fmla="*/ 27720 h 2772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0" name="Freeform 422"/>
                <p:cNvSpPr/>
                <p:nvPr/>
              </p:nvSpPr>
              <p:spPr>
                <a:xfrm flipV="1" rot="20812200">
                  <a:off x="7145280" y="1725480"/>
                  <a:ext cx="12600" cy="26640"/>
                </a:xfrm>
                <a:custGeom>
                  <a:avLst/>
                  <a:gdLst>
                    <a:gd name="textAreaLeft" fmla="*/ 0 w 12600"/>
                    <a:gd name="textAreaRight" fmla="*/ 12960 w 12600"/>
                    <a:gd name="textAreaTop" fmla="*/ 360 h 26640"/>
                    <a:gd name="textAreaBottom" fmla="*/ 27360 h 2664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1" name="Freeform 423"/>
                <p:cNvSpPr/>
                <p:nvPr/>
              </p:nvSpPr>
              <p:spPr>
                <a:xfrm flipH="1" flipV="1" rot="13330200">
                  <a:off x="7159680" y="1693080"/>
                  <a:ext cx="12600" cy="27360"/>
                </a:xfrm>
                <a:custGeom>
                  <a:avLst/>
                  <a:gdLst>
                    <a:gd name="textAreaLeft" fmla="*/ -360 w 12600"/>
                    <a:gd name="textAreaRight" fmla="*/ 12600 w 12600"/>
                    <a:gd name="textAreaTop" fmla="*/ 360 h 27360"/>
                    <a:gd name="textAreaBottom" fmla="*/ 28080 h 2736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2" name="Freeform 424"/>
                <p:cNvSpPr/>
                <p:nvPr/>
              </p:nvSpPr>
              <p:spPr>
                <a:xfrm flipH="1" flipV="1" rot="14436600">
                  <a:off x="7161480" y="1693440"/>
                  <a:ext cx="11520" cy="29520"/>
                </a:xfrm>
                <a:custGeom>
                  <a:avLst/>
                  <a:gdLst>
                    <a:gd name="textAreaLeft" fmla="*/ 360 w 11520"/>
                    <a:gd name="textAreaRight" fmla="*/ 12240 w 11520"/>
                    <a:gd name="textAreaTop" fmla="*/ 360 h 29520"/>
                    <a:gd name="textAreaBottom" fmla="*/ 30240 h 2952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3" name="Freeform 425"/>
                <p:cNvSpPr/>
                <p:nvPr/>
              </p:nvSpPr>
              <p:spPr>
                <a:xfrm flipH="1" flipV="1" rot="15692400">
                  <a:off x="7163640" y="1698480"/>
                  <a:ext cx="11520" cy="29160"/>
                </a:xfrm>
                <a:custGeom>
                  <a:avLst/>
                  <a:gdLst>
                    <a:gd name="textAreaLeft" fmla="*/ 360 w 11520"/>
                    <a:gd name="textAreaRight" fmla="*/ 12240 w 11520"/>
                    <a:gd name="textAreaTop" fmla="*/ -360 h 29160"/>
                    <a:gd name="textAreaBottom" fmla="*/ 29160 h 2916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4" name="Freeform 426"/>
                <p:cNvSpPr/>
                <p:nvPr/>
              </p:nvSpPr>
              <p:spPr>
                <a:xfrm flipV="1" rot="18252000">
                  <a:off x="7083360" y="1671120"/>
                  <a:ext cx="10080" cy="1980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-360 h 19800"/>
                    <a:gd name="textAreaBottom" fmla="*/ 19800 h 19800"/>
                  </a:gdLst>
                  <a:ahLst/>
                  <a:rect l="textAreaLeft" t="textAreaTop" r="textAreaRight" b="textAreaBottom"/>
                  <a:pathLst>
                    <a:path w="36" h="68">
                      <a:moveTo>
                        <a:pt x="9" y="0"/>
                      </a:moveTo>
                      <a:cubicBezTo>
                        <a:pt x="10" y="0"/>
                        <a:pt x="30" y="5"/>
                        <a:pt x="24" y="12"/>
                      </a:cubicBezTo>
                      <a:cubicBezTo>
                        <a:pt x="20" y="17"/>
                        <a:pt x="6" y="18"/>
                        <a:pt x="6" y="18"/>
                      </a:cubicBezTo>
                      <a:cubicBezTo>
                        <a:pt x="8" y="21"/>
                        <a:pt x="9" y="25"/>
                        <a:pt x="12" y="27"/>
                      </a:cubicBezTo>
                      <a:cubicBezTo>
                        <a:pt x="22" y="35"/>
                        <a:pt x="32" y="35"/>
                        <a:pt x="6" y="42"/>
                      </a:cubicBezTo>
                      <a:cubicBezTo>
                        <a:pt x="36" y="52"/>
                        <a:pt x="23" y="55"/>
                        <a:pt x="0" y="60"/>
                      </a:cubicBezTo>
                      <a:cubicBezTo>
                        <a:pt x="13" y="68"/>
                        <a:pt x="8" y="63"/>
                        <a:pt x="21" y="63"/>
                      </a:cubicBezTo>
                    </a:path>
                  </a:pathLst>
                </a:custGeom>
                <a:solidFill>
                  <a:srgbClr val="663366"/>
                </a:solidFill>
                <a:ln w="9360">
                  <a:solidFill>
                    <a:srgbClr val="66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5" name="Freeform 427"/>
                <p:cNvSpPr/>
                <p:nvPr/>
              </p:nvSpPr>
              <p:spPr>
                <a:xfrm flipV="1" rot="18252000">
                  <a:off x="7086960" y="1666440"/>
                  <a:ext cx="9720" cy="19440"/>
                </a:xfrm>
                <a:custGeom>
                  <a:avLst/>
                  <a:gdLst>
                    <a:gd name="textAreaLeft" fmla="*/ 0 w 9720"/>
                    <a:gd name="textAreaRight" fmla="*/ 10080 w 9720"/>
                    <a:gd name="textAreaTop" fmla="*/ 360 h 19440"/>
                    <a:gd name="textAreaBottom" fmla="*/ 20160 h 19440"/>
                  </a:gdLst>
                  <a:ahLst/>
                  <a:rect l="textAreaLeft" t="textAreaTop" r="textAreaRight" b="textAreaBottom"/>
                  <a:pathLst>
                    <a:path w="36" h="68">
                      <a:moveTo>
                        <a:pt x="9" y="0"/>
                      </a:moveTo>
                      <a:cubicBezTo>
                        <a:pt x="10" y="0"/>
                        <a:pt x="30" y="5"/>
                        <a:pt x="24" y="12"/>
                      </a:cubicBezTo>
                      <a:cubicBezTo>
                        <a:pt x="20" y="17"/>
                        <a:pt x="6" y="18"/>
                        <a:pt x="6" y="18"/>
                      </a:cubicBezTo>
                      <a:cubicBezTo>
                        <a:pt x="8" y="21"/>
                        <a:pt x="9" y="25"/>
                        <a:pt x="12" y="27"/>
                      </a:cubicBezTo>
                      <a:cubicBezTo>
                        <a:pt x="22" y="35"/>
                        <a:pt x="32" y="35"/>
                        <a:pt x="6" y="42"/>
                      </a:cubicBezTo>
                      <a:cubicBezTo>
                        <a:pt x="36" y="52"/>
                        <a:pt x="23" y="55"/>
                        <a:pt x="0" y="60"/>
                      </a:cubicBezTo>
                      <a:cubicBezTo>
                        <a:pt x="13" y="68"/>
                        <a:pt x="8" y="63"/>
                        <a:pt x="21" y="63"/>
                      </a:cubicBezTo>
                    </a:path>
                  </a:pathLst>
                </a:custGeom>
                <a:solidFill>
                  <a:srgbClr val="663366"/>
                </a:solidFill>
                <a:ln w="9360">
                  <a:solidFill>
                    <a:srgbClr val="66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6" name="Oval 428"/>
                <p:cNvSpPr/>
                <p:nvPr/>
              </p:nvSpPr>
              <p:spPr>
                <a:xfrm flipV="1" rot="18252000">
                  <a:off x="7071120" y="1665720"/>
                  <a:ext cx="6120" cy="13320"/>
                </a:xfrm>
                <a:prstGeom prst="ellipse">
                  <a:avLst/>
                </a:prstGeom>
                <a:solidFill>
                  <a:srgbClr val="663366"/>
                </a:solidFill>
                <a:ln w="9360">
                  <a:solidFill>
                    <a:srgbClr val="66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 anchorCtr="1" vert="eaVert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7" name="Oval 429"/>
                <p:cNvSpPr/>
                <p:nvPr/>
              </p:nvSpPr>
              <p:spPr>
                <a:xfrm flipV="1" rot="18252000">
                  <a:off x="7074000" y="1661400"/>
                  <a:ext cx="6480" cy="13320"/>
                </a:xfrm>
                <a:prstGeom prst="ellipse">
                  <a:avLst/>
                </a:prstGeom>
                <a:solidFill>
                  <a:srgbClr val="663366"/>
                </a:solidFill>
                <a:ln w="9360">
                  <a:solidFill>
                    <a:srgbClr val="66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 anchorCtr="1" vert="eaVert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8" name="Oval 430"/>
                <p:cNvSpPr/>
                <p:nvPr/>
              </p:nvSpPr>
              <p:spPr>
                <a:xfrm flipH="1" flipV="1" rot="3727800">
                  <a:off x="6823800" y="1642320"/>
                  <a:ext cx="49320" cy="6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424267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9" name="AutoShape 431"/>
                <p:cNvSpPr/>
                <p:nvPr/>
              </p:nvSpPr>
              <p:spPr>
                <a:xfrm flipV="1" rot="3728400">
                  <a:off x="6849360" y="1683720"/>
                  <a:ext cx="23040" cy="23040"/>
                </a:xfrm>
                <a:custGeom>
                  <a:avLst/>
                  <a:gdLst>
                    <a:gd name="textAreaLeft" fmla="*/ 14040 w 23040"/>
                    <a:gd name="textAreaRight" fmla="*/ 14760 w 23040"/>
                    <a:gd name="textAreaTop" fmla="*/ 720 h 23040"/>
                    <a:gd name="textAreaBottom" fmla="*/ 22320 h 23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7719" y="2482"/>
                        <a:pt x="13837" y="5080"/>
                        <a:pt x="13837" y="10800"/>
                      </a:cubicBezTo>
                      <a:cubicBezTo>
                        <a:pt x="13837" y="16520"/>
                        <a:pt x="17719" y="1911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AutoShape 432"/>
                <p:cNvSpPr/>
                <p:nvPr/>
              </p:nvSpPr>
              <p:spPr>
                <a:xfrm flipH="1" flipV="1" rot="3727800">
                  <a:off x="6825960" y="1643760"/>
                  <a:ext cx="23040" cy="23400"/>
                </a:xfrm>
                <a:custGeom>
                  <a:avLst/>
                  <a:gdLst>
                    <a:gd name="textAreaLeft" fmla="*/ 14040 w 23040"/>
                    <a:gd name="textAreaRight" fmla="*/ 14760 w 23040"/>
                    <a:gd name="textAreaTop" fmla="*/ 720 h 23400"/>
                    <a:gd name="textAreaBottom" fmla="*/ 22680 h 234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7719" y="2482"/>
                        <a:pt x="13837" y="5080"/>
                        <a:pt x="13837" y="10800"/>
                      </a:cubicBezTo>
                      <a:cubicBezTo>
                        <a:pt x="13837" y="16520"/>
                        <a:pt x="17719" y="1911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1" name="Freeform 433"/>
                <p:cNvSpPr/>
                <p:nvPr/>
              </p:nvSpPr>
              <p:spPr>
                <a:xfrm flipH="1" flipV="1" rot="20406600">
                  <a:off x="6820920" y="1695240"/>
                  <a:ext cx="12960" cy="27360"/>
                </a:xfrm>
                <a:custGeom>
                  <a:avLst/>
                  <a:gdLst>
                    <a:gd name="textAreaLeft" fmla="*/ 360 w 12960"/>
                    <a:gd name="textAreaRight" fmla="*/ 13680 w 12960"/>
                    <a:gd name="textAreaTop" fmla="*/ 360 h 27360"/>
                    <a:gd name="textAreaBottom" fmla="*/ 28080 h 2736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2" name="Freeform 434"/>
                <p:cNvSpPr/>
                <p:nvPr/>
              </p:nvSpPr>
              <p:spPr>
                <a:xfrm flipH="1" flipV="1" rot="21512400">
                  <a:off x="6817680" y="1695240"/>
                  <a:ext cx="12600" cy="27360"/>
                </a:xfrm>
                <a:custGeom>
                  <a:avLst/>
                  <a:gdLst>
                    <a:gd name="textAreaLeft" fmla="*/ -360 w 12600"/>
                    <a:gd name="textAreaRight" fmla="*/ 12600 w 12600"/>
                    <a:gd name="textAreaTop" fmla="*/ 360 h 27360"/>
                    <a:gd name="textAreaBottom" fmla="*/ 28080 h 2736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3" name="Freeform 435"/>
                <p:cNvSpPr/>
                <p:nvPr/>
              </p:nvSpPr>
              <p:spPr>
                <a:xfrm flipH="1" flipV="1" rot="1168200">
                  <a:off x="6811920" y="1694520"/>
                  <a:ext cx="12960" cy="27000"/>
                </a:xfrm>
                <a:custGeom>
                  <a:avLst/>
                  <a:gdLst>
                    <a:gd name="textAreaLeft" fmla="*/ 360 w 12960"/>
                    <a:gd name="textAreaRight" fmla="*/ 13680 w 12960"/>
                    <a:gd name="textAreaTop" fmla="*/ -360 h 27000"/>
                    <a:gd name="textAreaBottom" fmla="*/ 27000 h 2700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4" name="Freeform 436"/>
                <p:cNvSpPr/>
                <p:nvPr/>
              </p:nvSpPr>
              <p:spPr>
                <a:xfrm flipV="1" rot="8649600">
                  <a:off x="6801480" y="1661040"/>
                  <a:ext cx="12960" cy="2736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360 h 27360"/>
                    <a:gd name="textAreaBottom" fmla="*/ 28080 h 2736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Freeform 437"/>
                <p:cNvSpPr/>
                <p:nvPr/>
              </p:nvSpPr>
              <p:spPr>
                <a:xfrm flipV="1" rot="7544400">
                  <a:off x="6800040" y="1662840"/>
                  <a:ext cx="11520" cy="2952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360 h 29520"/>
                    <a:gd name="textAreaBottom" fmla="*/ 30240 h 2952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Freeform 438"/>
                <p:cNvSpPr/>
                <p:nvPr/>
              </p:nvSpPr>
              <p:spPr>
                <a:xfrm flipV="1" rot="6288000">
                  <a:off x="6798240" y="1666800"/>
                  <a:ext cx="11520" cy="2916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-360 h 29160"/>
                    <a:gd name="textAreaBottom" fmla="*/ 29160 h 2916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7" name="Freeform 439"/>
                <p:cNvSpPr/>
                <p:nvPr/>
              </p:nvSpPr>
              <p:spPr>
                <a:xfrm flipH="1" flipV="1" rot="3727800">
                  <a:off x="6883920" y="1648080"/>
                  <a:ext cx="9720" cy="19440"/>
                </a:xfrm>
                <a:custGeom>
                  <a:avLst/>
                  <a:gdLst>
                    <a:gd name="textAreaLeft" fmla="*/ -360 w 9720"/>
                    <a:gd name="textAreaRight" fmla="*/ 9720 w 9720"/>
                    <a:gd name="textAreaTop" fmla="*/ 360 h 19440"/>
                    <a:gd name="textAreaBottom" fmla="*/ 20160 h 19440"/>
                  </a:gdLst>
                  <a:ahLst/>
                  <a:rect l="textAreaLeft" t="textAreaTop" r="textAreaRight" b="textAreaBottom"/>
                  <a:pathLst>
                    <a:path w="36" h="68">
                      <a:moveTo>
                        <a:pt x="9" y="0"/>
                      </a:moveTo>
                      <a:cubicBezTo>
                        <a:pt x="10" y="0"/>
                        <a:pt x="30" y="5"/>
                        <a:pt x="24" y="12"/>
                      </a:cubicBezTo>
                      <a:cubicBezTo>
                        <a:pt x="20" y="17"/>
                        <a:pt x="6" y="18"/>
                        <a:pt x="6" y="18"/>
                      </a:cubicBezTo>
                      <a:cubicBezTo>
                        <a:pt x="8" y="21"/>
                        <a:pt x="9" y="25"/>
                        <a:pt x="12" y="27"/>
                      </a:cubicBezTo>
                      <a:cubicBezTo>
                        <a:pt x="22" y="35"/>
                        <a:pt x="32" y="35"/>
                        <a:pt x="6" y="42"/>
                      </a:cubicBezTo>
                      <a:cubicBezTo>
                        <a:pt x="36" y="52"/>
                        <a:pt x="23" y="55"/>
                        <a:pt x="0" y="60"/>
                      </a:cubicBezTo>
                      <a:cubicBezTo>
                        <a:pt x="13" y="68"/>
                        <a:pt x="8" y="63"/>
                        <a:pt x="21" y="63"/>
                      </a:cubicBezTo>
                    </a:path>
                  </a:pathLst>
                </a:custGeom>
                <a:solidFill>
                  <a:srgbClr val="663366"/>
                </a:solidFill>
                <a:ln w="9360">
                  <a:solidFill>
                    <a:srgbClr val="66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8" name="Freeform 440"/>
                <p:cNvSpPr/>
                <p:nvPr/>
              </p:nvSpPr>
              <p:spPr>
                <a:xfrm flipH="1" flipV="1" rot="3727800">
                  <a:off x="6882120" y="1643040"/>
                  <a:ext cx="9360" cy="19440"/>
                </a:xfrm>
                <a:custGeom>
                  <a:avLst/>
                  <a:gdLst>
                    <a:gd name="textAreaLeft" fmla="*/ 360 w 9360"/>
                    <a:gd name="textAreaRight" fmla="*/ 10080 w 9360"/>
                    <a:gd name="textAreaTop" fmla="*/ 360 h 19440"/>
                    <a:gd name="textAreaBottom" fmla="*/ 20160 h 19440"/>
                  </a:gdLst>
                  <a:ahLst/>
                  <a:rect l="textAreaLeft" t="textAreaTop" r="textAreaRight" b="textAreaBottom"/>
                  <a:pathLst>
                    <a:path w="36" h="68">
                      <a:moveTo>
                        <a:pt x="9" y="0"/>
                      </a:moveTo>
                      <a:cubicBezTo>
                        <a:pt x="10" y="0"/>
                        <a:pt x="30" y="5"/>
                        <a:pt x="24" y="12"/>
                      </a:cubicBezTo>
                      <a:cubicBezTo>
                        <a:pt x="20" y="17"/>
                        <a:pt x="6" y="18"/>
                        <a:pt x="6" y="18"/>
                      </a:cubicBezTo>
                      <a:cubicBezTo>
                        <a:pt x="8" y="21"/>
                        <a:pt x="9" y="25"/>
                        <a:pt x="12" y="27"/>
                      </a:cubicBezTo>
                      <a:cubicBezTo>
                        <a:pt x="22" y="35"/>
                        <a:pt x="32" y="35"/>
                        <a:pt x="6" y="42"/>
                      </a:cubicBezTo>
                      <a:cubicBezTo>
                        <a:pt x="36" y="52"/>
                        <a:pt x="23" y="55"/>
                        <a:pt x="0" y="60"/>
                      </a:cubicBezTo>
                      <a:cubicBezTo>
                        <a:pt x="13" y="68"/>
                        <a:pt x="8" y="63"/>
                        <a:pt x="21" y="63"/>
                      </a:cubicBezTo>
                    </a:path>
                  </a:pathLst>
                </a:custGeom>
                <a:solidFill>
                  <a:srgbClr val="663366"/>
                </a:solidFill>
                <a:ln w="9360">
                  <a:solidFill>
                    <a:srgbClr val="66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Oval 441"/>
                <p:cNvSpPr/>
                <p:nvPr/>
              </p:nvSpPr>
              <p:spPr>
                <a:xfrm flipH="1" flipV="1" rot="3727800">
                  <a:off x="6900840" y="1645560"/>
                  <a:ext cx="6120" cy="13320"/>
                </a:xfrm>
                <a:prstGeom prst="ellipse">
                  <a:avLst/>
                </a:prstGeom>
                <a:solidFill>
                  <a:srgbClr val="663366"/>
                </a:solidFill>
                <a:ln w="9360">
                  <a:solidFill>
                    <a:srgbClr val="66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0" name="Oval 442"/>
                <p:cNvSpPr/>
                <p:nvPr/>
              </p:nvSpPr>
              <p:spPr>
                <a:xfrm flipH="1" flipV="1" rot="3727800">
                  <a:off x="6897600" y="1640160"/>
                  <a:ext cx="6480" cy="12960"/>
                </a:xfrm>
                <a:prstGeom prst="ellipse">
                  <a:avLst/>
                </a:prstGeom>
                <a:solidFill>
                  <a:srgbClr val="663366"/>
                </a:solidFill>
                <a:ln w="9360">
                  <a:solidFill>
                    <a:srgbClr val="66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1" name="AutoShape 443"/>
                <p:cNvSpPr/>
                <p:nvPr/>
              </p:nvSpPr>
              <p:spPr>
                <a:xfrm flipH="1" flipV="1">
                  <a:off x="7157520" y="1719720"/>
                  <a:ext cx="24480" cy="21600"/>
                </a:xfrm>
                <a:custGeom>
                  <a:avLst/>
                  <a:gdLst>
                    <a:gd name="textAreaLeft" fmla="*/ 15120 w 24480"/>
                    <a:gd name="textAreaRight" fmla="*/ 15840 w 24480"/>
                    <a:gd name="textAreaTop" fmla="*/ 720 h 21600"/>
                    <a:gd name="textAreaBottom" fmla="*/ 20880 h 21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7719" y="2482"/>
                        <a:pt x="13837" y="5080"/>
                        <a:pt x="13837" y="10800"/>
                      </a:cubicBezTo>
                      <a:cubicBezTo>
                        <a:pt x="13837" y="16520"/>
                        <a:pt x="17719" y="1911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2" name="Freeform 444"/>
                <p:cNvSpPr/>
                <p:nvPr/>
              </p:nvSpPr>
              <p:spPr>
                <a:xfrm rot="444000">
                  <a:off x="6954480" y="1553400"/>
                  <a:ext cx="84240" cy="136080"/>
                </a:xfrm>
                <a:custGeom>
                  <a:avLst/>
                  <a:gdLst>
                    <a:gd name="textAreaLeft" fmla="*/ 0 w 84240"/>
                    <a:gd name="textAreaRight" fmla="*/ 84600 w 84240"/>
                    <a:gd name="textAreaTop" fmla="*/ 0 h 136080"/>
                    <a:gd name="textAreaBottom" fmla="*/ 136440 h 136080"/>
                  </a:gdLst>
                  <a:ahLst/>
                  <a:rect l="textAreaLeft" t="textAreaTop" r="textAreaRight" b="textAreaBottom"/>
                  <a:pathLst>
                    <a:path w="196" h="430">
                      <a:moveTo>
                        <a:pt x="15" y="60"/>
                      </a:moveTo>
                      <a:cubicBezTo>
                        <a:pt x="30" y="0"/>
                        <a:pt x="76" y="7"/>
                        <a:pt x="106" y="14"/>
                      </a:cubicBezTo>
                      <a:cubicBezTo>
                        <a:pt x="136" y="21"/>
                        <a:pt x="196" y="45"/>
                        <a:pt x="196" y="105"/>
                      </a:cubicBezTo>
                      <a:cubicBezTo>
                        <a:pt x="196" y="165"/>
                        <a:pt x="136" y="332"/>
                        <a:pt x="106" y="377"/>
                      </a:cubicBezTo>
                      <a:cubicBezTo>
                        <a:pt x="76" y="422"/>
                        <a:pt x="30" y="430"/>
                        <a:pt x="15" y="377"/>
                      </a:cubicBezTo>
                      <a:cubicBezTo>
                        <a:pt x="0" y="324"/>
                        <a:pt x="0" y="120"/>
                        <a:pt x="15" y="60"/>
                      </a:cubicBezTo>
                      <a:close/>
                    </a:path>
                  </a:pathLst>
                </a:custGeom>
                <a:blipFill rotWithShape="0">
                  <a:blip r:embed="rId5"/>
                  <a:srcRect/>
                  <a:tile tx="0" ty="0" sx="100000" sy="100000" algn="ctr"/>
                </a:blipFill>
                <a:ln w="9360">
                  <a:solidFill>
                    <a:srgbClr val="66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3" name="Group 445"/>
          <p:cNvGrpSpPr/>
          <p:nvPr/>
        </p:nvGrpSpPr>
        <p:grpSpPr>
          <a:xfrm>
            <a:off x="4211640" y="1998000"/>
            <a:ext cx="1260360" cy="475200"/>
            <a:chOff x="4211640" y="1998000"/>
            <a:chExt cx="1260360" cy="475200"/>
          </a:xfrm>
        </p:grpSpPr>
        <p:sp>
          <p:nvSpPr>
            <p:cNvPr id="1204" name="Line 446"/>
            <p:cNvSpPr/>
            <p:nvPr/>
          </p:nvSpPr>
          <p:spPr>
            <a:xfrm>
              <a:off x="4211640" y="2473200"/>
              <a:ext cx="1260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5" name="Group 447"/>
            <p:cNvGrpSpPr/>
            <p:nvPr/>
          </p:nvGrpSpPr>
          <p:grpSpPr>
            <a:xfrm>
              <a:off x="4528080" y="1998000"/>
              <a:ext cx="398160" cy="414000"/>
              <a:chOff x="4528080" y="1998000"/>
              <a:chExt cx="398160" cy="414000"/>
            </a:xfrm>
          </p:grpSpPr>
          <p:sp>
            <p:nvSpPr>
              <p:cNvPr id="1206" name="Oval 448"/>
              <p:cNvSpPr/>
              <p:nvPr/>
            </p:nvSpPr>
            <p:spPr>
              <a:xfrm flipV="1" rot="21360000">
                <a:off x="4705200" y="2322720"/>
                <a:ext cx="53640" cy="61920"/>
              </a:xfrm>
              <a:prstGeom prst="ellips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42426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AutoShape 449"/>
              <p:cNvSpPr/>
              <p:nvPr/>
            </p:nvSpPr>
            <p:spPr>
              <a:xfrm flipV="1" rot="21360000">
                <a:off x="4743000" y="2340360"/>
                <a:ext cx="24840" cy="21600"/>
              </a:xfrm>
              <a:custGeom>
                <a:avLst/>
                <a:gdLst>
                  <a:gd name="textAreaLeft" fmla="*/ 15120 w 24840"/>
                  <a:gd name="textAreaRight" fmla="*/ 15840 w 24840"/>
                  <a:gd name="textAreaTop" fmla="*/ 720 h 21600"/>
                  <a:gd name="textAreaBottom" fmla="*/ 20880 h 21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7719" y="2482"/>
                      <a:pt x="13837" y="5080"/>
                      <a:pt x="13837" y="10800"/>
                    </a:cubicBezTo>
                    <a:cubicBezTo>
                      <a:pt x="13837" y="16520"/>
                      <a:pt x="17719" y="1911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Freeform 450"/>
              <p:cNvSpPr/>
              <p:nvPr/>
            </p:nvSpPr>
            <p:spPr>
              <a:xfrm flipV="1" rot="297000">
                <a:off x="4720680" y="2384280"/>
                <a:ext cx="12600" cy="2700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-360 h 27000"/>
                  <a:gd name="textAreaBottom" fmla="*/ 27000 h 27000"/>
                </a:gdLst>
                <a:ahLst/>
                <a:rect l="textAreaLeft" t="textAreaTop" r="textAreaRight" b="textAreaBottom"/>
                <a:pathLst>
                  <a:path w="90" h="181">
                    <a:moveTo>
                      <a:pt x="45" y="181"/>
                    </a:moveTo>
                    <a:cubicBezTo>
                      <a:pt x="30" y="181"/>
                      <a:pt x="0" y="120"/>
                      <a:pt x="0" y="90"/>
                    </a:cubicBezTo>
                    <a:cubicBezTo>
                      <a:pt x="0" y="60"/>
                      <a:pt x="30" y="0"/>
                      <a:pt x="45" y="0"/>
                    </a:cubicBezTo>
                    <a:cubicBezTo>
                      <a:pt x="60" y="0"/>
                      <a:pt x="90" y="60"/>
                      <a:pt x="90" y="90"/>
                    </a:cubicBezTo>
                    <a:cubicBezTo>
                      <a:pt x="90" y="120"/>
                      <a:pt x="60" y="181"/>
                      <a:pt x="45" y="181"/>
                    </a:cubicBezTo>
                    <a:close/>
                  </a:path>
                </a:pathLst>
              </a:custGeom>
              <a:noFill/>
              <a:ln w="64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Freeform 451"/>
              <p:cNvSpPr/>
              <p:nvPr/>
            </p:nvSpPr>
            <p:spPr>
              <a:xfrm flipV="1" rot="20640600">
                <a:off x="4725720" y="2383200"/>
                <a:ext cx="12960" cy="2700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-360 h 27000"/>
                  <a:gd name="textAreaBottom" fmla="*/ 27000 h 27000"/>
                </a:gdLst>
                <a:ahLst/>
                <a:rect l="textAreaLeft" t="textAreaTop" r="textAreaRight" b="textAreaBottom"/>
                <a:pathLst>
                  <a:path w="90" h="181">
                    <a:moveTo>
                      <a:pt x="45" y="181"/>
                    </a:moveTo>
                    <a:cubicBezTo>
                      <a:pt x="30" y="181"/>
                      <a:pt x="0" y="120"/>
                      <a:pt x="0" y="90"/>
                    </a:cubicBezTo>
                    <a:cubicBezTo>
                      <a:pt x="0" y="60"/>
                      <a:pt x="30" y="0"/>
                      <a:pt x="45" y="0"/>
                    </a:cubicBezTo>
                    <a:cubicBezTo>
                      <a:pt x="60" y="0"/>
                      <a:pt x="90" y="60"/>
                      <a:pt x="90" y="90"/>
                    </a:cubicBezTo>
                    <a:cubicBezTo>
                      <a:pt x="90" y="120"/>
                      <a:pt x="60" y="181"/>
                      <a:pt x="45" y="181"/>
                    </a:cubicBezTo>
                    <a:close/>
                  </a:path>
                </a:pathLst>
              </a:custGeom>
              <a:noFill/>
              <a:ln w="64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Freeform 452"/>
              <p:cNvSpPr/>
              <p:nvPr/>
            </p:nvSpPr>
            <p:spPr>
              <a:xfrm flipH="1" flipV="1" rot="16437600">
                <a:off x="4746600" y="2369880"/>
                <a:ext cx="11520" cy="29160"/>
              </a:xfrm>
              <a:custGeom>
                <a:avLst/>
                <a:gdLst>
                  <a:gd name="textAreaLeft" fmla="*/ 360 w 11520"/>
                  <a:gd name="textAreaRight" fmla="*/ 12240 w 11520"/>
                  <a:gd name="textAreaTop" fmla="*/ -360 h 29160"/>
                  <a:gd name="textAreaBottom" fmla="*/ 29160 h 29160"/>
                </a:gdLst>
                <a:ahLst/>
                <a:rect l="textAreaLeft" t="textAreaTop" r="textAreaRight" b="textAreaBottom"/>
                <a:pathLst>
                  <a:path w="90" h="181">
                    <a:moveTo>
                      <a:pt x="45" y="181"/>
                    </a:moveTo>
                    <a:cubicBezTo>
                      <a:pt x="30" y="181"/>
                      <a:pt x="0" y="120"/>
                      <a:pt x="0" y="90"/>
                    </a:cubicBezTo>
                    <a:cubicBezTo>
                      <a:pt x="0" y="60"/>
                      <a:pt x="30" y="0"/>
                      <a:pt x="45" y="0"/>
                    </a:cubicBezTo>
                    <a:cubicBezTo>
                      <a:pt x="60" y="0"/>
                      <a:pt x="90" y="60"/>
                      <a:pt x="90" y="90"/>
                    </a:cubicBezTo>
                    <a:cubicBezTo>
                      <a:pt x="90" y="120"/>
                      <a:pt x="60" y="181"/>
                      <a:pt x="45" y="181"/>
                    </a:cubicBezTo>
                    <a:close/>
                  </a:path>
                </a:pathLst>
              </a:custGeom>
              <a:noFill/>
              <a:ln w="64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Freeform 453"/>
              <p:cNvSpPr/>
              <p:nvPr/>
            </p:nvSpPr>
            <p:spPr>
              <a:xfrm flipH="1" flipV="1" rot="17543400">
                <a:off x="4746240" y="2373840"/>
                <a:ext cx="11520" cy="29160"/>
              </a:xfrm>
              <a:custGeom>
                <a:avLst/>
                <a:gdLst>
                  <a:gd name="textAreaLeft" fmla="*/ 360 w 11520"/>
                  <a:gd name="textAreaRight" fmla="*/ 12240 w 11520"/>
                  <a:gd name="textAreaTop" fmla="*/ -360 h 29160"/>
                  <a:gd name="textAreaBottom" fmla="*/ 29160 h 29160"/>
                </a:gdLst>
                <a:ahLst/>
                <a:rect l="textAreaLeft" t="textAreaTop" r="textAreaRight" b="textAreaBottom"/>
                <a:pathLst>
                  <a:path w="90" h="181">
                    <a:moveTo>
                      <a:pt x="45" y="181"/>
                    </a:moveTo>
                    <a:cubicBezTo>
                      <a:pt x="30" y="181"/>
                      <a:pt x="0" y="120"/>
                      <a:pt x="0" y="90"/>
                    </a:cubicBezTo>
                    <a:cubicBezTo>
                      <a:pt x="0" y="60"/>
                      <a:pt x="30" y="0"/>
                      <a:pt x="45" y="0"/>
                    </a:cubicBezTo>
                    <a:cubicBezTo>
                      <a:pt x="60" y="0"/>
                      <a:pt x="90" y="60"/>
                      <a:pt x="90" y="90"/>
                    </a:cubicBezTo>
                    <a:cubicBezTo>
                      <a:pt x="90" y="120"/>
                      <a:pt x="60" y="181"/>
                      <a:pt x="45" y="181"/>
                    </a:cubicBezTo>
                    <a:close/>
                  </a:path>
                </a:pathLst>
              </a:custGeom>
              <a:noFill/>
              <a:ln w="64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Freeform 454"/>
              <p:cNvSpPr/>
              <p:nvPr/>
            </p:nvSpPr>
            <p:spPr>
              <a:xfrm flipH="1" flipV="1" rot="18799800">
                <a:off x="4743360" y="2376720"/>
                <a:ext cx="11520" cy="29160"/>
              </a:xfrm>
              <a:custGeom>
                <a:avLst/>
                <a:gdLst>
                  <a:gd name="textAreaLeft" fmla="*/ 360 w 11520"/>
                  <a:gd name="textAreaRight" fmla="*/ 12240 w 11520"/>
                  <a:gd name="textAreaTop" fmla="*/ -360 h 29160"/>
                  <a:gd name="textAreaBottom" fmla="*/ 29160 h 29160"/>
                </a:gdLst>
                <a:ahLst/>
                <a:rect l="textAreaLeft" t="textAreaTop" r="textAreaRight" b="textAreaBottom"/>
                <a:pathLst>
                  <a:path w="90" h="181">
                    <a:moveTo>
                      <a:pt x="45" y="181"/>
                    </a:moveTo>
                    <a:cubicBezTo>
                      <a:pt x="30" y="181"/>
                      <a:pt x="0" y="120"/>
                      <a:pt x="0" y="90"/>
                    </a:cubicBezTo>
                    <a:cubicBezTo>
                      <a:pt x="0" y="60"/>
                      <a:pt x="30" y="0"/>
                      <a:pt x="45" y="0"/>
                    </a:cubicBezTo>
                    <a:cubicBezTo>
                      <a:pt x="60" y="0"/>
                      <a:pt x="90" y="60"/>
                      <a:pt x="90" y="90"/>
                    </a:cubicBezTo>
                    <a:cubicBezTo>
                      <a:pt x="90" y="120"/>
                      <a:pt x="60" y="181"/>
                      <a:pt x="45" y="181"/>
                    </a:cubicBezTo>
                    <a:close/>
                  </a:path>
                </a:pathLst>
              </a:custGeom>
              <a:noFill/>
              <a:ln w="64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Freeform 455"/>
              <p:cNvSpPr/>
              <p:nvPr/>
            </p:nvSpPr>
            <p:spPr>
              <a:xfrm flipV="1" rot="21360000">
                <a:off x="4721760" y="2303280"/>
                <a:ext cx="10440" cy="1800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360 h 18000"/>
                  <a:gd name="textAreaBottom" fmla="*/ 18720 h 18000"/>
                </a:gdLst>
                <a:ahLst/>
                <a:rect l="textAreaLeft" t="textAreaTop" r="textAreaRight" b="textAreaBottom"/>
                <a:pathLst>
                  <a:path w="36" h="68">
                    <a:moveTo>
                      <a:pt x="9" y="0"/>
                    </a:moveTo>
                    <a:cubicBezTo>
                      <a:pt x="10" y="0"/>
                      <a:pt x="30" y="5"/>
                      <a:pt x="24" y="12"/>
                    </a:cubicBezTo>
                    <a:cubicBezTo>
                      <a:pt x="20" y="17"/>
                      <a:pt x="6" y="18"/>
                      <a:pt x="6" y="18"/>
                    </a:cubicBezTo>
                    <a:cubicBezTo>
                      <a:pt x="8" y="21"/>
                      <a:pt x="9" y="25"/>
                      <a:pt x="12" y="27"/>
                    </a:cubicBezTo>
                    <a:cubicBezTo>
                      <a:pt x="22" y="35"/>
                      <a:pt x="32" y="35"/>
                      <a:pt x="6" y="42"/>
                    </a:cubicBezTo>
                    <a:cubicBezTo>
                      <a:pt x="36" y="52"/>
                      <a:pt x="23" y="55"/>
                      <a:pt x="0" y="60"/>
                    </a:cubicBezTo>
                    <a:cubicBezTo>
                      <a:pt x="13" y="68"/>
                      <a:pt x="8" y="63"/>
                      <a:pt x="21" y="63"/>
                    </a:cubicBezTo>
                  </a:path>
                </a:pathLst>
              </a:custGeom>
              <a:noFill/>
              <a:ln w="9360">
                <a:solidFill>
                  <a:srgbClr val="66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Freeform 456"/>
              <p:cNvSpPr/>
              <p:nvPr/>
            </p:nvSpPr>
            <p:spPr>
              <a:xfrm flipV="1" rot="21360000">
                <a:off x="4728240" y="2301480"/>
                <a:ext cx="10440" cy="1836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-360 h 18360"/>
                  <a:gd name="textAreaBottom" fmla="*/ 18360 h 18360"/>
                </a:gdLst>
                <a:ahLst/>
                <a:rect l="textAreaLeft" t="textAreaTop" r="textAreaRight" b="textAreaBottom"/>
                <a:pathLst>
                  <a:path w="36" h="68">
                    <a:moveTo>
                      <a:pt x="9" y="0"/>
                    </a:moveTo>
                    <a:cubicBezTo>
                      <a:pt x="10" y="0"/>
                      <a:pt x="30" y="5"/>
                      <a:pt x="24" y="12"/>
                    </a:cubicBezTo>
                    <a:cubicBezTo>
                      <a:pt x="20" y="17"/>
                      <a:pt x="6" y="18"/>
                      <a:pt x="6" y="18"/>
                    </a:cubicBezTo>
                    <a:cubicBezTo>
                      <a:pt x="8" y="21"/>
                      <a:pt x="9" y="25"/>
                      <a:pt x="12" y="27"/>
                    </a:cubicBezTo>
                    <a:cubicBezTo>
                      <a:pt x="22" y="35"/>
                      <a:pt x="32" y="35"/>
                      <a:pt x="6" y="42"/>
                    </a:cubicBezTo>
                    <a:cubicBezTo>
                      <a:pt x="36" y="52"/>
                      <a:pt x="23" y="55"/>
                      <a:pt x="0" y="60"/>
                    </a:cubicBezTo>
                    <a:cubicBezTo>
                      <a:pt x="13" y="68"/>
                      <a:pt x="8" y="63"/>
                      <a:pt x="21" y="63"/>
                    </a:cubicBezTo>
                  </a:path>
                </a:pathLst>
              </a:custGeom>
              <a:noFill/>
              <a:ln w="9360">
                <a:solidFill>
                  <a:srgbClr val="66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Oval 457"/>
              <p:cNvSpPr/>
              <p:nvPr/>
            </p:nvSpPr>
            <p:spPr>
              <a:xfrm flipV="1" rot="21360000">
                <a:off x="4721040" y="2290320"/>
                <a:ext cx="6120" cy="12240"/>
              </a:xfrm>
              <a:prstGeom prst="ellipse">
                <a:avLst/>
              </a:prstGeom>
              <a:solidFill>
                <a:srgbClr val="663366"/>
              </a:solidFill>
              <a:ln w="9360">
                <a:solidFill>
                  <a:srgbClr val="66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Oval 458"/>
              <p:cNvSpPr/>
              <p:nvPr/>
            </p:nvSpPr>
            <p:spPr>
              <a:xfrm flipV="1" rot="21360000">
                <a:off x="4727520" y="2289600"/>
                <a:ext cx="6840" cy="12240"/>
              </a:xfrm>
              <a:prstGeom prst="ellipse">
                <a:avLst/>
              </a:prstGeom>
              <a:solidFill>
                <a:srgbClr val="663366"/>
              </a:solidFill>
              <a:ln w="9360">
                <a:solidFill>
                  <a:srgbClr val="66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Freeform 459"/>
              <p:cNvSpPr/>
              <p:nvPr/>
            </p:nvSpPr>
            <p:spPr>
              <a:xfrm flipV="1" rot="1402800">
                <a:off x="4717440" y="2382480"/>
                <a:ext cx="12960" cy="2700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-360 h 27000"/>
                  <a:gd name="textAreaBottom" fmla="*/ 27000 h 27000"/>
                </a:gdLst>
                <a:ahLst/>
                <a:rect l="textAreaLeft" t="textAreaTop" r="textAreaRight" b="textAreaBottom"/>
                <a:pathLst>
                  <a:path w="90" h="181">
                    <a:moveTo>
                      <a:pt x="45" y="181"/>
                    </a:moveTo>
                    <a:cubicBezTo>
                      <a:pt x="30" y="181"/>
                      <a:pt x="0" y="120"/>
                      <a:pt x="0" y="90"/>
                    </a:cubicBezTo>
                    <a:cubicBezTo>
                      <a:pt x="0" y="60"/>
                      <a:pt x="30" y="0"/>
                      <a:pt x="45" y="0"/>
                    </a:cubicBezTo>
                    <a:cubicBezTo>
                      <a:pt x="60" y="0"/>
                      <a:pt x="90" y="60"/>
                      <a:pt x="90" y="90"/>
                    </a:cubicBezTo>
                    <a:cubicBezTo>
                      <a:pt x="90" y="120"/>
                      <a:pt x="60" y="181"/>
                      <a:pt x="45" y="181"/>
                    </a:cubicBezTo>
                    <a:close/>
                  </a:path>
                </a:pathLst>
              </a:custGeom>
              <a:noFill/>
              <a:ln w="64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Oval 460"/>
              <p:cNvSpPr/>
              <p:nvPr/>
            </p:nvSpPr>
            <p:spPr>
              <a:xfrm rot="720000">
                <a:off x="4700520" y="2345760"/>
                <a:ext cx="19800" cy="18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Group 461"/>
              <p:cNvGrpSpPr/>
              <p:nvPr/>
            </p:nvGrpSpPr>
            <p:grpSpPr>
              <a:xfrm>
                <a:off x="4528080" y="1998000"/>
                <a:ext cx="398160" cy="341280"/>
                <a:chOff x="4528080" y="1998000"/>
                <a:chExt cx="398160" cy="341280"/>
              </a:xfrm>
            </p:grpSpPr>
            <p:sp>
              <p:nvSpPr>
                <p:cNvPr id="1220" name="Oval 462"/>
                <p:cNvSpPr/>
                <p:nvPr/>
              </p:nvSpPr>
              <p:spPr>
                <a:xfrm>
                  <a:off x="4608360" y="2083320"/>
                  <a:ext cx="254160" cy="236880"/>
                </a:xfrm>
                <a:prstGeom prst="ellipse">
                  <a:avLst/>
                </a:prstGeom>
                <a:solidFill>
                  <a:srgbClr val="666699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1" name="Oval 463"/>
                <p:cNvSpPr/>
                <p:nvPr/>
              </p:nvSpPr>
              <p:spPr>
                <a:xfrm>
                  <a:off x="4629600" y="2103120"/>
                  <a:ext cx="211680" cy="197280"/>
                </a:xfrm>
                <a:prstGeom prst="ellipse">
                  <a:avLst/>
                </a:prstGeom>
                <a:solidFill>
                  <a:srgbClr val="66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2" name="Oval 464"/>
                <p:cNvSpPr/>
                <p:nvPr/>
              </p:nvSpPr>
              <p:spPr>
                <a:xfrm>
                  <a:off x="4708080" y="2021400"/>
                  <a:ext cx="53280" cy="6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424267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3" name="AutoShape 465"/>
                <p:cNvSpPr/>
                <p:nvPr/>
              </p:nvSpPr>
              <p:spPr>
                <a:xfrm flipH="1">
                  <a:off x="4698360" y="2041920"/>
                  <a:ext cx="24480" cy="21600"/>
                </a:xfrm>
                <a:custGeom>
                  <a:avLst/>
                  <a:gdLst>
                    <a:gd name="textAreaLeft" fmla="*/ 15120 w 24480"/>
                    <a:gd name="textAreaRight" fmla="*/ 15840 w 24480"/>
                    <a:gd name="textAreaTop" fmla="*/ 720 h 21600"/>
                    <a:gd name="textAreaBottom" fmla="*/ 20880 h 21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7719" y="2482"/>
                        <a:pt x="13837" y="5080"/>
                        <a:pt x="13837" y="10800"/>
                      </a:cubicBezTo>
                      <a:cubicBezTo>
                        <a:pt x="13837" y="16520"/>
                        <a:pt x="17719" y="1911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4" name="AutoShape 466"/>
                <p:cNvSpPr/>
                <p:nvPr/>
              </p:nvSpPr>
              <p:spPr>
                <a:xfrm>
                  <a:off x="4746240" y="2041920"/>
                  <a:ext cx="24480" cy="21600"/>
                </a:xfrm>
                <a:custGeom>
                  <a:avLst/>
                  <a:gdLst>
                    <a:gd name="textAreaLeft" fmla="*/ 15120 w 24480"/>
                    <a:gd name="textAreaRight" fmla="*/ 15840 w 24480"/>
                    <a:gd name="textAreaTop" fmla="*/ 720 h 21600"/>
                    <a:gd name="textAreaBottom" fmla="*/ 20880 h 21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7719" y="2482"/>
                        <a:pt x="13837" y="5080"/>
                        <a:pt x="13837" y="10800"/>
                      </a:cubicBezTo>
                      <a:cubicBezTo>
                        <a:pt x="13837" y="16520"/>
                        <a:pt x="17719" y="1911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5" name="Freeform 467"/>
                <p:cNvSpPr/>
                <p:nvPr/>
              </p:nvSpPr>
              <p:spPr>
                <a:xfrm rot="16677600">
                  <a:off x="4706640" y="2004480"/>
                  <a:ext cx="12240" cy="29160"/>
                </a:xfrm>
                <a:custGeom>
                  <a:avLst/>
                  <a:gdLst>
                    <a:gd name="textAreaLeft" fmla="*/ 0 w 12240"/>
                    <a:gd name="textAreaRight" fmla="*/ 12600 w 1224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6" name="Freeform 468"/>
                <p:cNvSpPr/>
                <p:nvPr/>
              </p:nvSpPr>
              <p:spPr>
                <a:xfrm rot="17784000">
                  <a:off x="4708080" y="2001600"/>
                  <a:ext cx="11520" cy="2916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7" name="Freeform 469"/>
                <p:cNvSpPr/>
                <p:nvPr/>
              </p:nvSpPr>
              <p:spPr>
                <a:xfrm rot="19039800">
                  <a:off x="4710600" y="1998720"/>
                  <a:ext cx="12600" cy="27360"/>
                </a:xfrm>
                <a:custGeom>
                  <a:avLst/>
                  <a:gdLst>
                    <a:gd name="textAreaLeft" fmla="*/ 0 w 12600"/>
                    <a:gd name="textAreaRight" fmla="*/ 12960 w 12600"/>
                    <a:gd name="textAreaTop" fmla="*/ 0 h 27360"/>
                    <a:gd name="textAreaBottom" fmla="*/ 27720 h 2736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8" name="Freeform 470"/>
                <p:cNvSpPr/>
                <p:nvPr/>
              </p:nvSpPr>
              <p:spPr>
                <a:xfrm flipH="1" rot="4922400">
                  <a:off x="4746960" y="2004480"/>
                  <a:ext cx="12240" cy="29160"/>
                </a:xfrm>
                <a:custGeom>
                  <a:avLst/>
                  <a:gdLst>
                    <a:gd name="textAreaLeft" fmla="*/ 360 w 12240"/>
                    <a:gd name="textAreaRight" fmla="*/ 12960 w 1224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9" name="Freeform 471"/>
                <p:cNvSpPr/>
                <p:nvPr/>
              </p:nvSpPr>
              <p:spPr>
                <a:xfrm flipH="1" rot="3816000">
                  <a:off x="4746600" y="2001240"/>
                  <a:ext cx="11520" cy="28800"/>
                </a:xfrm>
                <a:custGeom>
                  <a:avLst/>
                  <a:gdLst>
                    <a:gd name="textAreaLeft" fmla="*/ 360 w 11520"/>
                    <a:gd name="textAreaRight" fmla="*/ 12240 w 1152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0" name="Freeform 472"/>
                <p:cNvSpPr/>
                <p:nvPr/>
              </p:nvSpPr>
              <p:spPr>
                <a:xfrm flipH="1" rot="2560200">
                  <a:off x="4742640" y="1998720"/>
                  <a:ext cx="12600" cy="27360"/>
                </a:xfrm>
                <a:custGeom>
                  <a:avLst/>
                  <a:gdLst>
                    <a:gd name="textAreaLeft" fmla="*/ -360 w 12600"/>
                    <a:gd name="textAreaRight" fmla="*/ 12600 w 12600"/>
                    <a:gd name="textAreaTop" fmla="*/ 0 h 27360"/>
                    <a:gd name="textAreaBottom" fmla="*/ 27720 h 2736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1" name="Freeform 473"/>
                <p:cNvSpPr/>
                <p:nvPr/>
              </p:nvSpPr>
              <p:spPr>
                <a:xfrm>
                  <a:off x="4727880" y="2084760"/>
                  <a:ext cx="10080" cy="1872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18720"/>
                    <a:gd name="textAreaBottom" fmla="*/ 19080 h 18720"/>
                  </a:gdLst>
                  <a:ahLst/>
                  <a:rect l="textAreaLeft" t="textAreaTop" r="textAreaRight" b="textAreaBottom"/>
                  <a:pathLst>
                    <a:path w="36" h="68">
                      <a:moveTo>
                        <a:pt x="9" y="0"/>
                      </a:moveTo>
                      <a:cubicBezTo>
                        <a:pt x="10" y="0"/>
                        <a:pt x="30" y="5"/>
                        <a:pt x="24" y="12"/>
                      </a:cubicBezTo>
                      <a:cubicBezTo>
                        <a:pt x="20" y="17"/>
                        <a:pt x="6" y="18"/>
                        <a:pt x="6" y="18"/>
                      </a:cubicBezTo>
                      <a:cubicBezTo>
                        <a:pt x="8" y="21"/>
                        <a:pt x="9" y="25"/>
                        <a:pt x="12" y="27"/>
                      </a:cubicBezTo>
                      <a:cubicBezTo>
                        <a:pt x="22" y="35"/>
                        <a:pt x="32" y="35"/>
                        <a:pt x="6" y="42"/>
                      </a:cubicBezTo>
                      <a:cubicBezTo>
                        <a:pt x="36" y="52"/>
                        <a:pt x="23" y="55"/>
                        <a:pt x="0" y="60"/>
                      </a:cubicBezTo>
                      <a:cubicBezTo>
                        <a:pt x="13" y="68"/>
                        <a:pt x="8" y="63"/>
                        <a:pt x="21" y="63"/>
                      </a:cubicBezTo>
                    </a:path>
                  </a:pathLst>
                </a:custGeom>
                <a:solidFill>
                  <a:srgbClr val="663366"/>
                </a:solidFill>
                <a:ln w="9360">
                  <a:solidFill>
                    <a:srgbClr val="66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2" name="Freeform 474"/>
                <p:cNvSpPr/>
                <p:nvPr/>
              </p:nvSpPr>
              <p:spPr>
                <a:xfrm>
                  <a:off x="4734360" y="2085480"/>
                  <a:ext cx="10080" cy="1800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18000"/>
                    <a:gd name="textAreaBottom" fmla="*/ 18360 h 18000"/>
                  </a:gdLst>
                  <a:ahLst/>
                  <a:rect l="textAreaLeft" t="textAreaTop" r="textAreaRight" b="textAreaBottom"/>
                  <a:pathLst>
                    <a:path w="36" h="68">
                      <a:moveTo>
                        <a:pt x="9" y="0"/>
                      </a:moveTo>
                      <a:cubicBezTo>
                        <a:pt x="10" y="0"/>
                        <a:pt x="30" y="5"/>
                        <a:pt x="24" y="12"/>
                      </a:cubicBezTo>
                      <a:cubicBezTo>
                        <a:pt x="20" y="17"/>
                        <a:pt x="6" y="18"/>
                        <a:pt x="6" y="18"/>
                      </a:cubicBezTo>
                      <a:cubicBezTo>
                        <a:pt x="8" y="21"/>
                        <a:pt x="9" y="25"/>
                        <a:pt x="12" y="27"/>
                      </a:cubicBezTo>
                      <a:cubicBezTo>
                        <a:pt x="22" y="35"/>
                        <a:pt x="32" y="35"/>
                        <a:pt x="6" y="42"/>
                      </a:cubicBezTo>
                      <a:cubicBezTo>
                        <a:pt x="36" y="52"/>
                        <a:pt x="23" y="55"/>
                        <a:pt x="0" y="60"/>
                      </a:cubicBezTo>
                      <a:cubicBezTo>
                        <a:pt x="13" y="68"/>
                        <a:pt x="8" y="63"/>
                        <a:pt x="21" y="63"/>
                      </a:cubicBezTo>
                    </a:path>
                  </a:pathLst>
                </a:custGeom>
                <a:solidFill>
                  <a:srgbClr val="663366"/>
                </a:solidFill>
                <a:ln w="9360">
                  <a:solidFill>
                    <a:srgbClr val="66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3" name="Oval 475"/>
                <p:cNvSpPr/>
                <p:nvPr/>
              </p:nvSpPr>
              <p:spPr>
                <a:xfrm>
                  <a:off x="4728600" y="2103480"/>
                  <a:ext cx="6120" cy="12240"/>
                </a:xfrm>
                <a:prstGeom prst="ellipse">
                  <a:avLst/>
                </a:prstGeom>
                <a:solidFill>
                  <a:srgbClr val="663366"/>
                </a:solidFill>
                <a:ln w="9360">
                  <a:solidFill>
                    <a:srgbClr val="66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4" name="Oval 476"/>
                <p:cNvSpPr/>
                <p:nvPr/>
              </p:nvSpPr>
              <p:spPr>
                <a:xfrm>
                  <a:off x="4734360" y="2103840"/>
                  <a:ext cx="6480" cy="12240"/>
                </a:xfrm>
                <a:prstGeom prst="ellipse">
                  <a:avLst/>
                </a:prstGeom>
                <a:solidFill>
                  <a:srgbClr val="663366"/>
                </a:solidFill>
                <a:ln w="9360">
                  <a:solidFill>
                    <a:srgbClr val="66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5" name="Oval 477"/>
                <p:cNvSpPr/>
                <p:nvPr/>
              </p:nvSpPr>
              <p:spPr>
                <a:xfrm rot="3348000">
                  <a:off x="4842360" y="2085480"/>
                  <a:ext cx="49320" cy="6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424267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6" name="AutoShape 478"/>
                <p:cNvSpPr/>
                <p:nvPr/>
              </p:nvSpPr>
              <p:spPr>
                <a:xfrm flipH="1" rot="3348000">
                  <a:off x="4840560" y="2088720"/>
                  <a:ext cx="23400" cy="22680"/>
                </a:xfrm>
                <a:custGeom>
                  <a:avLst/>
                  <a:gdLst>
                    <a:gd name="textAreaLeft" fmla="*/ 14040 w 23400"/>
                    <a:gd name="textAreaRight" fmla="*/ 14760 w 23400"/>
                    <a:gd name="textAreaTop" fmla="*/ 720 h 22680"/>
                    <a:gd name="textAreaBottom" fmla="*/ 21960 h 22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7719" y="2482"/>
                        <a:pt x="13837" y="5080"/>
                        <a:pt x="13837" y="10800"/>
                      </a:cubicBezTo>
                      <a:cubicBezTo>
                        <a:pt x="13837" y="16520"/>
                        <a:pt x="17719" y="1911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7" name="AutoShape 479"/>
                <p:cNvSpPr/>
                <p:nvPr/>
              </p:nvSpPr>
              <p:spPr>
                <a:xfrm rot="3348000">
                  <a:off x="4868280" y="2126160"/>
                  <a:ext cx="23040" cy="23040"/>
                </a:xfrm>
                <a:custGeom>
                  <a:avLst/>
                  <a:gdLst>
                    <a:gd name="textAreaLeft" fmla="*/ 14040 w 23040"/>
                    <a:gd name="textAreaRight" fmla="*/ 14760 w 23040"/>
                    <a:gd name="textAreaTop" fmla="*/ 720 h 23040"/>
                    <a:gd name="textAreaBottom" fmla="*/ 22320 h 23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7719" y="2482"/>
                        <a:pt x="13837" y="5080"/>
                        <a:pt x="13837" y="10800"/>
                      </a:cubicBezTo>
                      <a:cubicBezTo>
                        <a:pt x="13837" y="16520"/>
                        <a:pt x="17719" y="1911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8" name="Freeform 480"/>
                <p:cNvSpPr/>
                <p:nvPr/>
              </p:nvSpPr>
              <p:spPr>
                <a:xfrm rot="20025600">
                  <a:off x="4877280" y="2069640"/>
                  <a:ext cx="12960" cy="2736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0 h 27360"/>
                    <a:gd name="textAreaBottom" fmla="*/ 27720 h 2736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9" name="Freeform 481"/>
                <p:cNvSpPr/>
                <p:nvPr/>
              </p:nvSpPr>
              <p:spPr>
                <a:xfrm rot="21131400">
                  <a:off x="4881600" y="2068560"/>
                  <a:ext cx="12600" cy="27360"/>
                </a:xfrm>
                <a:custGeom>
                  <a:avLst/>
                  <a:gdLst>
                    <a:gd name="textAreaLeft" fmla="*/ 0 w 12600"/>
                    <a:gd name="textAreaRight" fmla="*/ 12960 w 12600"/>
                    <a:gd name="textAreaTop" fmla="*/ 0 h 27360"/>
                    <a:gd name="textAreaBottom" fmla="*/ 27720 h 2736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0" name="Freeform 482"/>
                <p:cNvSpPr/>
                <p:nvPr/>
              </p:nvSpPr>
              <p:spPr>
                <a:xfrm rot="787800">
                  <a:off x="4885920" y="2069280"/>
                  <a:ext cx="12960" cy="2664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0 h 26640"/>
                    <a:gd name="textAreaBottom" fmla="*/ 27000 h 2664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1" name="Freeform 483"/>
                <p:cNvSpPr/>
                <p:nvPr/>
              </p:nvSpPr>
              <p:spPr>
                <a:xfrm flipH="1" rot="8269800">
                  <a:off x="4900680" y="2100600"/>
                  <a:ext cx="12960" cy="27360"/>
                </a:xfrm>
                <a:custGeom>
                  <a:avLst/>
                  <a:gdLst>
                    <a:gd name="textAreaLeft" fmla="*/ 360 w 12960"/>
                    <a:gd name="textAreaRight" fmla="*/ 13680 w 12960"/>
                    <a:gd name="textAreaTop" fmla="*/ 0 h 27360"/>
                    <a:gd name="textAreaBottom" fmla="*/ 27720 h 2736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2" name="Freeform 484"/>
                <p:cNvSpPr/>
                <p:nvPr/>
              </p:nvSpPr>
              <p:spPr>
                <a:xfrm flipH="1" rot="7163400">
                  <a:off x="4903920" y="2097360"/>
                  <a:ext cx="11160" cy="29160"/>
                </a:xfrm>
                <a:custGeom>
                  <a:avLst/>
                  <a:gdLst>
                    <a:gd name="textAreaLeft" fmla="*/ -360 w 11160"/>
                    <a:gd name="textAreaRight" fmla="*/ 11160 w 1116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3" name="Freeform 485"/>
                <p:cNvSpPr/>
                <p:nvPr/>
              </p:nvSpPr>
              <p:spPr>
                <a:xfrm flipH="1" rot="5907600">
                  <a:off x="4904640" y="2092680"/>
                  <a:ext cx="11880" cy="29160"/>
                </a:xfrm>
                <a:custGeom>
                  <a:avLst/>
                  <a:gdLst>
                    <a:gd name="textAreaLeft" fmla="*/ -360 w 11880"/>
                    <a:gd name="textAreaRight" fmla="*/ 11880 w 1188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4" name="Freeform 486"/>
                <p:cNvSpPr/>
                <p:nvPr/>
              </p:nvSpPr>
              <p:spPr>
                <a:xfrm rot="3348000">
                  <a:off x="4824720" y="2130840"/>
                  <a:ext cx="9720" cy="19440"/>
                </a:xfrm>
                <a:custGeom>
                  <a:avLst/>
                  <a:gdLst>
                    <a:gd name="textAreaLeft" fmla="*/ 0 w 9720"/>
                    <a:gd name="textAreaRight" fmla="*/ 10080 w 9720"/>
                    <a:gd name="textAreaTop" fmla="*/ 0 h 19440"/>
                    <a:gd name="textAreaBottom" fmla="*/ 19800 h 19440"/>
                  </a:gdLst>
                  <a:ahLst/>
                  <a:rect l="textAreaLeft" t="textAreaTop" r="textAreaRight" b="textAreaBottom"/>
                  <a:pathLst>
                    <a:path w="36" h="68">
                      <a:moveTo>
                        <a:pt x="9" y="0"/>
                      </a:moveTo>
                      <a:cubicBezTo>
                        <a:pt x="10" y="0"/>
                        <a:pt x="30" y="5"/>
                        <a:pt x="24" y="12"/>
                      </a:cubicBezTo>
                      <a:cubicBezTo>
                        <a:pt x="20" y="17"/>
                        <a:pt x="6" y="18"/>
                        <a:pt x="6" y="18"/>
                      </a:cubicBezTo>
                      <a:cubicBezTo>
                        <a:pt x="8" y="21"/>
                        <a:pt x="9" y="25"/>
                        <a:pt x="12" y="27"/>
                      </a:cubicBezTo>
                      <a:cubicBezTo>
                        <a:pt x="22" y="35"/>
                        <a:pt x="32" y="35"/>
                        <a:pt x="6" y="42"/>
                      </a:cubicBezTo>
                      <a:cubicBezTo>
                        <a:pt x="36" y="52"/>
                        <a:pt x="23" y="55"/>
                        <a:pt x="0" y="60"/>
                      </a:cubicBezTo>
                      <a:cubicBezTo>
                        <a:pt x="13" y="68"/>
                        <a:pt x="8" y="63"/>
                        <a:pt x="21" y="63"/>
                      </a:cubicBezTo>
                    </a:path>
                  </a:pathLst>
                </a:custGeom>
                <a:solidFill>
                  <a:srgbClr val="663366"/>
                </a:solidFill>
                <a:ln w="9360">
                  <a:solidFill>
                    <a:srgbClr val="66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5" name="Freeform 487"/>
                <p:cNvSpPr/>
                <p:nvPr/>
              </p:nvSpPr>
              <p:spPr>
                <a:xfrm rot="3348000">
                  <a:off x="4827960" y="2135880"/>
                  <a:ext cx="9360" cy="19440"/>
                </a:xfrm>
                <a:custGeom>
                  <a:avLst/>
                  <a:gdLst>
                    <a:gd name="textAreaLeft" fmla="*/ 0 w 9360"/>
                    <a:gd name="textAreaRight" fmla="*/ 9720 w 9360"/>
                    <a:gd name="textAreaTop" fmla="*/ 0 h 19440"/>
                    <a:gd name="textAreaBottom" fmla="*/ 19800 h 19440"/>
                  </a:gdLst>
                  <a:ahLst/>
                  <a:rect l="textAreaLeft" t="textAreaTop" r="textAreaRight" b="textAreaBottom"/>
                  <a:pathLst>
                    <a:path w="36" h="68">
                      <a:moveTo>
                        <a:pt x="9" y="0"/>
                      </a:moveTo>
                      <a:cubicBezTo>
                        <a:pt x="10" y="0"/>
                        <a:pt x="30" y="5"/>
                        <a:pt x="24" y="12"/>
                      </a:cubicBezTo>
                      <a:cubicBezTo>
                        <a:pt x="20" y="17"/>
                        <a:pt x="6" y="18"/>
                        <a:pt x="6" y="18"/>
                      </a:cubicBezTo>
                      <a:cubicBezTo>
                        <a:pt x="8" y="21"/>
                        <a:pt x="9" y="25"/>
                        <a:pt x="12" y="27"/>
                      </a:cubicBezTo>
                      <a:cubicBezTo>
                        <a:pt x="22" y="35"/>
                        <a:pt x="32" y="35"/>
                        <a:pt x="6" y="42"/>
                      </a:cubicBezTo>
                      <a:cubicBezTo>
                        <a:pt x="36" y="52"/>
                        <a:pt x="23" y="55"/>
                        <a:pt x="0" y="60"/>
                      </a:cubicBezTo>
                      <a:cubicBezTo>
                        <a:pt x="13" y="68"/>
                        <a:pt x="8" y="63"/>
                        <a:pt x="21" y="63"/>
                      </a:cubicBezTo>
                    </a:path>
                  </a:pathLst>
                </a:custGeom>
                <a:solidFill>
                  <a:srgbClr val="663366"/>
                </a:solidFill>
                <a:ln w="9360">
                  <a:solidFill>
                    <a:srgbClr val="66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6" name="Oval 488"/>
                <p:cNvSpPr/>
                <p:nvPr/>
              </p:nvSpPr>
              <p:spPr>
                <a:xfrm rot="3348000">
                  <a:off x="4811760" y="2141280"/>
                  <a:ext cx="6120" cy="13320"/>
                </a:xfrm>
                <a:prstGeom prst="ellipse">
                  <a:avLst/>
                </a:prstGeom>
                <a:solidFill>
                  <a:srgbClr val="663366"/>
                </a:solidFill>
                <a:ln w="9360">
                  <a:solidFill>
                    <a:srgbClr val="66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7" name="Oval 489"/>
                <p:cNvSpPr/>
                <p:nvPr/>
              </p:nvSpPr>
              <p:spPr>
                <a:xfrm rot="3348000">
                  <a:off x="4815360" y="2146680"/>
                  <a:ext cx="6120" cy="13320"/>
                </a:xfrm>
                <a:prstGeom prst="ellipse">
                  <a:avLst/>
                </a:prstGeom>
                <a:solidFill>
                  <a:srgbClr val="663366"/>
                </a:solidFill>
                <a:ln w="9360">
                  <a:solidFill>
                    <a:srgbClr val="66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8" name="Oval 490"/>
                <p:cNvSpPr/>
                <p:nvPr/>
              </p:nvSpPr>
              <p:spPr>
                <a:xfrm flipH="1" rot="18252000">
                  <a:off x="4575960" y="2080440"/>
                  <a:ext cx="49680" cy="66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424267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9" name="AutoShape 491"/>
                <p:cNvSpPr/>
                <p:nvPr/>
              </p:nvSpPr>
              <p:spPr>
                <a:xfrm rot="18252000">
                  <a:off x="4603680" y="2083680"/>
                  <a:ext cx="23040" cy="23040"/>
                </a:xfrm>
                <a:custGeom>
                  <a:avLst/>
                  <a:gdLst>
                    <a:gd name="textAreaLeft" fmla="*/ 14040 w 23040"/>
                    <a:gd name="textAreaRight" fmla="*/ 14760 w 23040"/>
                    <a:gd name="textAreaTop" fmla="*/ 720 h 23040"/>
                    <a:gd name="textAreaBottom" fmla="*/ 22320 h 23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7719" y="2482"/>
                        <a:pt x="13837" y="5080"/>
                        <a:pt x="13837" y="10800"/>
                      </a:cubicBezTo>
                      <a:cubicBezTo>
                        <a:pt x="13837" y="16520"/>
                        <a:pt x="17719" y="1911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0" name="AutoShape 492"/>
                <p:cNvSpPr/>
                <p:nvPr/>
              </p:nvSpPr>
              <p:spPr>
                <a:xfrm flipH="1" rot="18252000">
                  <a:off x="4575600" y="2121480"/>
                  <a:ext cx="23040" cy="23040"/>
                </a:xfrm>
                <a:custGeom>
                  <a:avLst/>
                  <a:gdLst>
                    <a:gd name="textAreaLeft" fmla="*/ 14040 w 23040"/>
                    <a:gd name="textAreaRight" fmla="*/ 14760 w 23040"/>
                    <a:gd name="textAreaTop" fmla="*/ 720 h 23040"/>
                    <a:gd name="textAreaBottom" fmla="*/ 22320 h 23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7719" y="2482"/>
                        <a:pt x="13837" y="5080"/>
                        <a:pt x="13837" y="10800"/>
                      </a:cubicBezTo>
                      <a:cubicBezTo>
                        <a:pt x="13837" y="16520"/>
                        <a:pt x="17719" y="1911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1" name="Freeform 493"/>
                <p:cNvSpPr/>
                <p:nvPr/>
              </p:nvSpPr>
              <p:spPr>
                <a:xfrm flipH="1" rot="1574400">
                  <a:off x="4577040" y="2063880"/>
                  <a:ext cx="12240" cy="27360"/>
                </a:xfrm>
                <a:custGeom>
                  <a:avLst/>
                  <a:gdLst>
                    <a:gd name="textAreaLeft" fmla="*/ 360 w 12240"/>
                    <a:gd name="textAreaRight" fmla="*/ 12960 w 12240"/>
                    <a:gd name="textAreaTop" fmla="*/ 0 h 27360"/>
                    <a:gd name="textAreaBottom" fmla="*/ 27720 h 2736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2" name="Freeform 494"/>
                <p:cNvSpPr/>
                <p:nvPr/>
              </p:nvSpPr>
              <p:spPr>
                <a:xfrm flipH="1" rot="468600">
                  <a:off x="4573800" y="2063880"/>
                  <a:ext cx="12600" cy="27360"/>
                </a:xfrm>
                <a:custGeom>
                  <a:avLst/>
                  <a:gdLst>
                    <a:gd name="textAreaLeft" fmla="*/ -360 w 12600"/>
                    <a:gd name="textAreaRight" fmla="*/ 12600 w 12600"/>
                    <a:gd name="textAreaTop" fmla="*/ 0 h 27360"/>
                    <a:gd name="textAreaBottom" fmla="*/ 27720 h 2736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3" name="Freeform 495"/>
                <p:cNvSpPr/>
                <p:nvPr/>
              </p:nvSpPr>
              <p:spPr>
                <a:xfrm flipH="1" rot="20812200">
                  <a:off x="4569120" y="2064240"/>
                  <a:ext cx="12960" cy="26640"/>
                </a:xfrm>
                <a:custGeom>
                  <a:avLst/>
                  <a:gdLst>
                    <a:gd name="textAreaLeft" fmla="*/ 360 w 12960"/>
                    <a:gd name="textAreaRight" fmla="*/ 13680 w 12960"/>
                    <a:gd name="textAreaTop" fmla="*/ 0 h 26640"/>
                    <a:gd name="textAreaBottom" fmla="*/ 27000 h 2664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4" name="Freeform 496"/>
                <p:cNvSpPr/>
                <p:nvPr/>
              </p:nvSpPr>
              <p:spPr>
                <a:xfrm rot="13330200">
                  <a:off x="4554360" y="2095920"/>
                  <a:ext cx="12960" cy="2700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5" name="Freeform 497"/>
                <p:cNvSpPr/>
                <p:nvPr/>
              </p:nvSpPr>
              <p:spPr>
                <a:xfrm rot="14436600">
                  <a:off x="4552560" y="2091960"/>
                  <a:ext cx="11160" cy="29520"/>
                </a:xfrm>
                <a:custGeom>
                  <a:avLst/>
                  <a:gdLst>
                    <a:gd name="textAreaLeft" fmla="*/ 0 w 11160"/>
                    <a:gd name="textAreaRight" fmla="*/ 11520 w 11160"/>
                    <a:gd name="textAreaTop" fmla="*/ 0 h 29520"/>
                    <a:gd name="textAreaBottom" fmla="*/ 29880 h 2952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6" name="Freeform 498"/>
                <p:cNvSpPr/>
                <p:nvPr/>
              </p:nvSpPr>
              <p:spPr>
                <a:xfrm rot="15692400">
                  <a:off x="4551120" y="2088000"/>
                  <a:ext cx="11880" cy="2880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7" name="Freeform 499"/>
                <p:cNvSpPr/>
                <p:nvPr/>
              </p:nvSpPr>
              <p:spPr>
                <a:xfrm flipH="1" rot="18252000">
                  <a:off x="4634280" y="2125800"/>
                  <a:ext cx="9720" cy="19440"/>
                </a:xfrm>
                <a:custGeom>
                  <a:avLst/>
                  <a:gdLst>
                    <a:gd name="textAreaLeft" fmla="*/ -360 w 9720"/>
                    <a:gd name="textAreaRight" fmla="*/ 9720 w 9720"/>
                    <a:gd name="textAreaTop" fmla="*/ 0 h 19440"/>
                    <a:gd name="textAreaBottom" fmla="*/ 19800 h 19440"/>
                  </a:gdLst>
                  <a:ahLst/>
                  <a:rect l="textAreaLeft" t="textAreaTop" r="textAreaRight" b="textAreaBottom"/>
                  <a:pathLst>
                    <a:path w="36" h="68">
                      <a:moveTo>
                        <a:pt x="9" y="0"/>
                      </a:moveTo>
                      <a:cubicBezTo>
                        <a:pt x="10" y="0"/>
                        <a:pt x="30" y="5"/>
                        <a:pt x="24" y="12"/>
                      </a:cubicBezTo>
                      <a:cubicBezTo>
                        <a:pt x="20" y="17"/>
                        <a:pt x="6" y="18"/>
                        <a:pt x="6" y="18"/>
                      </a:cubicBezTo>
                      <a:cubicBezTo>
                        <a:pt x="8" y="21"/>
                        <a:pt x="9" y="25"/>
                        <a:pt x="12" y="27"/>
                      </a:cubicBezTo>
                      <a:cubicBezTo>
                        <a:pt x="22" y="35"/>
                        <a:pt x="32" y="35"/>
                        <a:pt x="6" y="42"/>
                      </a:cubicBezTo>
                      <a:cubicBezTo>
                        <a:pt x="36" y="52"/>
                        <a:pt x="23" y="55"/>
                        <a:pt x="0" y="60"/>
                      </a:cubicBezTo>
                      <a:cubicBezTo>
                        <a:pt x="13" y="68"/>
                        <a:pt x="8" y="63"/>
                        <a:pt x="21" y="63"/>
                      </a:cubicBezTo>
                    </a:path>
                  </a:pathLst>
                </a:custGeom>
                <a:solidFill>
                  <a:srgbClr val="663366"/>
                </a:solidFill>
                <a:ln w="9360">
                  <a:solidFill>
                    <a:srgbClr val="66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8" name="Freeform 500"/>
                <p:cNvSpPr/>
                <p:nvPr/>
              </p:nvSpPr>
              <p:spPr>
                <a:xfrm flipH="1" rot="18252000">
                  <a:off x="4631040" y="2131200"/>
                  <a:ext cx="9720" cy="19440"/>
                </a:xfrm>
                <a:custGeom>
                  <a:avLst/>
                  <a:gdLst>
                    <a:gd name="textAreaLeft" fmla="*/ -360 w 9720"/>
                    <a:gd name="textAreaRight" fmla="*/ 9720 w 9720"/>
                    <a:gd name="textAreaTop" fmla="*/ 0 h 19440"/>
                    <a:gd name="textAreaBottom" fmla="*/ 19800 h 19440"/>
                  </a:gdLst>
                  <a:ahLst/>
                  <a:rect l="textAreaLeft" t="textAreaTop" r="textAreaRight" b="textAreaBottom"/>
                  <a:pathLst>
                    <a:path w="36" h="68">
                      <a:moveTo>
                        <a:pt x="9" y="0"/>
                      </a:moveTo>
                      <a:cubicBezTo>
                        <a:pt x="10" y="0"/>
                        <a:pt x="30" y="5"/>
                        <a:pt x="24" y="12"/>
                      </a:cubicBezTo>
                      <a:cubicBezTo>
                        <a:pt x="20" y="17"/>
                        <a:pt x="6" y="18"/>
                        <a:pt x="6" y="18"/>
                      </a:cubicBezTo>
                      <a:cubicBezTo>
                        <a:pt x="8" y="21"/>
                        <a:pt x="9" y="25"/>
                        <a:pt x="12" y="27"/>
                      </a:cubicBezTo>
                      <a:cubicBezTo>
                        <a:pt x="22" y="35"/>
                        <a:pt x="32" y="35"/>
                        <a:pt x="6" y="42"/>
                      </a:cubicBezTo>
                      <a:cubicBezTo>
                        <a:pt x="36" y="52"/>
                        <a:pt x="23" y="55"/>
                        <a:pt x="0" y="60"/>
                      </a:cubicBezTo>
                      <a:cubicBezTo>
                        <a:pt x="13" y="68"/>
                        <a:pt x="8" y="63"/>
                        <a:pt x="21" y="63"/>
                      </a:cubicBezTo>
                    </a:path>
                  </a:pathLst>
                </a:custGeom>
                <a:solidFill>
                  <a:srgbClr val="663366"/>
                </a:solidFill>
                <a:ln w="9360">
                  <a:solidFill>
                    <a:srgbClr val="66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9" name="Oval 501"/>
                <p:cNvSpPr/>
                <p:nvPr/>
              </p:nvSpPr>
              <p:spPr>
                <a:xfrm flipH="1" rot="18252000">
                  <a:off x="4649760" y="2136600"/>
                  <a:ext cx="6120" cy="13320"/>
                </a:xfrm>
                <a:prstGeom prst="ellipse">
                  <a:avLst/>
                </a:prstGeom>
                <a:solidFill>
                  <a:srgbClr val="663366"/>
                </a:solidFill>
                <a:ln w="9360">
                  <a:solidFill>
                    <a:srgbClr val="66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0" name="Oval 502"/>
                <p:cNvSpPr/>
                <p:nvPr/>
              </p:nvSpPr>
              <p:spPr>
                <a:xfrm flipH="1" rot="18252000">
                  <a:off x="4646160" y="2141640"/>
                  <a:ext cx="6120" cy="13320"/>
                </a:xfrm>
                <a:prstGeom prst="ellipse">
                  <a:avLst/>
                </a:prstGeom>
                <a:solidFill>
                  <a:srgbClr val="663366"/>
                </a:solidFill>
                <a:ln w="9360">
                  <a:solidFill>
                    <a:srgbClr val="66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1" name="Oval 503"/>
                <p:cNvSpPr/>
                <p:nvPr/>
              </p:nvSpPr>
              <p:spPr>
                <a:xfrm flipV="1" rot="18252000">
                  <a:off x="4840200" y="2255040"/>
                  <a:ext cx="49680" cy="6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424267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2" name="AutoShape 504"/>
                <p:cNvSpPr/>
                <p:nvPr/>
              </p:nvSpPr>
              <p:spPr>
                <a:xfrm flipH="1" flipV="1" rot="18252000">
                  <a:off x="4839480" y="2295360"/>
                  <a:ext cx="23040" cy="22680"/>
                </a:xfrm>
                <a:custGeom>
                  <a:avLst/>
                  <a:gdLst>
                    <a:gd name="textAreaLeft" fmla="*/ 14040 w 23040"/>
                    <a:gd name="textAreaRight" fmla="*/ 14760 w 23040"/>
                    <a:gd name="textAreaTop" fmla="*/ 720 h 22680"/>
                    <a:gd name="textAreaBottom" fmla="*/ 21960 h 22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7719" y="2482"/>
                        <a:pt x="13837" y="5080"/>
                        <a:pt x="13837" y="10800"/>
                      </a:cubicBezTo>
                      <a:cubicBezTo>
                        <a:pt x="13837" y="16520"/>
                        <a:pt x="17719" y="1911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3" name="AutoShape 505"/>
                <p:cNvSpPr/>
                <p:nvPr/>
              </p:nvSpPr>
              <p:spPr>
                <a:xfrm flipV="1" rot="18252000">
                  <a:off x="4866480" y="2258280"/>
                  <a:ext cx="23040" cy="22680"/>
                </a:xfrm>
                <a:custGeom>
                  <a:avLst/>
                  <a:gdLst>
                    <a:gd name="textAreaLeft" fmla="*/ 14040 w 23040"/>
                    <a:gd name="textAreaRight" fmla="*/ 14760 w 23040"/>
                    <a:gd name="textAreaTop" fmla="*/ 720 h 22680"/>
                    <a:gd name="textAreaBottom" fmla="*/ 21960 h 22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7719" y="2482"/>
                        <a:pt x="13837" y="5080"/>
                        <a:pt x="13837" y="10800"/>
                      </a:cubicBezTo>
                      <a:cubicBezTo>
                        <a:pt x="13837" y="16520"/>
                        <a:pt x="17719" y="1911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4" name="Freeform 506"/>
                <p:cNvSpPr/>
                <p:nvPr/>
              </p:nvSpPr>
              <p:spPr>
                <a:xfrm flipV="1" rot="1574400">
                  <a:off x="4875840" y="2309040"/>
                  <a:ext cx="12240" cy="27360"/>
                </a:xfrm>
                <a:custGeom>
                  <a:avLst/>
                  <a:gdLst>
                    <a:gd name="textAreaLeft" fmla="*/ 0 w 12240"/>
                    <a:gd name="textAreaRight" fmla="*/ 12600 w 12240"/>
                    <a:gd name="textAreaTop" fmla="*/ 360 h 27360"/>
                    <a:gd name="textAreaBottom" fmla="*/ 28080 h 2736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5" name="Freeform 507"/>
                <p:cNvSpPr/>
                <p:nvPr/>
              </p:nvSpPr>
              <p:spPr>
                <a:xfrm flipV="1" rot="468600">
                  <a:off x="4879440" y="2310480"/>
                  <a:ext cx="12240" cy="27720"/>
                </a:xfrm>
                <a:custGeom>
                  <a:avLst/>
                  <a:gdLst>
                    <a:gd name="textAreaLeft" fmla="*/ 0 w 12240"/>
                    <a:gd name="textAreaRight" fmla="*/ 12600 w 12240"/>
                    <a:gd name="textAreaTop" fmla="*/ -360 h 27720"/>
                    <a:gd name="textAreaBottom" fmla="*/ 27720 h 2772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6" name="Freeform 508"/>
                <p:cNvSpPr/>
                <p:nvPr/>
              </p:nvSpPr>
              <p:spPr>
                <a:xfrm flipV="1" rot="20812200">
                  <a:off x="4884480" y="2311200"/>
                  <a:ext cx="12600" cy="26640"/>
                </a:xfrm>
                <a:custGeom>
                  <a:avLst/>
                  <a:gdLst>
                    <a:gd name="textAreaLeft" fmla="*/ 0 w 12600"/>
                    <a:gd name="textAreaRight" fmla="*/ 12960 w 12600"/>
                    <a:gd name="textAreaTop" fmla="*/ 360 h 26640"/>
                    <a:gd name="textAreaBottom" fmla="*/ 27360 h 2664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7" name="Freeform 509"/>
                <p:cNvSpPr/>
                <p:nvPr/>
              </p:nvSpPr>
              <p:spPr>
                <a:xfrm flipH="1" flipV="1" rot="13330200">
                  <a:off x="4898880" y="2278800"/>
                  <a:ext cx="12600" cy="27360"/>
                </a:xfrm>
                <a:custGeom>
                  <a:avLst/>
                  <a:gdLst>
                    <a:gd name="textAreaLeft" fmla="*/ -360 w 12600"/>
                    <a:gd name="textAreaRight" fmla="*/ 12600 w 12600"/>
                    <a:gd name="textAreaTop" fmla="*/ 360 h 27360"/>
                    <a:gd name="textAreaBottom" fmla="*/ 28080 h 2736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8" name="Freeform 510"/>
                <p:cNvSpPr/>
                <p:nvPr/>
              </p:nvSpPr>
              <p:spPr>
                <a:xfrm flipH="1" flipV="1" rot="14436600">
                  <a:off x="4900680" y="2279160"/>
                  <a:ext cx="11520" cy="29520"/>
                </a:xfrm>
                <a:custGeom>
                  <a:avLst/>
                  <a:gdLst>
                    <a:gd name="textAreaLeft" fmla="*/ 360 w 11520"/>
                    <a:gd name="textAreaRight" fmla="*/ 12240 w 11520"/>
                    <a:gd name="textAreaTop" fmla="*/ 360 h 29520"/>
                    <a:gd name="textAreaBottom" fmla="*/ 30240 h 2952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9" name="Freeform 511"/>
                <p:cNvSpPr/>
                <p:nvPr/>
              </p:nvSpPr>
              <p:spPr>
                <a:xfrm flipH="1" flipV="1" rot="15692400">
                  <a:off x="4902840" y="2284200"/>
                  <a:ext cx="11520" cy="29160"/>
                </a:xfrm>
                <a:custGeom>
                  <a:avLst/>
                  <a:gdLst>
                    <a:gd name="textAreaLeft" fmla="*/ 360 w 11520"/>
                    <a:gd name="textAreaRight" fmla="*/ 12240 w 11520"/>
                    <a:gd name="textAreaTop" fmla="*/ -360 h 29160"/>
                    <a:gd name="textAreaBottom" fmla="*/ 29160 h 2916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0" name="Freeform 512"/>
                <p:cNvSpPr/>
                <p:nvPr/>
              </p:nvSpPr>
              <p:spPr>
                <a:xfrm flipV="1" rot="18252000">
                  <a:off x="4822560" y="2256840"/>
                  <a:ext cx="10080" cy="1980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-360 h 19800"/>
                    <a:gd name="textAreaBottom" fmla="*/ 19800 h 19800"/>
                  </a:gdLst>
                  <a:ahLst/>
                  <a:rect l="textAreaLeft" t="textAreaTop" r="textAreaRight" b="textAreaBottom"/>
                  <a:pathLst>
                    <a:path w="36" h="68">
                      <a:moveTo>
                        <a:pt x="9" y="0"/>
                      </a:moveTo>
                      <a:cubicBezTo>
                        <a:pt x="10" y="0"/>
                        <a:pt x="30" y="5"/>
                        <a:pt x="24" y="12"/>
                      </a:cubicBezTo>
                      <a:cubicBezTo>
                        <a:pt x="20" y="17"/>
                        <a:pt x="6" y="18"/>
                        <a:pt x="6" y="18"/>
                      </a:cubicBezTo>
                      <a:cubicBezTo>
                        <a:pt x="8" y="21"/>
                        <a:pt x="9" y="25"/>
                        <a:pt x="12" y="27"/>
                      </a:cubicBezTo>
                      <a:cubicBezTo>
                        <a:pt x="22" y="35"/>
                        <a:pt x="32" y="35"/>
                        <a:pt x="6" y="42"/>
                      </a:cubicBezTo>
                      <a:cubicBezTo>
                        <a:pt x="36" y="52"/>
                        <a:pt x="23" y="55"/>
                        <a:pt x="0" y="60"/>
                      </a:cubicBezTo>
                      <a:cubicBezTo>
                        <a:pt x="13" y="68"/>
                        <a:pt x="8" y="63"/>
                        <a:pt x="21" y="63"/>
                      </a:cubicBezTo>
                    </a:path>
                  </a:pathLst>
                </a:custGeom>
                <a:solidFill>
                  <a:srgbClr val="663366"/>
                </a:solidFill>
                <a:ln w="9360">
                  <a:solidFill>
                    <a:srgbClr val="66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1" name="Freeform 513"/>
                <p:cNvSpPr/>
                <p:nvPr/>
              </p:nvSpPr>
              <p:spPr>
                <a:xfrm flipV="1" rot="18252000">
                  <a:off x="4826520" y="2252160"/>
                  <a:ext cx="9720" cy="19440"/>
                </a:xfrm>
                <a:custGeom>
                  <a:avLst/>
                  <a:gdLst>
                    <a:gd name="textAreaLeft" fmla="*/ 0 w 9720"/>
                    <a:gd name="textAreaRight" fmla="*/ 10080 w 9720"/>
                    <a:gd name="textAreaTop" fmla="*/ 360 h 19440"/>
                    <a:gd name="textAreaBottom" fmla="*/ 20160 h 19440"/>
                  </a:gdLst>
                  <a:ahLst/>
                  <a:rect l="textAreaLeft" t="textAreaTop" r="textAreaRight" b="textAreaBottom"/>
                  <a:pathLst>
                    <a:path w="36" h="68">
                      <a:moveTo>
                        <a:pt x="9" y="0"/>
                      </a:moveTo>
                      <a:cubicBezTo>
                        <a:pt x="10" y="0"/>
                        <a:pt x="30" y="5"/>
                        <a:pt x="24" y="12"/>
                      </a:cubicBezTo>
                      <a:cubicBezTo>
                        <a:pt x="20" y="17"/>
                        <a:pt x="6" y="18"/>
                        <a:pt x="6" y="18"/>
                      </a:cubicBezTo>
                      <a:cubicBezTo>
                        <a:pt x="8" y="21"/>
                        <a:pt x="9" y="25"/>
                        <a:pt x="12" y="27"/>
                      </a:cubicBezTo>
                      <a:cubicBezTo>
                        <a:pt x="22" y="35"/>
                        <a:pt x="32" y="35"/>
                        <a:pt x="6" y="42"/>
                      </a:cubicBezTo>
                      <a:cubicBezTo>
                        <a:pt x="36" y="52"/>
                        <a:pt x="23" y="55"/>
                        <a:pt x="0" y="60"/>
                      </a:cubicBezTo>
                      <a:cubicBezTo>
                        <a:pt x="13" y="68"/>
                        <a:pt x="8" y="63"/>
                        <a:pt x="21" y="63"/>
                      </a:cubicBezTo>
                    </a:path>
                  </a:pathLst>
                </a:custGeom>
                <a:solidFill>
                  <a:srgbClr val="663366"/>
                </a:solidFill>
                <a:ln w="9360">
                  <a:solidFill>
                    <a:srgbClr val="66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2" name="Oval 514"/>
                <p:cNvSpPr/>
                <p:nvPr/>
              </p:nvSpPr>
              <p:spPr>
                <a:xfrm flipV="1" rot="18252000">
                  <a:off x="4810680" y="2251440"/>
                  <a:ext cx="6120" cy="13320"/>
                </a:xfrm>
                <a:prstGeom prst="ellipse">
                  <a:avLst/>
                </a:prstGeom>
                <a:solidFill>
                  <a:srgbClr val="663366"/>
                </a:solidFill>
                <a:ln w="9360">
                  <a:solidFill>
                    <a:srgbClr val="66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3" name="Oval 515"/>
                <p:cNvSpPr/>
                <p:nvPr/>
              </p:nvSpPr>
              <p:spPr>
                <a:xfrm flipV="1" rot="18252000">
                  <a:off x="4813200" y="2247120"/>
                  <a:ext cx="6480" cy="13320"/>
                </a:xfrm>
                <a:prstGeom prst="ellipse">
                  <a:avLst/>
                </a:prstGeom>
                <a:solidFill>
                  <a:srgbClr val="663366"/>
                </a:solidFill>
                <a:ln w="9360">
                  <a:solidFill>
                    <a:srgbClr val="66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4" name="Oval 516"/>
                <p:cNvSpPr/>
                <p:nvPr/>
              </p:nvSpPr>
              <p:spPr>
                <a:xfrm flipH="1" flipV="1" rot="3727800">
                  <a:off x="4563360" y="2228040"/>
                  <a:ext cx="49320" cy="6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424267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5" name="AutoShape 517"/>
                <p:cNvSpPr/>
                <p:nvPr/>
              </p:nvSpPr>
              <p:spPr>
                <a:xfrm flipV="1" rot="3728400">
                  <a:off x="4588920" y="2269440"/>
                  <a:ext cx="23040" cy="23040"/>
                </a:xfrm>
                <a:custGeom>
                  <a:avLst/>
                  <a:gdLst>
                    <a:gd name="textAreaLeft" fmla="*/ 14040 w 23040"/>
                    <a:gd name="textAreaRight" fmla="*/ 14760 w 23040"/>
                    <a:gd name="textAreaTop" fmla="*/ 720 h 23040"/>
                    <a:gd name="textAreaBottom" fmla="*/ 22320 h 23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7719" y="2482"/>
                        <a:pt x="13837" y="5080"/>
                        <a:pt x="13837" y="10800"/>
                      </a:cubicBezTo>
                      <a:cubicBezTo>
                        <a:pt x="13837" y="16520"/>
                        <a:pt x="17719" y="1911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6" name="AutoShape 518"/>
                <p:cNvSpPr/>
                <p:nvPr/>
              </p:nvSpPr>
              <p:spPr>
                <a:xfrm flipH="1" flipV="1" rot="3727800">
                  <a:off x="4565520" y="2229480"/>
                  <a:ext cx="23040" cy="23400"/>
                </a:xfrm>
                <a:custGeom>
                  <a:avLst/>
                  <a:gdLst>
                    <a:gd name="textAreaLeft" fmla="*/ 14040 w 23040"/>
                    <a:gd name="textAreaRight" fmla="*/ 14760 w 23040"/>
                    <a:gd name="textAreaTop" fmla="*/ 720 h 23400"/>
                    <a:gd name="textAreaBottom" fmla="*/ 22680 h 234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7719" y="2482"/>
                        <a:pt x="13837" y="5080"/>
                        <a:pt x="13837" y="10800"/>
                      </a:cubicBezTo>
                      <a:cubicBezTo>
                        <a:pt x="13837" y="16520"/>
                        <a:pt x="17719" y="1911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7" name="Freeform 519"/>
                <p:cNvSpPr/>
                <p:nvPr/>
              </p:nvSpPr>
              <p:spPr>
                <a:xfrm flipH="1" flipV="1" rot="20406600">
                  <a:off x="4560480" y="2280960"/>
                  <a:ext cx="12960" cy="27360"/>
                </a:xfrm>
                <a:custGeom>
                  <a:avLst/>
                  <a:gdLst>
                    <a:gd name="textAreaLeft" fmla="*/ 360 w 12960"/>
                    <a:gd name="textAreaRight" fmla="*/ 13680 w 12960"/>
                    <a:gd name="textAreaTop" fmla="*/ 360 h 27360"/>
                    <a:gd name="textAreaBottom" fmla="*/ 28080 h 2736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8" name="Freeform 520"/>
                <p:cNvSpPr/>
                <p:nvPr/>
              </p:nvSpPr>
              <p:spPr>
                <a:xfrm flipH="1" flipV="1" rot="21512400">
                  <a:off x="4557240" y="2280960"/>
                  <a:ext cx="12600" cy="27360"/>
                </a:xfrm>
                <a:custGeom>
                  <a:avLst/>
                  <a:gdLst>
                    <a:gd name="textAreaLeft" fmla="*/ -360 w 12600"/>
                    <a:gd name="textAreaRight" fmla="*/ 12600 w 12600"/>
                    <a:gd name="textAreaTop" fmla="*/ 360 h 27360"/>
                    <a:gd name="textAreaBottom" fmla="*/ 28080 h 2736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9" name="Freeform 521"/>
                <p:cNvSpPr/>
                <p:nvPr/>
              </p:nvSpPr>
              <p:spPr>
                <a:xfrm flipH="1" flipV="1" rot="1168200">
                  <a:off x="4551480" y="2280240"/>
                  <a:ext cx="12960" cy="27000"/>
                </a:xfrm>
                <a:custGeom>
                  <a:avLst/>
                  <a:gdLst>
                    <a:gd name="textAreaLeft" fmla="*/ 360 w 12960"/>
                    <a:gd name="textAreaRight" fmla="*/ 13680 w 12960"/>
                    <a:gd name="textAreaTop" fmla="*/ -360 h 27000"/>
                    <a:gd name="textAreaBottom" fmla="*/ 27000 h 2700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0" name="Freeform 522"/>
                <p:cNvSpPr/>
                <p:nvPr/>
              </p:nvSpPr>
              <p:spPr>
                <a:xfrm flipV="1" rot="8649600">
                  <a:off x="4541040" y="2246760"/>
                  <a:ext cx="12960" cy="2736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360 h 27360"/>
                    <a:gd name="textAreaBottom" fmla="*/ 28080 h 2736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1" name="Freeform 523"/>
                <p:cNvSpPr/>
                <p:nvPr/>
              </p:nvSpPr>
              <p:spPr>
                <a:xfrm flipV="1" rot="7544400">
                  <a:off x="4539600" y="2248560"/>
                  <a:ext cx="11520" cy="2952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360 h 29520"/>
                    <a:gd name="textAreaBottom" fmla="*/ 30240 h 2952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2" name="Freeform 524"/>
                <p:cNvSpPr/>
                <p:nvPr/>
              </p:nvSpPr>
              <p:spPr>
                <a:xfrm flipV="1" rot="6288000">
                  <a:off x="4537800" y="2252520"/>
                  <a:ext cx="11520" cy="2916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-360 h 29160"/>
                    <a:gd name="textAreaBottom" fmla="*/ 29160 h 2916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3" name="Freeform 525"/>
                <p:cNvSpPr/>
                <p:nvPr/>
              </p:nvSpPr>
              <p:spPr>
                <a:xfrm flipH="1" flipV="1" rot="3727800">
                  <a:off x="4623480" y="2233800"/>
                  <a:ext cx="9720" cy="19440"/>
                </a:xfrm>
                <a:custGeom>
                  <a:avLst/>
                  <a:gdLst>
                    <a:gd name="textAreaLeft" fmla="*/ -360 w 9720"/>
                    <a:gd name="textAreaRight" fmla="*/ 9720 w 9720"/>
                    <a:gd name="textAreaTop" fmla="*/ 360 h 19440"/>
                    <a:gd name="textAreaBottom" fmla="*/ 20160 h 19440"/>
                  </a:gdLst>
                  <a:ahLst/>
                  <a:rect l="textAreaLeft" t="textAreaTop" r="textAreaRight" b="textAreaBottom"/>
                  <a:pathLst>
                    <a:path w="36" h="68">
                      <a:moveTo>
                        <a:pt x="9" y="0"/>
                      </a:moveTo>
                      <a:cubicBezTo>
                        <a:pt x="10" y="0"/>
                        <a:pt x="30" y="5"/>
                        <a:pt x="24" y="12"/>
                      </a:cubicBezTo>
                      <a:cubicBezTo>
                        <a:pt x="20" y="17"/>
                        <a:pt x="6" y="18"/>
                        <a:pt x="6" y="18"/>
                      </a:cubicBezTo>
                      <a:cubicBezTo>
                        <a:pt x="8" y="21"/>
                        <a:pt x="9" y="25"/>
                        <a:pt x="12" y="27"/>
                      </a:cubicBezTo>
                      <a:cubicBezTo>
                        <a:pt x="22" y="35"/>
                        <a:pt x="32" y="35"/>
                        <a:pt x="6" y="42"/>
                      </a:cubicBezTo>
                      <a:cubicBezTo>
                        <a:pt x="36" y="52"/>
                        <a:pt x="23" y="55"/>
                        <a:pt x="0" y="60"/>
                      </a:cubicBezTo>
                      <a:cubicBezTo>
                        <a:pt x="13" y="68"/>
                        <a:pt x="8" y="63"/>
                        <a:pt x="21" y="63"/>
                      </a:cubicBezTo>
                    </a:path>
                  </a:pathLst>
                </a:custGeom>
                <a:solidFill>
                  <a:srgbClr val="663366"/>
                </a:solidFill>
                <a:ln w="9360">
                  <a:solidFill>
                    <a:srgbClr val="66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4" name="Freeform 526"/>
                <p:cNvSpPr/>
                <p:nvPr/>
              </p:nvSpPr>
              <p:spPr>
                <a:xfrm flipH="1" flipV="1" rot="3727800">
                  <a:off x="4621680" y="2228760"/>
                  <a:ext cx="9360" cy="19440"/>
                </a:xfrm>
                <a:custGeom>
                  <a:avLst/>
                  <a:gdLst>
                    <a:gd name="textAreaLeft" fmla="*/ 360 w 9360"/>
                    <a:gd name="textAreaRight" fmla="*/ 10080 w 9360"/>
                    <a:gd name="textAreaTop" fmla="*/ 360 h 19440"/>
                    <a:gd name="textAreaBottom" fmla="*/ 20160 h 19440"/>
                  </a:gdLst>
                  <a:ahLst/>
                  <a:rect l="textAreaLeft" t="textAreaTop" r="textAreaRight" b="textAreaBottom"/>
                  <a:pathLst>
                    <a:path w="36" h="68">
                      <a:moveTo>
                        <a:pt x="9" y="0"/>
                      </a:moveTo>
                      <a:cubicBezTo>
                        <a:pt x="10" y="0"/>
                        <a:pt x="30" y="5"/>
                        <a:pt x="24" y="12"/>
                      </a:cubicBezTo>
                      <a:cubicBezTo>
                        <a:pt x="20" y="17"/>
                        <a:pt x="6" y="18"/>
                        <a:pt x="6" y="18"/>
                      </a:cubicBezTo>
                      <a:cubicBezTo>
                        <a:pt x="8" y="21"/>
                        <a:pt x="9" y="25"/>
                        <a:pt x="12" y="27"/>
                      </a:cubicBezTo>
                      <a:cubicBezTo>
                        <a:pt x="22" y="35"/>
                        <a:pt x="32" y="35"/>
                        <a:pt x="6" y="42"/>
                      </a:cubicBezTo>
                      <a:cubicBezTo>
                        <a:pt x="36" y="52"/>
                        <a:pt x="23" y="55"/>
                        <a:pt x="0" y="60"/>
                      </a:cubicBezTo>
                      <a:cubicBezTo>
                        <a:pt x="13" y="68"/>
                        <a:pt x="8" y="63"/>
                        <a:pt x="21" y="63"/>
                      </a:cubicBezTo>
                    </a:path>
                  </a:pathLst>
                </a:custGeom>
                <a:solidFill>
                  <a:srgbClr val="663366"/>
                </a:solidFill>
                <a:ln w="9360">
                  <a:solidFill>
                    <a:srgbClr val="66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5" name="Oval 527"/>
                <p:cNvSpPr/>
                <p:nvPr/>
              </p:nvSpPr>
              <p:spPr>
                <a:xfrm flipH="1" flipV="1" rot="3727800">
                  <a:off x="4640400" y="2231280"/>
                  <a:ext cx="6120" cy="13320"/>
                </a:xfrm>
                <a:prstGeom prst="ellipse">
                  <a:avLst/>
                </a:prstGeom>
                <a:solidFill>
                  <a:srgbClr val="663366"/>
                </a:solidFill>
                <a:ln w="9360">
                  <a:solidFill>
                    <a:srgbClr val="66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6" name="Oval 528"/>
                <p:cNvSpPr/>
                <p:nvPr/>
              </p:nvSpPr>
              <p:spPr>
                <a:xfrm flipH="1" flipV="1" rot="3727800">
                  <a:off x="4637160" y="2225880"/>
                  <a:ext cx="6480" cy="12960"/>
                </a:xfrm>
                <a:prstGeom prst="ellipse">
                  <a:avLst/>
                </a:prstGeom>
                <a:solidFill>
                  <a:srgbClr val="663366"/>
                </a:solidFill>
                <a:ln w="9360">
                  <a:solidFill>
                    <a:srgbClr val="66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7" name="AutoShape 529"/>
                <p:cNvSpPr/>
                <p:nvPr/>
              </p:nvSpPr>
              <p:spPr>
                <a:xfrm flipH="1" flipV="1">
                  <a:off x="4896720" y="2305440"/>
                  <a:ext cx="24480" cy="21600"/>
                </a:xfrm>
                <a:custGeom>
                  <a:avLst/>
                  <a:gdLst>
                    <a:gd name="textAreaLeft" fmla="*/ 15120 w 24480"/>
                    <a:gd name="textAreaRight" fmla="*/ 15840 w 24480"/>
                    <a:gd name="textAreaTop" fmla="*/ 720 h 21600"/>
                    <a:gd name="textAreaBottom" fmla="*/ 20880 h 21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7719" y="2482"/>
                        <a:pt x="13837" y="5080"/>
                        <a:pt x="13837" y="10800"/>
                      </a:cubicBezTo>
                      <a:cubicBezTo>
                        <a:pt x="13837" y="16520"/>
                        <a:pt x="17719" y="1911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8" name="Freeform 530"/>
                <p:cNvSpPr/>
                <p:nvPr/>
              </p:nvSpPr>
              <p:spPr>
                <a:xfrm rot="444000">
                  <a:off x="4694040" y="2139120"/>
                  <a:ext cx="83880" cy="136080"/>
                </a:xfrm>
                <a:custGeom>
                  <a:avLst/>
                  <a:gdLst>
                    <a:gd name="textAreaLeft" fmla="*/ 0 w 83880"/>
                    <a:gd name="textAreaRight" fmla="*/ 84240 w 83880"/>
                    <a:gd name="textAreaTop" fmla="*/ 0 h 136080"/>
                    <a:gd name="textAreaBottom" fmla="*/ 136440 h 136080"/>
                  </a:gdLst>
                  <a:ahLst/>
                  <a:rect l="textAreaLeft" t="textAreaTop" r="textAreaRight" b="textAreaBottom"/>
                  <a:pathLst>
                    <a:path w="196" h="430">
                      <a:moveTo>
                        <a:pt x="15" y="60"/>
                      </a:moveTo>
                      <a:cubicBezTo>
                        <a:pt x="30" y="0"/>
                        <a:pt x="76" y="7"/>
                        <a:pt x="106" y="14"/>
                      </a:cubicBezTo>
                      <a:cubicBezTo>
                        <a:pt x="136" y="21"/>
                        <a:pt x="196" y="45"/>
                        <a:pt x="196" y="105"/>
                      </a:cubicBezTo>
                      <a:cubicBezTo>
                        <a:pt x="196" y="165"/>
                        <a:pt x="136" y="332"/>
                        <a:pt x="106" y="377"/>
                      </a:cubicBezTo>
                      <a:cubicBezTo>
                        <a:pt x="76" y="422"/>
                        <a:pt x="30" y="430"/>
                        <a:pt x="15" y="377"/>
                      </a:cubicBezTo>
                      <a:cubicBezTo>
                        <a:pt x="0" y="324"/>
                        <a:pt x="0" y="120"/>
                        <a:pt x="15" y="60"/>
                      </a:cubicBezTo>
                      <a:close/>
                    </a:path>
                  </a:pathLst>
                </a:custGeom>
                <a:blipFill rotWithShape="0">
                  <a:blip r:embed="rId6"/>
                  <a:srcRect/>
                  <a:tile tx="0" ty="0" sx="100000" sy="100000" algn="ctr"/>
                </a:blipFill>
                <a:ln w="9360">
                  <a:solidFill>
                    <a:srgbClr val="66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89" name="Group 531"/>
          <p:cNvGrpSpPr/>
          <p:nvPr/>
        </p:nvGrpSpPr>
        <p:grpSpPr>
          <a:xfrm>
            <a:off x="4499640" y="4750560"/>
            <a:ext cx="398160" cy="414360"/>
            <a:chOff x="4499640" y="4750560"/>
            <a:chExt cx="398160" cy="414360"/>
          </a:xfrm>
        </p:grpSpPr>
        <p:sp>
          <p:nvSpPr>
            <p:cNvPr id="1290" name="Oval 532"/>
            <p:cNvSpPr/>
            <p:nvPr/>
          </p:nvSpPr>
          <p:spPr>
            <a:xfrm flipV="1" rot="21360000">
              <a:off x="4676760" y="5075280"/>
              <a:ext cx="5364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2426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AutoShape 533"/>
            <p:cNvSpPr/>
            <p:nvPr/>
          </p:nvSpPr>
          <p:spPr>
            <a:xfrm flipV="1" rot="21360000">
              <a:off x="4714560" y="5093280"/>
              <a:ext cx="24840" cy="21600"/>
            </a:xfrm>
            <a:custGeom>
              <a:avLst/>
              <a:gdLst>
                <a:gd name="textAreaLeft" fmla="*/ 15120 w 24840"/>
                <a:gd name="textAreaRight" fmla="*/ 15840 w 24840"/>
                <a:gd name="textAreaTop" fmla="*/ 720 h 21600"/>
                <a:gd name="textAreaBottom" fmla="*/ 20880 h 2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7719" y="2482"/>
                    <a:pt x="13837" y="5080"/>
                    <a:pt x="13837" y="10800"/>
                  </a:cubicBezTo>
                  <a:cubicBezTo>
                    <a:pt x="13837" y="16520"/>
                    <a:pt x="17719" y="1911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534"/>
            <p:cNvSpPr/>
            <p:nvPr/>
          </p:nvSpPr>
          <p:spPr>
            <a:xfrm flipV="1" rot="297000">
              <a:off x="4692240" y="5137200"/>
              <a:ext cx="12600" cy="270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-360 h 27000"/>
                <a:gd name="textAreaBottom" fmla="*/ 27000 h 27000"/>
              </a:gdLst>
              <a:ahLst/>
              <a:rect l="textAreaLeft" t="textAreaTop" r="textAreaRight" b="textAreaBottom"/>
              <a:pathLst>
                <a:path w="90" h="181">
                  <a:moveTo>
                    <a:pt x="45" y="181"/>
                  </a:moveTo>
                  <a:cubicBezTo>
                    <a:pt x="30" y="181"/>
                    <a:pt x="0" y="120"/>
                    <a:pt x="0" y="90"/>
                  </a:cubicBezTo>
                  <a:cubicBezTo>
                    <a:pt x="0" y="60"/>
                    <a:pt x="30" y="0"/>
                    <a:pt x="45" y="0"/>
                  </a:cubicBezTo>
                  <a:cubicBezTo>
                    <a:pt x="60" y="0"/>
                    <a:pt x="90" y="60"/>
                    <a:pt x="90" y="90"/>
                  </a:cubicBezTo>
                  <a:cubicBezTo>
                    <a:pt x="90" y="120"/>
                    <a:pt x="60" y="181"/>
                    <a:pt x="45" y="181"/>
                  </a:cubicBezTo>
                  <a:close/>
                </a:path>
              </a:pathLst>
            </a:custGeom>
            <a:noFill/>
            <a:ln w="648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Freeform 535"/>
            <p:cNvSpPr/>
            <p:nvPr/>
          </p:nvSpPr>
          <p:spPr>
            <a:xfrm flipV="1" rot="20640600">
              <a:off x="4697280" y="5136120"/>
              <a:ext cx="12960" cy="270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-360 h 27000"/>
                <a:gd name="textAreaBottom" fmla="*/ 27000 h 27000"/>
              </a:gdLst>
              <a:ahLst/>
              <a:rect l="textAreaLeft" t="textAreaTop" r="textAreaRight" b="textAreaBottom"/>
              <a:pathLst>
                <a:path w="90" h="181">
                  <a:moveTo>
                    <a:pt x="45" y="181"/>
                  </a:moveTo>
                  <a:cubicBezTo>
                    <a:pt x="30" y="181"/>
                    <a:pt x="0" y="120"/>
                    <a:pt x="0" y="90"/>
                  </a:cubicBezTo>
                  <a:cubicBezTo>
                    <a:pt x="0" y="60"/>
                    <a:pt x="30" y="0"/>
                    <a:pt x="45" y="0"/>
                  </a:cubicBezTo>
                  <a:cubicBezTo>
                    <a:pt x="60" y="0"/>
                    <a:pt x="90" y="60"/>
                    <a:pt x="90" y="90"/>
                  </a:cubicBezTo>
                  <a:cubicBezTo>
                    <a:pt x="90" y="120"/>
                    <a:pt x="60" y="181"/>
                    <a:pt x="45" y="181"/>
                  </a:cubicBezTo>
                  <a:close/>
                </a:path>
              </a:pathLst>
            </a:custGeom>
            <a:noFill/>
            <a:ln w="648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536"/>
            <p:cNvSpPr/>
            <p:nvPr/>
          </p:nvSpPr>
          <p:spPr>
            <a:xfrm flipH="1" flipV="1" rot="16437600">
              <a:off x="4718160" y="5122800"/>
              <a:ext cx="11520" cy="29160"/>
            </a:xfrm>
            <a:custGeom>
              <a:avLst/>
              <a:gdLst>
                <a:gd name="textAreaLeft" fmla="*/ 360 w 11520"/>
                <a:gd name="textAreaRight" fmla="*/ 12240 w 11520"/>
                <a:gd name="textAreaTop" fmla="*/ -360 h 29160"/>
                <a:gd name="textAreaBottom" fmla="*/ 29160 h 29160"/>
              </a:gdLst>
              <a:ahLst/>
              <a:rect l="textAreaLeft" t="textAreaTop" r="textAreaRight" b="textAreaBottom"/>
              <a:pathLst>
                <a:path w="90" h="181">
                  <a:moveTo>
                    <a:pt x="45" y="181"/>
                  </a:moveTo>
                  <a:cubicBezTo>
                    <a:pt x="30" y="181"/>
                    <a:pt x="0" y="120"/>
                    <a:pt x="0" y="90"/>
                  </a:cubicBezTo>
                  <a:cubicBezTo>
                    <a:pt x="0" y="60"/>
                    <a:pt x="30" y="0"/>
                    <a:pt x="45" y="0"/>
                  </a:cubicBezTo>
                  <a:cubicBezTo>
                    <a:pt x="60" y="0"/>
                    <a:pt x="90" y="60"/>
                    <a:pt x="90" y="90"/>
                  </a:cubicBezTo>
                  <a:cubicBezTo>
                    <a:pt x="90" y="120"/>
                    <a:pt x="60" y="181"/>
                    <a:pt x="45" y="181"/>
                  </a:cubicBezTo>
                  <a:close/>
                </a:path>
              </a:pathLst>
            </a:custGeom>
            <a:noFill/>
            <a:ln w="648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537"/>
            <p:cNvSpPr/>
            <p:nvPr/>
          </p:nvSpPr>
          <p:spPr>
            <a:xfrm flipH="1" flipV="1" rot="17543400">
              <a:off x="4717800" y="5126760"/>
              <a:ext cx="11520" cy="29160"/>
            </a:xfrm>
            <a:custGeom>
              <a:avLst/>
              <a:gdLst>
                <a:gd name="textAreaLeft" fmla="*/ 360 w 11520"/>
                <a:gd name="textAreaRight" fmla="*/ 12240 w 11520"/>
                <a:gd name="textAreaTop" fmla="*/ -360 h 29160"/>
                <a:gd name="textAreaBottom" fmla="*/ 29160 h 29160"/>
              </a:gdLst>
              <a:ahLst/>
              <a:rect l="textAreaLeft" t="textAreaTop" r="textAreaRight" b="textAreaBottom"/>
              <a:pathLst>
                <a:path w="90" h="181">
                  <a:moveTo>
                    <a:pt x="45" y="181"/>
                  </a:moveTo>
                  <a:cubicBezTo>
                    <a:pt x="30" y="181"/>
                    <a:pt x="0" y="120"/>
                    <a:pt x="0" y="90"/>
                  </a:cubicBezTo>
                  <a:cubicBezTo>
                    <a:pt x="0" y="60"/>
                    <a:pt x="30" y="0"/>
                    <a:pt x="45" y="0"/>
                  </a:cubicBezTo>
                  <a:cubicBezTo>
                    <a:pt x="60" y="0"/>
                    <a:pt x="90" y="60"/>
                    <a:pt x="90" y="90"/>
                  </a:cubicBezTo>
                  <a:cubicBezTo>
                    <a:pt x="90" y="120"/>
                    <a:pt x="60" y="181"/>
                    <a:pt x="45" y="181"/>
                  </a:cubicBezTo>
                  <a:close/>
                </a:path>
              </a:pathLst>
            </a:custGeom>
            <a:noFill/>
            <a:ln w="648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538"/>
            <p:cNvSpPr/>
            <p:nvPr/>
          </p:nvSpPr>
          <p:spPr>
            <a:xfrm flipH="1" flipV="1" rot="18799800">
              <a:off x="4714920" y="5129640"/>
              <a:ext cx="11520" cy="29160"/>
            </a:xfrm>
            <a:custGeom>
              <a:avLst/>
              <a:gdLst>
                <a:gd name="textAreaLeft" fmla="*/ 360 w 11520"/>
                <a:gd name="textAreaRight" fmla="*/ 12240 w 11520"/>
                <a:gd name="textAreaTop" fmla="*/ -360 h 29160"/>
                <a:gd name="textAreaBottom" fmla="*/ 29160 h 29160"/>
              </a:gdLst>
              <a:ahLst/>
              <a:rect l="textAreaLeft" t="textAreaTop" r="textAreaRight" b="textAreaBottom"/>
              <a:pathLst>
                <a:path w="90" h="181">
                  <a:moveTo>
                    <a:pt x="45" y="181"/>
                  </a:moveTo>
                  <a:cubicBezTo>
                    <a:pt x="30" y="181"/>
                    <a:pt x="0" y="120"/>
                    <a:pt x="0" y="90"/>
                  </a:cubicBezTo>
                  <a:cubicBezTo>
                    <a:pt x="0" y="60"/>
                    <a:pt x="30" y="0"/>
                    <a:pt x="45" y="0"/>
                  </a:cubicBezTo>
                  <a:cubicBezTo>
                    <a:pt x="60" y="0"/>
                    <a:pt x="90" y="60"/>
                    <a:pt x="90" y="90"/>
                  </a:cubicBezTo>
                  <a:cubicBezTo>
                    <a:pt x="90" y="120"/>
                    <a:pt x="60" y="181"/>
                    <a:pt x="45" y="181"/>
                  </a:cubicBezTo>
                  <a:close/>
                </a:path>
              </a:pathLst>
            </a:custGeom>
            <a:noFill/>
            <a:ln w="648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539"/>
            <p:cNvSpPr/>
            <p:nvPr/>
          </p:nvSpPr>
          <p:spPr>
            <a:xfrm flipV="1" rot="21360000">
              <a:off x="4693320" y="5056200"/>
              <a:ext cx="10440" cy="1800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360 h 18000"/>
                <a:gd name="textAreaBottom" fmla="*/ 18720 h 18000"/>
              </a:gdLst>
              <a:ahLst/>
              <a:rect l="textAreaLeft" t="textAreaTop" r="textAreaRight" b="textAreaBottom"/>
              <a:pathLst>
                <a:path w="36" h="68">
                  <a:moveTo>
                    <a:pt x="9" y="0"/>
                  </a:moveTo>
                  <a:cubicBezTo>
                    <a:pt x="10" y="0"/>
                    <a:pt x="30" y="5"/>
                    <a:pt x="24" y="12"/>
                  </a:cubicBezTo>
                  <a:cubicBezTo>
                    <a:pt x="20" y="17"/>
                    <a:pt x="6" y="18"/>
                    <a:pt x="6" y="18"/>
                  </a:cubicBezTo>
                  <a:cubicBezTo>
                    <a:pt x="8" y="21"/>
                    <a:pt x="9" y="25"/>
                    <a:pt x="12" y="27"/>
                  </a:cubicBezTo>
                  <a:cubicBezTo>
                    <a:pt x="22" y="35"/>
                    <a:pt x="32" y="35"/>
                    <a:pt x="6" y="42"/>
                  </a:cubicBezTo>
                  <a:cubicBezTo>
                    <a:pt x="36" y="52"/>
                    <a:pt x="23" y="55"/>
                    <a:pt x="0" y="60"/>
                  </a:cubicBezTo>
                  <a:cubicBezTo>
                    <a:pt x="13" y="68"/>
                    <a:pt x="8" y="63"/>
                    <a:pt x="21" y="63"/>
                  </a:cubicBezTo>
                </a:path>
              </a:pathLst>
            </a:custGeom>
            <a:noFill/>
            <a:ln w="9360">
              <a:solidFill>
                <a:srgbClr val="66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540"/>
            <p:cNvSpPr/>
            <p:nvPr/>
          </p:nvSpPr>
          <p:spPr>
            <a:xfrm flipV="1" rot="21360000">
              <a:off x="4699800" y="5054400"/>
              <a:ext cx="10440" cy="1836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-360 h 18360"/>
                <a:gd name="textAreaBottom" fmla="*/ 18360 h 18360"/>
              </a:gdLst>
              <a:ahLst/>
              <a:rect l="textAreaLeft" t="textAreaTop" r="textAreaRight" b="textAreaBottom"/>
              <a:pathLst>
                <a:path w="36" h="68">
                  <a:moveTo>
                    <a:pt x="9" y="0"/>
                  </a:moveTo>
                  <a:cubicBezTo>
                    <a:pt x="10" y="0"/>
                    <a:pt x="30" y="5"/>
                    <a:pt x="24" y="12"/>
                  </a:cubicBezTo>
                  <a:cubicBezTo>
                    <a:pt x="20" y="17"/>
                    <a:pt x="6" y="18"/>
                    <a:pt x="6" y="18"/>
                  </a:cubicBezTo>
                  <a:cubicBezTo>
                    <a:pt x="8" y="21"/>
                    <a:pt x="9" y="25"/>
                    <a:pt x="12" y="27"/>
                  </a:cubicBezTo>
                  <a:cubicBezTo>
                    <a:pt x="22" y="35"/>
                    <a:pt x="32" y="35"/>
                    <a:pt x="6" y="42"/>
                  </a:cubicBezTo>
                  <a:cubicBezTo>
                    <a:pt x="36" y="52"/>
                    <a:pt x="23" y="55"/>
                    <a:pt x="0" y="60"/>
                  </a:cubicBezTo>
                  <a:cubicBezTo>
                    <a:pt x="13" y="68"/>
                    <a:pt x="8" y="63"/>
                    <a:pt x="21" y="63"/>
                  </a:cubicBezTo>
                </a:path>
              </a:pathLst>
            </a:custGeom>
            <a:noFill/>
            <a:ln w="9360">
              <a:solidFill>
                <a:srgbClr val="66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Oval 541"/>
            <p:cNvSpPr/>
            <p:nvPr/>
          </p:nvSpPr>
          <p:spPr>
            <a:xfrm flipV="1" rot="21360000">
              <a:off x="4692600" y="5042880"/>
              <a:ext cx="6120" cy="12240"/>
            </a:xfrm>
            <a:prstGeom prst="ellipse">
              <a:avLst/>
            </a:prstGeom>
            <a:solidFill>
              <a:srgbClr val="663366"/>
            </a:solidFill>
            <a:ln w="9360">
              <a:solidFill>
                <a:srgbClr val="66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Oval 542"/>
            <p:cNvSpPr/>
            <p:nvPr/>
          </p:nvSpPr>
          <p:spPr>
            <a:xfrm flipV="1" rot="21360000">
              <a:off x="4699080" y="5042160"/>
              <a:ext cx="6840" cy="12240"/>
            </a:xfrm>
            <a:prstGeom prst="ellipse">
              <a:avLst/>
            </a:prstGeom>
            <a:solidFill>
              <a:srgbClr val="663366"/>
            </a:solidFill>
            <a:ln w="9360">
              <a:solidFill>
                <a:srgbClr val="66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543"/>
            <p:cNvSpPr/>
            <p:nvPr/>
          </p:nvSpPr>
          <p:spPr>
            <a:xfrm flipV="1" rot="1402800">
              <a:off x="4689000" y="5135400"/>
              <a:ext cx="12960" cy="270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-360 h 27000"/>
                <a:gd name="textAreaBottom" fmla="*/ 27000 h 27000"/>
              </a:gdLst>
              <a:ahLst/>
              <a:rect l="textAreaLeft" t="textAreaTop" r="textAreaRight" b="textAreaBottom"/>
              <a:pathLst>
                <a:path w="90" h="181">
                  <a:moveTo>
                    <a:pt x="45" y="181"/>
                  </a:moveTo>
                  <a:cubicBezTo>
                    <a:pt x="30" y="181"/>
                    <a:pt x="0" y="120"/>
                    <a:pt x="0" y="90"/>
                  </a:cubicBezTo>
                  <a:cubicBezTo>
                    <a:pt x="0" y="60"/>
                    <a:pt x="30" y="0"/>
                    <a:pt x="45" y="0"/>
                  </a:cubicBezTo>
                  <a:cubicBezTo>
                    <a:pt x="60" y="0"/>
                    <a:pt x="90" y="60"/>
                    <a:pt x="90" y="90"/>
                  </a:cubicBezTo>
                  <a:cubicBezTo>
                    <a:pt x="90" y="120"/>
                    <a:pt x="60" y="181"/>
                    <a:pt x="45" y="181"/>
                  </a:cubicBezTo>
                  <a:close/>
                </a:path>
              </a:pathLst>
            </a:custGeom>
            <a:noFill/>
            <a:ln w="648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Oval 544"/>
            <p:cNvSpPr/>
            <p:nvPr/>
          </p:nvSpPr>
          <p:spPr>
            <a:xfrm rot="720000">
              <a:off x="4672080" y="5098320"/>
              <a:ext cx="19800" cy="18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3" name="Group 545"/>
            <p:cNvGrpSpPr/>
            <p:nvPr/>
          </p:nvGrpSpPr>
          <p:grpSpPr>
            <a:xfrm>
              <a:off x="4499640" y="4750560"/>
              <a:ext cx="398160" cy="341280"/>
              <a:chOff x="4499640" y="4750560"/>
              <a:chExt cx="398160" cy="341280"/>
            </a:xfrm>
          </p:grpSpPr>
          <p:sp>
            <p:nvSpPr>
              <p:cNvPr id="1304" name="Oval 546"/>
              <p:cNvSpPr/>
              <p:nvPr/>
            </p:nvSpPr>
            <p:spPr>
              <a:xfrm>
                <a:off x="4579920" y="4835880"/>
                <a:ext cx="254160" cy="236880"/>
              </a:xfrm>
              <a:prstGeom prst="ellipse">
                <a:avLst/>
              </a:prstGeom>
              <a:solidFill>
                <a:srgbClr val="666699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Oval 547"/>
              <p:cNvSpPr/>
              <p:nvPr/>
            </p:nvSpPr>
            <p:spPr>
              <a:xfrm>
                <a:off x="4601160" y="4855680"/>
                <a:ext cx="211680" cy="197280"/>
              </a:xfrm>
              <a:prstGeom prst="ellipse">
                <a:avLst/>
              </a:prstGeom>
              <a:solidFill>
                <a:srgbClr val="66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Oval 548"/>
              <p:cNvSpPr/>
              <p:nvPr/>
            </p:nvSpPr>
            <p:spPr>
              <a:xfrm>
                <a:off x="4679640" y="4773960"/>
                <a:ext cx="53280" cy="61920"/>
              </a:xfrm>
              <a:prstGeom prst="ellips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42426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AutoShape 549"/>
              <p:cNvSpPr/>
              <p:nvPr/>
            </p:nvSpPr>
            <p:spPr>
              <a:xfrm flipH="1">
                <a:off x="4669920" y="4794480"/>
                <a:ext cx="24480" cy="21600"/>
              </a:xfrm>
              <a:custGeom>
                <a:avLst/>
                <a:gdLst>
                  <a:gd name="textAreaLeft" fmla="*/ 15120 w 24480"/>
                  <a:gd name="textAreaRight" fmla="*/ 15840 w 24480"/>
                  <a:gd name="textAreaTop" fmla="*/ 720 h 21600"/>
                  <a:gd name="textAreaBottom" fmla="*/ 20880 h 21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7719" y="2482"/>
                      <a:pt x="13837" y="5080"/>
                      <a:pt x="13837" y="10800"/>
                    </a:cubicBezTo>
                    <a:cubicBezTo>
                      <a:pt x="13837" y="16520"/>
                      <a:pt x="17719" y="1911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AutoShape 550"/>
              <p:cNvSpPr/>
              <p:nvPr/>
            </p:nvSpPr>
            <p:spPr>
              <a:xfrm>
                <a:off x="4717800" y="4794480"/>
                <a:ext cx="24480" cy="21600"/>
              </a:xfrm>
              <a:custGeom>
                <a:avLst/>
                <a:gdLst>
                  <a:gd name="textAreaLeft" fmla="*/ 15120 w 24480"/>
                  <a:gd name="textAreaRight" fmla="*/ 15840 w 24480"/>
                  <a:gd name="textAreaTop" fmla="*/ 720 h 21600"/>
                  <a:gd name="textAreaBottom" fmla="*/ 20880 h 21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7719" y="2482"/>
                      <a:pt x="13837" y="5080"/>
                      <a:pt x="13837" y="10800"/>
                    </a:cubicBezTo>
                    <a:cubicBezTo>
                      <a:pt x="13837" y="16520"/>
                      <a:pt x="17719" y="1911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Freeform 551"/>
              <p:cNvSpPr/>
              <p:nvPr/>
            </p:nvSpPr>
            <p:spPr>
              <a:xfrm rot="16677600">
                <a:off x="4678200" y="4757040"/>
                <a:ext cx="12240" cy="2916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90" h="181">
                    <a:moveTo>
                      <a:pt x="45" y="181"/>
                    </a:moveTo>
                    <a:cubicBezTo>
                      <a:pt x="30" y="181"/>
                      <a:pt x="0" y="120"/>
                      <a:pt x="0" y="90"/>
                    </a:cubicBezTo>
                    <a:cubicBezTo>
                      <a:pt x="0" y="60"/>
                      <a:pt x="30" y="0"/>
                      <a:pt x="45" y="0"/>
                    </a:cubicBezTo>
                    <a:cubicBezTo>
                      <a:pt x="60" y="0"/>
                      <a:pt x="90" y="60"/>
                      <a:pt x="90" y="90"/>
                    </a:cubicBezTo>
                    <a:cubicBezTo>
                      <a:pt x="90" y="120"/>
                      <a:pt x="60" y="181"/>
                      <a:pt x="45" y="181"/>
                    </a:cubicBezTo>
                    <a:close/>
                  </a:path>
                </a:pathLst>
              </a:custGeom>
              <a:noFill/>
              <a:ln w="64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Freeform 552"/>
              <p:cNvSpPr/>
              <p:nvPr/>
            </p:nvSpPr>
            <p:spPr>
              <a:xfrm rot="17784000">
                <a:off x="4679640" y="4754160"/>
                <a:ext cx="11520" cy="2916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90" h="181">
                    <a:moveTo>
                      <a:pt x="45" y="181"/>
                    </a:moveTo>
                    <a:cubicBezTo>
                      <a:pt x="30" y="181"/>
                      <a:pt x="0" y="120"/>
                      <a:pt x="0" y="90"/>
                    </a:cubicBezTo>
                    <a:cubicBezTo>
                      <a:pt x="0" y="60"/>
                      <a:pt x="30" y="0"/>
                      <a:pt x="45" y="0"/>
                    </a:cubicBezTo>
                    <a:cubicBezTo>
                      <a:pt x="60" y="0"/>
                      <a:pt x="90" y="60"/>
                      <a:pt x="90" y="90"/>
                    </a:cubicBezTo>
                    <a:cubicBezTo>
                      <a:pt x="90" y="120"/>
                      <a:pt x="60" y="181"/>
                      <a:pt x="45" y="181"/>
                    </a:cubicBezTo>
                    <a:close/>
                  </a:path>
                </a:pathLst>
              </a:custGeom>
              <a:noFill/>
              <a:ln w="64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Freeform 553"/>
              <p:cNvSpPr/>
              <p:nvPr/>
            </p:nvSpPr>
            <p:spPr>
              <a:xfrm rot="19039800">
                <a:off x="4682160" y="4751280"/>
                <a:ext cx="12600" cy="2736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90" h="181">
                    <a:moveTo>
                      <a:pt x="45" y="181"/>
                    </a:moveTo>
                    <a:cubicBezTo>
                      <a:pt x="30" y="181"/>
                      <a:pt x="0" y="120"/>
                      <a:pt x="0" y="90"/>
                    </a:cubicBezTo>
                    <a:cubicBezTo>
                      <a:pt x="0" y="60"/>
                      <a:pt x="30" y="0"/>
                      <a:pt x="45" y="0"/>
                    </a:cubicBezTo>
                    <a:cubicBezTo>
                      <a:pt x="60" y="0"/>
                      <a:pt x="90" y="60"/>
                      <a:pt x="90" y="90"/>
                    </a:cubicBezTo>
                    <a:cubicBezTo>
                      <a:pt x="90" y="120"/>
                      <a:pt x="60" y="181"/>
                      <a:pt x="45" y="181"/>
                    </a:cubicBezTo>
                    <a:close/>
                  </a:path>
                </a:pathLst>
              </a:custGeom>
              <a:noFill/>
              <a:ln w="64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Freeform 554"/>
              <p:cNvSpPr/>
              <p:nvPr/>
            </p:nvSpPr>
            <p:spPr>
              <a:xfrm flipH="1" rot="4922400">
                <a:off x="4718520" y="4757040"/>
                <a:ext cx="12240" cy="29160"/>
              </a:xfrm>
              <a:custGeom>
                <a:avLst/>
                <a:gdLst>
                  <a:gd name="textAreaLeft" fmla="*/ 360 w 12240"/>
                  <a:gd name="textAreaRight" fmla="*/ 12960 w 1224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90" h="181">
                    <a:moveTo>
                      <a:pt x="45" y="181"/>
                    </a:moveTo>
                    <a:cubicBezTo>
                      <a:pt x="30" y="181"/>
                      <a:pt x="0" y="120"/>
                      <a:pt x="0" y="90"/>
                    </a:cubicBezTo>
                    <a:cubicBezTo>
                      <a:pt x="0" y="60"/>
                      <a:pt x="30" y="0"/>
                      <a:pt x="45" y="0"/>
                    </a:cubicBezTo>
                    <a:cubicBezTo>
                      <a:pt x="60" y="0"/>
                      <a:pt x="90" y="60"/>
                      <a:pt x="90" y="90"/>
                    </a:cubicBezTo>
                    <a:cubicBezTo>
                      <a:pt x="90" y="120"/>
                      <a:pt x="60" y="181"/>
                      <a:pt x="45" y="181"/>
                    </a:cubicBezTo>
                    <a:close/>
                  </a:path>
                </a:pathLst>
              </a:custGeom>
              <a:noFill/>
              <a:ln w="64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Freeform 555"/>
              <p:cNvSpPr/>
              <p:nvPr/>
            </p:nvSpPr>
            <p:spPr>
              <a:xfrm flipH="1" rot="3816000">
                <a:off x="4718160" y="4753800"/>
                <a:ext cx="11520" cy="28800"/>
              </a:xfrm>
              <a:custGeom>
                <a:avLst/>
                <a:gdLst>
                  <a:gd name="textAreaLeft" fmla="*/ 360 w 11520"/>
                  <a:gd name="textAreaRight" fmla="*/ 12240 w 115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90" h="181">
                    <a:moveTo>
                      <a:pt x="45" y="181"/>
                    </a:moveTo>
                    <a:cubicBezTo>
                      <a:pt x="30" y="181"/>
                      <a:pt x="0" y="120"/>
                      <a:pt x="0" y="90"/>
                    </a:cubicBezTo>
                    <a:cubicBezTo>
                      <a:pt x="0" y="60"/>
                      <a:pt x="30" y="0"/>
                      <a:pt x="45" y="0"/>
                    </a:cubicBezTo>
                    <a:cubicBezTo>
                      <a:pt x="60" y="0"/>
                      <a:pt x="90" y="60"/>
                      <a:pt x="90" y="90"/>
                    </a:cubicBezTo>
                    <a:cubicBezTo>
                      <a:pt x="90" y="120"/>
                      <a:pt x="60" y="181"/>
                      <a:pt x="45" y="181"/>
                    </a:cubicBezTo>
                    <a:close/>
                  </a:path>
                </a:pathLst>
              </a:custGeom>
              <a:noFill/>
              <a:ln w="64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Freeform 556"/>
              <p:cNvSpPr/>
              <p:nvPr/>
            </p:nvSpPr>
            <p:spPr>
              <a:xfrm flipH="1" rot="2560200">
                <a:off x="4714200" y="4751280"/>
                <a:ext cx="12600" cy="27360"/>
              </a:xfrm>
              <a:custGeom>
                <a:avLst/>
                <a:gdLst>
                  <a:gd name="textAreaLeft" fmla="*/ -360 w 12600"/>
                  <a:gd name="textAreaRight" fmla="*/ 12600 w 1260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90" h="181">
                    <a:moveTo>
                      <a:pt x="45" y="181"/>
                    </a:moveTo>
                    <a:cubicBezTo>
                      <a:pt x="30" y="181"/>
                      <a:pt x="0" y="120"/>
                      <a:pt x="0" y="90"/>
                    </a:cubicBezTo>
                    <a:cubicBezTo>
                      <a:pt x="0" y="60"/>
                      <a:pt x="30" y="0"/>
                      <a:pt x="45" y="0"/>
                    </a:cubicBezTo>
                    <a:cubicBezTo>
                      <a:pt x="60" y="0"/>
                      <a:pt x="90" y="60"/>
                      <a:pt x="90" y="90"/>
                    </a:cubicBezTo>
                    <a:cubicBezTo>
                      <a:pt x="90" y="120"/>
                      <a:pt x="60" y="181"/>
                      <a:pt x="45" y="181"/>
                    </a:cubicBezTo>
                    <a:close/>
                  </a:path>
                </a:pathLst>
              </a:custGeom>
              <a:noFill/>
              <a:ln w="64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Freeform 557"/>
              <p:cNvSpPr/>
              <p:nvPr/>
            </p:nvSpPr>
            <p:spPr>
              <a:xfrm>
                <a:off x="4699440" y="4837320"/>
                <a:ext cx="10080" cy="187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36" h="68">
                    <a:moveTo>
                      <a:pt x="9" y="0"/>
                    </a:moveTo>
                    <a:cubicBezTo>
                      <a:pt x="10" y="0"/>
                      <a:pt x="30" y="5"/>
                      <a:pt x="24" y="12"/>
                    </a:cubicBezTo>
                    <a:cubicBezTo>
                      <a:pt x="20" y="17"/>
                      <a:pt x="6" y="18"/>
                      <a:pt x="6" y="18"/>
                    </a:cubicBezTo>
                    <a:cubicBezTo>
                      <a:pt x="8" y="21"/>
                      <a:pt x="9" y="25"/>
                      <a:pt x="12" y="27"/>
                    </a:cubicBezTo>
                    <a:cubicBezTo>
                      <a:pt x="22" y="35"/>
                      <a:pt x="32" y="35"/>
                      <a:pt x="6" y="42"/>
                    </a:cubicBezTo>
                    <a:cubicBezTo>
                      <a:pt x="36" y="52"/>
                      <a:pt x="23" y="55"/>
                      <a:pt x="0" y="60"/>
                    </a:cubicBezTo>
                    <a:cubicBezTo>
                      <a:pt x="13" y="68"/>
                      <a:pt x="8" y="63"/>
                      <a:pt x="21" y="63"/>
                    </a:cubicBezTo>
                  </a:path>
                </a:pathLst>
              </a:custGeom>
              <a:solidFill>
                <a:srgbClr val="663366"/>
              </a:solidFill>
              <a:ln w="9360">
                <a:solidFill>
                  <a:srgbClr val="66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Freeform 558"/>
              <p:cNvSpPr/>
              <p:nvPr/>
            </p:nvSpPr>
            <p:spPr>
              <a:xfrm>
                <a:off x="4705920" y="4838040"/>
                <a:ext cx="10080" cy="1800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36" h="68">
                    <a:moveTo>
                      <a:pt x="9" y="0"/>
                    </a:moveTo>
                    <a:cubicBezTo>
                      <a:pt x="10" y="0"/>
                      <a:pt x="30" y="5"/>
                      <a:pt x="24" y="12"/>
                    </a:cubicBezTo>
                    <a:cubicBezTo>
                      <a:pt x="20" y="17"/>
                      <a:pt x="6" y="18"/>
                      <a:pt x="6" y="18"/>
                    </a:cubicBezTo>
                    <a:cubicBezTo>
                      <a:pt x="8" y="21"/>
                      <a:pt x="9" y="25"/>
                      <a:pt x="12" y="27"/>
                    </a:cubicBezTo>
                    <a:cubicBezTo>
                      <a:pt x="22" y="35"/>
                      <a:pt x="32" y="35"/>
                      <a:pt x="6" y="42"/>
                    </a:cubicBezTo>
                    <a:cubicBezTo>
                      <a:pt x="36" y="52"/>
                      <a:pt x="23" y="55"/>
                      <a:pt x="0" y="60"/>
                    </a:cubicBezTo>
                    <a:cubicBezTo>
                      <a:pt x="13" y="68"/>
                      <a:pt x="8" y="63"/>
                      <a:pt x="21" y="63"/>
                    </a:cubicBezTo>
                  </a:path>
                </a:pathLst>
              </a:custGeom>
              <a:solidFill>
                <a:srgbClr val="663366"/>
              </a:solidFill>
              <a:ln w="9360">
                <a:solidFill>
                  <a:srgbClr val="66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Oval 559"/>
              <p:cNvSpPr/>
              <p:nvPr/>
            </p:nvSpPr>
            <p:spPr>
              <a:xfrm>
                <a:off x="4700160" y="4856040"/>
                <a:ext cx="6120" cy="12240"/>
              </a:xfrm>
              <a:prstGeom prst="ellipse">
                <a:avLst/>
              </a:prstGeom>
              <a:solidFill>
                <a:srgbClr val="663366"/>
              </a:solidFill>
              <a:ln w="9360">
                <a:solidFill>
                  <a:srgbClr val="66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Oval 560"/>
              <p:cNvSpPr/>
              <p:nvPr/>
            </p:nvSpPr>
            <p:spPr>
              <a:xfrm>
                <a:off x="4705920" y="4856400"/>
                <a:ext cx="6480" cy="12240"/>
              </a:xfrm>
              <a:prstGeom prst="ellipse">
                <a:avLst/>
              </a:prstGeom>
              <a:solidFill>
                <a:srgbClr val="663366"/>
              </a:solidFill>
              <a:ln w="9360">
                <a:solidFill>
                  <a:srgbClr val="66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Oval 561"/>
              <p:cNvSpPr/>
              <p:nvPr/>
            </p:nvSpPr>
            <p:spPr>
              <a:xfrm rot="3348000">
                <a:off x="4813920" y="4838040"/>
                <a:ext cx="49320" cy="66240"/>
              </a:xfrm>
              <a:prstGeom prst="ellips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42426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AutoShape 562"/>
              <p:cNvSpPr/>
              <p:nvPr/>
            </p:nvSpPr>
            <p:spPr>
              <a:xfrm flipH="1" rot="3348000">
                <a:off x="4812120" y="4841280"/>
                <a:ext cx="23400" cy="22680"/>
              </a:xfrm>
              <a:custGeom>
                <a:avLst/>
                <a:gdLst>
                  <a:gd name="textAreaLeft" fmla="*/ 14040 w 23400"/>
                  <a:gd name="textAreaRight" fmla="*/ 14760 w 23400"/>
                  <a:gd name="textAreaTop" fmla="*/ 720 h 22680"/>
                  <a:gd name="textAreaBottom" fmla="*/ 21960 h 22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7719" y="2482"/>
                      <a:pt x="13837" y="5080"/>
                      <a:pt x="13837" y="10800"/>
                    </a:cubicBezTo>
                    <a:cubicBezTo>
                      <a:pt x="13837" y="16520"/>
                      <a:pt x="17719" y="1911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AutoShape 563"/>
              <p:cNvSpPr/>
              <p:nvPr/>
            </p:nvSpPr>
            <p:spPr>
              <a:xfrm rot="3348000">
                <a:off x="4839840" y="4878720"/>
                <a:ext cx="23040" cy="23040"/>
              </a:xfrm>
              <a:custGeom>
                <a:avLst/>
                <a:gdLst>
                  <a:gd name="textAreaLeft" fmla="*/ 14040 w 23040"/>
                  <a:gd name="textAreaRight" fmla="*/ 14760 w 23040"/>
                  <a:gd name="textAreaTop" fmla="*/ 720 h 23040"/>
                  <a:gd name="textAreaBottom" fmla="*/ 22320 h 23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7719" y="2482"/>
                      <a:pt x="13837" y="5080"/>
                      <a:pt x="13837" y="10800"/>
                    </a:cubicBezTo>
                    <a:cubicBezTo>
                      <a:pt x="13837" y="16520"/>
                      <a:pt x="17719" y="1911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Freeform 564"/>
              <p:cNvSpPr/>
              <p:nvPr/>
            </p:nvSpPr>
            <p:spPr>
              <a:xfrm rot="20025600">
                <a:off x="4848840" y="4822200"/>
                <a:ext cx="12960" cy="27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90" h="181">
                    <a:moveTo>
                      <a:pt x="45" y="181"/>
                    </a:moveTo>
                    <a:cubicBezTo>
                      <a:pt x="30" y="181"/>
                      <a:pt x="0" y="120"/>
                      <a:pt x="0" y="90"/>
                    </a:cubicBezTo>
                    <a:cubicBezTo>
                      <a:pt x="0" y="60"/>
                      <a:pt x="30" y="0"/>
                      <a:pt x="45" y="0"/>
                    </a:cubicBezTo>
                    <a:cubicBezTo>
                      <a:pt x="60" y="0"/>
                      <a:pt x="90" y="60"/>
                      <a:pt x="90" y="90"/>
                    </a:cubicBezTo>
                    <a:cubicBezTo>
                      <a:pt x="90" y="120"/>
                      <a:pt x="60" y="181"/>
                      <a:pt x="45" y="181"/>
                    </a:cubicBezTo>
                    <a:close/>
                  </a:path>
                </a:pathLst>
              </a:custGeom>
              <a:noFill/>
              <a:ln w="64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Freeform 565"/>
              <p:cNvSpPr/>
              <p:nvPr/>
            </p:nvSpPr>
            <p:spPr>
              <a:xfrm rot="21131400">
                <a:off x="4853160" y="4821120"/>
                <a:ext cx="12600" cy="2736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90" h="181">
                    <a:moveTo>
                      <a:pt x="45" y="181"/>
                    </a:moveTo>
                    <a:cubicBezTo>
                      <a:pt x="30" y="181"/>
                      <a:pt x="0" y="120"/>
                      <a:pt x="0" y="90"/>
                    </a:cubicBezTo>
                    <a:cubicBezTo>
                      <a:pt x="0" y="60"/>
                      <a:pt x="30" y="0"/>
                      <a:pt x="45" y="0"/>
                    </a:cubicBezTo>
                    <a:cubicBezTo>
                      <a:pt x="60" y="0"/>
                      <a:pt x="90" y="60"/>
                      <a:pt x="90" y="90"/>
                    </a:cubicBezTo>
                    <a:cubicBezTo>
                      <a:pt x="90" y="120"/>
                      <a:pt x="60" y="181"/>
                      <a:pt x="45" y="181"/>
                    </a:cubicBezTo>
                    <a:close/>
                  </a:path>
                </a:pathLst>
              </a:custGeom>
              <a:noFill/>
              <a:ln w="64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Freeform 566"/>
              <p:cNvSpPr/>
              <p:nvPr/>
            </p:nvSpPr>
            <p:spPr>
              <a:xfrm rot="787800">
                <a:off x="4857480" y="4821840"/>
                <a:ext cx="12960" cy="26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6640"/>
                  <a:gd name="textAreaBottom" fmla="*/ 27000 h 26640"/>
                </a:gdLst>
                <a:ahLst/>
                <a:rect l="textAreaLeft" t="textAreaTop" r="textAreaRight" b="textAreaBottom"/>
                <a:pathLst>
                  <a:path w="90" h="181">
                    <a:moveTo>
                      <a:pt x="45" y="181"/>
                    </a:moveTo>
                    <a:cubicBezTo>
                      <a:pt x="30" y="181"/>
                      <a:pt x="0" y="120"/>
                      <a:pt x="0" y="90"/>
                    </a:cubicBezTo>
                    <a:cubicBezTo>
                      <a:pt x="0" y="60"/>
                      <a:pt x="30" y="0"/>
                      <a:pt x="45" y="0"/>
                    </a:cubicBezTo>
                    <a:cubicBezTo>
                      <a:pt x="60" y="0"/>
                      <a:pt x="90" y="60"/>
                      <a:pt x="90" y="90"/>
                    </a:cubicBezTo>
                    <a:cubicBezTo>
                      <a:pt x="90" y="120"/>
                      <a:pt x="60" y="181"/>
                      <a:pt x="45" y="181"/>
                    </a:cubicBezTo>
                    <a:close/>
                  </a:path>
                </a:pathLst>
              </a:custGeom>
              <a:noFill/>
              <a:ln w="64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Freeform 567"/>
              <p:cNvSpPr/>
              <p:nvPr/>
            </p:nvSpPr>
            <p:spPr>
              <a:xfrm flipH="1" rot="8269800">
                <a:off x="4872240" y="4853160"/>
                <a:ext cx="12960" cy="27360"/>
              </a:xfrm>
              <a:custGeom>
                <a:avLst/>
                <a:gdLst>
                  <a:gd name="textAreaLeft" fmla="*/ 360 w 12960"/>
                  <a:gd name="textAreaRight" fmla="*/ 13680 w 1296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90" h="181">
                    <a:moveTo>
                      <a:pt x="45" y="181"/>
                    </a:moveTo>
                    <a:cubicBezTo>
                      <a:pt x="30" y="181"/>
                      <a:pt x="0" y="120"/>
                      <a:pt x="0" y="90"/>
                    </a:cubicBezTo>
                    <a:cubicBezTo>
                      <a:pt x="0" y="60"/>
                      <a:pt x="30" y="0"/>
                      <a:pt x="45" y="0"/>
                    </a:cubicBezTo>
                    <a:cubicBezTo>
                      <a:pt x="60" y="0"/>
                      <a:pt x="90" y="60"/>
                      <a:pt x="90" y="90"/>
                    </a:cubicBezTo>
                    <a:cubicBezTo>
                      <a:pt x="90" y="120"/>
                      <a:pt x="60" y="181"/>
                      <a:pt x="45" y="181"/>
                    </a:cubicBezTo>
                    <a:close/>
                  </a:path>
                </a:pathLst>
              </a:custGeom>
              <a:noFill/>
              <a:ln w="64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Freeform 568"/>
              <p:cNvSpPr/>
              <p:nvPr/>
            </p:nvSpPr>
            <p:spPr>
              <a:xfrm flipH="1" rot="7163400">
                <a:off x="4875480" y="4849920"/>
                <a:ext cx="11160" cy="29160"/>
              </a:xfrm>
              <a:custGeom>
                <a:avLst/>
                <a:gdLst>
                  <a:gd name="textAreaLeft" fmla="*/ -360 w 11160"/>
                  <a:gd name="textAreaRight" fmla="*/ 11160 w 1116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90" h="181">
                    <a:moveTo>
                      <a:pt x="45" y="181"/>
                    </a:moveTo>
                    <a:cubicBezTo>
                      <a:pt x="30" y="181"/>
                      <a:pt x="0" y="120"/>
                      <a:pt x="0" y="90"/>
                    </a:cubicBezTo>
                    <a:cubicBezTo>
                      <a:pt x="0" y="60"/>
                      <a:pt x="30" y="0"/>
                      <a:pt x="45" y="0"/>
                    </a:cubicBezTo>
                    <a:cubicBezTo>
                      <a:pt x="60" y="0"/>
                      <a:pt x="90" y="60"/>
                      <a:pt x="90" y="90"/>
                    </a:cubicBezTo>
                    <a:cubicBezTo>
                      <a:pt x="90" y="120"/>
                      <a:pt x="60" y="181"/>
                      <a:pt x="45" y="181"/>
                    </a:cubicBezTo>
                    <a:close/>
                  </a:path>
                </a:pathLst>
              </a:custGeom>
              <a:noFill/>
              <a:ln w="64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Freeform 569"/>
              <p:cNvSpPr/>
              <p:nvPr/>
            </p:nvSpPr>
            <p:spPr>
              <a:xfrm flipH="1" rot="5907600">
                <a:off x="4876200" y="4845240"/>
                <a:ext cx="11880" cy="29160"/>
              </a:xfrm>
              <a:custGeom>
                <a:avLst/>
                <a:gdLst>
                  <a:gd name="textAreaLeft" fmla="*/ -360 w 11880"/>
                  <a:gd name="textAreaRight" fmla="*/ 11880 w 1188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90" h="181">
                    <a:moveTo>
                      <a:pt x="45" y="181"/>
                    </a:moveTo>
                    <a:cubicBezTo>
                      <a:pt x="30" y="181"/>
                      <a:pt x="0" y="120"/>
                      <a:pt x="0" y="90"/>
                    </a:cubicBezTo>
                    <a:cubicBezTo>
                      <a:pt x="0" y="60"/>
                      <a:pt x="30" y="0"/>
                      <a:pt x="45" y="0"/>
                    </a:cubicBezTo>
                    <a:cubicBezTo>
                      <a:pt x="60" y="0"/>
                      <a:pt x="90" y="60"/>
                      <a:pt x="90" y="90"/>
                    </a:cubicBezTo>
                    <a:cubicBezTo>
                      <a:pt x="90" y="120"/>
                      <a:pt x="60" y="181"/>
                      <a:pt x="45" y="181"/>
                    </a:cubicBezTo>
                    <a:close/>
                  </a:path>
                </a:pathLst>
              </a:custGeom>
              <a:noFill/>
              <a:ln w="64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Freeform 570"/>
              <p:cNvSpPr/>
              <p:nvPr/>
            </p:nvSpPr>
            <p:spPr>
              <a:xfrm rot="3348000">
                <a:off x="4796280" y="4883400"/>
                <a:ext cx="9720" cy="194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36" h="68">
                    <a:moveTo>
                      <a:pt x="9" y="0"/>
                    </a:moveTo>
                    <a:cubicBezTo>
                      <a:pt x="10" y="0"/>
                      <a:pt x="30" y="5"/>
                      <a:pt x="24" y="12"/>
                    </a:cubicBezTo>
                    <a:cubicBezTo>
                      <a:pt x="20" y="17"/>
                      <a:pt x="6" y="18"/>
                      <a:pt x="6" y="18"/>
                    </a:cubicBezTo>
                    <a:cubicBezTo>
                      <a:pt x="8" y="21"/>
                      <a:pt x="9" y="25"/>
                      <a:pt x="12" y="27"/>
                    </a:cubicBezTo>
                    <a:cubicBezTo>
                      <a:pt x="22" y="35"/>
                      <a:pt x="32" y="35"/>
                      <a:pt x="6" y="42"/>
                    </a:cubicBezTo>
                    <a:cubicBezTo>
                      <a:pt x="36" y="52"/>
                      <a:pt x="23" y="55"/>
                      <a:pt x="0" y="60"/>
                    </a:cubicBezTo>
                    <a:cubicBezTo>
                      <a:pt x="13" y="68"/>
                      <a:pt x="8" y="63"/>
                      <a:pt x="21" y="63"/>
                    </a:cubicBezTo>
                  </a:path>
                </a:pathLst>
              </a:custGeom>
              <a:solidFill>
                <a:srgbClr val="663366"/>
              </a:solidFill>
              <a:ln w="9360">
                <a:solidFill>
                  <a:srgbClr val="66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Freeform 571"/>
              <p:cNvSpPr/>
              <p:nvPr/>
            </p:nvSpPr>
            <p:spPr>
              <a:xfrm rot="3348000">
                <a:off x="4799520" y="4888440"/>
                <a:ext cx="9360" cy="19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36" h="68">
                    <a:moveTo>
                      <a:pt x="9" y="0"/>
                    </a:moveTo>
                    <a:cubicBezTo>
                      <a:pt x="10" y="0"/>
                      <a:pt x="30" y="5"/>
                      <a:pt x="24" y="12"/>
                    </a:cubicBezTo>
                    <a:cubicBezTo>
                      <a:pt x="20" y="17"/>
                      <a:pt x="6" y="18"/>
                      <a:pt x="6" y="18"/>
                    </a:cubicBezTo>
                    <a:cubicBezTo>
                      <a:pt x="8" y="21"/>
                      <a:pt x="9" y="25"/>
                      <a:pt x="12" y="27"/>
                    </a:cubicBezTo>
                    <a:cubicBezTo>
                      <a:pt x="22" y="35"/>
                      <a:pt x="32" y="35"/>
                      <a:pt x="6" y="42"/>
                    </a:cubicBezTo>
                    <a:cubicBezTo>
                      <a:pt x="36" y="52"/>
                      <a:pt x="23" y="55"/>
                      <a:pt x="0" y="60"/>
                    </a:cubicBezTo>
                    <a:cubicBezTo>
                      <a:pt x="13" y="68"/>
                      <a:pt x="8" y="63"/>
                      <a:pt x="21" y="63"/>
                    </a:cubicBezTo>
                  </a:path>
                </a:pathLst>
              </a:custGeom>
              <a:solidFill>
                <a:srgbClr val="663366"/>
              </a:solidFill>
              <a:ln w="9360">
                <a:solidFill>
                  <a:srgbClr val="66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Oval 572"/>
              <p:cNvSpPr/>
              <p:nvPr/>
            </p:nvSpPr>
            <p:spPr>
              <a:xfrm rot="3348000">
                <a:off x="4783320" y="4893840"/>
                <a:ext cx="6120" cy="13320"/>
              </a:xfrm>
              <a:prstGeom prst="ellipse">
                <a:avLst/>
              </a:prstGeom>
              <a:solidFill>
                <a:srgbClr val="663366"/>
              </a:solidFill>
              <a:ln w="9360">
                <a:solidFill>
                  <a:srgbClr val="66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Oval 573"/>
              <p:cNvSpPr/>
              <p:nvPr/>
            </p:nvSpPr>
            <p:spPr>
              <a:xfrm rot="3348000">
                <a:off x="4786920" y="4899240"/>
                <a:ext cx="6120" cy="13320"/>
              </a:xfrm>
              <a:prstGeom prst="ellipse">
                <a:avLst/>
              </a:prstGeom>
              <a:solidFill>
                <a:srgbClr val="663366"/>
              </a:solidFill>
              <a:ln w="9360">
                <a:solidFill>
                  <a:srgbClr val="66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Oval 574"/>
              <p:cNvSpPr/>
              <p:nvPr/>
            </p:nvSpPr>
            <p:spPr>
              <a:xfrm flipH="1" rot="18252000">
                <a:off x="4547520" y="4833000"/>
                <a:ext cx="49680" cy="66600"/>
              </a:xfrm>
              <a:prstGeom prst="ellips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42426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AutoShape 575"/>
              <p:cNvSpPr/>
              <p:nvPr/>
            </p:nvSpPr>
            <p:spPr>
              <a:xfrm rot="18252000">
                <a:off x="4575240" y="4836240"/>
                <a:ext cx="23040" cy="23040"/>
              </a:xfrm>
              <a:custGeom>
                <a:avLst/>
                <a:gdLst>
                  <a:gd name="textAreaLeft" fmla="*/ 14040 w 23040"/>
                  <a:gd name="textAreaRight" fmla="*/ 14760 w 23040"/>
                  <a:gd name="textAreaTop" fmla="*/ 720 h 23040"/>
                  <a:gd name="textAreaBottom" fmla="*/ 22320 h 23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7719" y="2482"/>
                      <a:pt x="13837" y="5080"/>
                      <a:pt x="13837" y="10800"/>
                    </a:cubicBezTo>
                    <a:cubicBezTo>
                      <a:pt x="13837" y="16520"/>
                      <a:pt x="17719" y="1911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AutoShape 576"/>
              <p:cNvSpPr/>
              <p:nvPr/>
            </p:nvSpPr>
            <p:spPr>
              <a:xfrm flipH="1" rot="18252000">
                <a:off x="4547160" y="4874040"/>
                <a:ext cx="23040" cy="23040"/>
              </a:xfrm>
              <a:custGeom>
                <a:avLst/>
                <a:gdLst>
                  <a:gd name="textAreaLeft" fmla="*/ 14040 w 23040"/>
                  <a:gd name="textAreaRight" fmla="*/ 14760 w 23040"/>
                  <a:gd name="textAreaTop" fmla="*/ 720 h 23040"/>
                  <a:gd name="textAreaBottom" fmla="*/ 22320 h 23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7719" y="2482"/>
                      <a:pt x="13837" y="5080"/>
                      <a:pt x="13837" y="10800"/>
                    </a:cubicBezTo>
                    <a:cubicBezTo>
                      <a:pt x="13837" y="16520"/>
                      <a:pt x="17719" y="1911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Freeform 577"/>
              <p:cNvSpPr/>
              <p:nvPr/>
            </p:nvSpPr>
            <p:spPr>
              <a:xfrm flipH="1" rot="1574400">
                <a:off x="4548600" y="4816440"/>
                <a:ext cx="12240" cy="27360"/>
              </a:xfrm>
              <a:custGeom>
                <a:avLst/>
                <a:gdLst>
                  <a:gd name="textAreaLeft" fmla="*/ 360 w 12240"/>
                  <a:gd name="textAreaRight" fmla="*/ 12960 w 1224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90" h="181">
                    <a:moveTo>
                      <a:pt x="45" y="181"/>
                    </a:moveTo>
                    <a:cubicBezTo>
                      <a:pt x="30" y="181"/>
                      <a:pt x="0" y="120"/>
                      <a:pt x="0" y="90"/>
                    </a:cubicBezTo>
                    <a:cubicBezTo>
                      <a:pt x="0" y="60"/>
                      <a:pt x="30" y="0"/>
                      <a:pt x="45" y="0"/>
                    </a:cubicBezTo>
                    <a:cubicBezTo>
                      <a:pt x="60" y="0"/>
                      <a:pt x="90" y="60"/>
                      <a:pt x="90" y="90"/>
                    </a:cubicBezTo>
                    <a:cubicBezTo>
                      <a:pt x="90" y="120"/>
                      <a:pt x="60" y="181"/>
                      <a:pt x="45" y="181"/>
                    </a:cubicBezTo>
                    <a:close/>
                  </a:path>
                </a:pathLst>
              </a:custGeom>
              <a:noFill/>
              <a:ln w="64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Freeform 578"/>
              <p:cNvSpPr/>
              <p:nvPr/>
            </p:nvSpPr>
            <p:spPr>
              <a:xfrm flipH="1" rot="468600">
                <a:off x="4545360" y="4816440"/>
                <a:ext cx="12600" cy="27360"/>
              </a:xfrm>
              <a:custGeom>
                <a:avLst/>
                <a:gdLst>
                  <a:gd name="textAreaLeft" fmla="*/ -360 w 12600"/>
                  <a:gd name="textAreaRight" fmla="*/ 12600 w 1260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90" h="181">
                    <a:moveTo>
                      <a:pt x="45" y="181"/>
                    </a:moveTo>
                    <a:cubicBezTo>
                      <a:pt x="30" y="181"/>
                      <a:pt x="0" y="120"/>
                      <a:pt x="0" y="90"/>
                    </a:cubicBezTo>
                    <a:cubicBezTo>
                      <a:pt x="0" y="60"/>
                      <a:pt x="30" y="0"/>
                      <a:pt x="45" y="0"/>
                    </a:cubicBezTo>
                    <a:cubicBezTo>
                      <a:pt x="60" y="0"/>
                      <a:pt x="90" y="60"/>
                      <a:pt x="90" y="90"/>
                    </a:cubicBezTo>
                    <a:cubicBezTo>
                      <a:pt x="90" y="120"/>
                      <a:pt x="60" y="181"/>
                      <a:pt x="45" y="181"/>
                    </a:cubicBezTo>
                    <a:close/>
                  </a:path>
                </a:pathLst>
              </a:custGeom>
              <a:noFill/>
              <a:ln w="64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Freeform 579"/>
              <p:cNvSpPr/>
              <p:nvPr/>
            </p:nvSpPr>
            <p:spPr>
              <a:xfrm flipH="1" rot="20812200">
                <a:off x="4540680" y="4816800"/>
                <a:ext cx="12960" cy="26640"/>
              </a:xfrm>
              <a:custGeom>
                <a:avLst/>
                <a:gdLst>
                  <a:gd name="textAreaLeft" fmla="*/ 360 w 12960"/>
                  <a:gd name="textAreaRight" fmla="*/ 13680 w 12960"/>
                  <a:gd name="textAreaTop" fmla="*/ 0 h 26640"/>
                  <a:gd name="textAreaBottom" fmla="*/ 27000 h 26640"/>
                </a:gdLst>
                <a:ahLst/>
                <a:rect l="textAreaLeft" t="textAreaTop" r="textAreaRight" b="textAreaBottom"/>
                <a:pathLst>
                  <a:path w="90" h="181">
                    <a:moveTo>
                      <a:pt x="45" y="181"/>
                    </a:moveTo>
                    <a:cubicBezTo>
                      <a:pt x="30" y="181"/>
                      <a:pt x="0" y="120"/>
                      <a:pt x="0" y="90"/>
                    </a:cubicBezTo>
                    <a:cubicBezTo>
                      <a:pt x="0" y="60"/>
                      <a:pt x="30" y="0"/>
                      <a:pt x="45" y="0"/>
                    </a:cubicBezTo>
                    <a:cubicBezTo>
                      <a:pt x="60" y="0"/>
                      <a:pt x="90" y="60"/>
                      <a:pt x="90" y="90"/>
                    </a:cubicBezTo>
                    <a:cubicBezTo>
                      <a:pt x="90" y="120"/>
                      <a:pt x="60" y="181"/>
                      <a:pt x="45" y="181"/>
                    </a:cubicBezTo>
                    <a:close/>
                  </a:path>
                </a:pathLst>
              </a:custGeom>
              <a:noFill/>
              <a:ln w="64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Freeform 580"/>
              <p:cNvSpPr/>
              <p:nvPr/>
            </p:nvSpPr>
            <p:spPr>
              <a:xfrm rot="13330200">
                <a:off x="4525920" y="4848480"/>
                <a:ext cx="12960" cy="2700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90" h="181">
                    <a:moveTo>
                      <a:pt x="45" y="181"/>
                    </a:moveTo>
                    <a:cubicBezTo>
                      <a:pt x="30" y="181"/>
                      <a:pt x="0" y="120"/>
                      <a:pt x="0" y="90"/>
                    </a:cubicBezTo>
                    <a:cubicBezTo>
                      <a:pt x="0" y="60"/>
                      <a:pt x="30" y="0"/>
                      <a:pt x="45" y="0"/>
                    </a:cubicBezTo>
                    <a:cubicBezTo>
                      <a:pt x="60" y="0"/>
                      <a:pt x="90" y="60"/>
                      <a:pt x="90" y="90"/>
                    </a:cubicBezTo>
                    <a:cubicBezTo>
                      <a:pt x="90" y="120"/>
                      <a:pt x="60" y="181"/>
                      <a:pt x="45" y="181"/>
                    </a:cubicBezTo>
                    <a:close/>
                  </a:path>
                </a:pathLst>
              </a:custGeom>
              <a:noFill/>
              <a:ln w="64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Freeform 581"/>
              <p:cNvSpPr/>
              <p:nvPr/>
            </p:nvSpPr>
            <p:spPr>
              <a:xfrm rot="14436600">
                <a:off x="4524120" y="4844520"/>
                <a:ext cx="11160" cy="2952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90" h="181">
                    <a:moveTo>
                      <a:pt x="45" y="181"/>
                    </a:moveTo>
                    <a:cubicBezTo>
                      <a:pt x="30" y="181"/>
                      <a:pt x="0" y="120"/>
                      <a:pt x="0" y="90"/>
                    </a:cubicBezTo>
                    <a:cubicBezTo>
                      <a:pt x="0" y="60"/>
                      <a:pt x="30" y="0"/>
                      <a:pt x="45" y="0"/>
                    </a:cubicBezTo>
                    <a:cubicBezTo>
                      <a:pt x="60" y="0"/>
                      <a:pt x="90" y="60"/>
                      <a:pt x="90" y="90"/>
                    </a:cubicBezTo>
                    <a:cubicBezTo>
                      <a:pt x="90" y="120"/>
                      <a:pt x="60" y="181"/>
                      <a:pt x="45" y="181"/>
                    </a:cubicBezTo>
                    <a:close/>
                  </a:path>
                </a:pathLst>
              </a:custGeom>
              <a:noFill/>
              <a:ln w="64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Freeform 582"/>
              <p:cNvSpPr/>
              <p:nvPr/>
            </p:nvSpPr>
            <p:spPr>
              <a:xfrm rot="15692400">
                <a:off x="4522680" y="4840560"/>
                <a:ext cx="11880" cy="2880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90" h="181">
                    <a:moveTo>
                      <a:pt x="45" y="181"/>
                    </a:moveTo>
                    <a:cubicBezTo>
                      <a:pt x="30" y="181"/>
                      <a:pt x="0" y="120"/>
                      <a:pt x="0" y="90"/>
                    </a:cubicBezTo>
                    <a:cubicBezTo>
                      <a:pt x="0" y="60"/>
                      <a:pt x="30" y="0"/>
                      <a:pt x="45" y="0"/>
                    </a:cubicBezTo>
                    <a:cubicBezTo>
                      <a:pt x="60" y="0"/>
                      <a:pt x="90" y="60"/>
                      <a:pt x="90" y="90"/>
                    </a:cubicBezTo>
                    <a:cubicBezTo>
                      <a:pt x="90" y="120"/>
                      <a:pt x="60" y="181"/>
                      <a:pt x="45" y="181"/>
                    </a:cubicBezTo>
                    <a:close/>
                  </a:path>
                </a:pathLst>
              </a:custGeom>
              <a:noFill/>
              <a:ln w="64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Freeform 583"/>
              <p:cNvSpPr/>
              <p:nvPr/>
            </p:nvSpPr>
            <p:spPr>
              <a:xfrm flipH="1" rot="18252000">
                <a:off x="4605840" y="4878360"/>
                <a:ext cx="9720" cy="19440"/>
              </a:xfrm>
              <a:custGeom>
                <a:avLst/>
                <a:gdLst>
                  <a:gd name="textAreaLeft" fmla="*/ -360 w 9720"/>
                  <a:gd name="textAreaRight" fmla="*/ 9720 w 972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36" h="68">
                    <a:moveTo>
                      <a:pt x="9" y="0"/>
                    </a:moveTo>
                    <a:cubicBezTo>
                      <a:pt x="10" y="0"/>
                      <a:pt x="30" y="5"/>
                      <a:pt x="24" y="12"/>
                    </a:cubicBezTo>
                    <a:cubicBezTo>
                      <a:pt x="20" y="17"/>
                      <a:pt x="6" y="18"/>
                      <a:pt x="6" y="18"/>
                    </a:cubicBezTo>
                    <a:cubicBezTo>
                      <a:pt x="8" y="21"/>
                      <a:pt x="9" y="25"/>
                      <a:pt x="12" y="27"/>
                    </a:cubicBezTo>
                    <a:cubicBezTo>
                      <a:pt x="22" y="35"/>
                      <a:pt x="32" y="35"/>
                      <a:pt x="6" y="42"/>
                    </a:cubicBezTo>
                    <a:cubicBezTo>
                      <a:pt x="36" y="52"/>
                      <a:pt x="23" y="55"/>
                      <a:pt x="0" y="60"/>
                    </a:cubicBezTo>
                    <a:cubicBezTo>
                      <a:pt x="13" y="68"/>
                      <a:pt x="8" y="63"/>
                      <a:pt x="21" y="63"/>
                    </a:cubicBezTo>
                  </a:path>
                </a:pathLst>
              </a:custGeom>
              <a:solidFill>
                <a:srgbClr val="663366"/>
              </a:solidFill>
              <a:ln w="9360">
                <a:solidFill>
                  <a:srgbClr val="66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Freeform 584"/>
              <p:cNvSpPr/>
              <p:nvPr/>
            </p:nvSpPr>
            <p:spPr>
              <a:xfrm flipH="1" rot="18252000">
                <a:off x="4602600" y="4883760"/>
                <a:ext cx="9720" cy="19440"/>
              </a:xfrm>
              <a:custGeom>
                <a:avLst/>
                <a:gdLst>
                  <a:gd name="textAreaLeft" fmla="*/ -360 w 9720"/>
                  <a:gd name="textAreaRight" fmla="*/ 9720 w 972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36" h="68">
                    <a:moveTo>
                      <a:pt x="9" y="0"/>
                    </a:moveTo>
                    <a:cubicBezTo>
                      <a:pt x="10" y="0"/>
                      <a:pt x="30" y="5"/>
                      <a:pt x="24" y="12"/>
                    </a:cubicBezTo>
                    <a:cubicBezTo>
                      <a:pt x="20" y="17"/>
                      <a:pt x="6" y="18"/>
                      <a:pt x="6" y="18"/>
                    </a:cubicBezTo>
                    <a:cubicBezTo>
                      <a:pt x="8" y="21"/>
                      <a:pt x="9" y="25"/>
                      <a:pt x="12" y="27"/>
                    </a:cubicBezTo>
                    <a:cubicBezTo>
                      <a:pt x="22" y="35"/>
                      <a:pt x="32" y="35"/>
                      <a:pt x="6" y="42"/>
                    </a:cubicBezTo>
                    <a:cubicBezTo>
                      <a:pt x="36" y="52"/>
                      <a:pt x="23" y="55"/>
                      <a:pt x="0" y="60"/>
                    </a:cubicBezTo>
                    <a:cubicBezTo>
                      <a:pt x="13" y="68"/>
                      <a:pt x="8" y="63"/>
                      <a:pt x="21" y="63"/>
                    </a:cubicBezTo>
                  </a:path>
                </a:pathLst>
              </a:custGeom>
              <a:solidFill>
                <a:srgbClr val="663366"/>
              </a:solidFill>
              <a:ln w="9360">
                <a:solidFill>
                  <a:srgbClr val="66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Oval 585"/>
              <p:cNvSpPr/>
              <p:nvPr/>
            </p:nvSpPr>
            <p:spPr>
              <a:xfrm flipH="1" rot="18252000">
                <a:off x="4621320" y="4889160"/>
                <a:ext cx="6120" cy="13320"/>
              </a:xfrm>
              <a:prstGeom prst="ellipse">
                <a:avLst/>
              </a:prstGeom>
              <a:solidFill>
                <a:srgbClr val="663366"/>
              </a:solidFill>
              <a:ln w="9360">
                <a:solidFill>
                  <a:srgbClr val="66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Oval 586"/>
              <p:cNvSpPr/>
              <p:nvPr/>
            </p:nvSpPr>
            <p:spPr>
              <a:xfrm flipH="1" rot="18252000">
                <a:off x="4617720" y="4894200"/>
                <a:ext cx="6120" cy="13320"/>
              </a:xfrm>
              <a:prstGeom prst="ellipse">
                <a:avLst/>
              </a:prstGeom>
              <a:solidFill>
                <a:srgbClr val="663366"/>
              </a:solidFill>
              <a:ln w="9360">
                <a:solidFill>
                  <a:srgbClr val="66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Oval 587"/>
              <p:cNvSpPr/>
              <p:nvPr/>
            </p:nvSpPr>
            <p:spPr>
              <a:xfrm flipV="1" rot="18252000">
                <a:off x="4811760" y="5007600"/>
                <a:ext cx="49680" cy="66240"/>
              </a:xfrm>
              <a:prstGeom prst="ellips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42426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AutoShape 588"/>
              <p:cNvSpPr/>
              <p:nvPr/>
            </p:nvSpPr>
            <p:spPr>
              <a:xfrm flipH="1" flipV="1" rot="18252000">
                <a:off x="4811040" y="5047920"/>
                <a:ext cx="23040" cy="22680"/>
              </a:xfrm>
              <a:custGeom>
                <a:avLst/>
                <a:gdLst>
                  <a:gd name="textAreaLeft" fmla="*/ 14040 w 23040"/>
                  <a:gd name="textAreaRight" fmla="*/ 14760 w 23040"/>
                  <a:gd name="textAreaTop" fmla="*/ 720 h 22680"/>
                  <a:gd name="textAreaBottom" fmla="*/ 21960 h 22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7719" y="2482"/>
                      <a:pt x="13837" y="5080"/>
                      <a:pt x="13837" y="10800"/>
                    </a:cubicBezTo>
                    <a:cubicBezTo>
                      <a:pt x="13837" y="16520"/>
                      <a:pt x="17719" y="1911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AutoShape 589"/>
              <p:cNvSpPr/>
              <p:nvPr/>
            </p:nvSpPr>
            <p:spPr>
              <a:xfrm flipV="1" rot="18252000">
                <a:off x="4838040" y="5010840"/>
                <a:ext cx="23040" cy="22680"/>
              </a:xfrm>
              <a:custGeom>
                <a:avLst/>
                <a:gdLst>
                  <a:gd name="textAreaLeft" fmla="*/ 14040 w 23040"/>
                  <a:gd name="textAreaRight" fmla="*/ 14760 w 23040"/>
                  <a:gd name="textAreaTop" fmla="*/ 720 h 22680"/>
                  <a:gd name="textAreaBottom" fmla="*/ 21960 h 22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7719" y="2482"/>
                      <a:pt x="13837" y="5080"/>
                      <a:pt x="13837" y="10800"/>
                    </a:cubicBezTo>
                    <a:cubicBezTo>
                      <a:pt x="13837" y="16520"/>
                      <a:pt x="17719" y="1911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Freeform 590"/>
              <p:cNvSpPr/>
              <p:nvPr/>
            </p:nvSpPr>
            <p:spPr>
              <a:xfrm flipV="1" rot="1574400">
                <a:off x="4847400" y="5061600"/>
                <a:ext cx="12240" cy="2736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360 h 27360"/>
                  <a:gd name="textAreaBottom" fmla="*/ 28080 h 27360"/>
                </a:gdLst>
                <a:ahLst/>
                <a:rect l="textAreaLeft" t="textAreaTop" r="textAreaRight" b="textAreaBottom"/>
                <a:pathLst>
                  <a:path w="90" h="181">
                    <a:moveTo>
                      <a:pt x="45" y="181"/>
                    </a:moveTo>
                    <a:cubicBezTo>
                      <a:pt x="30" y="181"/>
                      <a:pt x="0" y="120"/>
                      <a:pt x="0" y="90"/>
                    </a:cubicBezTo>
                    <a:cubicBezTo>
                      <a:pt x="0" y="60"/>
                      <a:pt x="30" y="0"/>
                      <a:pt x="45" y="0"/>
                    </a:cubicBezTo>
                    <a:cubicBezTo>
                      <a:pt x="60" y="0"/>
                      <a:pt x="90" y="60"/>
                      <a:pt x="90" y="90"/>
                    </a:cubicBezTo>
                    <a:cubicBezTo>
                      <a:pt x="90" y="120"/>
                      <a:pt x="60" y="181"/>
                      <a:pt x="45" y="181"/>
                    </a:cubicBezTo>
                    <a:close/>
                  </a:path>
                </a:pathLst>
              </a:custGeom>
              <a:noFill/>
              <a:ln w="64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Freeform 591"/>
              <p:cNvSpPr/>
              <p:nvPr/>
            </p:nvSpPr>
            <p:spPr>
              <a:xfrm flipV="1" rot="468600">
                <a:off x="4851000" y="5063040"/>
                <a:ext cx="12240" cy="2772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-360 h 27720"/>
                  <a:gd name="textAreaBottom" fmla="*/ 27720 h 27720"/>
                </a:gdLst>
                <a:ahLst/>
                <a:rect l="textAreaLeft" t="textAreaTop" r="textAreaRight" b="textAreaBottom"/>
                <a:pathLst>
                  <a:path w="90" h="181">
                    <a:moveTo>
                      <a:pt x="45" y="181"/>
                    </a:moveTo>
                    <a:cubicBezTo>
                      <a:pt x="30" y="181"/>
                      <a:pt x="0" y="120"/>
                      <a:pt x="0" y="90"/>
                    </a:cubicBezTo>
                    <a:cubicBezTo>
                      <a:pt x="0" y="60"/>
                      <a:pt x="30" y="0"/>
                      <a:pt x="45" y="0"/>
                    </a:cubicBezTo>
                    <a:cubicBezTo>
                      <a:pt x="60" y="0"/>
                      <a:pt x="90" y="60"/>
                      <a:pt x="90" y="90"/>
                    </a:cubicBezTo>
                    <a:cubicBezTo>
                      <a:pt x="90" y="120"/>
                      <a:pt x="60" y="181"/>
                      <a:pt x="45" y="181"/>
                    </a:cubicBezTo>
                    <a:close/>
                  </a:path>
                </a:pathLst>
              </a:custGeom>
              <a:noFill/>
              <a:ln w="64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Freeform 592"/>
              <p:cNvSpPr/>
              <p:nvPr/>
            </p:nvSpPr>
            <p:spPr>
              <a:xfrm flipV="1" rot="20812200">
                <a:off x="4856040" y="5063760"/>
                <a:ext cx="12600" cy="2664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360 h 26640"/>
                  <a:gd name="textAreaBottom" fmla="*/ 27360 h 26640"/>
                </a:gdLst>
                <a:ahLst/>
                <a:rect l="textAreaLeft" t="textAreaTop" r="textAreaRight" b="textAreaBottom"/>
                <a:pathLst>
                  <a:path w="90" h="181">
                    <a:moveTo>
                      <a:pt x="45" y="181"/>
                    </a:moveTo>
                    <a:cubicBezTo>
                      <a:pt x="30" y="181"/>
                      <a:pt x="0" y="120"/>
                      <a:pt x="0" y="90"/>
                    </a:cubicBezTo>
                    <a:cubicBezTo>
                      <a:pt x="0" y="60"/>
                      <a:pt x="30" y="0"/>
                      <a:pt x="45" y="0"/>
                    </a:cubicBezTo>
                    <a:cubicBezTo>
                      <a:pt x="60" y="0"/>
                      <a:pt x="90" y="60"/>
                      <a:pt x="90" y="90"/>
                    </a:cubicBezTo>
                    <a:cubicBezTo>
                      <a:pt x="90" y="120"/>
                      <a:pt x="60" y="181"/>
                      <a:pt x="45" y="181"/>
                    </a:cubicBezTo>
                    <a:close/>
                  </a:path>
                </a:pathLst>
              </a:custGeom>
              <a:noFill/>
              <a:ln w="64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Freeform 593"/>
              <p:cNvSpPr/>
              <p:nvPr/>
            </p:nvSpPr>
            <p:spPr>
              <a:xfrm flipH="1" flipV="1" rot="13330200">
                <a:off x="4870440" y="5031360"/>
                <a:ext cx="12600" cy="27360"/>
              </a:xfrm>
              <a:custGeom>
                <a:avLst/>
                <a:gdLst>
                  <a:gd name="textAreaLeft" fmla="*/ -360 w 12600"/>
                  <a:gd name="textAreaRight" fmla="*/ 12600 w 12600"/>
                  <a:gd name="textAreaTop" fmla="*/ 360 h 27360"/>
                  <a:gd name="textAreaBottom" fmla="*/ 28080 h 27360"/>
                </a:gdLst>
                <a:ahLst/>
                <a:rect l="textAreaLeft" t="textAreaTop" r="textAreaRight" b="textAreaBottom"/>
                <a:pathLst>
                  <a:path w="90" h="181">
                    <a:moveTo>
                      <a:pt x="45" y="181"/>
                    </a:moveTo>
                    <a:cubicBezTo>
                      <a:pt x="30" y="181"/>
                      <a:pt x="0" y="120"/>
                      <a:pt x="0" y="90"/>
                    </a:cubicBezTo>
                    <a:cubicBezTo>
                      <a:pt x="0" y="60"/>
                      <a:pt x="30" y="0"/>
                      <a:pt x="45" y="0"/>
                    </a:cubicBezTo>
                    <a:cubicBezTo>
                      <a:pt x="60" y="0"/>
                      <a:pt x="90" y="60"/>
                      <a:pt x="90" y="90"/>
                    </a:cubicBezTo>
                    <a:cubicBezTo>
                      <a:pt x="90" y="120"/>
                      <a:pt x="60" y="181"/>
                      <a:pt x="45" y="181"/>
                    </a:cubicBezTo>
                    <a:close/>
                  </a:path>
                </a:pathLst>
              </a:custGeom>
              <a:noFill/>
              <a:ln w="64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Freeform 594"/>
              <p:cNvSpPr/>
              <p:nvPr/>
            </p:nvSpPr>
            <p:spPr>
              <a:xfrm flipH="1" flipV="1" rot="14436600">
                <a:off x="4872240" y="5031720"/>
                <a:ext cx="11520" cy="29520"/>
              </a:xfrm>
              <a:custGeom>
                <a:avLst/>
                <a:gdLst>
                  <a:gd name="textAreaLeft" fmla="*/ 360 w 11520"/>
                  <a:gd name="textAreaRight" fmla="*/ 12240 w 11520"/>
                  <a:gd name="textAreaTop" fmla="*/ 360 h 29520"/>
                  <a:gd name="textAreaBottom" fmla="*/ 30240 h 29520"/>
                </a:gdLst>
                <a:ahLst/>
                <a:rect l="textAreaLeft" t="textAreaTop" r="textAreaRight" b="textAreaBottom"/>
                <a:pathLst>
                  <a:path w="90" h="181">
                    <a:moveTo>
                      <a:pt x="45" y="181"/>
                    </a:moveTo>
                    <a:cubicBezTo>
                      <a:pt x="30" y="181"/>
                      <a:pt x="0" y="120"/>
                      <a:pt x="0" y="90"/>
                    </a:cubicBezTo>
                    <a:cubicBezTo>
                      <a:pt x="0" y="60"/>
                      <a:pt x="30" y="0"/>
                      <a:pt x="45" y="0"/>
                    </a:cubicBezTo>
                    <a:cubicBezTo>
                      <a:pt x="60" y="0"/>
                      <a:pt x="90" y="60"/>
                      <a:pt x="90" y="90"/>
                    </a:cubicBezTo>
                    <a:cubicBezTo>
                      <a:pt x="90" y="120"/>
                      <a:pt x="60" y="181"/>
                      <a:pt x="45" y="181"/>
                    </a:cubicBezTo>
                    <a:close/>
                  </a:path>
                </a:pathLst>
              </a:custGeom>
              <a:noFill/>
              <a:ln w="64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Freeform 595"/>
              <p:cNvSpPr/>
              <p:nvPr/>
            </p:nvSpPr>
            <p:spPr>
              <a:xfrm flipH="1" flipV="1" rot="15692400">
                <a:off x="4874400" y="5036760"/>
                <a:ext cx="11520" cy="29160"/>
              </a:xfrm>
              <a:custGeom>
                <a:avLst/>
                <a:gdLst>
                  <a:gd name="textAreaLeft" fmla="*/ 360 w 11520"/>
                  <a:gd name="textAreaRight" fmla="*/ 12240 w 11520"/>
                  <a:gd name="textAreaTop" fmla="*/ -360 h 29160"/>
                  <a:gd name="textAreaBottom" fmla="*/ 29160 h 29160"/>
                </a:gdLst>
                <a:ahLst/>
                <a:rect l="textAreaLeft" t="textAreaTop" r="textAreaRight" b="textAreaBottom"/>
                <a:pathLst>
                  <a:path w="90" h="181">
                    <a:moveTo>
                      <a:pt x="45" y="181"/>
                    </a:moveTo>
                    <a:cubicBezTo>
                      <a:pt x="30" y="181"/>
                      <a:pt x="0" y="120"/>
                      <a:pt x="0" y="90"/>
                    </a:cubicBezTo>
                    <a:cubicBezTo>
                      <a:pt x="0" y="60"/>
                      <a:pt x="30" y="0"/>
                      <a:pt x="45" y="0"/>
                    </a:cubicBezTo>
                    <a:cubicBezTo>
                      <a:pt x="60" y="0"/>
                      <a:pt x="90" y="60"/>
                      <a:pt x="90" y="90"/>
                    </a:cubicBezTo>
                    <a:cubicBezTo>
                      <a:pt x="90" y="120"/>
                      <a:pt x="60" y="181"/>
                      <a:pt x="45" y="181"/>
                    </a:cubicBezTo>
                    <a:close/>
                  </a:path>
                </a:pathLst>
              </a:custGeom>
              <a:noFill/>
              <a:ln w="64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Freeform 596"/>
              <p:cNvSpPr/>
              <p:nvPr/>
            </p:nvSpPr>
            <p:spPr>
              <a:xfrm flipV="1" rot="18252000">
                <a:off x="4794120" y="5009400"/>
                <a:ext cx="10080" cy="1980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-360 h 19800"/>
                  <a:gd name="textAreaBottom" fmla="*/ 19800 h 19800"/>
                </a:gdLst>
                <a:ahLst/>
                <a:rect l="textAreaLeft" t="textAreaTop" r="textAreaRight" b="textAreaBottom"/>
                <a:pathLst>
                  <a:path w="36" h="68">
                    <a:moveTo>
                      <a:pt x="9" y="0"/>
                    </a:moveTo>
                    <a:cubicBezTo>
                      <a:pt x="10" y="0"/>
                      <a:pt x="30" y="5"/>
                      <a:pt x="24" y="12"/>
                    </a:cubicBezTo>
                    <a:cubicBezTo>
                      <a:pt x="20" y="17"/>
                      <a:pt x="6" y="18"/>
                      <a:pt x="6" y="18"/>
                    </a:cubicBezTo>
                    <a:cubicBezTo>
                      <a:pt x="8" y="21"/>
                      <a:pt x="9" y="25"/>
                      <a:pt x="12" y="27"/>
                    </a:cubicBezTo>
                    <a:cubicBezTo>
                      <a:pt x="22" y="35"/>
                      <a:pt x="32" y="35"/>
                      <a:pt x="6" y="42"/>
                    </a:cubicBezTo>
                    <a:cubicBezTo>
                      <a:pt x="36" y="52"/>
                      <a:pt x="23" y="55"/>
                      <a:pt x="0" y="60"/>
                    </a:cubicBezTo>
                    <a:cubicBezTo>
                      <a:pt x="13" y="68"/>
                      <a:pt x="8" y="63"/>
                      <a:pt x="21" y="63"/>
                    </a:cubicBezTo>
                  </a:path>
                </a:pathLst>
              </a:custGeom>
              <a:solidFill>
                <a:srgbClr val="663366"/>
              </a:solidFill>
              <a:ln w="9360">
                <a:solidFill>
                  <a:srgbClr val="66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Freeform 597"/>
              <p:cNvSpPr/>
              <p:nvPr/>
            </p:nvSpPr>
            <p:spPr>
              <a:xfrm flipV="1" rot="18252000">
                <a:off x="4798080" y="5004720"/>
                <a:ext cx="9720" cy="194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360 h 19440"/>
                  <a:gd name="textAreaBottom" fmla="*/ 20160 h 19440"/>
                </a:gdLst>
                <a:ahLst/>
                <a:rect l="textAreaLeft" t="textAreaTop" r="textAreaRight" b="textAreaBottom"/>
                <a:pathLst>
                  <a:path w="36" h="68">
                    <a:moveTo>
                      <a:pt x="9" y="0"/>
                    </a:moveTo>
                    <a:cubicBezTo>
                      <a:pt x="10" y="0"/>
                      <a:pt x="30" y="5"/>
                      <a:pt x="24" y="12"/>
                    </a:cubicBezTo>
                    <a:cubicBezTo>
                      <a:pt x="20" y="17"/>
                      <a:pt x="6" y="18"/>
                      <a:pt x="6" y="18"/>
                    </a:cubicBezTo>
                    <a:cubicBezTo>
                      <a:pt x="8" y="21"/>
                      <a:pt x="9" y="25"/>
                      <a:pt x="12" y="27"/>
                    </a:cubicBezTo>
                    <a:cubicBezTo>
                      <a:pt x="22" y="35"/>
                      <a:pt x="32" y="35"/>
                      <a:pt x="6" y="42"/>
                    </a:cubicBezTo>
                    <a:cubicBezTo>
                      <a:pt x="36" y="52"/>
                      <a:pt x="23" y="55"/>
                      <a:pt x="0" y="60"/>
                    </a:cubicBezTo>
                    <a:cubicBezTo>
                      <a:pt x="13" y="68"/>
                      <a:pt x="8" y="63"/>
                      <a:pt x="21" y="63"/>
                    </a:cubicBezTo>
                  </a:path>
                </a:pathLst>
              </a:custGeom>
              <a:solidFill>
                <a:srgbClr val="663366"/>
              </a:solidFill>
              <a:ln w="9360">
                <a:solidFill>
                  <a:srgbClr val="66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Oval 598"/>
              <p:cNvSpPr/>
              <p:nvPr/>
            </p:nvSpPr>
            <p:spPr>
              <a:xfrm flipV="1" rot="18252000">
                <a:off x="4782240" y="5004000"/>
                <a:ext cx="6120" cy="13320"/>
              </a:xfrm>
              <a:prstGeom prst="ellipse">
                <a:avLst/>
              </a:prstGeom>
              <a:solidFill>
                <a:srgbClr val="663366"/>
              </a:solidFill>
              <a:ln w="9360">
                <a:solidFill>
                  <a:srgbClr val="66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Oval 599"/>
              <p:cNvSpPr/>
              <p:nvPr/>
            </p:nvSpPr>
            <p:spPr>
              <a:xfrm flipV="1" rot="18252000">
                <a:off x="4784760" y="4999680"/>
                <a:ext cx="6480" cy="13320"/>
              </a:xfrm>
              <a:prstGeom prst="ellipse">
                <a:avLst/>
              </a:prstGeom>
              <a:solidFill>
                <a:srgbClr val="663366"/>
              </a:solidFill>
              <a:ln w="9360">
                <a:solidFill>
                  <a:srgbClr val="66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Oval 600"/>
              <p:cNvSpPr/>
              <p:nvPr/>
            </p:nvSpPr>
            <p:spPr>
              <a:xfrm flipH="1" flipV="1" rot="3727800">
                <a:off x="4534920" y="4980600"/>
                <a:ext cx="49320" cy="66240"/>
              </a:xfrm>
              <a:prstGeom prst="ellips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42426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AutoShape 601"/>
              <p:cNvSpPr/>
              <p:nvPr/>
            </p:nvSpPr>
            <p:spPr>
              <a:xfrm flipV="1" rot="3728400">
                <a:off x="4560480" y="5022000"/>
                <a:ext cx="23040" cy="23040"/>
              </a:xfrm>
              <a:custGeom>
                <a:avLst/>
                <a:gdLst>
                  <a:gd name="textAreaLeft" fmla="*/ 14040 w 23040"/>
                  <a:gd name="textAreaRight" fmla="*/ 14760 w 23040"/>
                  <a:gd name="textAreaTop" fmla="*/ 720 h 23040"/>
                  <a:gd name="textAreaBottom" fmla="*/ 22320 h 23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7719" y="2482"/>
                      <a:pt x="13837" y="5080"/>
                      <a:pt x="13837" y="10800"/>
                    </a:cubicBezTo>
                    <a:cubicBezTo>
                      <a:pt x="13837" y="16520"/>
                      <a:pt x="17719" y="1911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AutoShape 602"/>
              <p:cNvSpPr/>
              <p:nvPr/>
            </p:nvSpPr>
            <p:spPr>
              <a:xfrm flipH="1" flipV="1" rot="3727800">
                <a:off x="4537080" y="4982040"/>
                <a:ext cx="23040" cy="23400"/>
              </a:xfrm>
              <a:custGeom>
                <a:avLst/>
                <a:gdLst>
                  <a:gd name="textAreaLeft" fmla="*/ 14040 w 23040"/>
                  <a:gd name="textAreaRight" fmla="*/ 14760 w 23040"/>
                  <a:gd name="textAreaTop" fmla="*/ 720 h 23400"/>
                  <a:gd name="textAreaBottom" fmla="*/ 22680 h 23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7719" y="2482"/>
                      <a:pt x="13837" y="5080"/>
                      <a:pt x="13837" y="10800"/>
                    </a:cubicBezTo>
                    <a:cubicBezTo>
                      <a:pt x="13837" y="16520"/>
                      <a:pt x="17719" y="1911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Freeform 603"/>
              <p:cNvSpPr/>
              <p:nvPr/>
            </p:nvSpPr>
            <p:spPr>
              <a:xfrm flipH="1" flipV="1" rot="20406600">
                <a:off x="4532040" y="5033520"/>
                <a:ext cx="12960" cy="27360"/>
              </a:xfrm>
              <a:custGeom>
                <a:avLst/>
                <a:gdLst>
                  <a:gd name="textAreaLeft" fmla="*/ 360 w 12960"/>
                  <a:gd name="textAreaRight" fmla="*/ 13680 w 12960"/>
                  <a:gd name="textAreaTop" fmla="*/ 360 h 27360"/>
                  <a:gd name="textAreaBottom" fmla="*/ 28080 h 27360"/>
                </a:gdLst>
                <a:ahLst/>
                <a:rect l="textAreaLeft" t="textAreaTop" r="textAreaRight" b="textAreaBottom"/>
                <a:pathLst>
                  <a:path w="90" h="181">
                    <a:moveTo>
                      <a:pt x="45" y="181"/>
                    </a:moveTo>
                    <a:cubicBezTo>
                      <a:pt x="30" y="181"/>
                      <a:pt x="0" y="120"/>
                      <a:pt x="0" y="90"/>
                    </a:cubicBezTo>
                    <a:cubicBezTo>
                      <a:pt x="0" y="60"/>
                      <a:pt x="30" y="0"/>
                      <a:pt x="45" y="0"/>
                    </a:cubicBezTo>
                    <a:cubicBezTo>
                      <a:pt x="60" y="0"/>
                      <a:pt x="90" y="60"/>
                      <a:pt x="90" y="90"/>
                    </a:cubicBezTo>
                    <a:cubicBezTo>
                      <a:pt x="90" y="120"/>
                      <a:pt x="60" y="181"/>
                      <a:pt x="45" y="181"/>
                    </a:cubicBezTo>
                    <a:close/>
                  </a:path>
                </a:pathLst>
              </a:custGeom>
              <a:noFill/>
              <a:ln w="64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Freeform 604"/>
              <p:cNvSpPr/>
              <p:nvPr/>
            </p:nvSpPr>
            <p:spPr>
              <a:xfrm flipH="1" flipV="1" rot="21512400">
                <a:off x="4528800" y="5033520"/>
                <a:ext cx="12600" cy="27360"/>
              </a:xfrm>
              <a:custGeom>
                <a:avLst/>
                <a:gdLst>
                  <a:gd name="textAreaLeft" fmla="*/ -360 w 12600"/>
                  <a:gd name="textAreaRight" fmla="*/ 12600 w 12600"/>
                  <a:gd name="textAreaTop" fmla="*/ 360 h 27360"/>
                  <a:gd name="textAreaBottom" fmla="*/ 28080 h 27360"/>
                </a:gdLst>
                <a:ahLst/>
                <a:rect l="textAreaLeft" t="textAreaTop" r="textAreaRight" b="textAreaBottom"/>
                <a:pathLst>
                  <a:path w="90" h="181">
                    <a:moveTo>
                      <a:pt x="45" y="181"/>
                    </a:moveTo>
                    <a:cubicBezTo>
                      <a:pt x="30" y="181"/>
                      <a:pt x="0" y="120"/>
                      <a:pt x="0" y="90"/>
                    </a:cubicBezTo>
                    <a:cubicBezTo>
                      <a:pt x="0" y="60"/>
                      <a:pt x="30" y="0"/>
                      <a:pt x="45" y="0"/>
                    </a:cubicBezTo>
                    <a:cubicBezTo>
                      <a:pt x="60" y="0"/>
                      <a:pt x="90" y="60"/>
                      <a:pt x="90" y="90"/>
                    </a:cubicBezTo>
                    <a:cubicBezTo>
                      <a:pt x="90" y="120"/>
                      <a:pt x="60" y="181"/>
                      <a:pt x="45" y="181"/>
                    </a:cubicBezTo>
                    <a:close/>
                  </a:path>
                </a:pathLst>
              </a:custGeom>
              <a:noFill/>
              <a:ln w="64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Freeform 605"/>
              <p:cNvSpPr/>
              <p:nvPr/>
            </p:nvSpPr>
            <p:spPr>
              <a:xfrm flipH="1" flipV="1" rot="1168200">
                <a:off x="4523040" y="5032800"/>
                <a:ext cx="12960" cy="27000"/>
              </a:xfrm>
              <a:custGeom>
                <a:avLst/>
                <a:gdLst>
                  <a:gd name="textAreaLeft" fmla="*/ 360 w 12960"/>
                  <a:gd name="textAreaRight" fmla="*/ 13680 w 12960"/>
                  <a:gd name="textAreaTop" fmla="*/ -360 h 27000"/>
                  <a:gd name="textAreaBottom" fmla="*/ 27000 h 27000"/>
                </a:gdLst>
                <a:ahLst/>
                <a:rect l="textAreaLeft" t="textAreaTop" r="textAreaRight" b="textAreaBottom"/>
                <a:pathLst>
                  <a:path w="90" h="181">
                    <a:moveTo>
                      <a:pt x="45" y="181"/>
                    </a:moveTo>
                    <a:cubicBezTo>
                      <a:pt x="30" y="181"/>
                      <a:pt x="0" y="120"/>
                      <a:pt x="0" y="90"/>
                    </a:cubicBezTo>
                    <a:cubicBezTo>
                      <a:pt x="0" y="60"/>
                      <a:pt x="30" y="0"/>
                      <a:pt x="45" y="0"/>
                    </a:cubicBezTo>
                    <a:cubicBezTo>
                      <a:pt x="60" y="0"/>
                      <a:pt x="90" y="60"/>
                      <a:pt x="90" y="90"/>
                    </a:cubicBezTo>
                    <a:cubicBezTo>
                      <a:pt x="90" y="120"/>
                      <a:pt x="60" y="181"/>
                      <a:pt x="45" y="181"/>
                    </a:cubicBezTo>
                    <a:close/>
                  </a:path>
                </a:pathLst>
              </a:custGeom>
              <a:noFill/>
              <a:ln w="64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Freeform 606"/>
              <p:cNvSpPr/>
              <p:nvPr/>
            </p:nvSpPr>
            <p:spPr>
              <a:xfrm flipV="1" rot="8649600">
                <a:off x="4512600" y="4999320"/>
                <a:ext cx="12960" cy="27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360 h 27360"/>
                  <a:gd name="textAreaBottom" fmla="*/ 28080 h 27360"/>
                </a:gdLst>
                <a:ahLst/>
                <a:rect l="textAreaLeft" t="textAreaTop" r="textAreaRight" b="textAreaBottom"/>
                <a:pathLst>
                  <a:path w="90" h="181">
                    <a:moveTo>
                      <a:pt x="45" y="181"/>
                    </a:moveTo>
                    <a:cubicBezTo>
                      <a:pt x="30" y="181"/>
                      <a:pt x="0" y="120"/>
                      <a:pt x="0" y="90"/>
                    </a:cubicBezTo>
                    <a:cubicBezTo>
                      <a:pt x="0" y="60"/>
                      <a:pt x="30" y="0"/>
                      <a:pt x="45" y="0"/>
                    </a:cubicBezTo>
                    <a:cubicBezTo>
                      <a:pt x="60" y="0"/>
                      <a:pt x="90" y="60"/>
                      <a:pt x="90" y="90"/>
                    </a:cubicBezTo>
                    <a:cubicBezTo>
                      <a:pt x="90" y="120"/>
                      <a:pt x="60" y="181"/>
                      <a:pt x="45" y="181"/>
                    </a:cubicBezTo>
                    <a:close/>
                  </a:path>
                </a:pathLst>
              </a:custGeom>
              <a:noFill/>
              <a:ln w="64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Freeform 607"/>
              <p:cNvSpPr/>
              <p:nvPr/>
            </p:nvSpPr>
            <p:spPr>
              <a:xfrm flipV="1" rot="7544400">
                <a:off x="4511160" y="5001120"/>
                <a:ext cx="11520" cy="29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360 h 29520"/>
                  <a:gd name="textAreaBottom" fmla="*/ 30240 h 29520"/>
                </a:gdLst>
                <a:ahLst/>
                <a:rect l="textAreaLeft" t="textAreaTop" r="textAreaRight" b="textAreaBottom"/>
                <a:pathLst>
                  <a:path w="90" h="181">
                    <a:moveTo>
                      <a:pt x="45" y="181"/>
                    </a:moveTo>
                    <a:cubicBezTo>
                      <a:pt x="30" y="181"/>
                      <a:pt x="0" y="120"/>
                      <a:pt x="0" y="90"/>
                    </a:cubicBezTo>
                    <a:cubicBezTo>
                      <a:pt x="0" y="60"/>
                      <a:pt x="30" y="0"/>
                      <a:pt x="45" y="0"/>
                    </a:cubicBezTo>
                    <a:cubicBezTo>
                      <a:pt x="60" y="0"/>
                      <a:pt x="90" y="60"/>
                      <a:pt x="90" y="90"/>
                    </a:cubicBezTo>
                    <a:cubicBezTo>
                      <a:pt x="90" y="120"/>
                      <a:pt x="60" y="181"/>
                      <a:pt x="45" y="181"/>
                    </a:cubicBezTo>
                    <a:close/>
                  </a:path>
                </a:pathLst>
              </a:custGeom>
              <a:noFill/>
              <a:ln w="64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Freeform 608"/>
              <p:cNvSpPr/>
              <p:nvPr/>
            </p:nvSpPr>
            <p:spPr>
              <a:xfrm flipV="1" rot="6288000">
                <a:off x="4509360" y="5005080"/>
                <a:ext cx="11520" cy="2916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-360 h 29160"/>
                  <a:gd name="textAreaBottom" fmla="*/ 29160 h 29160"/>
                </a:gdLst>
                <a:ahLst/>
                <a:rect l="textAreaLeft" t="textAreaTop" r="textAreaRight" b="textAreaBottom"/>
                <a:pathLst>
                  <a:path w="90" h="181">
                    <a:moveTo>
                      <a:pt x="45" y="181"/>
                    </a:moveTo>
                    <a:cubicBezTo>
                      <a:pt x="30" y="181"/>
                      <a:pt x="0" y="120"/>
                      <a:pt x="0" y="90"/>
                    </a:cubicBezTo>
                    <a:cubicBezTo>
                      <a:pt x="0" y="60"/>
                      <a:pt x="30" y="0"/>
                      <a:pt x="45" y="0"/>
                    </a:cubicBezTo>
                    <a:cubicBezTo>
                      <a:pt x="60" y="0"/>
                      <a:pt x="90" y="60"/>
                      <a:pt x="90" y="90"/>
                    </a:cubicBezTo>
                    <a:cubicBezTo>
                      <a:pt x="90" y="120"/>
                      <a:pt x="60" y="181"/>
                      <a:pt x="45" y="181"/>
                    </a:cubicBezTo>
                    <a:close/>
                  </a:path>
                </a:pathLst>
              </a:custGeom>
              <a:noFill/>
              <a:ln w="64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Freeform 609"/>
              <p:cNvSpPr/>
              <p:nvPr/>
            </p:nvSpPr>
            <p:spPr>
              <a:xfrm flipH="1" flipV="1" rot="3727800">
                <a:off x="4595040" y="4986360"/>
                <a:ext cx="9720" cy="19440"/>
              </a:xfrm>
              <a:custGeom>
                <a:avLst/>
                <a:gdLst>
                  <a:gd name="textAreaLeft" fmla="*/ -360 w 9720"/>
                  <a:gd name="textAreaRight" fmla="*/ 9720 w 9720"/>
                  <a:gd name="textAreaTop" fmla="*/ 360 h 19440"/>
                  <a:gd name="textAreaBottom" fmla="*/ 20160 h 19440"/>
                </a:gdLst>
                <a:ahLst/>
                <a:rect l="textAreaLeft" t="textAreaTop" r="textAreaRight" b="textAreaBottom"/>
                <a:pathLst>
                  <a:path w="36" h="68">
                    <a:moveTo>
                      <a:pt x="9" y="0"/>
                    </a:moveTo>
                    <a:cubicBezTo>
                      <a:pt x="10" y="0"/>
                      <a:pt x="30" y="5"/>
                      <a:pt x="24" y="12"/>
                    </a:cubicBezTo>
                    <a:cubicBezTo>
                      <a:pt x="20" y="17"/>
                      <a:pt x="6" y="18"/>
                      <a:pt x="6" y="18"/>
                    </a:cubicBezTo>
                    <a:cubicBezTo>
                      <a:pt x="8" y="21"/>
                      <a:pt x="9" y="25"/>
                      <a:pt x="12" y="27"/>
                    </a:cubicBezTo>
                    <a:cubicBezTo>
                      <a:pt x="22" y="35"/>
                      <a:pt x="32" y="35"/>
                      <a:pt x="6" y="42"/>
                    </a:cubicBezTo>
                    <a:cubicBezTo>
                      <a:pt x="36" y="52"/>
                      <a:pt x="23" y="55"/>
                      <a:pt x="0" y="60"/>
                    </a:cubicBezTo>
                    <a:cubicBezTo>
                      <a:pt x="13" y="68"/>
                      <a:pt x="8" y="63"/>
                      <a:pt x="21" y="63"/>
                    </a:cubicBezTo>
                  </a:path>
                </a:pathLst>
              </a:custGeom>
              <a:solidFill>
                <a:srgbClr val="663366"/>
              </a:solidFill>
              <a:ln w="9360">
                <a:solidFill>
                  <a:srgbClr val="66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Freeform 610"/>
              <p:cNvSpPr/>
              <p:nvPr/>
            </p:nvSpPr>
            <p:spPr>
              <a:xfrm flipH="1" flipV="1" rot="3727800">
                <a:off x="4593240" y="4981320"/>
                <a:ext cx="9360" cy="19440"/>
              </a:xfrm>
              <a:custGeom>
                <a:avLst/>
                <a:gdLst>
                  <a:gd name="textAreaLeft" fmla="*/ 360 w 9360"/>
                  <a:gd name="textAreaRight" fmla="*/ 10080 w 9360"/>
                  <a:gd name="textAreaTop" fmla="*/ 360 h 19440"/>
                  <a:gd name="textAreaBottom" fmla="*/ 20160 h 19440"/>
                </a:gdLst>
                <a:ahLst/>
                <a:rect l="textAreaLeft" t="textAreaTop" r="textAreaRight" b="textAreaBottom"/>
                <a:pathLst>
                  <a:path w="36" h="68">
                    <a:moveTo>
                      <a:pt x="9" y="0"/>
                    </a:moveTo>
                    <a:cubicBezTo>
                      <a:pt x="10" y="0"/>
                      <a:pt x="30" y="5"/>
                      <a:pt x="24" y="12"/>
                    </a:cubicBezTo>
                    <a:cubicBezTo>
                      <a:pt x="20" y="17"/>
                      <a:pt x="6" y="18"/>
                      <a:pt x="6" y="18"/>
                    </a:cubicBezTo>
                    <a:cubicBezTo>
                      <a:pt x="8" y="21"/>
                      <a:pt x="9" y="25"/>
                      <a:pt x="12" y="27"/>
                    </a:cubicBezTo>
                    <a:cubicBezTo>
                      <a:pt x="22" y="35"/>
                      <a:pt x="32" y="35"/>
                      <a:pt x="6" y="42"/>
                    </a:cubicBezTo>
                    <a:cubicBezTo>
                      <a:pt x="36" y="52"/>
                      <a:pt x="23" y="55"/>
                      <a:pt x="0" y="60"/>
                    </a:cubicBezTo>
                    <a:cubicBezTo>
                      <a:pt x="13" y="68"/>
                      <a:pt x="8" y="63"/>
                      <a:pt x="21" y="63"/>
                    </a:cubicBezTo>
                  </a:path>
                </a:pathLst>
              </a:custGeom>
              <a:solidFill>
                <a:srgbClr val="663366"/>
              </a:solidFill>
              <a:ln w="9360">
                <a:solidFill>
                  <a:srgbClr val="66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Oval 611"/>
              <p:cNvSpPr/>
              <p:nvPr/>
            </p:nvSpPr>
            <p:spPr>
              <a:xfrm flipH="1" flipV="1" rot="3727800">
                <a:off x="4611960" y="4983840"/>
                <a:ext cx="6120" cy="13320"/>
              </a:xfrm>
              <a:prstGeom prst="ellipse">
                <a:avLst/>
              </a:prstGeom>
              <a:solidFill>
                <a:srgbClr val="663366"/>
              </a:solidFill>
              <a:ln w="9360">
                <a:solidFill>
                  <a:srgbClr val="66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Oval 612"/>
              <p:cNvSpPr/>
              <p:nvPr/>
            </p:nvSpPr>
            <p:spPr>
              <a:xfrm flipH="1" flipV="1" rot="3727800">
                <a:off x="4608720" y="4978440"/>
                <a:ext cx="6480" cy="12960"/>
              </a:xfrm>
              <a:prstGeom prst="ellipse">
                <a:avLst/>
              </a:prstGeom>
              <a:solidFill>
                <a:srgbClr val="663366"/>
              </a:solidFill>
              <a:ln w="9360">
                <a:solidFill>
                  <a:srgbClr val="66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AutoShape 613"/>
              <p:cNvSpPr/>
              <p:nvPr/>
            </p:nvSpPr>
            <p:spPr>
              <a:xfrm flipH="1" flipV="1">
                <a:off x="4868280" y="5058000"/>
                <a:ext cx="24480" cy="21600"/>
              </a:xfrm>
              <a:custGeom>
                <a:avLst/>
                <a:gdLst>
                  <a:gd name="textAreaLeft" fmla="*/ 15120 w 24480"/>
                  <a:gd name="textAreaRight" fmla="*/ 15840 w 24480"/>
                  <a:gd name="textAreaTop" fmla="*/ 720 h 21600"/>
                  <a:gd name="textAreaBottom" fmla="*/ 20880 h 21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7719" y="2482"/>
                      <a:pt x="13837" y="5080"/>
                      <a:pt x="13837" y="10800"/>
                    </a:cubicBezTo>
                    <a:cubicBezTo>
                      <a:pt x="13837" y="16520"/>
                      <a:pt x="17719" y="1911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Freeform 614"/>
              <p:cNvSpPr/>
              <p:nvPr/>
            </p:nvSpPr>
            <p:spPr>
              <a:xfrm rot="444000">
                <a:off x="4665600" y="4891680"/>
                <a:ext cx="83880" cy="13608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136080"/>
                  <a:gd name="textAreaBottom" fmla="*/ 136440 h 136080"/>
                </a:gdLst>
                <a:ahLst/>
                <a:rect l="textAreaLeft" t="textAreaTop" r="textAreaRight" b="textAreaBottom"/>
                <a:pathLst>
                  <a:path w="196" h="430">
                    <a:moveTo>
                      <a:pt x="15" y="60"/>
                    </a:moveTo>
                    <a:cubicBezTo>
                      <a:pt x="30" y="0"/>
                      <a:pt x="76" y="7"/>
                      <a:pt x="106" y="14"/>
                    </a:cubicBezTo>
                    <a:cubicBezTo>
                      <a:pt x="136" y="21"/>
                      <a:pt x="196" y="45"/>
                      <a:pt x="196" y="105"/>
                    </a:cubicBezTo>
                    <a:cubicBezTo>
                      <a:pt x="196" y="165"/>
                      <a:pt x="136" y="332"/>
                      <a:pt x="106" y="377"/>
                    </a:cubicBezTo>
                    <a:cubicBezTo>
                      <a:pt x="76" y="422"/>
                      <a:pt x="30" y="430"/>
                      <a:pt x="15" y="377"/>
                    </a:cubicBezTo>
                    <a:cubicBezTo>
                      <a:pt x="0" y="324"/>
                      <a:pt x="0" y="120"/>
                      <a:pt x="15" y="60"/>
                    </a:cubicBez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66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3" name="Group 610"/>
          <p:cNvGrpSpPr/>
          <p:nvPr/>
        </p:nvGrpSpPr>
        <p:grpSpPr>
          <a:xfrm>
            <a:off x="5673600" y="4799160"/>
            <a:ext cx="914400" cy="914400"/>
            <a:chOff x="5673600" y="4799160"/>
            <a:chExt cx="914400" cy="914400"/>
          </a:xfrm>
        </p:grpSpPr>
        <p:sp>
          <p:nvSpPr>
            <p:cNvPr id="1374" name="Oval 4"/>
            <p:cNvSpPr/>
            <p:nvPr/>
          </p:nvSpPr>
          <p:spPr>
            <a:xfrm>
              <a:off x="5673600" y="4799160"/>
              <a:ext cx="914400" cy="91440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Line 5"/>
            <p:cNvSpPr/>
            <p:nvPr/>
          </p:nvSpPr>
          <p:spPr>
            <a:xfrm>
              <a:off x="5851440" y="5245200"/>
              <a:ext cx="576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Rectangle 6"/>
            <p:cNvSpPr/>
            <p:nvPr/>
          </p:nvSpPr>
          <p:spPr>
            <a:xfrm>
              <a:off x="5996160" y="5173560"/>
              <a:ext cx="252360" cy="1414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41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Freeform 616"/>
            <p:cNvSpPr/>
            <p:nvPr/>
          </p:nvSpPr>
          <p:spPr>
            <a:xfrm>
              <a:off x="5977080" y="4957920"/>
              <a:ext cx="318960" cy="112680"/>
            </a:xfrm>
            <a:custGeom>
              <a:avLst/>
              <a:gdLst>
                <a:gd name="textAreaLeft" fmla="*/ 0 w 318960"/>
                <a:gd name="textAreaRight" fmla="*/ 319320 w 3189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277" h="95">
                  <a:moveTo>
                    <a:pt x="0" y="62"/>
                  </a:moveTo>
                  <a:cubicBezTo>
                    <a:pt x="22" y="42"/>
                    <a:pt x="22" y="16"/>
                    <a:pt x="46" y="0"/>
                  </a:cubicBezTo>
                  <a:cubicBezTo>
                    <a:pt x="104" y="13"/>
                    <a:pt x="45" y="49"/>
                    <a:pt x="91" y="79"/>
                  </a:cubicBezTo>
                  <a:cubicBezTo>
                    <a:pt x="100" y="77"/>
                    <a:pt x="111" y="78"/>
                    <a:pt x="119" y="73"/>
                  </a:cubicBezTo>
                  <a:cubicBezTo>
                    <a:pt x="131" y="65"/>
                    <a:pt x="125" y="32"/>
                    <a:pt x="136" y="22"/>
                  </a:cubicBezTo>
                  <a:cubicBezTo>
                    <a:pt x="145" y="14"/>
                    <a:pt x="159" y="15"/>
                    <a:pt x="170" y="11"/>
                  </a:cubicBezTo>
                  <a:cubicBezTo>
                    <a:pt x="172" y="36"/>
                    <a:pt x="163" y="64"/>
                    <a:pt x="175" y="85"/>
                  </a:cubicBezTo>
                  <a:cubicBezTo>
                    <a:pt x="181" y="95"/>
                    <a:pt x="200" y="86"/>
                    <a:pt x="209" y="79"/>
                  </a:cubicBezTo>
                  <a:cubicBezTo>
                    <a:pt x="254" y="48"/>
                    <a:pt x="211" y="47"/>
                    <a:pt x="266" y="28"/>
                  </a:cubicBezTo>
                  <a:cubicBezTo>
                    <a:pt x="272" y="49"/>
                    <a:pt x="277" y="68"/>
                    <a:pt x="277" y="90"/>
                  </a:cubicBezTo>
                </a:path>
              </a:pathLst>
            </a:custGeom>
            <a:noFill/>
            <a:ln w="28440">
              <a:solidFill>
                <a:srgbClr val="f417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Freeform 617"/>
            <p:cNvSpPr/>
            <p:nvPr/>
          </p:nvSpPr>
          <p:spPr>
            <a:xfrm>
              <a:off x="5940360" y="5425920"/>
              <a:ext cx="319320" cy="113040"/>
            </a:xfrm>
            <a:custGeom>
              <a:avLst/>
              <a:gdLst>
                <a:gd name="textAreaLeft" fmla="*/ 0 w 319320"/>
                <a:gd name="textAreaRight" fmla="*/ 319680 w 31932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277" h="95">
                  <a:moveTo>
                    <a:pt x="0" y="62"/>
                  </a:moveTo>
                  <a:cubicBezTo>
                    <a:pt x="22" y="42"/>
                    <a:pt x="22" y="16"/>
                    <a:pt x="46" y="0"/>
                  </a:cubicBezTo>
                  <a:cubicBezTo>
                    <a:pt x="104" y="13"/>
                    <a:pt x="45" y="49"/>
                    <a:pt x="91" y="79"/>
                  </a:cubicBezTo>
                  <a:cubicBezTo>
                    <a:pt x="100" y="77"/>
                    <a:pt x="111" y="78"/>
                    <a:pt x="119" y="73"/>
                  </a:cubicBezTo>
                  <a:cubicBezTo>
                    <a:pt x="131" y="65"/>
                    <a:pt x="125" y="32"/>
                    <a:pt x="136" y="22"/>
                  </a:cubicBezTo>
                  <a:cubicBezTo>
                    <a:pt x="145" y="14"/>
                    <a:pt x="159" y="15"/>
                    <a:pt x="170" y="11"/>
                  </a:cubicBezTo>
                  <a:cubicBezTo>
                    <a:pt x="172" y="36"/>
                    <a:pt x="163" y="64"/>
                    <a:pt x="175" y="85"/>
                  </a:cubicBezTo>
                  <a:cubicBezTo>
                    <a:pt x="181" y="95"/>
                    <a:pt x="200" y="86"/>
                    <a:pt x="209" y="79"/>
                  </a:cubicBezTo>
                  <a:cubicBezTo>
                    <a:pt x="254" y="48"/>
                    <a:pt x="211" y="47"/>
                    <a:pt x="266" y="28"/>
                  </a:cubicBezTo>
                  <a:cubicBezTo>
                    <a:pt x="272" y="49"/>
                    <a:pt x="277" y="68"/>
                    <a:pt x="277" y="90"/>
                  </a:cubicBezTo>
                </a:path>
              </a:pathLst>
            </a:custGeom>
            <a:noFill/>
            <a:ln w="28440">
              <a:solidFill>
                <a:srgbClr val="f417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9" name="Text Box 616"/>
          <p:cNvSpPr/>
          <p:nvPr/>
        </p:nvSpPr>
        <p:spPr>
          <a:xfrm>
            <a:off x="5834160" y="3824280"/>
            <a:ext cx="645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6000" spc="-1" strike="noStrike">
                <a:solidFill>
                  <a:srgbClr val="f417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0" name="Group 2"/>
          <p:cNvGrpSpPr/>
          <p:nvPr/>
        </p:nvGrpSpPr>
        <p:grpSpPr>
          <a:xfrm>
            <a:off x="6034320" y="3468600"/>
            <a:ext cx="3055320" cy="3293640"/>
            <a:chOff x="6034320" y="3468600"/>
            <a:chExt cx="3055320" cy="3293640"/>
          </a:xfrm>
        </p:grpSpPr>
        <p:grpSp>
          <p:nvGrpSpPr>
            <p:cNvPr id="1381" name="Group 4"/>
            <p:cNvGrpSpPr/>
            <p:nvPr/>
          </p:nvGrpSpPr>
          <p:grpSpPr>
            <a:xfrm>
              <a:off x="6034320" y="3468600"/>
              <a:ext cx="3012480" cy="3293640"/>
              <a:chOff x="6034320" y="3468600"/>
              <a:chExt cx="3012480" cy="3293640"/>
            </a:xfrm>
          </p:grpSpPr>
          <p:sp>
            <p:nvSpPr>
              <p:cNvPr id="1382" name="Text Box 617"/>
              <p:cNvSpPr/>
              <p:nvPr/>
            </p:nvSpPr>
            <p:spPr>
              <a:xfrm>
                <a:off x="6034320" y="6455160"/>
                <a:ext cx="3012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400" spc="-1" strike="noStrike">
                    <a:solidFill>
                      <a:srgbClr val="000000"/>
                    </a:solidFill>
                    <a:latin typeface="Arial"/>
                  </a:rPr>
                  <a:t>Shan et al., Immunity 2012; 36:1-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3" name="Group 3"/>
              <p:cNvGrpSpPr/>
              <p:nvPr/>
            </p:nvGrpSpPr>
            <p:grpSpPr>
              <a:xfrm>
                <a:off x="6956280" y="3468600"/>
                <a:ext cx="2019240" cy="2703960"/>
                <a:chOff x="6956280" y="3468600"/>
                <a:chExt cx="2019240" cy="2703960"/>
              </a:xfrm>
            </p:grpSpPr>
            <p:pic>
              <p:nvPicPr>
                <p:cNvPr id="1384" name="Picture 629" descr="http://www.umich.edu/%7Echemh215/W08HTML/SSG4/ssg4.5/syringe.jpg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956280" y="3468600"/>
                  <a:ext cx="2019240" cy="2703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5" name="TextBox 2"/>
                <p:cNvSpPr/>
                <p:nvPr/>
              </p:nvSpPr>
              <p:spPr>
                <a:xfrm>
                  <a:off x="6987240" y="4689000"/>
                  <a:ext cx="669960" cy="109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66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6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86" name="TextBox 1"/>
            <p:cNvSpPr/>
            <p:nvPr/>
          </p:nvSpPr>
          <p:spPr>
            <a:xfrm>
              <a:off x="7032960" y="5841360"/>
              <a:ext cx="2056680" cy="368280"/>
            </a:xfrm>
            <a:prstGeom prst="rect">
              <a:avLst/>
            </a:prstGeom>
            <a:solidFill>
              <a:srgbClr val="00206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ffffff"/>
                  </a:solidFill>
                  <a:latin typeface="Arial"/>
                </a:rPr>
                <a:t>Immune cleara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5" dur="5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026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Trials of other latency “activating” ag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88" name=""/>
          <p:cNvGraphicFramePr/>
          <p:nvPr/>
        </p:nvGraphicFramePr>
        <p:xfrm>
          <a:off x="482760" y="1413000"/>
          <a:ext cx="8229600" cy="5155920"/>
        </p:xfrm>
        <a:graphic>
          <a:graphicData uri="http://schemas.openxmlformats.org/drawingml/2006/table">
            <a:tbl>
              <a:tblPr/>
              <a:tblGrid>
                <a:gridCol w="1904760"/>
                <a:gridCol w="1903320"/>
                <a:gridCol w="2729160"/>
                <a:gridCol w="1692360"/>
              </a:tblGrid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g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c00000"/>
                      </a:solidFill>
                    </a:lnR>
                    <a:lnT w="18720">
                      <a:solidFill>
                        <a:srgbClr val="f56c11"/>
                      </a:solidFill>
                    </a:lnT>
                    <a:lnB w="9360">
                      <a:solidFill>
                        <a:srgbClr val="f56c11"/>
                      </a:solidFill>
                    </a:lnB>
                    <a:solidFill>
                      <a:srgbClr val="cc202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ig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c00000"/>
                      </a:solidFill>
                    </a:lnL>
                    <a:lnR w="9360">
                      <a:solidFill>
                        <a:srgbClr val="c00000"/>
                      </a:solidFill>
                    </a:lnR>
                    <a:lnT w="18720">
                      <a:solidFill>
                        <a:srgbClr val="f56c11"/>
                      </a:solidFill>
                    </a:lnT>
                    <a:lnB w="9360">
                      <a:solidFill>
                        <a:srgbClr val="f56c11"/>
                      </a:solidFill>
                    </a:lnB>
                    <a:solidFill>
                      <a:srgbClr val="cc202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I (locat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c00000"/>
                      </a:solidFill>
                    </a:lnL>
                    <a:lnR w="9360">
                      <a:solidFill>
                        <a:srgbClr val="c00000"/>
                      </a:solidFill>
                    </a:lnR>
                    <a:lnT w="18720">
                      <a:solidFill>
                        <a:srgbClr val="f56c11"/>
                      </a:solidFill>
                    </a:lnT>
                    <a:lnB w="9360">
                      <a:solidFill>
                        <a:srgbClr val="f56c11"/>
                      </a:solidFill>
                    </a:lnB>
                    <a:solidFill>
                      <a:srgbClr val="cc202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c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56c11"/>
                      </a:solidFill>
                    </a:lnT>
                    <a:lnB w="9360">
                      <a:solidFill>
                        <a:srgbClr val="f56c11"/>
                      </a:solidFill>
                    </a:lnB>
                    <a:solidFill>
                      <a:srgbClr val="cc2027"/>
                    </a:solidFill>
                  </a:tcPr>
                </a:tc>
              </a:tr>
              <a:tr h="3682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DA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56c11"/>
                      </a:solidFill>
                    </a:lnT>
                    <a:lnB w="9360">
                      <a:solidFill>
                        <a:srgbClr val="f56c11"/>
                      </a:solidFill>
                    </a:lnB>
                    <a:solidFill>
                      <a:srgbClr val="f56c1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rinost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56c11"/>
                      </a:solidFill>
                    </a:lnT>
                    <a:lnB w="9360">
                      <a:solidFill>
                        <a:srgbClr val="f56c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d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 mg/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56c11"/>
                      </a:solidFill>
                    </a:lnT>
                    <a:lnB w="9360">
                      <a:solidFill>
                        <a:srgbClr val="f56c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win (Australi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56c11"/>
                      </a:solidFill>
                    </a:lnT>
                    <a:lnB w="9360">
                      <a:solidFill>
                        <a:srgbClr val="f56c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y enroll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56c11"/>
                      </a:solidFill>
                    </a:lnT>
                    <a:lnB w="9360">
                      <a:solidFill>
                        <a:srgbClr val="f56c11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nobinost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56c11"/>
                      </a:solidFill>
                    </a:lnT>
                    <a:lnB w="9360">
                      <a:solidFill>
                        <a:srgbClr val="f56c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x /week x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56c11"/>
                      </a:solidFill>
                    </a:lnT>
                    <a:lnB w="9360">
                      <a:solidFill>
                        <a:srgbClr val="f56c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tergard (Denmar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56c11"/>
                      </a:solidFill>
                    </a:lnT>
                    <a:lnB w="9360">
                      <a:solidFill>
                        <a:srgbClr val="f56c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rol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56c11"/>
                      </a:solidFill>
                    </a:lnT>
                    <a:lnB w="9360">
                      <a:solidFill>
                        <a:srgbClr val="f56c11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homedeps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56c11"/>
                      </a:solidFill>
                    </a:lnT>
                    <a:lnB w="9360">
                      <a:solidFill>
                        <a:srgbClr val="f56c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le d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56c11"/>
                      </a:solidFill>
                    </a:lnT>
                    <a:lnB w="9360">
                      <a:solidFill>
                        <a:srgbClr val="f56c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G (U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56c11"/>
                      </a:solidFill>
                    </a:lnT>
                    <a:lnB w="9360">
                      <a:solidFill>
                        <a:srgbClr val="f56c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discu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56c11"/>
                      </a:solidFill>
                    </a:lnT>
                    <a:lnB w="9360">
                      <a:solidFill>
                        <a:srgbClr val="f56c11"/>
                      </a:solidFill>
                    </a:lnB>
                    <a:noFill/>
                  </a:tcPr>
                </a:tc>
              </a:tr>
              <a:tr h="3682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ytok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56c11"/>
                      </a:solidFill>
                    </a:lnT>
                    <a:lnB w="9360">
                      <a:solidFill>
                        <a:srgbClr val="f56c11"/>
                      </a:solidFill>
                    </a:lnB>
                    <a:solidFill>
                      <a:srgbClr val="f56c1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-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56c11"/>
                      </a:solidFill>
                    </a:lnT>
                    <a:lnB w="9360">
                      <a:solidFill>
                        <a:srgbClr val="f56c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doses +intens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56c11"/>
                      </a:solidFill>
                    </a:lnT>
                    <a:lnB w="9360">
                      <a:solidFill>
                        <a:srgbClr val="f56c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tlama (Europ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56c11"/>
                      </a:solidFill>
                    </a:lnT>
                    <a:lnB w="9360">
                      <a:solidFill>
                        <a:srgbClr val="f56c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y enroll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56c11"/>
                      </a:solidFill>
                    </a:lnT>
                    <a:lnB w="9360">
                      <a:solidFill>
                        <a:srgbClr val="f56c11"/>
                      </a:solidFill>
                    </a:lnB>
                    <a:noFill/>
                  </a:tcPr>
                </a:tc>
              </a:tr>
              <a:tr h="3700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56c11"/>
                      </a:solidFill>
                    </a:lnT>
                    <a:lnB w="9360">
                      <a:solidFill>
                        <a:srgbClr val="f56c11"/>
                      </a:solidFill>
                    </a:lnB>
                    <a:solidFill>
                      <a:srgbClr val="f56c1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ulfir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56c11"/>
                      </a:solidFill>
                    </a:lnT>
                    <a:lnB w="9360">
                      <a:solidFill>
                        <a:srgbClr val="f56c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d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 mg/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56c11"/>
                      </a:solidFill>
                    </a:lnT>
                    <a:lnB w="9360">
                      <a:solidFill>
                        <a:srgbClr val="f56c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eks (U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56c11"/>
                      </a:solidFill>
                    </a:lnT>
                    <a:lnB w="9360">
                      <a:solidFill>
                        <a:srgbClr val="f56c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go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56c11"/>
                      </a:solidFill>
                    </a:lnT>
                    <a:lnB w="9360">
                      <a:solidFill>
                        <a:srgbClr val="f56c11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56c11"/>
                      </a:solidFill>
                    </a:lnT>
                    <a:lnB w="9360">
                      <a:solidFill>
                        <a:srgbClr val="f56c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d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se esca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56c11"/>
                      </a:solidFill>
                    </a:lnT>
                    <a:lnB w="9360">
                      <a:solidFill>
                        <a:srgbClr val="f56c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eks (U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iot/Lewin (Australi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56c11"/>
                      </a:solidFill>
                    </a:lnT>
                    <a:lnB w="9360">
                      <a:solidFill>
                        <a:srgbClr val="f56c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mit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56c11"/>
                      </a:solidFill>
                    </a:lnT>
                    <a:lnB w="9360">
                      <a:solidFill>
                        <a:srgbClr val="f56c11"/>
                      </a:solidFill>
                    </a:lnB>
                    <a:noFill/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-PD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56c11"/>
                      </a:solidFill>
                    </a:lnT>
                    <a:lnB w="18720">
                      <a:solidFill>
                        <a:srgbClr val="f56c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le d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56c11"/>
                      </a:solidFill>
                    </a:lnT>
                    <a:lnB w="18720">
                      <a:solidFill>
                        <a:srgbClr val="f56c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G (U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56c11"/>
                      </a:solidFill>
                    </a:lnT>
                    <a:lnB w="18720">
                      <a:solidFill>
                        <a:srgbClr val="f56c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discu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56c11"/>
                      </a:solidFill>
                    </a:lnT>
                    <a:lnB w="18720">
                      <a:solidFill>
                        <a:srgbClr val="f56c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9" name="Rectangle 1"/>
          <p:cNvSpPr/>
          <p:nvPr/>
        </p:nvSpPr>
        <p:spPr>
          <a:xfrm>
            <a:off x="457200" y="4508640"/>
            <a:ext cx="8255160" cy="22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Rectangle 4"/>
          <p:cNvSpPr/>
          <p:nvPr/>
        </p:nvSpPr>
        <p:spPr>
          <a:xfrm>
            <a:off x="457200" y="3573360"/>
            <a:ext cx="8255160" cy="320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" dur="5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5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Anti PD-1 or anti PDL-1: “double hit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2" name=""/>
          <p:cNvSpPr txBox="1"/>
          <p:nvPr/>
        </p:nvSpPr>
        <p:spPr>
          <a:xfrm>
            <a:off x="4710240" y="1449000"/>
            <a:ext cx="4038480" cy="22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cc2027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nti PD-1 boosts HIV-specific i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cc2027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Recent clinical trials of anti PD-1 and anti PDL-1 (BMS) in maligna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468360" y="4262040"/>
            <a:ext cx="8229600" cy="22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cc2027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CTG5301 (anti PD-1, Merc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IV dose of MK3475 at dose of 0.1, 1, 3, or 10 mg/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V+, CD4&gt;350 (n=4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cc2027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G (anti PDL-1; BMS), appro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4" name="Group 324"/>
          <p:cNvGrpSpPr/>
          <p:nvPr/>
        </p:nvGrpSpPr>
        <p:grpSpPr>
          <a:xfrm>
            <a:off x="287280" y="2652840"/>
            <a:ext cx="1346760" cy="1230120"/>
            <a:chOff x="287280" y="2652840"/>
            <a:chExt cx="1346760" cy="1230120"/>
          </a:xfrm>
        </p:grpSpPr>
        <p:grpSp>
          <p:nvGrpSpPr>
            <p:cNvPr id="1395" name="Group 21"/>
            <p:cNvGrpSpPr/>
            <p:nvPr/>
          </p:nvGrpSpPr>
          <p:grpSpPr>
            <a:xfrm>
              <a:off x="876600" y="2703240"/>
              <a:ext cx="757440" cy="588960"/>
              <a:chOff x="876600" y="2703240"/>
              <a:chExt cx="757440" cy="588960"/>
            </a:xfrm>
          </p:grpSpPr>
          <p:sp>
            <p:nvSpPr>
              <p:cNvPr id="1396" name="Freeform 14"/>
              <p:cNvSpPr/>
              <p:nvPr/>
            </p:nvSpPr>
            <p:spPr>
              <a:xfrm flipH="1" flipV="1" rot="14179800">
                <a:off x="1228320" y="2706480"/>
                <a:ext cx="265320" cy="478800"/>
              </a:xfrm>
              <a:custGeom>
                <a:avLst/>
                <a:gdLst/>
                <a:ahLst/>
                <a:rect l="l" t="t" r="r" b="b"/>
                <a:pathLst>
                  <a:path w="392026" h="545955">
                    <a:moveTo>
                      <a:pt x="31134" y="6752"/>
                    </a:moveTo>
                    <a:cubicBezTo>
                      <a:pt x="514" y="35780"/>
                      <a:pt x="-13236" y="192656"/>
                      <a:pt x="16620" y="282523"/>
                    </a:cubicBezTo>
                    <a:cubicBezTo>
                      <a:pt x="46476" y="372390"/>
                      <a:pt x="149792" y="546014"/>
                      <a:pt x="210268" y="545955"/>
                    </a:cubicBezTo>
                    <a:cubicBezTo>
                      <a:pt x="270744" y="545896"/>
                      <a:pt x="353695" y="372035"/>
                      <a:pt x="379477" y="282168"/>
                    </a:cubicBezTo>
                    <a:cubicBezTo>
                      <a:pt x="405259" y="192301"/>
                      <a:pt x="386734" y="45457"/>
                      <a:pt x="364963" y="6752"/>
                    </a:cubicBezTo>
                    <a:cubicBezTo>
                      <a:pt x="343192" y="-31953"/>
                      <a:pt x="260818" y="108352"/>
                      <a:pt x="200342" y="108352"/>
                    </a:cubicBezTo>
                    <a:cubicBezTo>
                      <a:pt x="139866" y="108352"/>
                      <a:pt x="61754" y="-22276"/>
                      <a:pt x="31134" y="6752"/>
                    </a:cubicBezTo>
                    <a:close/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Rectangle 15"/>
              <p:cNvSpPr/>
              <p:nvPr/>
            </p:nvSpPr>
            <p:spPr>
              <a:xfrm flipH="1" flipV="1" rot="14179800">
                <a:off x="1044360" y="2949840"/>
                <a:ext cx="31680" cy="422280"/>
              </a:xfrm>
              <a:prstGeom prst="rect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8" name="Group 612"/>
            <p:cNvGrpSpPr/>
            <p:nvPr/>
          </p:nvGrpSpPr>
          <p:grpSpPr>
            <a:xfrm>
              <a:off x="398520" y="3060720"/>
              <a:ext cx="823680" cy="822240"/>
              <a:chOff x="398520" y="3060720"/>
              <a:chExt cx="823680" cy="822240"/>
            </a:xfrm>
          </p:grpSpPr>
          <p:sp>
            <p:nvSpPr>
              <p:cNvPr id="1399" name="Oval 3"/>
              <p:cNvSpPr/>
              <p:nvPr/>
            </p:nvSpPr>
            <p:spPr>
              <a:xfrm>
                <a:off x="398520" y="3060720"/>
                <a:ext cx="823680" cy="822240"/>
              </a:xfrm>
              <a:prstGeom prst="ellipse">
                <a:avLst/>
              </a:pr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Line 4"/>
              <p:cNvSpPr/>
              <p:nvPr/>
            </p:nvSpPr>
            <p:spPr>
              <a:xfrm>
                <a:off x="558720" y="3461760"/>
                <a:ext cx="5187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Rectangle 5"/>
              <p:cNvSpPr/>
              <p:nvPr/>
            </p:nvSpPr>
            <p:spPr>
              <a:xfrm>
                <a:off x="688680" y="3397680"/>
                <a:ext cx="227160" cy="127080"/>
              </a:xfrm>
              <a:prstGeom prst="rect">
                <a:avLst/>
              </a:prstGeom>
              <a:solidFill>
                <a:srgbClr val="f41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2" name="TextBox 357"/>
            <p:cNvSpPr/>
            <p:nvPr/>
          </p:nvSpPr>
          <p:spPr>
            <a:xfrm>
              <a:off x="287280" y="2652840"/>
              <a:ext cx="628560" cy="30708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400" spc="-1" strike="noStrike">
                  <a:solidFill>
                    <a:srgbClr val="ffffff"/>
                  </a:solidFill>
                  <a:latin typeface="Arial"/>
                </a:rPr>
                <a:t>PD-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3" name="Group 323"/>
          <p:cNvGrpSpPr/>
          <p:nvPr/>
        </p:nvGrpSpPr>
        <p:grpSpPr>
          <a:xfrm>
            <a:off x="592200" y="1742040"/>
            <a:ext cx="2111760" cy="1207800"/>
            <a:chOff x="592200" y="1742040"/>
            <a:chExt cx="2111760" cy="1207800"/>
          </a:xfrm>
        </p:grpSpPr>
        <p:pic>
          <p:nvPicPr>
            <p:cNvPr id="1404" name="Group 44" descr=""/>
            <p:cNvPicPr/>
            <p:nvPr/>
          </p:nvPicPr>
          <p:blipFill>
            <a:blip r:embed="rId1"/>
            <a:stretch/>
          </p:blipFill>
          <p:spPr>
            <a:xfrm>
              <a:off x="1546200" y="2506680"/>
              <a:ext cx="39852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5" name="TextBox 358"/>
            <p:cNvSpPr/>
            <p:nvPr/>
          </p:nvSpPr>
          <p:spPr>
            <a:xfrm>
              <a:off x="592200" y="2109960"/>
              <a:ext cx="787320" cy="30708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400" spc="-1" strike="noStrike">
                  <a:solidFill>
                    <a:srgbClr val="ffffff"/>
                  </a:solidFill>
                  <a:latin typeface="Arial"/>
                </a:rPr>
                <a:t>PDL-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6" name="Group 28"/>
            <p:cNvGrpSpPr/>
            <p:nvPr/>
          </p:nvGrpSpPr>
          <p:grpSpPr>
            <a:xfrm>
              <a:off x="1585440" y="1742040"/>
              <a:ext cx="1118520" cy="1207800"/>
              <a:chOff x="1585440" y="1742040"/>
              <a:chExt cx="1118520" cy="1207800"/>
            </a:xfrm>
          </p:grpSpPr>
          <p:sp>
            <p:nvSpPr>
              <p:cNvPr id="1407" name="Freeform 29"/>
              <p:cNvSpPr/>
              <p:nvPr/>
            </p:nvSpPr>
            <p:spPr>
              <a:xfrm rot="15496800">
                <a:off x="1623960" y="1882440"/>
                <a:ext cx="1041120" cy="926640"/>
              </a:xfrm>
              <a:custGeom>
                <a:avLst/>
                <a:gdLst>
                  <a:gd name="textAreaLeft" fmla="*/ 0 w 1041120"/>
                  <a:gd name="textAreaRight" fmla="*/ 1041480 w 1041120"/>
                  <a:gd name="textAreaTop" fmla="*/ 0 h 926640"/>
                  <a:gd name="textAreaBottom" fmla="*/ 927000 h 926640"/>
                </a:gdLst>
                <a:ahLst/>
                <a:rect l="textAreaLeft" t="textAreaTop" r="textAreaRight" b="textAreaBottom"/>
                <a:pathLst>
                  <a:path w="687" h="605">
                    <a:moveTo>
                      <a:pt x="317" y="143"/>
                    </a:moveTo>
                    <a:cubicBezTo>
                      <a:pt x="385" y="120"/>
                      <a:pt x="438" y="0"/>
                      <a:pt x="453" y="7"/>
                    </a:cubicBezTo>
                    <a:cubicBezTo>
                      <a:pt x="468" y="14"/>
                      <a:pt x="370" y="181"/>
                      <a:pt x="408" y="188"/>
                    </a:cubicBezTo>
                    <a:cubicBezTo>
                      <a:pt x="446" y="195"/>
                      <a:pt x="673" y="37"/>
                      <a:pt x="680" y="52"/>
                    </a:cubicBezTo>
                    <a:cubicBezTo>
                      <a:pt x="687" y="67"/>
                      <a:pt x="468" y="203"/>
                      <a:pt x="453" y="279"/>
                    </a:cubicBezTo>
                    <a:cubicBezTo>
                      <a:pt x="438" y="355"/>
                      <a:pt x="604" y="491"/>
                      <a:pt x="589" y="506"/>
                    </a:cubicBezTo>
                    <a:cubicBezTo>
                      <a:pt x="574" y="521"/>
                      <a:pt x="407" y="355"/>
                      <a:pt x="362" y="370"/>
                    </a:cubicBezTo>
                    <a:cubicBezTo>
                      <a:pt x="317" y="385"/>
                      <a:pt x="340" y="605"/>
                      <a:pt x="317" y="597"/>
                    </a:cubicBezTo>
                    <a:cubicBezTo>
                      <a:pt x="294" y="589"/>
                      <a:pt x="279" y="354"/>
                      <a:pt x="226" y="324"/>
                    </a:cubicBezTo>
                    <a:cubicBezTo>
                      <a:pt x="173" y="294"/>
                      <a:pt x="0" y="430"/>
                      <a:pt x="0" y="415"/>
                    </a:cubicBezTo>
                    <a:cubicBezTo>
                      <a:pt x="0" y="400"/>
                      <a:pt x="219" y="279"/>
                      <a:pt x="226" y="234"/>
                    </a:cubicBezTo>
                    <a:cubicBezTo>
                      <a:pt x="233" y="189"/>
                      <a:pt x="30" y="158"/>
                      <a:pt x="45" y="143"/>
                    </a:cubicBezTo>
                    <a:cubicBezTo>
                      <a:pt x="60" y="128"/>
                      <a:pt x="249" y="166"/>
                      <a:pt x="317" y="143"/>
                    </a:cubicBez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Oval 30"/>
              <p:cNvSpPr/>
              <p:nvPr/>
            </p:nvSpPr>
            <p:spPr>
              <a:xfrm rot="16777200">
                <a:off x="1961640" y="2289600"/>
                <a:ext cx="222120" cy="228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09" name="Group 34"/>
          <p:cNvGrpSpPr/>
          <p:nvPr/>
        </p:nvGrpSpPr>
        <p:grpSpPr>
          <a:xfrm>
            <a:off x="1265040" y="2842920"/>
            <a:ext cx="1800000" cy="1096200"/>
            <a:chOff x="1265040" y="2842920"/>
            <a:chExt cx="1800000" cy="1096200"/>
          </a:xfrm>
        </p:grpSpPr>
        <p:sp>
          <p:nvSpPr>
            <p:cNvPr id="1410" name="Text Box 622"/>
            <p:cNvSpPr/>
            <p:nvPr/>
          </p:nvSpPr>
          <p:spPr>
            <a:xfrm>
              <a:off x="1941480" y="3227400"/>
              <a:ext cx="1123560" cy="7117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400" spc="-1" strike="noStrike">
                  <a:solidFill>
                    <a:srgbClr val="ffffff"/>
                  </a:solidFill>
                  <a:latin typeface="Arial"/>
                </a:rPr>
                <a:t>Suppresses T-cell activatio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1" name="Group 405"/>
            <p:cNvGrpSpPr/>
            <p:nvPr/>
          </p:nvGrpSpPr>
          <p:grpSpPr>
            <a:xfrm>
              <a:off x="1265040" y="2842920"/>
              <a:ext cx="758520" cy="671400"/>
              <a:chOff x="1265040" y="2842920"/>
              <a:chExt cx="758520" cy="671400"/>
            </a:xfrm>
          </p:grpSpPr>
          <p:sp>
            <p:nvSpPr>
              <p:cNvPr id="1412" name="Line 2"/>
              <p:cNvSpPr/>
              <p:nvPr/>
            </p:nvSpPr>
            <p:spPr>
              <a:xfrm flipH="1">
                <a:off x="1363680" y="2842920"/>
                <a:ext cx="659880" cy="5468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Line 2"/>
              <p:cNvSpPr/>
              <p:nvPr/>
            </p:nvSpPr>
            <p:spPr>
              <a:xfrm flipH="1" flipV="1">
                <a:off x="1265040" y="3238200"/>
                <a:ext cx="228960" cy="2761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14" name="Group 310"/>
          <p:cNvGrpSpPr/>
          <p:nvPr/>
        </p:nvGrpSpPr>
        <p:grpSpPr>
          <a:xfrm>
            <a:off x="1481040" y="2685240"/>
            <a:ext cx="2998440" cy="1224720"/>
            <a:chOff x="1481040" y="2685240"/>
            <a:chExt cx="2998440" cy="1224720"/>
          </a:xfrm>
        </p:grpSpPr>
        <p:grpSp>
          <p:nvGrpSpPr>
            <p:cNvPr id="1415" name="Group 17"/>
            <p:cNvGrpSpPr/>
            <p:nvPr/>
          </p:nvGrpSpPr>
          <p:grpSpPr>
            <a:xfrm>
              <a:off x="3288960" y="2685240"/>
              <a:ext cx="1190520" cy="1224720"/>
              <a:chOff x="3288960" y="2685240"/>
              <a:chExt cx="1190520" cy="1224720"/>
            </a:xfrm>
          </p:grpSpPr>
          <p:grpSp>
            <p:nvGrpSpPr>
              <p:cNvPr id="1416" name="Group 526"/>
              <p:cNvGrpSpPr/>
              <p:nvPr/>
            </p:nvGrpSpPr>
            <p:grpSpPr>
              <a:xfrm>
                <a:off x="3623400" y="2685240"/>
                <a:ext cx="338040" cy="352080"/>
                <a:chOff x="3623400" y="2685240"/>
                <a:chExt cx="338040" cy="352080"/>
              </a:xfrm>
            </p:grpSpPr>
            <p:sp>
              <p:nvSpPr>
                <p:cNvPr id="1417" name="Oval 527"/>
                <p:cNvSpPr/>
                <p:nvPr/>
              </p:nvSpPr>
              <p:spPr>
                <a:xfrm flipV="1" rot="21360000">
                  <a:off x="3773880" y="2961720"/>
                  <a:ext cx="45360" cy="52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424267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8" name="AutoShape 528"/>
                <p:cNvSpPr/>
                <p:nvPr/>
              </p:nvSpPr>
              <p:spPr>
                <a:xfrm flipV="1" rot="21360000">
                  <a:off x="3806640" y="2975760"/>
                  <a:ext cx="21240" cy="18360"/>
                </a:xfrm>
                <a:custGeom>
                  <a:avLst/>
                  <a:gdLst>
                    <a:gd name="textAreaLeft" fmla="*/ 12960 w 21240"/>
                    <a:gd name="textAreaRight" fmla="*/ 13680 w 21240"/>
                    <a:gd name="textAreaTop" fmla="*/ 720 h 18360"/>
                    <a:gd name="textAreaBottom" fmla="*/ 17640 h 18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7719" y="2482"/>
                        <a:pt x="13837" y="5080"/>
                        <a:pt x="13837" y="10800"/>
                      </a:cubicBezTo>
                      <a:cubicBezTo>
                        <a:pt x="13837" y="16520"/>
                        <a:pt x="17719" y="1911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9" name="Freeform 529"/>
                <p:cNvSpPr/>
                <p:nvPr/>
              </p:nvSpPr>
              <p:spPr>
                <a:xfrm flipV="1" rot="297000">
                  <a:off x="3787560" y="3012480"/>
                  <a:ext cx="10440" cy="23040"/>
                </a:xfrm>
                <a:custGeom>
                  <a:avLst/>
                  <a:gdLst>
                    <a:gd name="textAreaLeft" fmla="*/ 0 w 10440"/>
                    <a:gd name="textAreaRight" fmla="*/ 10800 w 10440"/>
                    <a:gd name="textAreaTop" fmla="*/ 360 h 23040"/>
                    <a:gd name="textAreaBottom" fmla="*/ 23760 h 2304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0" name="Freeform 530"/>
                <p:cNvSpPr/>
                <p:nvPr/>
              </p:nvSpPr>
              <p:spPr>
                <a:xfrm flipV="1" rot="20640600">
                  <a:off x="3791160" y="3012120"/>
                  <a:ext cx="10800" cy="23400"/>
                </a:xfrm>
                <a:custGeom>
                  <a:avLst/>
                  <a:gdLst>
                    <a:gd name="textAreaLeft" fmla="*/ 0 w 10800"/>
                    <a:gd name="textAreaRight" fmla="*/ 11160 w 10800"/>
                    <a:gd name="textAreaTop" fmla="*/ -360 h 23400"/>
                    <a:gd name="textAreaBottom" fmla="*/ 23400 h 2340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1" name="Freeform 531"/>
                <p:cNvSpPr/>
                <p:nvPr/>
              </p:nvSpPr>
              <p:spPr>
                <a:xfrm flipH="1" flipV="1" rot="16437600">
                  <a:off x="3809160" y="3001680"/>
                  <a:ext cx="9720" cy="24840"/>
                </a:xfrm>
                <a:custGeom>
                  <a:avLst/>
                  <a:gdLst>
                    <a:gd name="textAreaLeft" fmla="*/ -360 w 9720"/>
                    <a:gd name="textAreaRight" fmla="*/ 9720 w 9720"/>
                    <a:gd name="textAreaTop" fmla="*/ -360 h 24840"/>
                    <a:gd name="textAreaBottom" fmla="*/ 24840 h 2484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2" name="Freeform 532"/>
                <p:cNvSpPr/>
                <p:nvPr/>
              </p:nvSpPr>
              <p:spPr>
                <a:xfrm flipH="1" flipV="1" rot="17543400">
                  <a:off x="3809880" y="3003480"/>
                  <a:ext cx="9720" cy="24840"/>
                </a:xfrm>
                <a:custGeom>
                  <a:avLst/>
                  <a:gdLst>
                    <a:gd name="textAreaLeft" fmla="*/ -360 w 9720"/>
                    <a:gd name="textAreaRight" fmla="*/ 9720 w 9720"/>
                    <a:gd name="textAreaTop" fmla="*/ -360 h 24840"/>
                    <a:gd name="textAreaBottom" fmla="*/ 24840 h 2484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3" name="Freeform 533"/>
                <p:cNvSpPr/>
                <p:nvPr/>
              </p:nvSpPr>
              <p:spPr>
                <a:xfrm flipH="1" flipV="1" rot="18799800">
                  <a:off x="3806280" y="3007800"/>
                  <a:ext cx="10080" cy="24840"/>
                </a:xfrm>
                <a:custGeom>
                  <a:avLst/>
                  <a:gdLst>
                    <a:gd name="textAreaLeft" fmla="*/ 360 w 10080"/>
                    <a:gd name="textAreaRight" fmla="*/ 10800 w 10080"/>
                    <a:gd name="textAreaTop" fmla="*/ -360 h 24840"/>
                    <a:gd name="textAreaBottom" fmla="*/ 24840 h 2484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4" name="Freeform 534"/>
                <p:cNvSpPr/>
                <p:nvPr/>
              </p:nvSpPr>
              <p:spPr>
                <a:xfrm flipV="1" rot="21360000">
                  <a:off x="3787920" y="2944080"/>
                  <a:ext cx="9000" cy="15480"/>
                </a:xfrm>
                <a:custGeom>
                  <a:avLst/>
                  <a:gdLst>
                    <a:gd name="textAreaLeft" fmla="*/ 0 w 9000"/>
                    <a:gd name="textAreaRight" fmla="*/ 9360 w 9000"/>
                    <a:gd name="textAreaTop" fmla="*/ -360 h 15480"/>
                    <a:gd name="textAreaBottom" fmla="*/ 15480 h 15480"/>
                  </a:gdLst>
                  <a:ahLst/>
                  <a:rect l="textAreaLeft" t="textAreaTop" r="textAreaRight" b="textAreaBottom"/>
                  <a:pathLst>
                    <a:path w="36" h="68">
                      <a:moveTo>
                        <a:pt x="9" y="0"/>
                      </a:moveTo>
                      <a:cubicBezTo>
                        <a:pt x="10" y="0"/>
                        <a:pt x="30" y="5"/>
                        <a:pt x="24" y="12"/>
                      </a:cubicBezTo>
                      <a:cubicBezTo>
                        <a:pt x="20" y="17"/>
                        <a:pt x="6" y="18"/>
                        <a:pt x="6" y="18"/>
                      </a:cubicBezTo>
                      <a:cubicBezTo>
                        <a:pt x="8" y="21"/>
                        <a:pt x="9" y="25"/>
                        <a:pt x="12" y="27"/>
                      </a:cubicBezTo>
                      <a:cubicBezTo>
                        <a:pt x="22" y="35"/>
                        <a:pt x="32" y="35"/>
                        <a:pt x="6" y="42"/>
                      </a:cubicBezTo>
                      <a:cubicBezTo>
                        <a:pt x="36" y="52"/>
                        <a:pt x="23" y="55"/>
                        <a:pt x="0" y="60"/>
                      </a:cubicBezTo>
                      <a:cubicBezTo>
                        <a:pt x="13" y="68"/>
                        <a:pt x="8" y="63"/>
                        <a:pt x="21" y="63"/>
                      </a:cubicBezTo>
                    </a:path>
                  </a:pathLst>
                </a:custGeom>
                <a:noFill/>
                <a:ln w="9360">
                  <a:solidFill>
                    <a:srgbClr val="66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5" name="Freeform 535"/>
                <p:cNvSpPr/>
                <p:nvPr/>
              </p:nvSpPr>
              <p:spPr>
                <a:xfrm flipV="1" rot="21360000">
                  <a:off x="3793320" y="2943360"/>
                  <a:ext cx="9000" cy="15480"/>
                </a:xfrm>
                <a:custGeom>
                  <a:avLst/>
                  <a:gdLst>
                    <a:gd name="textAreaLeft" fmla="*/ 0 w 9000"/>
                    <a:gd name="textAreaRight" fmla="*/ 9360 w 9000"/>
                    <a:gd name="textAreaTop" fmla="*/ -360 h 15480"/>
                    <a:gd name="textAreaBottom" fmla="*/ 15480 h 15480"/>
                  </a:gdLst>
                  <a:ahLst/>
                  <a:rect l="textAreaLeft" t="textAreaTop" r="textAreaRight" b="textAreaBottom"/>
                  <a:pathLst>
                    <a:path w="36" h="68">
                      <a:moveTo>
                        <a:pt x="9" y="0"/>
                      </a:moveTo>
                      <a:cubicBezTo>
                        <a:pt x="10" y="0"/>
                        <a:pt x="30" y="5"/>
                        <a:pt x="24" y="12"/>
                      </a:cubicBezTo>
                      <a:cubicBezTo>
                        <a:pt x="20" y="17"/>
                        <a:pt x="6" y="18"/>
                        <a:pt x="6" y="18"/>
                      </a:cubicBezTo>
                      <a:cubicBezTo>
                        <a:pt x="8" y="21"/>
                        <a:pt x="9" y="25"/>
                        <a:pt x="12" y="27"/>
                      </a:cubicBezTo>
                      <a:cubicBezTo>
                        <a:pt x="22" y="35"/>
                        <a:pt x="32" y="35"/>
                        <a:pt x="6" y="42"/>
                      </a:cubicBezTo>
                      <a:cubicBezTo>
                        <a:pt x="36" y="52"/>
                        <a:pt x="23" y="55"/>
                        <a:pt x="0" y="60"/>
                      </a:cubicBezTo>
                      <a:cubicBezTo>
                        <a:pt x="13" y="68"/>
                        <a:pt x="8" y="63"/>
                        <a:pt x="21" y="63"/>
                      </a:cubicBezTo>
                    </a:path>
                  </a:pathLst>
                </a:custGeom>
                <a:noFill/>
                <a:ln w="9360">
                  <a:solidFill>
                    <a:srgbClr val="66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6" name="Oval 536"/>
                <p:cNvSpPr/>
                <p:nvPr/>
              </p:nvSpPr>
              <p:spPr>
                <a:xfrm flipV="1" rot="21360000">
                  <a:off x="3787920" y="2934720"/>
                  <a:ext cx="5400" cy="10440"/>
                </a:xfrm>
                <a:prstGeom prst="ellipse">
                  <a:avLst/>
                </a:prstGeom>
                <a:solidFill>
                  <a:srgbClr val="663366"/>
                </a:solidFill>
                <a:ln w="9360">
                  <a:solidFill>
                    <a:srgbClr val="66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7" name="Oval 537"/>
                <p:cNvSpPr/>
                <p:nvPr/>
              </p:nvSpPr>
              <p:spPr>
                <a:xfrm flipV="1" rot="21360000">
                  <a:off x="3792960" y="2933640"/>
                  <a:ext cx="5760" cy="10440"/>
                </a:xfrm>
                <a:prstGeom prst="ellipse">
                  <a:avLst/>
                </a:prstGeom>
                <a:solidFill>
                  <a:srgbClr val="663366"/>
                </a:solidFill>
                <a:ln w="9360">
                  <a:solidFill>
                    <a:srgbClr val="66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8" name="Freeform 538"/>
                <p:cNvSpPr/>
                <p:nvPr/>
              </p:nvSpPr>
              <p:spPr>
                <a:xfrm flipV="1" rot="1402800">
                  <a:off x="3784680" y="3012480"/>
                  <a:ext cx="10800" cy="23040"/>
                </a:xfrm>
                <a:custGeom>
                  <a:avLst/>
                  <a:gdLst>
                    <a:gd name="textAreaLeft" fmla="*/ 0 w 10800"/>
                    <a:gd name="textAreaRight" fmla="*/ 11160 w 10800"/>
                    <a:gd name="textAreaTop" fmla="*/ 360 h 23040"/>
                    <a:gd name="textAreaBottom" fmla="*/ 23760 h 2304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9" name="Oval 539"/>
                <p:cNvSpPr/>
                <p:nvPr/>
              </p:nvSpPr>
              <p:spPr>
                <a:xfrm rot="720000">
                  <a:off x="3770280" y="2980800"/>
                  <a:ext cx="16560" cy="15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30" name="Group 540"/>
                <p:cNvGrpSpPr/>
                <p:nvPr/>
              </p:nvGrpSpPr>
              <p:grpSpPr>
                <a:xfrm>
                  <a:off x="3623400" y="2685240"/>
                  <a:ext cx="338040" cy="289440"/>
                  <a:chOff x="3623400" y="2685240"/>
                  <a:chExt cx="338040" cy="289440"/>
                </a:xfrm>
              </p:grpSpPr>
              <p:sp>
                <p:nvSpPr>
                  <p:cNvPr id="1431" name="Oval 541"/>
                  <p:cNvSpPr/>
                  <p:nvPr/>
                </p:nvSpPr>
                <p:spPr>
                  <a:xfrm>
                    <a:off x="3691800" y="2757960"/>
                    <a:ext cx="216000" cy="201240"/>
                  </a:xfrm>
                  <a:prstGeom prst="ellipse">
                    <a:avLst/>
                  </a:prstGeom>
                  <a:solidFill>
                    <a:srgbClr val="666699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2" name="Oval 542"/>
                  <p:cNvSpPr/>
                  <p:nvPr/>
                </p:nvSpPr>
                <p:spPr>
                  <a:xfrm>
                    <a:off x="3709800" y="2774520"/>
                    <a:ext cx="180000" cy="167760"/>
                  </a:xfrm>
                  <a:prstGeom prst="ellipse">
                    <a:avLst/>
                  </a:prstGeom>
                  <a:solidFill>
                    <a:srgbClr val="666699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3" name="Oval 543"/>
                  <p:cNvSpPr/>
                  <p:nvPr/>
                </p:nvSpPr>
                <p:spPr>
                  <a:xfrm>
                    <a:off x="3776760" y="2705400"/>
                    <a:ext cx="45000" cy="52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66699"/>
                      </a:gs>
                      <a:gs pos="100000">
                        <a:srgbClr val="424267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4" name="AutoShape 544"/>
                  <p:cNvSpPr/>
                  <p:nvPr/>
                </p:nvSpPr>
                <p:spPr>
                  <a:xfrm flipH="1">
                    <a:off x="3768480" y="2722680"/>
                    <a:ext cx="20880" cy="18360"/>
                  </a:xfrm>
                  <a:custGeom>
                    <a:avLst/>
                    <a:gdLst>
                      <a:gd name="textAreaLeft" fmla="*/ 13320 w 20880"/>
                      <a:gd name="textAreaRight" fmla="*/ 13680 w 20880"/>
                      <a:gd name="textAreaTop" fmla="*/ 720 h 18360"/>
                      <a:gd name="textAreaBottom" fmla="*/ 17640 h 18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7719" y="2482"/>
                          <a:pt x="13837" y="5080"/>
                          <a:pt x="13837" y="10800"/>
                        </a:cubicBezTo>
                        <a:cubicBezTo>
                          <a:pt x="13837" y="16520"/>
                          <a:pt x="17719" y="19118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5" name="AutoShape 545"/>
                  <p:cNvSpPr/>
                  <p:nvPr/>
                </p:nvSpPr>
                <p:spPr>
                  <a:xfrm>
                    <a:off x="3809160" y="2722680"/>
                    <a:ext cx="20880" cy="18360"/>
                  </a:xfrm>
                  <a:custGeom>
                    <a:avLst/>
                    <a:gdLst>
                      <a:gd name="textAreaLeft" fmla="*/ 12960 w 20880"/>
                      <a:gd name="textAreaRight" fmla="*/ 13320 w 20880"/>
                      <a:gd name="textAreaTop" fmla="*/ 720 h 18360"/>
                      <a:gd name="textAreaBottom" fmla="*/ 17640 h 18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7719" y="2482"/>
                          <a:pt x="13837" y="5080"/>
                          <a:pt x="13837" y="10800"/>
                        </a:cubicBezTo>
                        <a:cubicBezTo>
                          <a:pt x="13837" y="16520"/>
                          <a:pt x="17719" y="19118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6" name="Freeform 546"/>
                  <p:cNvSpPr/>
                  <p:nvPr/>
                </p:nvSpPr>
                <p:spPr>
                  <a:xfrm rot="16677600">
                    <a:off x="3775320" y="2690280"/>
                    <a:ext cx="10440" cy="24840"/>
                  </a:xfrm>
                  <a:custGeom>
                    <a:avLst/>
                    <a:gdLst>
                      <a:gd name="textAreaLeft" fmla="*/ 0 w 10440"/>
                      <a:gd name="textAreaRight" fmla="*/ 10800 w 10440"/>
                      <a:gd name="textAreaTop" fmla="*/ 0 h 24840"/>
                      <a:gd name="textAreaBottom" fmla="*/ 25200 h 24840"/>
                    </a:gdLst>
                    <a:ahLst/>
                    <a:rect l="textAreaLeft" t="textAreaTop" r="textAreaRight" b="textAreaBottom"/>
                    <a:pathLst>
                      <a:path w="90" h="181">
                        <a:moveTo>
                          <a:pt x="45" y="181"/>
                        </a:moveTo>
                        <a:cubicBezTo>
                          <a:pt x="30" y="181"/>
                          <a:pt x="0" y="120"/>
                          <a:pt x="0" y="90"/>
                        </a:cubicBezTo>
                        <a:cubicBezTo>
                          <a:pt x="0" y="60"/>
                          <a:pt x="30" y="0"/>
                          <a:pt x="45" y="0"/>
                        </a:cubicBezTo>
                        <a:cubicBezTo>
                          <a:pt x="60" y="0"/>
                          <a:pt x="90" y="60"/>
                          <a:pt x="90" y="90"/>
                        </a:cubicBezTo>
                        <a:cubicBezTo>
                          <a:pt x="90" y="120"/>
                          <a:pt x="60" y="181"/>
                          <a:pt x="45" y="181"/>
                        </a:cubicBezTo>
                        <a:close/>
                      </a:path>
                    </a:pathLst>
                  </a:custGeom>
                  <a:noFill/>
                  <a:ln w="648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7" name="Freeform 547"/>
                  <p:cNvSpPr/>
                  <p:nvPr/>
                </p:nvSpPr>
                <p:spPr>
                  <a:xfrm rot="17784000">
                    <a:off x="3776760" y="2687760"/>
                    <a:ext cx="9720" cy="24840"/>
                  </a:xfrm>
                  <a:custGeom>
                    <a:avLst/>
                    <a:gdLst>
                      <a:gd name="textAreaLeft" fmla="*/ 0 w 9720"/>
                      <a:gd name="textAreaRight" fmla="*/ 10080 w 9720"/>
                      <a:gd name="textAreaTop" fmla="*/ 0 h 24840"/>
                      <a:gd name="textAreaBottom" fmla="*/ 25200 h 24840"/>
                    </a:gdLst>
                    <a:ahLst/>
                    <a:rect l="textAreaLeft" t="textAreaTop" r="textAreaRight" b="textAreaBottom"/>
                    <a:pathLst>
                      <a:path w="90" h="181">
                        <a:moveTo>
                          <a:pt x="45" y="181"/>
                        </a:moveTo>
                        <a:cubicBezTo>
                          <a:pt x="30" y="181"/>
                          <a:pt x="0" y="120"/>
                          <a:pt x="0" y="90"/>
                        </a:cubicBezTo>
                        <a:cubicBezTo>
                          <a:pt x="0" y="60"/>
                          <a:pt x="30" y="0"/>
                          <a:pt x="45" y="0"/>
                        </a:cubicBezTo>
                        <a:cubicBezTo>
                          <a:pt x="60" y="0"/>
                          <a:pt x="90" y="60"/>
                          <a:pt x="90" y="90"/>
                        </a:cubicBezTo>
                        <a:cubicBezTo>
                          <a:pt x="90" y="120"/>
                          <a:pt x="60" y="181"/>
                          <a:pt x="45" y="181"/>
                        </a:cubicBezTo>
                        <a:close/>
                      </a:path>
                    </a:pathLst>
                  </a:custGeom>
                  <a:noFill/>
                  <a:ln w="648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8" name="Freeform 548"/>
                  <p:cNvSpPr/>
                  <p:nvPr/>
                </p:nvSpPr>
                <p:spPr>
                  <a:xfrm rot="19039800">
                    <a:off x="3778560" y="2685960"/>
                    <a:ext cx="10800" cy="23040"/>
                  </a:xfrm>
                  <a:custGeom>
                    <a:avLst/>
                    <a:gdLst>
                      <a:gd name="textAreaLeft" fmla="*/ 0 w 10800"/>
                      <a:gd name="textAreaRight" fmla="*/ 11160 w 108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90" h="181">
                        <a:moveTo>
                          <a:pt x="45" y="181"/>
                        </a:moveTo>
                        <a:cubicBezTo>
                          <a:pt x="30" y="181"/>
                          <a:pt x="0" y="120"/>
                          <a:pt x="0" y="90"/>
                        </a:cubicBezTo>
                        <a:cubicBezTo>
                          <a:pt x="0" y="60"/>
                          <a:pt x="30" y="0"/>
                          <a:pt x="45" y="0"/>
                        </a:cubicBezTo>
                        <a:cubicBezTo>
                          <a:pt x="60" y="0"/>
                          <a:pt x="90" y="60"/>
                          <a:pt x="90" y="90"/>
                        </a:cubicBezTo>
                        <a:cubicBezTo>
                          <a:pt x="90" y="120"/>
                          <a:pt x="60" y="181"/>
                          <a:pt x="45" y="181"/>
                        </a:cubicBezTo>
                        <a:close/>
                      </a:path>
                    </a:pathLst>
                  </a:custGeom>
                  <a:noFill/>
                  <a:ln w="648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9" name="Freeform 549"/>
                  <p:cNvSpPr/>
                  <p:nvPr/>
                </p:nvSpPr>
                <p:spPr>
                  <a:xfrm flipH="1" rot="4922400">
                    <a:off x="3809160" y="2690640"/>
                    <a:ext cx="10440" cy="24480"/>
                  </a:xfrm>
                  <a:custGeom>
                    <a:avLst/>
                    <a:gdLst>
                      <a:gd name="textAreaLeft" fmla="*/ -360 w 10440"/>
                      <a:gd name="textAreaRight" fmla="*/ 10440 w 1044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90" h="181">
                        <a:moveTo>
                          <a:pt x="45" y="181"/>
                        </a:moveTo>
                        <a:cubicBezTo>
                          <a:pt x="30" y="181"/>
                          <a:pt x="0" y="120"/>
                          <a:pt x="0" y="90"/>
                        </a:cubicBezTo>
                        <a:cubicBezTo>
                          <a:pt x="0" y="60"/>
                          <a:pt x="30" y="0"/>
                          <a:pt x="45" y="0"/>
                        </a:cubicBezTo>
                        <a:cubicBezTo>
                          <a:pt x="60" y="0"/>
                          <a:pt x="90" y="60"/>
                          <a:pt x="90" y="90"/>
                        </a:cubicBezTo>
                        <a:cubicBezTo>
                          <a:pt x="90" y="120"/>
                          <a:pt x="60" y="181"/>
                          <a:pt x="45" y="181"/>
                        </a:cubicBezTo>
                        <a:close/>
                      </a:path>
                    </a:pathLst>
                  </a:custGeom>
                  <a:noFill/>
                  <a:ln w="648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0" name="Freeform 550"/>
                  <p:cNvSpPr/>
                  <p:nvPr/>
                </p:nvSpPr>
                <p:spPr>
                  <a:xfrm flipH="1" rot="3816000">
                    <a:off x="3808800" y="2688120"/>
                    <a:ext cx="9720" cy="24480"/>
                  </a:xfrm>
                  <a:custGeom>
                    <a:avLst/>
                    <a:gdLst>
                      <a:gd name="textAreaLeft" fmla="*/ -360 w 9720"/>
                      <a:gd name="textAreaRight" fmla="*/ 9720 w 97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90" h="181">
                        <a:moveTo>
                          <a:pt x="45" y="181"/>
                        </a:moveTo>
                        <a:cubicBezTo>
                          <a:pt x="30" y="181"/>
                          <a:pt x="0" y="120"/>
                          <a:pt x="0" y="90"/>
                        </a:cubicBezTo>
                        <a:cubicBezTo>
                          <a:pt x="0" y="60"/>
                          <a:pt x="30" y="0"/>
                          <a:pt x="45" y="0"/>
                        </a:cubicBezTo>
                        <a:cubicBezTo>
                          <a:pt x="60" y="0"/>
                          <a:pt x="90" y="60"/>
                          <a:pt x="90" y="90"/>
                        </a:cubicBezTo>
                        <a:cubicBezTo>
                          <a:pt x="90" y="120"/>
                          <a:pt x="60" y="181"/>
                          <a:pt x="45" y="181"/>
                        </a:cubicBezTo>
                        <a:close/>
                      </a:path>
                    </a:pathLst>
                  </a:custGeom>
                  <a:noFill/>
                  <a:ln w="648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1" name="Freeform 551"/>
                  <p:cNvSpPr/>
                  <p:nvPr/>
                </p:nvSpPr>
                <p:spPr>
                  <a:xfrm flipH="1" rot="2560200">
                    <a:off x="3805920" y="2685600"/>
                    <a:ext cx="10440" cy="23040"/>
                  </a:xfrm>
                  <a:custGeom>
                    <a:avLst/>
                    <a:gdLst>
                      <a:gd name="textAreaLeft" fmla="*/ -360 w 10440"/>
                      <a:gd name="textAreaRight" fmla="*/ 10440 w 1044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90" h="181">
                        <a:moveTo>
                          <a:pt x="45" y="181"/>
                        </a:moveTo>
                        <a:cubicBezTo>
                          <a:pt x="30" y="181"/>
                          <a:pt x="0" y="120"/>
                          <a:pt x="0" y="90"/>
                        </a:cubicBezTo>
                        <a:cubicBezTo>
                          <a:pt x="0" y="60"/>
                          <a:pt x="30" y="0"/>
                          <a:pt x="45" y="0"/>
                        </a:cubicBezTo>
                        <a:cubicBezTo>
                          <a:pt x="60" y="0"/>
                          <a:pt x="90" y="60"/>
                          <a:pt x="90" y="90"/>
                        </a:cubicBezTo>
                        <a:cubicBezTo>
                          <a:pt x="90" y="120"/>
                          <a:pt x="60" y="181"/>
                          <a:pt x="45" y="181"/>
                        </a:cubicBezTo>
                        <a:close/>
                      </a:path>
                    </a:pathLst>
                  </a:custGeom>
                  <a:noFill/>
                  <a:ln w="648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2" name="Freeform 552"/>
                  <p:cNvSpPr/>
                  <p:nvPr/>
                </p:nvSpPr>
                <p:spPr>
                  <a:xfrm>
                    <a:off x="3793320" y="2759040"/>
                    <a:ext cx="8640" cy="15840"/>
                  </a:xfrm>
                  <a:custGeom>
                    <a:avLst/>
                    <a:gdLst>
                      <a:gd name="textAreaLeft" fmla="*/ 0 w 8640"/>
                      <a:gd name="textAreaRight" fmla="*/ 9000 w 8640"/>
                      <a:gd name="textAreaTop" fmla="*/ 0 h 15840"/>
                      <a:gd name="textAreaBottom" fmla="*/ 16200 h 15840"/>
                    </a:gdLst>
                    <a:ahLst/>
                    <a:rect l="textAreaLeft" t="textAreaTop" r="textAreaRight" b="textAreaBottom"/>
                    <a:pathLst>
                      <a:path w="36" h="68">
                        <a:moveTo>
                          <a:pt x="9" y="0"/>
                        </a:moveTo>
                        <a:cubicBezTo>
                          <a:pt x="10" y="0"/>
                          <a:pt x="30" y="5"/>
                          <a:pt x="24" y="12"/>
                        </a:cubicBezTo>
                        <a:cubicBezTo>
                          <a:pt x="20" y="17"/>
                          <a:pt x="6" y="18"/>
                          <a:pt x="6" y="18"/>
                        </a:cubicBezTo>
                        <a:cubicBezTo>
                          <a:pt x="8" y="21"/>
                          <a:pt x="9" y="25"/>
                          <a:pt x="12" y="27"/>
                        </a:cubicBezTo>
                        <a:cubicBezTo>
                          <a:pt x="22" y="35"/>
                          <a:pt x="32" y="35"/>
                          <a:pt x="6" y="42"/>
                        </a:cubicBezTo>
                        <a:cubicBezTo>
                          <a:pt x="36" y="52"/>
                          <a:pt x="23" y="55"/>
                          <a:pt x="0" y="60"/>
                        </a:cubicBezTo>
                        <a:cubicBezTo>
                          <a:pt x="13" y="68"/>
                          <a:pt x="8" y="63"/>
                          <a:pt x="21" y="63"/>
                        </a:cubicBezTo>
                      </a:path>
                    </a:pathLst>
                  </a:custGeom>
                  <a:solidFill>
                    <a:srgbClr val="663366"/>
                  </a:solidFill>
                  <a:ln w="9360">
                    <a:solidFill>
                      <a:srgbClr val="66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3" name="Freeform 553"/>
                  <p:cNvSpPr/>
                  <p:nvPr/>
                </p:nvSpPr>
                <p:spPr>
                  <a:xfrm>
                    <a:off x="3798720" y="2759400"/>
                    <a:ext cx="8640" cy="15480"/>
                  </a:xfrm>
                  <a:custGeom>
                    <a:avLst/>
                    <a:gdLst>
                      <a:gd name="textAreaLeft" fmla="*/ 0 w 8640"/>
                      <a:gd name="textAreaRight" fmla="*/ 9000 w 864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36" h="68">
                        <a:moveTo>
                          <a:pt x="9" y="0"/>
                        </a:moveTo>
                        <a:cubicBezTo>
                          <a:pt x="10" y="0"/>
                          <a:pt x="30" y="5"/>
                          <a:pt x="24" y="12"/>
                        </a:cubicBezTo>
                        <a:cubicBezTo>
                          <a:pt x="20" y="17"/>
                          <a:pt x="6" y="18"/>
                          <a:pt x="6" y="18"/>
                        </a:cubicBezTo>
                        <a:cubicBezTo>
                          <a:pt x="8" y="21"/>
                          <a:pt x="9" y="25"/>
                          <a:pt x="12" y="27"/>
                        </a:cubicBezTo>
                        <a:cubicBezTo>
                          <a:pt x="22" y="35"/>
                          <a:pt x="32" y="35"/>
                          <a:pt x="6" y="42"/>
                        </a:cubicBezTo>
                        <a:cubicBezTo>
                          <a:pt x="36" y="52"/>
                          <a:pt x="23" y="55"/>
                          <a:pt x="0" y="60"/>
                        </a:cubicBezTo>
                        <a:cubicBezTo>
                          <a:pt x="13" y="68"/>
                          <a:pt x="8" y="63"/>
                          <a:pt x="21" y="63"/>
                        </a:cubicBezTo>
                      </a:path>
                    </a:pathLst>
                  </a:custGeom>
                  <a:solidFill>
                    <a:srgbClr val="663366"/>
                  </a:solidFill>
                  <a:ln w="9360">
                    <a:solidFill>
                      <a:srgbClr val="66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4" name="Oval 554"/>
                  <p:cNvSpPr/>
                  <p:nvPr/>
                </p:nvSpPr>
                <p:spPr>
                  <a:xfrm>
                    <a:off x="3794040" y="2774880"/>
                    <a:ext cx="5400" cy="10440"/>
                  </a:xfrm>
                  <a:prstGeom prst="ellipse">
                    <a:avLst/>
                  </a:prstGeom>
                  <a:solidFill>
                    <a:srgbClr val="663366"/>
                  </a:solidFill>
                  <a:ln w="9360">
                    <a:solidFill>
                      <a:srgbClr val="66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5" name="Oval 555"/>
                  <p:cNvSpPr/>
                  <p:nvPr/>
                </p:nvSpPr>
                <p:spPr>
                  <a:xfrm>
                    <a:off x="3799080" y="2775240"/>
                    <a:ext cx="5400" cy="10440"/>
                  </a:xfrm>
                  <a:prstGeom prst="ellipse">
                    <a:avLst/>
                  </a:prstGeom>
                  <a:solidFill>
                    <a:srgbClr val="663366"/>
                  </a:solidFill>
                  <a:ln w="9360">
                    <a:solidFill>
                      <a:srgbClr val="66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6" name="Oval 556"/>
                  <p:cNvSpPr/>
                  <p:nvPr/>
                </p:nvSpPr>
                <p:spPr>
                  <a:xfrm rot="3348000">
                    <a:off x="3890880" y="2759400"/>
                    <a:ext cx="41760" cy="56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66699"/>
                      </a:gs>
                      <a:gs pos="100000">
                        <a:srgbClr val="424267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7" name="AutoShape 557"/>
                  <p:cNvSpPr/>
                  <p:nvPr/>
                </p:nvSpPr>
                <p:spPr>
                  <a:xfrm flipH="1" rot="3348000">
                    <a:off x="3889800" y="2762280"/>
                    <a:ext cx="19800" cy="19440"/>
                  </a:xfrm>
                  <a:custGeom>
                    <a:avLst/>
                    <a:gdLst>
                      <a:gd name="textAreaLeft" fmla="*/ 12240 w 19800"/>
                      <a:gd name="textAreaRight" fmla="*/ 12600 w 19800"/>
                      <a:gd name="textAreaTop" fmla="*/ 720 h 19440"/>
                      <a:gd name="textAreaBottom" fmla="*/ 18720 h 19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7719" y="2482"/>
                          <a:pt x="13837" y="5080"/>
                          <a:pt x="13837" y="10800"/>
                        </a:cubicBezTo>
                        <a:cubicBezTo>
                          <a:pt x="13837" y="16520"/>
                          <a:pt x="17719" y="19118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8" name="AutoShape 558"/>
                  <p:cNvSpPr/>
                  <p:nvPr/>
                </p:nvSpPr>
                <p:spPr>
                  <a:xfrm rot="3348000">
                    <a:off x="3912840" y="2793600"/>
                    <a:ext cx="19440" cy="19440"/>
                  </a:xfrm>
                  <a:custGeom>
                    <a:avLst/>
                    <a:gdLst>
                      <a:gd name="textAreaLeft" fmla="*/ 11880 w 19440"/>
                      <a:gd name="textAreaRight" fmla="*/ 12600 w 19440"/>
                      <a:gd name="textAreaTop" fmla="*/ 720 h 19440"/>
                      <a:gd name="textAreaBottom" fmla="*/ 18720 h 19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7719" y="2482"/>
                          <a:pt x="13837" y="5080"/>
                          <a:pt x="13837" y="10800"/>
                        </a:cubicBezTo>
                        <a:cubicBezTo>
                          <a:pt x="13837" y="16520"/>
                          <a:pt x="17719" y="19118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9" name="Freeform 559"/>
                  <p:cNvSpPr/>
                  <p:nvPr/>
                </p:nvSpPr>
                <p:spPr>
                  <a:xfrm rot="20025600">
                    <a:off x="3920400" y="2746080"/>
                    <a:ext cx="10800" cy="23040"/>
                  </a:xfrm>
                  <a:custGeom>
                    <a:avLst/>
                    <a:gdLst>
                      <a:gd name="textAreaLeft" fmla="*/ 0 w 10800"/>
                      <a:gd name="textAreaRight" fmla="*/ 11160 w 108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90" h="181">
                        <a:moveTo>
                          <a:pt x="45" y="181"/>
                        </a:moveTo>
                        <a:cubicBezTo>
                          <a:pt x="30" y="181"/>
                          <a:pt x="0" y="120"/>
                          <a:pt x="0" y="90"/>
                        </a:cubicBezTo>
                        <a:cubicBezTo>
                          <a:pt x="0" y="60"/>
                          <a:pt x="30" y="0"/>
                          <a:pt x="45" y="0"/>
                        </a:cubicBezTo>
                        <a:cubicBezTo>
                          <a:pt x="60" y="0"/>
                          <a:pt x="90" y="60"/>
                          <a:pt x="90" y="90"/>
                        </a:cubicBezTo>
                        <a:cubicBezTo>
                          <a:pt x="90" y="120"/>
                          <a:pt x="60" y="181"/>
                          <a:pt x="45" y="181"/>
                        </a:cubicBezTo>
                        <a:close/>
                      </a:path>
                    </a:pathLst>
                  </a:custGeom>
                  <a:noFill/>
                  <a:ln w="648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0" name="Freeform 560"/>
                  <p:cNvSpPr/>
                  <p:nvPr/>
                </p:nvSpPr>
                <p:spPr>
                  <a:xfrm rot="21131400">
                    <a:off x="3924000" y="2745000"/>
                    <a:ext cx="10440" cy="23400"/>
                  </a:xfrm>
                  <a:custGeom>
                    <a:avLst/>
                    <a:gdLst>
                      <a:gd name="textAreaLeft" fmla="*/ 0 w 10440"/>
                      <a:gd name="textAreaRight" fmla="*/ 10800 w 10440"/>
                      <a:gd name="textAreaTop" fmla="*/ 0 h 23400"/>
                      <a:gd name="textAreaBottom" fmla="*/ 23760 h 23400"/>
                    </a:gdLst>
                    <a:ahLst/>
                    <a:rect l="textAreaLeft" t="textAreaTop" r="textAreaRight" b="textAreaBottom"/>
                    <a:pathLst>
                      <a:path w="90" h="181">
                        <a:moveTo>
                          <a:pt x="45" y="181"/>
                        </a:moveTo>
                        <a:cubicBezTo>
                          <a:pt x="30" y="181"/>
                          <a:pt x="0" y="120"/>
                          <a:pt x="0" y="90"/>
                        </a:cubicBezTo>
                        <a:cubicBezTo>
                          <a:pt x="0" y="60"/>
                          <a:pt x="30" y="0"/>
                          <a:pt x="45" y="0"/>
                        </a:cubicBezTo>
                        <a:cubicBezTo>
                          <a:pt x="60" y="0"/>
                          <a:pt x="90" y="60"/>
                          <a:pt x="90" y="90"/>
                        </a:cubicBezTo>
                        <a:cubicBezTo>
                          <a:pt x="90" y="120"/>
                          <a:pt x="60" y="181"/>
                          <a:pt x="45" y="181"/>
                        </a:cubicBezTo>
                        <a:close/>
                      </a:path>
                    </a:pathLst>
                  </a:custGeom>
                  <a:noFill/>
                  <a:ln w="648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1" name="Freeform 561"/>
                  <p:cNvSpPr/>
                  <p:nvPr/>
                </p:nvSpPr>
                <p:spPr>
                  <a:xfrm rot="787800">
                    <a:off x="3927600" y="2745360"/>
                    <a:ext cx="10800" cy="22680"/>
                  </a:xfrm>
                  <a:custGeom>
                    <a:avLst/>
                    <a:gdLst>
                      <a:gd name="textAreaLeft" fmla="*/ 0 w 10800"/>
                      <a:gd name="textAreaRight" fmla="*/ 11160 w 10800"/>
                      <a:gd name="textAreaTop" fmla="*/ 0 h 22680"/>
                      <a:gd name="textAreaBottom" fmla="*/ 23040 h 22680"/>
                    </a:gdLst>
                    <a:ahLst/>
                    <a:rect l="textAreaLeft" t="textAreaTop" r="textAreaRight" b="textAreaBottom"/>
                    <a:pathLst>
                      <a:path w="90" h="181">
                        <a:moveTo>
                          <a:pt x="45" y="181"/>
                        </a:moveTo>
                        <a:cubicBezTo>
                          <a:pt x="30" y="181"/>
                          <a:pt x="0" y="120"/>
                          <a:pt x="0" y="90"/>
                        </a:cubicBezTo>
                        <a:cubicBezTo>
                          <a:pt x="0" y="60"/>
                          <a:pt x="30" y="0"/>
                          <a:pt x="45" y="0"/>
                        </a:cubicBezTo>
                        <a:cubicBezTo>
                          <a:pt x="60" y="0"/>
                          <a:pt x="90" y="60"/>
                          <a:pt x="90" y="90"/>
                        </a:cubicBezTo>
                        <a:cubicBezTo>
                          <a:pt x="90" y="120"/>
                          <a:pt x="60" y="181"/>
                          <a:pt x="45" y="181"/>
                        </a:cubicBezTo>
                        <a:close/>
                      </a:path>
                    </a:pathLst>
                  </a:custGeom>
                  <a:noFill/>
                  <a:ln w="648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2" name="Freeform 562"/>
                  <p:cNvSpPr/>
                  <p:nvPr/>
                </p:nvSpPr>
                <p:spPr>
                  <a:xfrm flipH="1" rot="8269800">
                    <a:off x="3940200" y="2773080"/>
                    <a:ext cx="10800" cy="23040"/>
                  </a:xfrm>
                  <a:custGeom>
                    <a:avLst/>
                    <a:gdLst>
                      <a:gd name="textAreaLeft" fmla="*/ 360 w 10800"/>
                      <a:gd name="textAreaRight" fmla="*/ 11520 w 108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90" h="181">
                        <a:moveTo>
                          <a:pt x="45" y="181"/>
                        </a:moveTo>
                        <a:cubicBezTo>
                          <a:pt x="30" y="181"/>
                          <a:pt x="0" y="120"/>
                          <a:pt x="0" y="90"/>
                        </a:cubicBezTo>
                        <a:cubicBezTo>
                          <a:pt x="0" y="60"/>
                          <a:pt x="30" y="0"/>
                          <a:pt x="45" y="0"/>
                        </a:cubicBezTo>
                        <a:cubicBezTo>
                          <a:pt x="60" y="0"/>
                          <a:pt x="90" y="60"/>
                          <a:pt x="90" y="90"/>
                        </a:cubicBezTo>
                        <a:cubicBezTo>
                          <a:pt x="90" y="120"/>
                          <a:pt x="60" y="181"/>
                          <a:pt x="45" y="181"/>
                        </a:cubicBezTo>
                        <a:close/>
                      </a:path>
                    </a:pathLst>
                  </a:custGeom>
                  <a:noFill/>
                  <a:ln w="648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3" name="Freeform 563"/>
                  <p:cNvSpPr/>
                  <p:nvPr/>
                </p:nvSpPr>
                <p:spPr>
                  <a:xfrm flipH="1" rot="7163400">
                    <a:off x="3943080" y="2769840"/>
                    <a:ext cx="9720" cy="25200"/>
                  </a:xfrm>
                  <a:custGeom>
                    <a:avLst/>
                    <a:gdLst>
                      <a:gd name="textAreaLeft" fmla="*/ -360 w 9720"/>
                      <a:gd name="textAreaRight" fmla="*/ 9720 w 9720"/>
                      <a:gd name="textAreaTop" fmla="*/ 0 h 25200"/>
                      <a:gd name="textAreaBottom" fmla="*/ 25560 h 25200"/>
                    </a:gdLst>
                    <a:ahLst/>
                    <a:rect l="textAreaLeft" t="textAreaTop" r="textAreaRight" b="textAreaBottom"/>
                    <a:pathLst>
                      <a:path w="90" h="181">
                        <a:moveTo>
                          <a:pt x="45" y="181"/>
                        </a:moveTo>
                        <a:cubicBezTo>
                          <a:pt x="30" y="181"/>
                          <a:pt x="0" y="120"/>
                          <a:pt x="0" y="90"/>
                        </a:cubicBezTo>
                        <a:cubicBezTo>
                          <a:pt x="0" y="60"/>
                          <a:pt x="30" y="0"/>
                          <a:pt x="45" y="0"/>
                        </a:cubicBezTo>
                        <a:cubicBezTo>
                          <a:pt x="60" y="0"/>
                          <a:pt x="90" y="60"/>
                          <a:pt x="90" y="90"/>
                        </a:cubicBezTo>
                        <a:cubicBezTo>
                          <a:pt x="90" y="120"/>
                          <a:pt x="60" y="181"/>
                          <a:pt x="45" y="181"/>
                        </a:cubicBezTo>
                        <a:close/>
                      </a:path>
                    </a:pathLst>
                  </a:custGeom>
                  <a:noFill/>
                  <a:ln w="648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4" name="Freeform 564"/>
                  <p:cNvSpPr/>
                  <p:nvPr/>
                </p:nvSpPr>
                <p:spPr>
                  <a:xfrm flipH="1" rot="5907600">
                    <a:off x="3943080" y="2766240"/>
                    <a:ext cx="10080" cy="24480"/>
                  </a:xfrm>
                  <a:custGeom>
                    <a:avLst/>
                    <a:gdLst>
                      <a:gd name="textAreaLeft" fmla="*/ 360 w 10080"/>
                      <a:gd name="textAreaRight" fmla="*/ 10800 w 1008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90" h="181">
                        <a:moveTo>
                          <a:pt x="45" y="181"/>
                        </a:moveTo>
                        <a:cubicBezTo>
                          <a:pt x="30" y="181"/>
                          <a:pt x="0" y="120"/>
                          <a:pt x="0" y="90"/>
                        </a:cubicBezTo>
                        <a:cubicBezTo>
                          <a:pt x="0" y="60"/>
                          <a:pt x="30" y="0"/>
                          <a:pt x="45" y="0"/>
                        </a:cubicBezTo>
                        <a:cubicBezTo>
                          <a:pt x="60" y="0"/>
                          <a:pt x="90" y="60"/>
                          <a:pt x="90" y="90"/>
                        </a:cubicBezTo>
                        <a:cubicBezTo>
                          <a:pt x="90" y="120"/>
                          <a:pt x="60" y="181"/>
                          <a:pt x="45" y="181"/>
                        </a:cubicBezTo>
                        <a:close/>
                      </a:path>
                    </a:pathLst>
                  </a:custGeom>
                  <a:noFill/>
                  <a:ln w="648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5" name="Freeform 565"/>
                  <p:cNvSpPr/>
                  <p:nvPr/>
                </p:nvSpPr>
                <p:spPr>
                  <a:xfrm rot="3348000">
                    <a:off x="3875760" y="2797920"/>
                    <a:ext cx="8280" cy="16560"/>
                  </a:xfrm>
                  <a:custGeom>
                    <a:avLst/>
                    <a:gdLst>
                      <a:gd name="textAreaLeft" fmla="*/ 0 w 8280"/>
                      <a:gd name="textAreaRight" fmla="*/ 8640 w 8280"/>
                      <a:gd name="textAreaTop" fmla="*/ 0 h 16560"/>
                      <a:gd name="textAreaBottom" fmla="*/ 16920 h 16560"/>
                    </a:gdLst>
                    <a:ahLst/>
                    <a:rect l="textAreaLeft" t="textAreaTop" r="textAreaRight" b="textAreaBottom"/>
                    <a:pathLst>
                      <a:path w="36" h="68">
                        <a:moveTo>
                          <a:pt x="9" y="0"/>
                        </a:moveTo>
                        <a:cubicBezTo>
                          <a:pt x="10" y="0"/>
                          <a:pt x="30" y="5"/>
                          <a:pt x="24" y="12"/>
                        </a:cubicBezTo>
                        <a:cubicBezTo>
                          <a:pt x="20" y="17"/>
                          <a:pt x="6" y="18"/>
                          <a:pt x="6" y="18"/>
                        </a:cubicBezTo>
                        <a:cubicBezTo>
                          <a:pt x="8" y="21"/>
                          <a:pt x="9" y="25"/>
                          <a:pt x="12" y="27"/>
                        </a:cubicBezTo>
                        <a:cubicBezTo>
                          <a:pt x="22" y="35"/>
                          <a:pt x="32" y="35"/>
                          <a:pt x="6" y="42"/>
                        </a:cubicBezTo>
                        <a:cubicBezTo>
                          <a:pt x="36" y="52"/>
                          <a:pt x="23" y="55"/>
                          <a:pt x="0" y="60"/>
                        </a:cubicBezTo>
                        <a:cubicBezTo>
                          <a:pt x="13" y="68"/>
                          <a:pt x="8" y="63"/>
                          <a:pt x="21" y="63"/>
                        </a:cubicBezTo>
                      </a:path>
                    </a:pathLst>
                  </a:custGeom>
                  <a:solidFill>
                    <a:srgbClr val="663366"/>
                  </a:solidFill>
                  <a:ln w="9360">
                    <a:solidFill>
                      <a:srgbClr val="66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6" name="Freeform 566"/>
                  <p:cNvSpPr/>
                  <p:nvPr/>
                </p:nvSpPr>
                <p:spPr>
                  <a:xfrm rot="3348000">
                    <a:off x="3879000" y="2802960"/>
                    <a:ext cx="7920" cy="16560"/>
                  </a:xfrm>
                  <a:custGeom>
                    <a:avLst/>
                    <a:gdLst>
                      <a:gd name="textAreaLeft" fmla="*/ 0 w 7920"/>
                      <a:gd name="textAreaRight" fmla="*/ 8280 w 7920"/>
                      <a:gd name="textAreaTop" fmla="*/ 0 h 16560"/>
                      <a:gd name="textAreaBottom" fmla="*/ 16920 h 16560"/>
                    </a:gdLst>
                    <a:ahLst/>
                    <a:rect l="textAreaLeft" t="textAreaTop" r="textAreaRight" b="textAreaBottom"/>
                    <a:pathLst>
                      <a:path w="36" h="68">
                        <a:moveTo>
                          <a:pt x="9" y="0"/>
                        </a:moveTo>
                        <a:cubicBezTo>
                          <a:pt x="10" y="0"/>
                          <a:pt x="30" y="5"/>
                          <a:pt x="24" y="12"/>
                        </a:cubicBezTo>
                        <a:cubicBezTo>
                          <a:pt x="20" y="17"/>
                          <a:pt x="6" y="18"/>
                          <a:pt x="6" y="18"/>
                        </a:cubicBezTo>
                        <a:cubicBezTo>
                          <a:pt x="8" y="21"/>
                          <a:pt x="9" y="25"/>
                          <a:pt x="12" y="27"/>
                        </a:cubicBezTo>
                        <a:cubicBezTo>
                          <a:pt x="22" y="35"/>
                          <a:pt x="32" y="35"/>
                          <a:pt x="6" y="42"/>
                        </a:cubicBezTo>
                        <a:cubicBezTo>
                          <a:pt x="36" y="52"/>
                          <a:pt x="23" y="55"/>
                          <a:pt x="0" y="60"/>
                        </a:cubicBezTo>
                        <a:cubicBezTo>
                          <a:pt x="13" y="68"/>
                          <a:pt x="8" y="63"/>
                          <a:pt x="21" y="63"/>
                        </a:cubicBezTo>
                      </a:path>
                    </a:pathLst>
                  </a:custGeom>
                  <a:solidFill>
                    <a:srgbClr val="663366"/>
                  </a:solidFill>
                  <a:ln w="9360">
                    <a:solidFill>
                      <a:srgbClr val="66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7" name="Oval 567"/>
                  <p:cNvSpPr/>
                  <p:nvPr/>
                </p:nvSpPr>
                <p:spPr>
                  <a:xfrm rot="3348000">
                    <a:off x="3864960" y="2807640"/>
                    <a:ext cx="5040" cy="11160"/>
                  </a:xfrm>
                  <a:prstGeom prst="ellipse">
                    <a:avLst/>
                  </a:prstGeom>
                  <a:solidFill>
                    <a:srgbClr val="663366"/>
                  </a:solidFill>
                  <a:ln w="9360">
                    <a:solidFill>
                      <a:srgbClr val="66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8" name="Oval 568"/>
                  <p:cNvSpPr/>
                  <p:nvPr/>
                </p:nvSpPr>
                <p:spPr>
                  <a:xfrm rot="3348000">
                    <a:off x="3867840" y="2811960"/>
                    <a:ext cx="5040" cy="11160"/>
                  </a:xfrm>
                  <a:prstGeom prst="ellipse">
                    <a:avLst/>
                  </a:prstGeom>
                  <a:solidFill>
                    <a:srgbClr val="663366"/>
                  </a:solidFill>
                  <a:ln w="9360">
                    <a:solidFill>
                      <a:srgbClr val="66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9" name="Oval 569"/>
                  <p:cNvSpPr/>
                  <p:nvPr/>
                </p:nvSpPr>
                <p:spPr>
                  <a:xfrm flipH="1" rot="18252000">
                    <a:off x="3663720" y="2755440"/>
                    <a:ext cx="42120" cy="56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66699"/>
                      </a:gs>
                      <a:gs pos="100000">
                        <a:srgbClr val="424267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0" name="AutoShape 570"/>
                  <p:cNvSpPr/>
                  <p:nvPr/>
                </p:nvSpPr>
                <p:spPr>
                  <a:xfrm rot="18252000">
                    <a:off x="3687480" y="2757960"/>
                    <a:ext cx="19440" cy="19440"/>
                  </a:xfrm>
                  <a:custGeom>
                    <a:avLst/>
                    <a:gdLst>
                      <a:gd name="textAreaLeft" fmla="*/ 11880 w 19440"/>
                      <a:gd name="textAreaRight" fmla="*/ 12600 w 19440"/>
                      <a:gd name="textAreaTop" fmla="*/ 720 h 19440"/>
                      <a:gd name="textAreaBottom" fmla="*/ 18720 h 19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7719" y="2482"/>
                          <a:pt x="13837" y="5080"/>
                          <a:pt x="13837" y="10800"/>
                        </a:cubicBezTo>
                        <a:cubicBezTo>
                          <a:pt x="13837" y="16520"/>
                          <a:pt x="17719" y="19118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1" name="AutoShape 571"/>
                  <p:cNvSpPr/>
                  <p:nvPr/>
                </p:nvSpPr>
                <p:spPr>
                  <a:xfrm flipH="1" rot="18252000">
                    <a:off x="3663720" y="2789640"/>
                    <a:ext cx="19440" cy="19080"/>
                  </a:xfrm>
                  <a:custGeom>
                    <a:avLst/>
                    <a:gdLst>
                      <a:gd name="textAreaLeft" fmla="*/ 11880 w 19440"/>
                      <a:gd name="textAreaRight" fmla="*/ 12600 w 19440"/>
                      <a:gd name="textAreaTop" fmla="*/ 720 h 19080"/>
                      <a:gd name="textAreaBottom" fmla="*/ 18360 h 190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7719" y="2482"/>
                          <a:pt x="13837" y="5080"/>
                          <a:pt x="13837" y="10800"/>
                        </a:cubicBezTo>
                        <a:cubicBezTo>
                          <a:pt x="13837" y="16520"/>
                          <a:pt x="17719" y="19118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2" name="Freeform 572"/>
                  <p:cNvSpPr/>
                  <p:nvPr/>
                </p:nvSpPr>
                <p:spPr>
                  <a:xfrm flipH="1" rot="1574400">
                    <a:off x="3664440" y="2741760"/>
                    <a:ext cx="10800" cy="23040"/>
                  </a:xfrm>
                  <a:custGeom>
                    <a:avLst/>
                    <a:gdLst>
                      <a:gd name="textAreaLeft" fmla="*/ 360 w 10800"/>
                      <a:gd name="textAreaRight" fmla="*/ 11520 w 108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90" h="181">
                        <a:moveTo>
                          <a:pt x="45" y="181"/>
                        </a:moveTo>
                        <a:cubicBezTo>
                          <a:pt x="30" y="181"/>
                          <a:pt x="0" y="120"/>
                          <a:pt x="0" y="90"/>
                        </a:cubicBezTo>
                        <a:cubicBezTo>
                          <a:pt x="0" y="60"/>
                          <a:pt x="30" y="0"/>
                          <a:pt x="45" y="0"/>
                        </a:cubicBezTo>
                        <a:cubicBezTo>
                          <a:pt x="60" y="0"/>
                          <a:pt x="90" y="60"/>
                          <a:pt x="90" y="90"/>
                        </a:cubicBezTo>
                        <a:cubicBezTo>
                          <a:pt x="90" y="120"/>
                          <a:pt x="60" y="181"/>
                          <a:pt x="45" y="181"/>
                        </a:cubicBezTo>
                        <a:close/>
                      </a:path>
                    </a:pathLst>
                  </a:custGeom>
                  <a:noFill/>
                  <a:ln w="648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3" name="Freeform 573"/>
                  <p:cNvSpPr/>
                  <p:nvPr/>
                </p:nvSpPr>
                <p:spPr>
                  <a:xfrm flipH="1" rot="468600">
                    <a:off x="3662280" y="2740680"/>
                    <a:ext cx="10440" cy="23040"/>
                  </a:xfrm>
                  <a:custGeom>
                    <a:avLst/>
                    <a:gdLst>
                      <a:gd name="textAreaLeft" fmla="*/ -360 w 10440"/>
                      <a:gd name="textAreaRight" fmla="*/ 10440 w 1044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90" h="181">
                        <a:moveTo>
                          <a:pt x="45" y="181"/>
                        </a:moveTo>
                        <a:cubicBezTo>
                          <a:pt x="30" y="181"/>
                          <a:pt x="0" y="120"/>
                          <a:pt x="0" y="90"/>
                        </a:cubicBezTo>
                        <a:cubicBezTo>
                          <a:pt x="0" y="60"/>
                          <a:pt x="30" y="0"/>
                          <a:pt x="45" y="0"/>
                        </a:cubicBezTo>
                        <a:cubicBezTo>
                          <a:pt x="60" y="0"/>
                          <a:pt x="90" y="60"/>
                          <a:pt x="90" y="90"/>
                        </a:cubicBezTo>
                        <a:cubicBezTo>
                          <a:pt x="90" y="120"/>
                          <a:pt x="60" y="181"/>
                          <a:pt x="45" y="181"/>
                        </a:cubicBezTo>
                        <a:close/>
                      </a:path>
                    </a:pathLst>
                  </a:custGeom>
                  <a:noFill/>
                  <a:ln w="648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4" name="Freeform 574"/>
                  <p:cNvSpPr/>
                  <p:nvPr/>
                </p:nvSpPr>
                <p:spPr>
                  <a:xfrm flipH="1" rot="20812200">
                    <a:off x="3658320" y="2741040"/>
                    <a:ext cx="10800" cy="22680"/>
                  </a:xfrm>
                  <a:custGeom>
                    <a:avLst/>
                    <a:gdLst>
                      <a:gd name="textAreaLeft" fmla="*/ 360 w 10800"/>
                      <a:gd name="textAreaRight" fmla="*/ 11520 w 10800"/>
                      <a:gd name="textAreaTop" fmla="*/ 0 h 22680"/>
                      <a:gd name="textAreaBottom" fmla="*/ 23040 h 22680"/>
                    </a:gdLst>
                    <a:ahLst/>
                    <a:rect l="textAreaLeft" t="textAreaTop" r="textAreaRight" b="textAreaBottom"/>
                    <a:pathLst>
                      <a:path w="90" h="181">
                        <a:moveTo>
                          <a:pt x="45" y="181"/>
                        </a:moveTo>
                        <a:cubicBezTo>
                          <a:pt x="30" y="181"/>
                          <a:pt x="0" y="120"/>
                          <a:pt x="0" y="90"/>
                        </a:cubicBezTo>
                        <a:cubicBezTo>
                          <a:pt x="0" y="60"/>
                          <a:pt x="30" y="0"/>
                          <a:pt x="45" y="0"/>
                        </a:cubicBezTo>
                        <a:cubicBezTo>
                          <a:pt x="60" y="0"/>
                          <a:pt x="90" y="60"/>
                          <a:pt x="90" y="90"/>
                        </a:cubicBezTo>
                        <a:cubicBezTo>
                          <a:pt x="90" y="120"/>
                          <a:pt x="60" y="181"/>
                          <a:pt x="45" y="181"/>
                        </a:cubicBezTo>
                        <a:close/>
                      </a:path>
                    </a:pathLst>
                  </a:custGeom>
                  <a:noFill/>
                  <a:ln w="648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5" name="Freeform 575"/>
                  <p:cNvSpPr/>
                  <p:nvPr/>
                </p:nvSpPr>
                <p:spPr>
                  <a:xfrm rot="13330200">
                    <a:off x="3646080" y="2768760"/>
                    <a:ext cx="10800" cy="23040"/>
                  </a:xfrm>
                  <a:custGeom>
                    <a:avLst/>
                    <a:gdLst>
                      <a:gd name="textAreaLeft" fmla="*/ 0 w 10800"/>
                      <a:gd name="textAreaRight" fmla="*/ 11160 w 108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90" h="181">
                        <a:moveTo>
                          <a:pt x="45" y="181"/>
                        </a:moveTo>
                        <a:cubicBezTo>
                          <a:pt x="30" y="181"/>
                          <a:pt x="0" y="120"/>
                          <a:pt x="0" y="90"/>
                        </a:cubicBezTo>
                        <a:cubicBezTo>
                          <a:pt x="0" y="60"/>
                          <a:pt x="30" y="0"/>
                          <a:pt x="45" y="0"/>
                        </a:cubicBezTo>
                        <a:cubicBezTo>
                          <a:pt x="60" y="0"/>
                          <a:pt x="90" y="60"/>
                          <a:pt x="90" y="90"/>
                        </a:cubicBezTo>
                        <a:cubicBezTo>
                          <a:pt x="90" y="120"/>
                          <a:pt x="60" y="181"/>
                          <a:pt x="45" y="181"/>
                        </a:cubicBezTo>
                        <a:close/>
                      </a:path>
                    </a:pathLst>
                  </a:custGeom>
                  <a:noFill/>
                  <a:ln w="648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6" name="Freeform 576"/>
                  <p:cNvSpPr/>
                  <p:nvPr/>
                </p:nvSpPr>
                <p:spPr>
                  <a:xfrm rot="14436600">
                    <a:off x="3644280" y="2765520"/>
                    <a:ext cx="9720" cy="25200"/>
                  </a:xfrm>
                  <a:custGeom>
                    <a:avLst/>
                    <a:gdLst>
                      <a:gd name="textAreaLeft" fmla="*/ 0 w 9720"/>
                      <a:gd name="textAreaRight" fmla="*/ 10080 w 9720"/>
                      <a:gd name="textAreaTop" fmla="*/ 0 h 25200"/>
                      <a:gd name="textAreaBottom" fmla="*/ 25560 h 25200"/>
                    </a:gdLst>
                    <a:ahLst/>
                    <a:rect l="textAreaLeft" t="textAreaTop" r="textAreaRight" b="textAreaBottom"/>
                    <a:pathLst>
                      <a:path w="90" h="181">
                        <a:moveTo>
                          <a:pt x="45" y="181"/>
                        </a:moveTo>
                        <a:cubicBezTo>
                          <a:pt x="30" y="181"/>
                          <a:pt x="0" y="120"/>
                          <a:pt x="0" y="90"/>
                        </a:cubicBezTo>
                        <a:cubicBezTo>
                          <a:pt x="0" y="60"/>
                          <a:pt x="30" y="0"/>
                          <a:pt x="45" y="0"/>
                        </a:cubicBezTo>
                        <a:cubicBezTo>
                          <a:pt x="60" y="0"/>
                          <a:pt x="90" y="60"/>
                          <a:pt x="90" y="90"/>
                        </a:cubicBezTo>
                        <a:cubicBezTo>
                          <a:pt x="90" y="120"/>
                          <a:pt x="60" y="181"/>
                          <a:pt x="45" y="181"/>
                        </a:cubicBezTo>
                        <a:close/>
                      </a:path>
                    </a:pathLst>
                  </a:custGeom>
                  <a:noFill/>
                  <a:ln w="648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7" name="Freeform 577"/>
                  <p:cNvSpPr/>
                  <p:nvPr/>
                </p:nvSpPr>
                <p:spPr>
                  <a:xfrm rot="15692400">
                    <a:off x="3642840" y="2762280"/>
                    <a:ext cx="10080" cy="2448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90" h="181">
                        <a:moveTo>
                          <a:pt x="45" y="181"/>
                        </a:moveTo>
                        <a:cubicBezTo>
                          <a:pt x="30" y="181"/>
                          <a:pt x="0" y="120"/>
                          <a:pt x="0" y="90"/>
                        </a:cubicBezTo>
                        <a:cubicBezTo>
                          <a:pt x="0" y="60"/>
                          <a:pt x="30" y="0"/>
                          <a:pt x="45" y="0"/>
                        </a:cubicBezTo>
                        <a:cubicBezTo>
                          <a:pt x="60" y="0"/>
                          <a:pt x="90" y="60"/>
                          <a:pt x="90" y="90"/>
                        </a:cubicBezTo>
                        <a:cubicBezTo>
                          <a:pt x="90" y="120"/>
                          <a:pt x="60" y="181"/>
                          <a:pt x="45" y="181"/>
                        </a:cubicBezTo>
                        <a:close/>
                      </a:path>
                    </a:pathLst>
                  </a:custGeom>
                  <a:noFill/>
                  <a:ln w="648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8" name="Freeform 578"/>
                  <p:cNvSpPr/>
                  <p:nvPr/>
                </p:nvSpPr>
                <p:spPr>
                  <a:xfrm flipH="1" rot="18252000">
                    <a:off x="3713400" y="2793960"/>
                    <a:ext cx="8280" cy="16560"/>
                  </a:xfrm>
                  <a:custGeom>
                    <a:avLst/>
                    <a:gdLst>
                      <a:gd name="textAreaLeft" fmla="*/ -360 w 8280"/>
                      <a:gd name="textAreaRight" fmla="*/ 8280 w 8280"/>
                      <a:gd name="textAreaTop" fmla="*/ 0 h 16560"/>
                      <a:gd name="textAreaBottom" fmla="*/ 16920 h 16560"/>
                    </a:gdLst>
                    <a:ahLst/>
                    <a:rect l="textAreaLeft" t="textAreaTop" r="textAreaRight" b="textAreaBottom"/>
                    <a:pathLst>
                      <a:path w="36" h="68">
                        <a:moveTo>
                          <a:pt x="9" y="0"/>
                        </a:moveTo>
                        <a:cubicBezTo>
                          <a:pt x="10" y="0"/>
                          <a:pt x="30" y="5"/>
                          <a:pt x="24" y="12"/>
                        </a:cubicBezTo>
                        <a:cubicBezTo>
                          <a:pt x="20" y="17"/>
                          <a:pt x="6" y="18"/>
                          <a:pt x="6" y="18"/>
                        </a:cubicBezTo>
                        <a:cubicBezTo>
                          <a:pt x="8" y="21"/>
                          <a:pt x="9" y="25"/>
                          <a:pt x="12" y="27"/>
                        </a:cubicBezTo>
                        <a:cubicBezTo>
                          <a:pt x="22" y="35"/>
                          <a:pt x="32" y="35"/>
                          <a:pt x="6" y="42"/>
                        </a:cubicBezTo>
                        <a:cubicBezTo>
                          <a:pt x="36" y="52"/>
                          <a:pt x="23" y="55"/>
                          <a:pt x="0" y="60"/>
                        </a:cubicBezTo>
                        <a:cubicBezTo>
                          <a:pt x="13" y="68"/>
                          <a:pt x="8" y="63"/>
                          <a:pt x="21" y="63"/>
                        </a:cubicBezTo>
                      </a:path>
                    </a:pathLst>
                  </a:custGeom>
                  <a:solidFill>
                    <a:srgbClr val="663366"/>
                  </a:solidFill>
                  <a:ln w="9360">
                    <a:solidFill>
                      <a:srgbClr val="66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9" name="Freeform 579"/>
                  <p:cNvSpPr/>
                  <p:nvPr/>
                </p:nvSpPr>
                <p:spPr>
                  <a:xfrm flipH="1" rot="18252000">
                    <a:off x="3710520" y="2798280"/>
                    <a:ext cx="8280" cy="16560"/>
                  </a:xfrm>
                  <a:custGeom>
                    <a:avLst/>
                    <a:gdLst>
                      <a:gd name="textAreaLeft" fmla="*/ -360 w 8280"/>
                      <a:gd name="textAreaRight" fmla="*/ 8280 w 8280"/>
                      <a:gd name="textAreaTop" fmla="*/ 0 h 16560"/>
                      <a:gd name="textAreaBottom" fmla="*/ 16920 h 16560"/>
                    </a:gdLst>
                    <a:ahLst/>
                    <a:rect l="textAreaLeft" t="textAreaTop" r="textAreaRight" b="textAreaBottom"/>
                    <a:pathLst>
                      <a:path w="36" h="68">
                        <a:moveTo>
                          <a:pt x="9" y="0"/>
                        </a:moveTo>
                        <a:cubicBezTo>
                          <a:pt x="10" y="0"/>
                          <a:pt x="30" y="5"/>
                          <a:pt x="24" y="12"/>
                        </a:cubicBezTo>
                        <a:cubicBezTo>
                          <a:pt x="20" y="17"/>
                          <a:pt x="6" y="18"/>
                          <a:pt x="6" y="18"/>
                        </a:cubicBezTo>
                        <a:cubicBezTo>
                          <a:pt x="8" y="21"/>
                          <a:pt x="9" y="25"/>
                          <a:pt x="12" y="27"/>
                        </a:cubicBezTo>
                        <a:cubicBezTo>
                          <a:pt x="22" y="35"/>
                          <a:pt x="32" y="35"/>
                          <a:pt x="6" y="42"/>
                        </a:cubicBezTo>
                        <a:cubicBezTo>
                          <a:pt x="36" y="52"/>
                          <a:pt x="23" y="55"/>
                          <a:pt x="0" y="60"/>
                        </a:cubicBezTo>
                        <a:cubicBezTo>
                          <a:pt x="13" y="68"/>
                          <a:pt x="8" y="63"/>
                          <a:pt x="21" y="63"/>
                        </a:cubicBezTo>
                      </a:path>
                    </a:pathLst>
                  </a:custGeom>
                  <a:solidFill>
                    <a:srgbClr val="663366"/>
                  </a:solidFill>
                  <a:ln w="9360">
                    <a:solidFill>
                      <a:srgbClr val="66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0" name="Oval 580"/>
                  <p:cNvSpPr/>
                  <p:nvPr/>
                </p:nvSpPr>
                <p:spPr>
                  <a:xfrm flipH="1" rot="18252000">
                    <a:off x="3727080" y="2802960"/>
                    <a:ext cx="5040" cy="11160"/>
                  </a:xfrm>
                  <a:prstGeom prst="ellipse">
                    <a:avLst/>
                  </a:prstGeom>
                  <a:solidFill>
                    <a:srgbClr val="663366"/>
                  </a:solidFill>
                  <a:ln w="9360">
                    <a:solidFill>
                      <a:srgbClr val="66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1" name="Oval 581"/>
                  <p:cNvSpPr/>
                  <p:nvPr/>
                </p:nvSpPr>
                <p:spPr>
                  <a:xfrm flipH="1" rot="18252000">
                    <a:off x="3723840" y="2807280"/>
                    <a:ext cx="5040" cy="11160"/>
                  </a:xfrm>
                  <a:prstGeom prst="ellipse">
                    <a:avLst/>
                  </a:prstGeom>
                  <a:solidFill>
                    <a:srgbClr val="663366"/>
                  </a:solidFill>
                  <a:ln w="9360">
                    <a:solidFill>
                      <a:srgbClr val="66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2" name="Oval 582"/>
                  <p:cNvSpPr/>
                  <p:nvPr/>
                </p:nvSpPr>
                <p:spPr>
                  <a:xfrm flipV="1" rot="18252000">
                    <a:off x="3889440" y="2903400"/>
                    <a:ext cx="42120" cy="56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66699"/>
                      </a:gs>
                      <a:gs pos="100000">
                        <a:srgbClr val="424267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3" name="AutoShape 583"/>
                  <p:cNvSpPr/>
                  <p:nvPr/>
                </p:nvSpPr>
                <p:spPr>
                  <a:xfrm flipH="1" flipV="1" rot="18252000">
                    <a:off x="3888360" y="2937960"/>
                    <a:ext cx="19440" cy="19080"/>
                  </a:xfrm>
                  <a:custGeom>
                    <a:avLst/>
                    <a:gdLst>
                      <a:gd name="textAreaLeft" fmla="*/ 11880 w 19440"/>
                      <a:gd name="textAreaRight" fmla="*/ 12600 w 19440"/>
                      <a:gd name="textAreaTop" fmla="*/ 720 h 19080"/>
                      <a:gd name="textAreaBottom" fmla="*/ 18360 h 190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7719" y="2482"/>
                          <a:pt x="13837" y="5080"/>
                          <a:pt x="13837" y="10800"/>
                        </a:cubicBezTo>
                        <a:cubicBezTo>
                          <a:pt x="13837" y="16520"/>
                          <a:pt x="17719" y="19118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4" name="AutoShape 584"/>
                  <p:cNvSpPr/>
                  <p:nvPr/>
                </p:nvSpPr>
                <p:spPr>
                  <a:xfrm flipV="1" rot="18252000">
                    <a:off x="3911400" y="2906640"/>
                    <a:ext cx="19440" cy="18720"/>
                  </a:xfrm>
                  <a:custGeom>
                    <a:avLst/>
                    <a:gdLst>
                      <a:gd name="textAreaLeft" fmla="*/ 11880 w 19440"/>
                      <a:gd name="textAreaRight" fmla="*/ 12600 w 19440"/>
                      <a:gd name="textAreaTop" fmla="*/ 720 h 18720"/>
                      <a:gd name="textAreaBottom" fmla="*/ 18000 h 187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7719" y="2482"/>
                          <a:pt x="13837" y="5080"/>
                          <a:pt x="13837" y="10800"/>
                        </a:cubicBezTo>
                        <a:cubicBezTo>
                          <a:pt x="13837" y="16520"/>
                          <a:pt x="17719" y="19118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5" name="Freeform 585"/>
                  <p:cNvSpPr/>
                  <p:nvPr/>
                </p:nvSpPr>
                <p:spPr>
                  <a:xfrm flipV="1" rot="1574400">
                    <a:off x="3918960" y="2949840"/>
                    <a:ext cx="10800" cy="23400"/>
                  </a:xfrm>
                  <a:custGeom>
                    <a:avLst/>
                    <a:gdLst>
                      <a:gd name="textAreaLeft" fmla="*/ 0 w 10800"/>
                      <a:gd name="textAreaRight" fmla="*/ 11160 w 10800"/>
                      <a:gd name="textAreaTop" fmla="*/ -360 h 23400"/>
                      <a:gd name="textAreaBottom" fmla="*/ 23400 h 23400"/>
                    </a:gdLst>
                    <a:ahLst/>
                    <a:rect l="textAreaLeft" t="textAreaTop" r="textAreaRight" b="textAreaBottom"/>
                    <a:pathLst>
                      <a:path w="90" h="181">
                        <a:moveTo>
                          <a:pt x="45" y="181"/>
                        </a:moveTo>
                        <a:cubicBezTo>
                          <a:pt x="30" y="181"/>
                          <a:pt x="0" y="120"/>
                          <a:pt x="0" y="90"/>
                        </a:cubicBezTo>
                        <a:cubicBezTo>
                          <a:pt x="0" y="60"/>
                          <a:pt x="30" y="0"/>
                          <a:pt x="45" y="0"/>
                        </a:cubicBezTo>
                        <a:cubicBezTo>
                          <a:pt x="60" y="0"/>
                          <a:pt x="90" y="60"/>
                          <a:pt x="90" y="90"/>
                        </a:cubicBezTo>
                        <a:cubicBezTo>
                          <a:pt x="90" y="120"/>
                          <a:pt x="60" y="181"/>
                          <a:pt x="45" y="181"/>
                        </a:cubicBezTo>
                        <a:close/>
                      </a:path>
                    </a:pathLst>
                  </a:custGeom>
                  <a:noFill/>
                  <a:ln w="648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6" name="Freeform 586"/>
                  <p:cNvSpPr/>
                  <p:nvPr/>
                </p:nvSpPr>
                <p:spPr>
                  <a:xfrm flipV="1" rot="468600">
                    <a:off x="3922200" y="2950200"/>
                    <a:ext cx="10440" cy="23040"/>
                  </a:xfrm>
                  <a:custGeom>
                    <a:avLst/>
                    <a:gdLst>
                      <a:gd name="textAreaLeft" fmla="*/ 0 w 10440"/>
                      <a:gd name="textAreaRight" fmla="*/ 10800 w 10440"/>
                      <a:gd name="textAreaTop" fmla="*/ 360 h 23040"/>
                      <a:gd name="textAreaBottom" fmla="*/ 23760 h 23040"/>
                    </a:gdLst>
                    <a:ahLst/>
                    <a:rect l="textAreaLeft" t="textAreaTop" r="textAreaRight" b="textAreaBottom"/>
                    <a:pathLst>
                      <a:path w="90" h="181">
                        <a:moveTo>
                          <a:pt x="45" y="181"/>
                        </a:moveTo>
                        <a:cubicBezTo>
                          <a:pt x="30" y="181"/>
                          <a:pt x="0" y="120"/>
                          <a:pt x="0" y="90"/>
                        </a:cubicBezTo>
                        <a:cubicBezTo>
                          <a:pt x="0" y="60"/>
                          <a:pt x="30" y="0"/>
                          <a:pt x="45" y="0"/>
                        </a:cubicBezTo>
                        <a:cubicBezTo>
                          <a:pt x="60" y="0"/>
                          <a:pt x="90" y="60"/>
                          <a:pt x="90" y="90"/>
                        </a:cubicBezTo>
                        <a:cubicBezTo>
                          <a:pt x="90" y="120"/>
                          <a:pt x="60" y="181"/>
                          <a:pt x="45" y="181"/>
                        </a:cubicBezTo>
                        <a:close/>
                      </a:path>
                    </a:pathLst>
                  </a:custGeom>
                  <a:noFill/>
                  <a:ln w="648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7" name="Freeform 587"/>
                  <p:cNvSpPr/>
                  <p:nvPr/>
                </p:nvSpPr>
                <p:spPr>
                  <a:xfrm flipV="1" rot="20812200">
                    <a:off x="3926160" y="2950920"/>
                    <a:ext cx="10800" cy="22680"/>
                  </a:xfrm>
                  <a:custGeom>
                    <a:avLst/>
                    <a:gdLst>
                      <a:gd name="textAreaLeft" fmla="*/ 0 w 10800"/>
                      <a:gd name="textAreaRight" fmla="*/ 11160 w 10800"/>
                      <a:gd name="textAreaTop" fmla="*/ -360 h 22680"/>
                      <a:gd name="textAreaBottom" fmla="*/ 22680 h 22680"/>
                    </a:gdLst>
                    <a:ahLst/>
                    <a:rect l="textAreaLeft" t="textAreaTop" r="textAreaRight" b="textAreaBottom"/>
                    <a:pathLst>
                      <a:path w="90" h="181">
                        <a:moveTo>
                          <a:pt x="45" y="181"/>
                        </a:moveTo>
                        <a:cubicBezTo>
                          <a:pt x="30" y="181"/>
                          <a:pt x="0" y="120"/>
                          <a:pt x="0" y="90"/>
                        </a:cubicBezTo>
                        <a:cubicBezTo>
                          <a:pt x="0" y="60"/>
                          <a:pt x="30" y="0"/>
                          <a:pt x="45" y="0"/>
                        </a:cubicBezTo>
                        <a:cubicBezTo>
                          <a:pt x="60" y="0"/>
                          <a:pt x="90" y="60"/>
                          <a:pt x="90" y="90"/>
                        </a:cubicBezTo>
                        <a:cubicBezTo>
                          <a:pt x="90" y="120"/>
                          <a:pt x="60" y="181"/>
                          <a:pt x="45" y="181"/>
                        </a:cubicBezTo>
                        <a:close/>
                      </a:path>
                    </a:pathLst>
                  </a:custGeom>
                  <a:noFill/>
                  <a:ln w="648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8" name="Freeform 588"/>
                  <p:cNvSpPr/>
                  <p:nvPr/>
                </p:nvSpPr>
                <p:spPr>
                  <a:xfrm flipH="1" flipV="1" rot="13330200">
                    <a:off x="3939480" y="2922840"/>
                    <a:ext cx="10080" cy="23040"/>
                  </a:xfrm>
                  <a:custGeom>
                    <a:avLst/>
                    <a:gdLst>
                      <a:gd name="textAreaLeft" fmla="*/ 360 w 10080"/>
                      <a:gd name="textAreaRight" fmla="*/ 10800 w 10080"/>
                      <a:gd name="textAreaTop" fmla="*/ 360 h 23040"/>
                      <a:gd name="textAreaBottom" fmla="*/ 23760 h 23040"/>
                    </a:gdLst>
                    <a:ahLst/>
                    <a:rect l="textAreaLeft" t="textAreaTop" r="textAreaRight" b="textAreaBottom"/>
                    <a:pathLst>
                      <a:path w="90" h="181">
                        <a:moveTo>
                          <a:pt x="45" y="181"/>
                        </a:moveTo>
                        <a:cubicBezTo>
                          <a:pt x="30" y="181"/>
                          <a:pt x="0" y="120"/>
                          <a:pt x="0" y="90"/>
                        </a:cubicBezTo>
                        <a:cubicBezTo>
                          <a:pt x="0" y="60"/>
                          <a:pt x="30" y="0"/>
                          <a:pt x="45" y="0"/>
                        </a:cubicBezTo>
                        <a:cubicBezTo>
                          <a:pt x="60" y="0"/>
                          <a:pt x="90" y="60"/>
                          <a:pt x="90" y="90"/>
                        </a:cubicBezTo>
                        <a:cubicBezTo>
                          <a:pt x="90" y="120"/>
                          <a:pt x="60" y="181"/>
                          <a:pt x="45" y="181"/>
                        </a:cubicBezTo>
                        <a:close/>
                      </a:path>
                    </a:pathLst>
                  </a:custGeom>
                  <a:noFill/>
                  <a:ln w="648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9" name="Freeform 589"/>
                  <p:cNvSpPr/>
                  <p:nvPr/>
                </p:nvSpPr>
                <p:spPr>
                  <a:xfrm flipH="1" flipV="1" rot="14436600">
                    <a:off x="3940560" y="2924280"/>
                    <a:ext cx="9720" cy="25200"/>
                  </a:xfrm>
                  <a:custGeom>
                    <a:avLst/>
                    <a:gdLst>
                      <a:gd name="textAreaLeft" fmla="*/ -360 w 9720"/>
                      <a:gd name="textAreaRight" fmla="*/ 9720 w 9720"/>
                      <a:gd name="textAreaTop" fmla="*/ 360 h 25200"/>
                      <a:gd name="textAreaBottom" fmla="*/ 25920 h 25200"/>
                    </a:gdLst>
                    <a:ahLst/>
                    <a:rect l="textAreaLeft" t="textAreaTop" r="textAreaRight" b="textAreaBottom"/>
                    <a:pathLst>
                      <a:path w="90" h="181">
                        <a:moveTo>
                          <a:pt x="45" y="181"/>
                        </a:moveTo>
                        <a:cubicBezTo>
                          <a:pt x="30" y="181"/>
                          <a:pt x="0" y="120"/>
                          <a:pt x="0" y="90"/>
                        </a:cubicBezTo>
                        <a:cubicBezTo>
                          <a:pt x="0" y="60"/>
                          <a:pt x="30" y="0"/>
                          <a:pt x="45" y="0"/>
                        </a:cubicBezTo>
                        <a:cubicBezTo>
                          <a:pt x="60" y="0"/>
                          <a:pt x="90" y="60"/>
                          <a:pt x="90" y="90"/>
                        </a:cubicBezTo>
                        <a:cubicBezTo>
                          <a:pt x="90" y="120"/>
                          <a:pt x="60" y="181"/>
                          <a:pt x="45" y="181"/>
                        </a:cubicBezTo>
                        <a:close/>
                      </a:path>
                    </a:pathLst>
                  </a:custGeom>
                  <a:noFill/>
                  <a:ln w="648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0" name="Freeform 590"/>
                  <p:cNvSpPr/>
                  <p:nvPr/>
                </p:nvSpPr>
                <p:spPr>
                  <a:xfrm flipH="1" flipV="1" rot="15692400">
                    <a:off x="3942000" y="2927880"/>
                    <a:ext cx="9720" cy="24480"/>
                  </a:xfrm>
                  <a:custGeom>
                    <a:avLst/>
                    <a:gdLst>
                      <a:gd name="textAreaLeft" fmla="*/ -360 w 9720"/>
                      <a:gd name="textAreaRight" fmla="*/ 9720 w 9720"/>
                      <a:gd name="textAreaTop" fmla="*/ 360 h 24480"/>
                      <a:gd name="textAreaBottom" fmla="*/ 25200 h 24480"/>
                    </a:gdLst>
                    <a:ahLst/>
                    <a:rect l="textAreaLeft" t="textAreaTop" r="textAreaRight" b="textAreaBottom"/>
                    <a:pathLst>
                      <a:path w="90" h="181">
                        <a:moveTo>
                          <a:pt x="45" y="181"/>
                        </a:moveTo>
                        <a:cubicBezTo>
                          <a:pt x="30" y="181"/>
                          <a:pt x="0" y="120"/>
                          <a:pt x="0" y="90"/>
                        </a:cubicBezTo>
                        <a:cubicBezTo>
                          <a:pt x="0" y="60"/>
                          <a:pt x="30" y="0"/>
                          <a:pt x="45" y="0"/>
                        </a:cubicBezTo>
                        <a:cubicBezTo>
                          <a:pt x="60" y="0"/>
                          <a:pt x="90" y="60"/>
                          <a:pt x="90" y="90"/>
                        </a:cubicBezTo>
                        <a:cubicBezTo>
                          <a:pt x="90" y="120"/>
                          <a:pt x="60" y="181"/>
                          <a:pt x="45" y="181"/>
                        </a:cubicBezTo>
                        <a:close/>
                      </a:path>
                    </a:pathLst>
                  </a:custGeom>
                  <a:noFill/>
                  <a:ln w="648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1" name="Freeform 591"/>
                  <p:cNvSpPr/>
                  <p:nvPr/>
                </p:nvSpPr>
                <p:spPr>
                  <a:xfrm flipV="1" rot="18252000">
                    <a:off x="3873960" y="2905200"/>
                    <a:ext cx="8640" cy="16560"/>
                  </a:xfrm>
                  <a:custGeom>
                    <a:avLst/>
                    <a:gdLst>
                      <a:gd name="textAreaLeft" fmla="*/ 0 w 8640"/>
                      <a:gd name="textAreaRight" fmla="*/ 9000 w 8640"/>
                      <a:gd name="textAreaTop" fmla="*/ 360 h 16560"/>
                      <a:gd name="textAreaBottom" fmla="*/ 17280 h 16560"/>
                    </a:gdLst>
                    <a:ahLst/>
                    <a:rect l="textAreaLeft" t="textAreaTop" r="textAreaRight" b="textAreaBottom"/>
                    <a:pathLst>
                      <a:path w="36" h="68">
                        <a:moveTo>
                          <a:pt x="9" y="0"/>
                        </a:moveTo>
                        <a:cubicBezTo>
                          <a:pt x="10" y="0"/>
                          <a:pt x="30" y="5"/>
                          <a:pt x="24" y="12"/>
                        </a:cubicBezTo>
                        <a:cubicBezTo>
                          <a:pt x="20" y="17"/>
                          <a:pt x="6" y="18"/>
                          <a:pt x="6" y="18"/>
                        </a:cubicBezTo>
                        <a:cubicBezTo>
                          <a:pt x="8" y="21"/>
                          <a:pt x="9" y="25"/>
                          <a:pt x="12" y="27"/>
                        </a:cubicBezTo>
                        <a:cubicBezTo>
                          <a:pt x="22" y="35"/>
                          <a:pt x="32" y="35"/>
                          <a:pt x="6" y="42"/>
                        </a:cubicBezTo>
                        <a:cubicBezTo>
                          <a:pt x="36" y="52"/>
                          <a:pt x="23" y="55"/>
                          <a:pt x="0" y="60"/>
                        </a:cubicBezTo>
                        <a:cubicBezTo>
                          <a:pt x="13" y="68"/>
                          <a:pt x="8" y="63"/>
                          <a:pt x="21" y="63"/>
                        </a:cubicBezTo>
                      </a:path>
                    </a:pathLst>
                  </a:custGeom>
                  <a:solidFill>
                    <a:srgbClr val="663366"/>
                  </a:solidFill>
                  <a:ln w="9360">
                    <a:solidFill>
                      <a:srgbClr val="66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2" name="Freeform 592"/>
                  <p:cNvSpPr/>
                  <p:nvPr/>
                </p:nvSpPr>
                <p:spPr>
                  <a:xfrm flipV="1" rot="18252000">
                    <a:off x="3877560" y="2900520"/>
                    <a:ext cx="8280" cy="16560"/>
                  </a:xfrm>
                  <a:custGeom>
                    <a:avLst/>
                    <a:gdLst>
                      <a:gd name="textAreaLeft" fmla="*/ 0 w 8280"/>
                      <a:gd name="textAreaRight" fmla="*/ 8640 w 8280"/>
                      <a:gd name="textAreaTop" fmla="*/ 360 h 16560"/>
                      <a:gd name="textAreaBottom" fmla="*/ 17280 h 16560"/>
                    </a:gdLst>
                    <a:ahLst/>
                    <a:rect l="textAreaLeft" t="textAreaTop" r="textAreaRight" b="textAreaBottom"/>
                    <a:pathLst>
                      <a:path w="36" h="68">
                        <a:moveTo>
                          <a:pt x="9" y="0"/>
                        </a:moveTo>
                        <a:cubicBezTo>
                          <a:pt x="10" y="0"/>
                          <a:pt x="30" y="5"/>
                          <a:pt x="24" y="12"/>
                        </a:cubicBezTo>
                        <a:cubicBezTo>
                          <a:pt x="20" y="17"/>
                          <a:pt x="6" y="18"/>
                          <a:pt x="6" y="18"/>
                        </a:cubicBezTo>
                        <a:cubicBezTo>
                          <a:pt x="8" y="21"/>
                          <a:pt x="9" y="25"/>
                          <a:pt x="12" y="27"/>
                        </a:cubicBezTo>
                        <a:cubicBezTo>
                          <a:pt x="22" y="35"/>
                          <a:pt x="32" y="35"/>
                          <a:pt x="6" y="42"/>
                        </a:cubicBezTo>
                        <a:cubicBezTo>
                          <a:pt x="36" y="52"/>
                          <a:pt x="23" y="55"/>
                          <a:pt x="0" y="60"/>
                        </a:cubicBezTo>
                        <a:cubicBezTo>
                          <a:pt x="13" y="68"/>
                          <a:pt x="8" y="63"/>
                          <a:pt x="21" y="63"/>
                        </a:cubicBezTo>
                      </a:path>
                    </a:pathLst>
                  </a:custGeom>
                  <a:solidFill>
                    <a:srgbClr val="663366"/>
                  </a:solidFill>
                  <a:ln w="9360">
                    <a:solidFill>
                      <a:srgbClr val="66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3" name="Oval 593"/>
                  <p:cNvSpPr/>
                  <p:nvPr/>
                </p:nvSpPr>
                <p:spPr>
                  <a:xfrm flipV="1" rot="18252000">
                    <a:off x="3863160" y="2900520"/>
                    <a:ext cx="5040" cy="11160"/>
                  </a:xfrm>
                  <a:prstGeom prst="ellipse">
                    <a:avLst/>
                  </a:prstGeom>
                  <a:solidFill>
                    <a:srgbClr val="663366"/>
                  </a:solidFill>
                  <a:ln w="9360">
                    <a:solidFill>
                      <a:srgbClr val="66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4" name="Oval 594"/>
                  <p:cNvSpPr/>
                  <p:nvPr/>
                </p:nvSpPr>
                <p:spPr>
                  <a:xfrm flipV="1" rot="18252000">
                    <a:off x="3865680" y="2896920"/>
                    <a:ext cx="5040" cy="11160"/>
                  </a:xfrm>
                  <a:prstGeom prst="ellipse">
                    <a:avLst/>
                  </a:prstGeom>
                  <a:solidFill>
                    <a:srgbClr val="663366"/>
                  </a:solidFill>
                  <a:ln w="9360">
                    <a:solidFill>
                      <a:srgbClr val="66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5" name="Oval 595"/>
                  <p:cNvSpPr/>
                  <p:nvPr/>
                </p:nvSpPr>
                <p:spPr>
                  <a:xfrm flipH="1" flipV="1" rot="3727800">
                    <a:off x="3653640" y="2880360"/>
                    <a:ext cx="41760" cy="56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66699"/>
                      </a:gs>
                      <a:gs pos="100000">
                        <a:srgbClr val="424267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6" name="AutoShape 596"/>
                  <p:cNvSpPr/>
                  <p:nvPr/>
                </p:nvSpPr>
                <p:spPr>
                  <a:xfrm flipV="1" rot="3728400">
                    <a:off x="3675240" y="2915280"/>
                    <a:ext cx="19440" cy="19440"/>
                  </a:xfrm>
                  <a:custGeom>
                    <a:avLst/>
                    <a:gdLst>
                      <a:gd name="textAreaLeft" fmla="*/ 11880 w 19440"/>
                      <a:gd name="textAreaRight" fmla="*/ 12600 w 19440"/>
                      <a:gd name="textAreaTop" fmla="*/ 720 h 19440"/>
                      <a:gd name="textAreaBottom" fmla="*/ 18720 h 19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7719" y="2482"/>
                          <a:pt x="13837" y="5080"/>
                          <a:pt x="13837" y="10800"/>
                        </a:cubicBezTo>
                        <a:cubicBezTo>
                          <a:pt x="13837" y="16520"/>
                          <a:pt x="17719" y="19118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7" name="AutoShape 597"/>
                  <p:cNvSpPr/>
                  <p:nvPr/>
                </p:nvSpPr>
                <p:spPr>
                  <a:xfrm flipH="1" flipV="1" rot="3727800">
                    <a:off x="3654720" y="2882160"/>
                    <a:ext cx="19440" cy="19440"/>
                  </a:xfrm>
                  <a:custGeom>
                    <a:avLst/>
                    <a:gdLst>
                      <a:gd name="textAreaLeft" fmla="*/ 11880 w 19440"/>
                      <a:gd name="textAreaRight" fmla="*/ 12600 w 19440"/>
                      <a:gd name="textAreaTop" fmla="*/ 720 h 19440"/>
                      <a:gd name="textAreaBottom" fmla="*/ 18720 h 19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7719" y="2482"/>
                          <a:pt x="13837" y="5080"/>
                          <a:pt x="13837" y="10800"/>
                        </a:cubicBezTo>
                        <a:cubicBezTo>
                          <a:pt x="13837" y="16520"/>
                          <a:pt x="17719" y="19118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8" name="Freeform 598"/>
                  <p:cNvSpPr/>
                  <p:nvPr/>
                </p:nvSpPr>
                <p:spPr>
                  <a:xfrm flipH="1" flipV="1" rot="20406600">
                    <a:off x="3651480" y="2925360"/>
                    <a:ext cx="10800" cy="23400"/>
                  </a:xfrm>
                  <a:custGeom>
                    <a:avLst/>
                    <a:gdLst>
                      <a:gd name="textAreaLeft" fmla="*/ 360 w 10800"/>
                      <a:gd name="textAreaRight" fmla="*/ 11520 w 10800"/>
                      <a:gd name="textAreaTop" fmla="*/ -360 h 23400"/>
                      <a:gd name="textAreaBottom" fmla="*/ 23400 h 23400"/>
                    </a:gdLst>
                    <a:ahLst/>
                    <a:rect l="textAreaLeft" t="textAreaTop" r="textAreaRight" b="textAreaBottom"/>
                    <a:pathLst>
                      <a:path w="90" h="181">
                        <a:moveTo>
                          <a:pt x="45" y="181"/>
                        </a:moveTo>
                        <a:cubicBezTo>
                          <a:pt x="30" y="181"/>
                          <a:pt x="0" y="120"/>
                          <a:pt x="0" y="90"/>
                        </a:cubicBezTo>
                        <a:cubicBezTo>
                          <a:pt x="0" y="60"/>
                          <a:pt x="30" y="0"/>
                          <a:pt x="45" y="0"/>
                        </a:cubicBezTo>
                        <a:cubicBezTo>
                          <a:pt x="60" y="0"/>
                          <a:pt x="90" y="60"/>
                          <a:pt x="90" y="90"/>
                        </a:cubicBezTo>
                        <a:cubicBezTo>
                          <a:pt x="90" y="120"/>
                          <a:pt x="60" y="181"/>
                          <a:pt x="45" y="181"/>
                        </a:cubicBezTo>
                        <a:close/>
                      </a:path>
                    </a:pathLst>
                  </a:custGeom>
                  <a:noFill/>
                  <a:ln w="648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9" name="Freeform 599"/>
                  <p:cNvSpPr/>
                  <p:nvPr/>
                </p:nvSpPr>
                <p:spPr>
                  <a:xfrm flipH="1" flipV="1" rot="21512400">
                    <a:off x="3648960" y="2925360"/>
                    <a:ext cx="10800" cy="23040"/>
                  </a:xfrm>
                  <a:custGeom>
                    <a:avLst/>
                    <a:gdLst>
                      <a:gd name="textAreaLeft" fmla="*/ 360 w 10800"/>
                      <a:gd name="textAreaRight" fmla="*/ 11520 w 10800"/>
                      <a:gd name="textAreaTop" fmla="*/ 360 h 23040"/>
                      <a:gd name="textAreaBottom" fmla="*/ 23760 h 23040"/>
                    </a:gdLst>
                    <a:ahLst/>
                    <a:rect l="textAreaLeft" t="textAreaTop" r="textAreaRight" b="textAreaBottom"/>
                    <a:pathLst>
                      <a:path w="90" h="181">
                        <a:moveTo>
                          <a:pt x="45" y="181"/>
                        </a:moveTo>
                        <a:cubicBezTo>
                          <a:pt x="30" y="181"/>
                          <a:pt x="0" y="120"/>
                          <a:pt x="0" y="90"/>
                        </a:cubicBezTo>
                        <a:cubicBezTo>
                          <a:pt x="0" y="60"/>
                          <a:pt x="30" y="0"/>
                          <a:pt x="45" y="0"/>
                        </a:cubicBezTo>
                        <a:cubicBezTo>
                          <a:pt x="60" y="0"/>
                          <a:pt x="90" y="60"/>
                          <a:pt x="90" y="90"/>
                        </a:cubicBezTo>
                        <a:cubicBezTo>
                          <a:pt x="90" y="120"/>
                          <a:pt x="60" y="181"/>
                          <a:pt x="45" y="181"/>
                        </a:cubicBezTo>
                        <a:close/>
                      </a:path>
                    </a:pathLst>
                  </a:custGeom>
                  <a:noFill/>
                  <a:ln w="648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0" name="Freeform 600"/>
                  <p:cNvSpPr/>
                  <p:nvPr/>
                </p:nvSpPr>
                <p:spPr>
                  <a:xfrm flipH="1" flipV="1" rot="1168200">
                    <a:off x="3644280" y="2926080"/>
                    <a:ext cx="10800" cy="23040"/>
                  </a:xfrm>
                  <a:custGeom>
                    <a:avLst/>
                    <a:gdLst>
                      <a:gd name="textAreaLeft" fmla="*/ 360 w 10800"/>
                      <a:gd name="textAreaRight" fmla="*/ 11520 w 10800"/>
                      <a:gd name="textAreaTop" fmla="*/ 360 h 23040"/>
                      <a:gd name="textAreaBottom" fmla="*/ 23760 h 23040"/>
                    </a:gdLst>
                    <a:ahLst/>
                    <a:rect l="textAreaLeft" t="textAreaTop" r="textAreaRight" b="textAreaBottom"/>
                    <a:pathLst>
                      <a:path w="90" h="181">
                        <a:moveTo>
                          <a:pt x="45" y="181"/>
                        </a:moveTo>
                        <a:cubicBezTo>
                          <a:pt x="30" y="181"/>
                          <a:pt x="0" y="120"/>
                          <a:pt x="0" y="90"/>
                        </a:cubicBezTo>
                        <a:cubicBezTo>
                          <a:pt x="0" y="60"/>
                          <a:pt x="30" y="0"/>
                          <a:pt x="45" y="0"/>
                        </a:cubicBezTo>
                        <a:cubicBezTo>
                          <a:pt x="60" y="0"/>
                          <a:pt x="90" y="60"/>
                          <a:pt x="90" y="90"/>
                        </a:cubicBezTo>
                        <a:cubicBezTo>
                          <a:pt x="90" y="120"/>
                          <a:pt x="60" y="181"/>
                          <a:pt x="45" y="181"/>
                        </a:cubicBezTo>
                        <a:close/>
                      </a:path>
                    </a:pathLst>
                  </a:custGeom>
                  <a:noFill/>
                  <a:ln w="648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1" name="Freeform 601"/>
                  <p:cNvSpPr/>
                  <p:nvPr/>
                </p:nvSpPr>
                <p:spPr>
                  <a:xfrm flipV="1" rot="8649600">
                    <a:off x="3634920" y="2896920"/>
                    <a:ext cx="10800" cy="23040"/>
                  </a:xfrm>
                  <a:custGeom>
                    <a:avLst/>
                    <a:gdLst>
                      <a:gd name="textAreaLeft" fmla="*/ 0 w 10800"/>
                      <a:gd name="textAreaRight" fmla="*/ 11160 w 10800"/>
                      <a:gd name="textAreaTop" fmla="*/ 360 h 23040"/>
                      <a:gd name="textAreaBottom" fmla="*/ 23760 h 23040"/>
                    </a:gdLst>
                    <a:ahLst/>
                    <a:rect l="textAreaLeft" t="textAreaTop" r="textAreaRight" b="textAreaBottom"/>
                    <a:pathLst>
                      <a:path w="90" h="181">
                        <a:moveTo>
                          <a:pt x="45" y="181"/>
                        </a:moveTo>
                        <a:cubicBezTo>
                          <a:pt x="30" y="181"/>
                          <a:pt x="0" y="120"/>
                          <a:pt x="0" y="90"/>
                        </a:cubicBezTo>
                        <a:cubicBezTo>
                          <a:pt x="0" y="60"/>
                          <a:pt x="30" y="0"/>
                          <a:pt x="45" y="0"/>
                        </a:cubicBezTo>
                        <a:cubicBezTo>
                          <a:pt x="60" y="0"/>
                          <a:pt x="90" y="60"/>
                          <a:pt x="90" y="90"/>
                        </a:cubicBezTo>
                        <a:cubicBezTo>
                          <a:pt x="90" y="120"/>
                          <a:pt x="60" y="181"/>
                          <a:pt x="45" y="181"/>
                        </a:cubicBezTo>
                        <a:close/>
                      </a:path>
                    </a:pathLst>
                  </a:custGeom>
                  <a:noFill/>
                  <a:ln w="648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2" name="Freeform 602"/>
                  <p:cNvSpPr/>
                  <p:nvPr/>
                </p:nvSpPr>
                <p:spPr>
                  <a:xfrm flipV="1" rot="7544400">
                    <a:off x="3633120" y="2898000"/>
                    <a:ext cx="9720" cy="24840"/>
                  </a:xfrm>
                  <a:custGeom>
                    <a:avLst/>
                    <a:gdLst>
                      <a:gd name="textAreaLeft" fmla="*/ 0 w 9720"/>
                      <a:gd name="textAreaRight" fmla="*/ 10080 w 9720"/>
                      <a:gd name="textAreaTop" fmla="*/ -360 h 24840"/>
                      <a:gd name="textAreaBottom" fmla="*/ 24840 h 24840"/>
                    </a:gdLst>
                    <a:ahLst/>
                    <a:rect l="textAreaLeft" t="textAreaTop" r="textAreaRight" b="textAreaBottom"/>
                    <a:pathLst>
                      <a:path w="90" h="181">
                        <a:moveTo>
                          <a:pt x="45" y="181"/>
                        </a:moveTo>
                        <a:cubicBezTo>
                          <a:pt x="30" y="181"/>
                          <a:pt x="0" y="120"/>
                          <a:pt x="0" y="90"/>
                        </a:cubicBezTo>
                        <a:cubicBezTo>
                          <a:pt x="0" y="60"/>
                          <a:pt x="30" y="0"/>
                          <a:pt x="45" y="0"/>
                        </a:cubicBezTo>
                        <a:cubicBezTo>
                          <a:pt x="60" y="0"/>
                          <a:pt x="90" y="60"/>
                          <a:pt x="90" y="90"/>
                        </a:cubicBezTo>
                        <a:cubicBezTo>
                          <a:pt x="90" y="120"/>
                          <a:pt x="60" y="181"/>
                          <a:pt x="45" y="181"/>
                        </a:cubicBezTo>
                        <a:close/>
                      </a:path>
                    </a:pathLst>
                  </a:custGeom>
                  <a:noFill/>
                  <a:ln w="648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3" name="Freeform 603"/>
                  <p:cNvSpPr/>
                  <p:nvPr/>
                </p:nvSpPr>
                <p:spPr>
                  <a:xfrm flipV="1" rot="6288000">
                    <a:off x="3631320" y="2901960"/>
                    <a:ext cx="9720" cy="24480"/>
                  </a:xfrm>
                  <a:custGeom>
                    <a:avLst/>
                    <a:gdLst>
                      <a:gd name="textAreaLeft" fmla="*/ 0 w 9720"/>
                      <a:gd name="textAreaRight" fmla="*/ 10080 w 9720"/>
                      <a:gd name="textAreaTop" fmla="*/ 360 h 24480"/>
                      <a:gd name="textAreaBottom" fmla="*/ 25200 h 24480"/>
                    </a:gdLst>
                    <a:ahLst/>
                    <a:rect l="textAreaLeft" t="textAreaTop" r="textAreaRight" b="textAreaBottom"/>
                    <a:pathLst>
                      <a:path w="90" h="181">
                        <a:moveTo>
                          <a:pt x="45" y="181"/>
                        </a:moveTo>
                        <a:cubicBezTo>
                          <a:pt x="30" y="181"/>
                          <a:pt x="0" y="120"/>
                          <a:pt x="0" y="90"/>
                        </a:cubicBezTo>
                        <a:cubicBezTo>
                          <a:pt x="0" y="60"/>
                          <a:pt x="30" y="0"/>
                          <a:pt x="45" y="0"/>
                        </a:cubicBezTo>
                        <a:cubicBezTo>
                          <a:pt x="60" y="0"/>
                          <a:pt x="90" y="60"/>
                          <a:pt x="90" y="90"/>
                        </a:cubicBezTo>
                        <a:cubicBezTo>
                          <a:pt x="90" y="120"/>
                          <a:pt x="60" y="181"/>
                          <a:pt x="45" y="181"/>
                        </a:cubicBezTo>
                        <a:close/>
                      </a:path>
                    </a:pathLst>
                  </a:custGeom>
                  <a:noFill/>
                  <a:ln w="648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4" name="Freeform 604"/>
                  <p:cNvSpPr/>
                  <p:nvPr/>
                </p:nvSpPr>
                <p:spPr>
                  <a:xfrm flipH="1" flipV="1" rot="3727800">
                    <a:off x="3705120" y="2885040"/>
                    <a:ext cx="8280" cy="16920"/>
                  </a:xfrm>
                  <a:custGeom>
                    <a:avLst/>
                    <a:gdLst>
                      <a:gd name="textAreaLeft" fmla="*/ -360 w 8280"/>
                      <a:gd name="textAreaRight" fmla="*/ 8280 w 8280"/>
                      <a:gd name="textAreaTop" fmla="*/ -360 h 16920"/>
                      <a:gd name="textAreaBottom" fmla="*/ 16920 h 16920"/>
                    </a:gdLst>
                    <a:ahLst/>
                    <a:rect l="textAreaLeft" t="textAreaTop" r="textAreaRight" b="textAreaBottom"/>
                    <a:pathLst>
                      <a:path w="36" h="68">
                        <a:moveTo>
                          <a:pt x="9" y="0"/>
                        </a:moveTo>
                        <a:cubicBezTo>
                          <a:pt x="10" y="0"/>
                          <a:pt x="30" y="5"/>
                          <a:pt x="24" y="12"/>
                        </a:cubicBezTo>
                        <a:cubicBezTo>
                          <a:pt x="20" y="17"/>
                          <a:pt x="6" y="18"/>
                          <a:pt x="6" y="18"/>
                        </a:cubicBezTo>
                        <a:cubicBezTo>
                          <a:pt x="8" y="21"/>
                          <a:pt x="9" y="25"/>
                          <a:pt x="12" y="27"/>
                        </a:cubicBezTo>
                        <a:cubicBezTo>
                          <a:pt x="22" y="35"/>
                          <a:pt x="32" y="35"/>
                          <a:pt x="6" y="42"/>
                        </a:cubicBezTo>
                        <a:cubicBezTo>
                          <a:pt x="36" y="52"/>
                          <a:pt x="23" y="55"/>
                          <a:pt x="0" y="60"/>
                        </a:cubicBezTo>
                        <a:cubicBezTo>
                          <a:pt x="13" y="68"/>
                          <a:pt x="8" y="63"/>
                          <a:pt x="21" y="63"/>
                        </a:cubicBezTo>
                      </a:path>
                    </a:pathLst>
                  </a:custGeom>
                  <a:solidFill>
                    <a:srgbClr val="663366"/>
                  </a:solidFill>
                  <a:ln w="9360">
                    <a:solidFill>
                      <a:srgbClr val="66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5" name="Freeform 605"/>
                  <p:cNvSpPr/>
                  <p:nvPr/>
                </p:nvSpPr>
                <p:spPr>
                  <a:xfrm flipH="1" flipV="1" rot="3727800">
                    <a:off x="3702240" y="2881440"/>
                    <a:ext cx="7560" cy="16560"/>
                  </a:xfrm>
                  <a:custGeom>
                    <a:avLst/>
                    <a:gdLst>
                      <a:gd name="textAreaLeft" fmla="*/ -360 w 7560"/>
                      <a:gd name="textAreaRight" fmla="*/ 7560 w 7560"/>
                      <a:gd name="textAreaTop" fmla="*/ 360 h 16560"/>
                      <a:gd name="textAreaBottom" fmla="*/ 17280 h 16560"/>
                    </a:gdLst>
                    <a:ahLst/>
                    <a:rect l="textAreaLeft" t="textAreaTop" r="textAreaRight" b="textAreaBottom"/>
                    <a:pathLst>
                      <a:path w="36" h="68">
                        <a:moveTo>
                          <a:pt x="9" y="0"/>
                        </a:moveTo>
                        <a:cubicBezTo>
                          <a:pt x="10" y="0"/>
                          <a:pt x="30" y="5"/>
                          <a:pt x="24" y="12"/>
                        </a:cubicBezTo>
                        <a:cubicBezTo>
                          <a:pt x="20" y="17"/>
                          <a:pt x="6" y="18"/>
                          <a:pt x="6" y="18"/>
                        </a:cubicBezTo>
                        <a:cubicBezTo>
                          <a:pt x="8" y="21"/>
                          <a:pt x="9" y="25"/>
                          <a:pt x="12" y="27"/>
                        </a:cubicBezTo>
                        <a:cubicBezTo>
                          <a:pt x="22" y="35"/>
                          <a:pt x="32" y="35"/>
                          <a:pt x="6" y="42"/>
                        </a:cubicBezTo>
                        <a:cubicBezTo>
                          <a:pt x="36" y="52"/>
                          <a:pt x="23" y="55"/>
                          <a:pt x="0" y="60"/>
                        </a:cubicBezTo>
                        <a:cubicBezTo>
                          <a:pt x="13" y="68"/>
                          <a:pt x="8" y="63"/>
                          <a:pt x="21" y="63"/>
                        </a:cubicBezTo>
                      </a:path>
                    </a:pathLst>
                  </a:custGeom>
                  <a:solidFill>
                    <a:srgbClr val="663366"/>
                  </a:solidFill>
                  <a:ln w="9360">
                    <a:solidFill>
                      <a:srgbClr val="66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6" name="Oval 606"/>
                  <p:cNvSpPr/>
                  <p:nvPr/>
                </p:nvSpPr>
                <p:spPr>
                  <a:xfrm flipH="1" flipV="1" rot="3727800">
                    <a:off x="3719520" y="2883600"/>
                    <a:ext cx="5040" cy="11520"/>
                  </a:xfrm>
                  <a:prstGeom prst="ellipse">
                    <a:avLst/>
                  </a:prstGeom>
                  <a:solidFill>
                    <a:srgbClr val="663366"/>
                  </a:solidFill>
                  <a:ln w="9360">
                    <a:solidFill>
                      <a:srgbClr val="66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7" name="Oval 607"/>
                  <p:cNvSpPr/>
                  <p:nvPr/>
                </p:nvSpPr>
                <p:spPr>
                  <a:xfrm flipH="1" flipV="1" rot="3727800">
                    <a:off x="3716280" y="2878920"/>
                    <a:ext cx="5400" cy="10800"/>
                  </a:xfrm>
                  <a:prstGeom prst="ellipse">
                    <a:avLst/>
                  </a:prstGeom>
                  <a:solidFill>
                    <a:srgbClr val="663366"/>
                  </a:solidFill>
                  <a:ln w="9360">
                    <a:solidFill>
                      <a:srgbClr val="66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8" name="AutoShape 608"/>
                  <p:cNvSpPr/>
                  <p:nvPr/>
                </p:nvSpPr>
                <p:spPr>
                  <a:xfrm flipH="1" flipV="1">
                    <a:off x="3936240" y="2945880"/>
                    <a:ext cx="20520" cy="18360"/>
                  </a:xfrm>
                  <a:custGeom>
                    <a:avLst/>
                    <a:gdLst>
                      <a:gd name="textAreaLeft" fmla="*/ 12240 w 20520"/>
                      <a:gd name="textAreaRight" fmla="*/ 12960 w 20520"/>
                      <a:gd name="textAreaTop" fmla="*/ 720 h 18360"/>
                      <a:gd name="textAreaBottom" fmla="*/ 17640 h 18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7719" y="2482"/>
                          <a:pt x="13837" y="5080"/>
                          <a:pt x="13837" y="10800"/>
                        </a:cubicBezTo>
                        <a:cubicBezTo>
                          <a:pt x="13837" y="16520"/>
                          <a:pt x="17719" y="19118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9" name="Freeform 609"/>
                  <p:cNvSpPr/>
                  <p:nvPr/>
                </p:nvSpPr>
                <p:spPr>
                  <a:xfrm rot="444000">
                    <a:off x="3764520" y="2805120"/>
                    <a:ext cx="71280" cy="115560"/>
                  </a:xfrm>
                  <a:custGeom>
                    <a:avLst/>
                    <a:gdLst>
                      <a:gd name="textAreaLeft" fmla="*/ 0 w 71280"/>
                      <a:gd name="textAreaRight" fmla="*/ 71640 w 71280"/>
                      <a:gd name="textAreaTop" fmla="*/ 0 h 115560"/>
                      <a:gd name="textAreaBottom" fmla="*/ 115920 h 115560"/>
                    </a:gdLst>
                    <a:ahLst/>
                    <a:rect l="textAreaLeft" t="textAreaTop" r="textAreaRight" b="textAreaBottom"/>
                    <a:pathLst>
                      <a:path w="196" h="430">
                        <a:moveTo>
                          <a:pt x="15" y="60"/>
                        </a:moveTo>
                        <a:cubicBezTo>
                          <a:pt x="30" y="0"/>
                          <a:pt x="76" y="7"/>
                          <a:pt x="106" y="14"/>
                        </a:cubicBezTo>
                        <a:cubicBezTo>
                          <a:pt x="136" y="21"/>
                          <a:pt x="196" y="45"/>
                          <a:pt x="196" y="105"/>
                        </a:cubicBezTo>
                        <a:cubicBezTo>
                          <a:pt x="196" y="165"/>
                          <a:pt x="136" y="332"/>
                          <a:pt x="106" y="377"/>
                        </a:cubicBezTo>
                        <a:cubicBezTo>
                          <a:pt x="76" y="422"/>
                          <a:pt x="30" y="430"/>
                          <a:pt x="15" y="377"/>
                        </a:cubicBezTo>
                        <a:cubicBezTo>
                          <a:pt x="0" y="324"/>
                          <a:pt x="0" y="120"/>
                          <a:pt x="15" y="60"/>
                        </a:cubicBezTo>
                        <a:close/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00" name="Group 526"/>
              <p:cNvGrpSpPr/>
              <p:nvPr/>
            </p:nvGrpSpPr>
            <p:grpSpPr>
              <a:xfrm>
                <a:off x="4141440" y="3332880"/>
                <a:ext cx="338040" cy="352080"/>
                <a:chOff x="4141440" y="3332880"/>
                <a:chExt cx="338040" cy="352080"/>
              </a:xfrm>
            </p:grpSpPr>
            <p:sp>
              <p:nvSpPr>
                <p:cNvPr id="1501" name="Oval 527"/>
                <p:cNvSpPr/>
                <p:nvPr/>
              </p:nvSpPr>
              <p:spPr>
                <a:xfrm flipV="1" rot="21360000">
                  <a:off x="4291920" y="3609360"/>
                  <a:ext cx="45360" cy="52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424267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2" name="AutoShape 528"/>
                <p:cNvSpPr/>
                <p:nvPr/>
              </p:nvSpPr>
              <p:spPr>
                <a:xfrm flipV="1" rot="21360000">
                  <a:off x="4324680" y="3623400"/>
                  <a:ext cx="21240" cy="18360"/>
                </a:xfrm>
                <a:custGeom>
                  <a:avLst/>
                  <a:gdLst>
                    <a:gd name="textAreaLeft" fmla="*/ 12960 w 21240"/>
                    <a:gd name="textAreaRight" fmla="*/ 13680 w 21240"/>
                    <a:gd name="textAreaTop" fmla="*/ 720 h 18360"/>
                    <a:gd name="textAreaBottom" fmla="*/ 17640 h 18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7719" y="2482"/>
                        <a:pt x="13837" y="5080"/>
                        <a:pt x="13837" y="10800"/>
                      </a:cubicBezTo>
                      <a:cubicBezTo>
                        <a:pt x="13837" y="16520"/>
                        <a:pt x="17719" y="1911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3" name="Freeform 529"/>
                <p:cNvSpPr/>
                <p:nvPr/>
              </p:nvSpPr>
              <p:spPr>
                <a:xfrm flipV="1" rot="297000">
                  <a:off x="4305600" y="3660120"/>
                  <a:ext cx="10440" cy="23040"/>
                </a:xfrm>
                <a:custGeom>
                  <a:avLst/>
                  <a:gdLst>
                    <a:gd name="textAreaLeft" fmla="*/ 0 w 10440"/>
                    <a:gd name="textAreaRight" fmla="*/ 10800 w 10440"/>
                    <a:gd name="textAreaTop" fmla="*/ 360 h 23040"/>
                    <a:gd name="textAreaBottom" fmla="*/ 23760 h 2304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4" name="Freeform 530"/>
                <p:cNvSpPr/>
                <p:nvPr/>
              </p:nvSpPr>
              <p:spPr>
                <a:xfrm flipV="1" rot="20640600">
                  <a:off x="4309200" y="3659760"/>
                  <a:ext cx="10800" cy="23400"/>
                </a:xfrm>
                <a:custGeom>
                  <a:avLst/>
                  <a:gdLst>
                    <a:gd name="textAreaLeft" fmla="*/ 0 w 10800"/>
                    <a:gd name="textAreaRight" fmla="*/ 11160 w 10800"/>
                    <a:gd name="textAreaTop" fmla="*/ -360 h 23400"/>
                    <a:gd name="textAreaBottom" fmla="*/ 23400 h 2340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5" name="Freeform 531"/>
                <p:cNvSpPr/>
                <p:nvPr/>
              </p:nvSpPr>
              <p:spPr>
                <a:xfrm flipH="1" flipV="1" rot="16437600">
                  <a:off x="4327200" y="3649320"/>
                  <a:ext cx="9720" cy="24840"/>
                </a:xfrm>
                <a:custGeom>
                  <a:avLst/>
                  <a:gdLst>
                    <a:gd name="textAreaLeft" fmla="*/ -360 w 9720"/>
                    <a:gd name="textAreaRight" fmla="*/ 9720 w 9720"/>
                    <a:gd name="textAreaTop" fmla="*/ -360 h 24840"/>
                    <a:gd name="textAreaBottom" fmla="*/ 24840 h 2484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6" name="Freeform 532"/>
                <p:cNvSpPr/>
                <p:nvPr/>
              </p:nvSpPr>
              <p:spPr>
                <a:xfrm flipH="1" flipV="1" rot="17543400">
                  <a:off x="4327920" y="3651120"/>
                  <a:ext cx="9720" cy="24840"/>
                </a:xfrm>
                <a:custGeom>
                  <a:avLst/>
                  <a:gdLst>
                    <a:gd name="textAreaLeft" fmla="*/ -360 w 9720"/>
                    <a:gd name="textAreaRight" fmla="*/ 9720 w 9720"/>
                    <a:gd name="textAreaTop" fmla="*/ -360 h 24840"/>
                    <a:gd name="textAreaBottom" fmla="*/ 24840 h 2484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7" name="Freeform 533"/>
                <p:cNvSpPr/>
                <p:nvPr/>
              </p:nvSpPr>
              <p:spPr>
                <a:xfrm flipH="1" flipV="1" rot="18799800">
                  <a:off x="4324320" y="3655440"/>
                  <a:ext cx="10080" cy="24840"/>
                </a:xfrm>
                <a:custGeom>
                  <a:avLst/>
                  <a:gdLst>
                    <a:gd name="textAreaLeft" fmla="*/ 360 w 10080"/>
                    <a:gd name="textAreaRight" fmla="*/ 10800 w 10080"/>
                    <a:gd name="textAreaTop" fmla="*/ -360 h 24840"/>
                    <a:gd name="textAreaBottom" fmla="*/ 24840 h 2484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8" name="Freeform 534"/>
                <p:cNvSpPr/>
                <p:nvPr/>
              </p:nvSpPr>
              <p:spPr>
                <a:xfrm flipV="1" rot="21360000">
                  <a:off x="4305960" y="3591720"/>
                  <a:ext cx="9000" cy="15480"/>
                </a:xfrm>
                <a:custGeom>
                  <a:avLst/>
                  <a:gdLst>
                    <a:gd name="textAreaLeft" fmla="*/ 0 w 9000"/>
                    <a:gd name="textAreaRight" fmla="*/ 9360 w 9000"/>
                    <a:gd name="textAreaTop" fmla="*/ -360 h 15480"/>
                    <a:gd name="textAreaBottom" fmla="*/ 15480 h 15480"/>
                  </a:gdLst>
                  <a:ahLst/>
                  <a:rect l="textAreaLeft" t="textAreaTop" r="textAreaRight" b="textAreaBottom"/>
                  <a:pathLst>
                    <a:path w="36" h="68">
                      <a:moveTo>
                        <a:pt x="9" y="0"/>
                      </a:moveTo>
                      <a:cubicBezTo>
                        <a:pt x="10" y="0"/>
                        <a:pt x="30" y="5"/>
                        <a:pt x="24" y="12"/>
                      </a:cubicBezTo>
                      <a:cubicBezTo>
                        <a:pt x="20" y="17"/>
                        <a:pt x="6" y="18"/>
                        <a:pt x="6" y="18"/>
                      </a:cubicBezTo>
                      <a:cubicBezTo>
                        <a:pt x="8" y="21"/>
                        <a:pt x="9" y="25"/>
                        <a:pt x="12" y="27"/>
                      </a:cubicBezTo>
                      <a:cubicBezTo>
                        <a:pt x="22" y="35"/>
                        <a:pt x="32" y="35"/>
                        <a:pt x="6" y="42"/>
                      </a:cubicBezTo>
                      <a:cubicBezTo>
                        <a:pt x="36" y="52"/>
                        <a:pt x="23" y="55"/>
                        <a:pt x="0" y="60"/>
                      </a:cubicBezTo>
                      <a:cubicBezTo>
                        <a:pt x="13" y="68"/>
                        <a:pt x="8" y="63"/>
                        <a:pt x="21" y="63"/>
                      </a:cubicBezTo>
                    </a:path>
                  </a:pathLst>
                </a:custGeom>
                <a:noFill/>
                <a:ln w="9360">
                  <a:solidFill>
                    <a:srgbClr val="66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9" name="Freeform 535"/>
                <p:cNvSpPr/>
                <p:nvPr/>
              </p:nvSpPr>
              <p:spPr>
                <a:xfrm flipV="1" rot="21360000">
                  <a:off x="4311360" y="3591000"/>
                  <a:ext cx="9000" cy="15480"/>
                </a:xfrm>
                <a:custGeom>
                  <a:avLst/>
                  <a:gdLst>
                    <a:gd name="textAreaLeft" fmla="*/ 0 w 9000"/>
                    <a:gd name="textAreaRight" fmla="*/ 9360 w 9000"/>
                    <a:gd name="textAreaTop" fmla="*/ -360 h 15480"/>
                    <a:gd name="textAreaBottom" fmla="*/ 15480 h 15480"/>
                  </a:gdLst>
                  <a:ahLst/>
                  <a:rect l="textAreaLeft" t="textAreaTop" r="textAreaRight" b="textAreaBottom"/>
                  <a:pathLst>
                    <a:path w="36" h="68">
                      <a:moveTo>
                        <a:pt x="9" y="0"/>
                      </a:moveTo>
                      <a:cubicBezTo>
                        <a:pt x="10" y="0"/>
                        <a:pt x="30" y="5"/>
                        <a:pt x="24" y="12"/>
                      </a:cubicBezTo>
                      <a:cubicBezTo>
                        <a:pt x="20" y="17"/>
                        <a:pt x="6" y="18"/>
                        <a:pt x="6" y="18"/>
                      </a:cubicBezTo>
                      <a:cubicBezTo>
                        <a:pt x="8" y="21"/>
                        <a:pt x="9" y="25"/>
                        <a:pt x="12" y="27"/>
                      </a:cubicBezTo>
                      <a:cubicBezTo>
                        <a:pt x="22" y="35"/>
                        <a:pt x="32" y="35"/>
                        <a:pt x="6" y="42"/>
                      </a:cubicBezTo>
                      <a:cubicBezTo>
                        <a:pt x="36" y="52"/>
                        <a:pt x="23" y="55"/>
                        <a:pt x="0" y="60"/>
                      </a:cubicBezTo>
                      <a:cubicBezTo>
                        <a:pt x="13" y="68"/>
                        <a:pt x="8" y="63"/>
                        <a:pt x="21" y="63"/>
                      </a:cubicBezTo>
                    </a:path>
                  </a:pathLst>
                </a:custGeom>
                <a:noFill/>
                <a:ln w="9360">
                  <a:solidFill>
                    <a:srgbClr val="66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0" name="Oval 536"/>
                <p:cNvSpPr/>
                <p:nvPr/>
              </p:nvSpPr>
              <p:spPr>
                <a:xfrm flipV="1" rot="21360000">
                  <a:off x="4305960" y="3582360"/>
                  <a:ext cx="5400" cy="10440"/>
                </a:xfrm>
                <a:prstGeom prst="ellipse">
                  <a:avLst/>
                </a:prstGeom>
                <a:solidFill>
                  <a:srgbClr val="663366"/>
                </a:solidFill>
                <a:ln w="9360">
                  <a:solidFill>
                    <a:srgbClr val="66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1" name="Oval 537"/>
                <p:cNvSpPr/>
                <p:nvPr/>
              </p:nvSpPr>
              <p:spPr>
                <a:xfrm flipV="1" rot="21360000">
                  <a:off x="4311000" y="3581280"/>
                  <a:ext cx="5760" cy="10440"/>
                </a:xfrm>
                <a:prstGeom prst="ellipse">
                  <a:avLst/>
                </a:prstGeom>
                <a:solidFill>
                  <a:srgbClr val="663366"/>
                </a:solidFill>
                <a:ln w="9360">
                  <a:solidFill>
                    <a:srgbClr val="66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2" name="Freeform 538"/>
                <p:cNvSpPr/>
                <p:nvPr/>
              </p:nvSpPr>
              <p:spPr>
                <a:xfrm flipV="1" rot="1402800">
                  <a:off x="4302720" y="3660120"/>
                  <a:ext cx="10800" cy="23040"/>
                </a:xfrm>
                <a:custGeom>
                  <a:avLst/>
                  <a:gdLst>
                    <a:gd name="textAreaLeft" fmla="*/ 0 w 10800"/>
                    <a:gd name="textAreaRight" fmla="*/ 11160 w 10800"/>
                    <a:gd name="textAreaTop" fmla="*/ 360 h 23040"/>
                    <a:gd name="textAreaBottom" fmla="*/ 23760 h 2304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3" name="Oval 539"/>
                <p:cNvSpPr/>
                <p:nvPr/>
              </p:nvSpPr>
              <p:spPr>
                <a:xfrm rot="720000">
                  <a:off x="4288320" y="3628440"/>
                  <a:ext cx="16560" cy="15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14" name="Group 540"/>
                <p:cNvGrpSpPr/>
                <p:nvPr/>
              </p:nvGrpSpPr>
              <p:grpSpPr>
                <a:xfrm>
                  <a:off x="4141440" y="3332880"/>
                  <a:ext cx="338040" cy="289440"/>
                  <a:chOff x="4141440" y="3332880"/>
                  <a:chExt cx="338040" cy="289440"/>
                </a:xfrm>
              </p:grpSpPr>
              <p:sp>
                <p:nvSpPr>
                  <p:cNvPr id="1515" name="Oval 541"/>
                  <p:cNvSpPr/>
                  <p:nvPr/>
                </p:nvSpPr>
                <p:spPr>
                  <a:xfrm>
                    <a:off x="4209840" y="3405600"/>
                    <a:ext cx="216000" cy="201240"/>
                  </a:xfrm>
                  <a:prstGeom prst="ellipse">
                    <a:avLst/>
                  </a:prstGeom>
                  <a:solidFill>
                    <a:srgbClr val="666699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6" name="Oval 542"/>
                  <p:cNvSpPr/>
                  <p:nvPr/>
                </p:nvSpPr>
                <p:spPr>
                  <a:xfrm>
                    <a:off x="4227840" y="3422160"/>
                    <a:ext cx="180000" cy="167760"/>
                  </a:xfrm>
                  <a:prstGeom prst="ellipse">
                    <a:avLst/>
                  </a:prstGeom>
                  <a:solidFill>
                    <a:srgbClr val="666699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7" name="Oval 543"/>
                  <p:cNvSpPr/>
                  <p:nvPr/>
                </p:nvSpPr>
                <p:spPr>
                  <a:xfrm>
                    <a:off x="4294800" y="3353040"/>
                    <a:ext cx="45000" cy="52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66699"/>
                      </a:gs>
                      <a:gs pos="100000">
                        <a:srgbClr val="424267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8" name="AutoShape 544"/>
                  <p:cNvSpPr/>
                  <p:nvPr/>
                </p:nvSpPr>
                <p:spPr>
                  <a:xfrm flipH="1">
                    <a:off x="4286520" y="3370320"/>
                    <a:ext cx="20880" cy="18360"/>
                  </a:xfrm>
                  <a:custGeom>
                    <a:avLst/>
                    <a:gdLst>
                      <a:gd name="textAreaLeft" fmla="*/ 13320 w 20880"/>
                      <a:gd name="textAreaRight" fmla="*/ 13680 w 20880"/>
                      <a:gd name="textAreaTop" fmla="*/ 720 h 18360"/>
                      <a:gd name="textAreaBottom" fmla="*/ 17640 h 18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7719" y="2482"/>
                          <a:pt x="13837" y="5080"/>
                          <a:pt x="13837" y="10800"/>
                        </a:cubicBezTo>
                        <a:cubicBezTo>
                          <a:pt x="13837" y="16520"/>
                          <a:pt x="17719" y="19118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9" name="AutoShape 545"/>
                  <p:cNvSpPr/>
                  <p:nvPr/>
                </p:nvSpPr>
                <p:spPr>
                  <a:xfrm>
                    <a:off x="4327200" y="3370320"/>
                    <a:ext cx="20880" cy="18360"/>
                  </a:xfrm>
                  <a:custGeom>
                    <a:avLst/>
                    <a:gdLst>
                      <a:gd name="textAreaLeft" fmla="*/ 12960 w 20880"/>
                      <a:gd name="textAreaRight" fmla="*/ 13320 w 20880"/>
                      <a:gd name="textAreaTop" fmla="*/ 720 h 18360"/>
                      <a:gd name="textAreaBottom" fmla="*/ 17640 h 18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7719" y="2482"/>
                          <a:pt x="13837" y="5080"/>
                          <a:pt x="13837" y="10800"/>
                        </a:cubicBezTo>
                        <a:cubicBezTo>
                          <a:pt x="13837" y="16520"/>
                          <a:pt x="17719" y="19118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0" name="Freeform 546"/>
                  <p:cNvSpPr/>
                  <p:nvPr/>
                </p:nvSpPr>
                <p:spPr>
                  <a:xfrm rot="16677600">
                    <a:off x="4293360" y="3337920"/>
                    <a:ext cx="10440" cy="24840"/>
                  </a:xfrm>
                  <a:custGeom>
                    <a:avLst/>
                    <a:gdLst>
                      <a:gd name="textAreaLeft" fmla="*/ 0 w 10440"/>
                      <a:gd name="textAreaRight" fmla="*/ 10800 w 10440"/>
                      <a:gd name="textAreaTop" fmla="*/ 0 h 24840"/>
                      <a:gd name="textAreaBottom" fmla="*/ 25200 h 24840"/>
                    </a:gdLst>
                    <a:ahLst/>
                    <a:rect l="textAreaLeft" t="textAreaTop" r="textAreaRight" b="textAreaBottom"/>
                    <a:pathLst>
                      <a:path w="90" h="181">
                        <a:moveTo>
                          <a:pt x="45" y="181"/>
                        </a:moveTo>
                        <a:cubicBezTo>
                          <a:pt x="30" y="181"/>
                          <a:pt x="0" y="120"/>
                          <a:pt x="0" y="90"/>
                        </a:cubicBezTo>
                        <a:cubicBezTo>
                          <a:pt x="0" y="60"/>
                          <a:pt x="30" y="0"/>
                          <a:pt x="45" y="0"/>
                        </a:cubicBezTo>
                        <a:cubicBezTo>
                          <a:pt x="60" y="0"/>
                          <a:pt x="90" y="60"/>
                          <a:pt x="90" y="90"/>
                        </a:cubicBezTo>
                        <a:cubicBezTo>
                          <a:pt x="90" y="120"/>
                          <a:pt x="60" y="181"/>
                          <a:pt x="45" y="181"/>
                        </a:cubicBezTo>
                        <a:close/>
                      </a:path>
                    </a:pathLst>
                  </a:custGeom>
                  <a:noFill/>
                  <a:ln w="648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1" name="Freeform 547"/>
                  <p:cNvSpPr/>
                  <p:nvPr/>
                </p:nvSpPr>
                <p:spPr>
                  <a:xfrm rot="17784000">
                    <a:off x="4294800" y="3335400"/>
                    <a:ext cx="9720" cy="24840"/>
                  </a:xfrm>
                  <a:custGeom>
                    <a:avLst/>
                    <a:gdLst>
                      <a:gd name="textAreaLeft" fmla="*/ 0 w 9720"/>
                      <a:gd name="textAreaRight" fmla="*/ 10080 w 9720"/>
                      <a:gd name="textAreaTop" fmla="*/ 0 h 24840"/>
                      <a:gd name="textAreaBottom" fmla="*/ 25200 h 24840"/>
                    </a:gdLst>
                    <a:ahLst/>
                    <a:rect l="textAreaLeft" t="textAreaTop" r="textAreaRight" b="textAreaBottom"/>
                    <a:pathLst>
                      <a:path w="90" h="181">
                        <a:moveTo>
                          <a:pt x="45" y="181"/>
                        </a:moveTo>
                        <a:cubicBezTo>
                          <a:pt x="30" y="181"/>
                          <a:pt x="0" y="120"/>
                          <a:pt x="0" y="90"/>
                        </a:cubicBezTo>
                        <a:cubicBezTo>
                          <a:pt x="0" y="60"/>
                          <a:pt x="30" y="0"/>
                          <a:pt x="45" y="0"/>
                        </a:cubicBezTo>
                        <a:cubicBezTo>
                          <a:pt x="60" y="0"/>
                          <a:pt x="90" y="60"/>
                          <a:pt x="90" y="90"/>
                        </a:cubicBezTo>
                        <a:cubicBezTo>
                          <a:pt x="90" y="120"/>
                          <a:pt x="60" y="181"/>
                          <a:pt x="45" y="181"/>
                        </a:cubicBezTo>
                        <a:close/>
                      </a:path>
                    </a:pathLst>
                  </a:custGeom>
                  <a:noFill/>
                  <a:ln w="648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2" name="Freeform 548"/>
                  <p:cNvSpPr/>
                  <p:nvPr/>
                </p:nvSpPr>
                <p:spPr>
                  <a:xfrm rot="19039800">
                    <a:off x="4296600" y="3333600"/>
                    <a:ext cx="10800" cy="23040"/>
                  </a:xfrm>
                  <a:custGeom>
                    <a:avLst/>
                    <a:gdLst>
                      <a:gd name="textAreaLeft" fmla="*/ 0 w 10800"/>
                      <a:gd name="textAreaRight" fmla="*/ 11160 w 108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90" h="181">
                        <a:moveTo>
                          <a:pt x="45" y="181"/>
                        </a:moveTo>
                        <a:cubicBezTo>
                          <a:pt x="30" y="181"/>
                          <a:pt x="0" y="120"/>
                          <a:pt x="0" y="90"/>
                        </a:cubicBezTo>
                        <a:cubicBezTo>
                          <a:pt x="0" y="60"/>
                          <a:pt x="30" y="0"/>
                          <a:pt x="45" y="0"/>
                        </a:cubicBezTo>
                        <a:cubicBezTo>
                          <a:pt x="60" y="0"/>
                          <a:pt x="90" y="60"/>
                          <a:pt x="90" y="90"/>
                        </a:cubicBezTo>
                        <a:cubicBezTo>
                          <a:pt x="90" y="120"/>
                          <a:pt x="60" y="181"/>
                          <a:pt x="45" y="181"/>
                        </a:cubicBezTo>
                        <a:close/>
                      </a:path>
                    </a:pathLst>
                  </a:custGeom>
                  <a:noFill/>
                  <a:ln w="648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3" name="Freeform 549"/>
                  <p:cNvSpPr/>
                  <p:nvPr/>
                </p:nvSpPr>
                <p:spPr>
                  <a:xfrm flipH="1" rot="4922400">
                    <a:off x="4327200" y="3338280"/>
                    <a:ext cx="10440" cy="24480"/>
                  </a:xfrm>
                  <a:custGeom>
                    <a:avLst/>
                    <a:gdLst>
                      <a:gd name="textAreaLeft" fmla="*/ -360 w 10440"/>
                      <a:gd name="textAreaRight" fmla="*/ 10440 w 1044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90" h="181">
                        <a:moveTo>
                          <a:pt x="45" y="181"/>
                        </a:moveTo>
                        <a:cubicBezTo>
                          <a:pt x="30" y="181"/>
                          <a:pt x="0" y="120"/>
                          <a:pt x="0" y="90"/>
                        </a:cubicBezTo>
                        <a:cubicBezTo>
                          <a:pt x="0" y="60"/>
                          <a:pt x="30" y="0"/>
                          <a:pt x="45" y="0"/>
                        </a:cubicBezTo>
                        <a:cubicBezTo>
                          <a:pt x="60" y="0"/>
                          <a:pt x="90" y="60"/>
                          <a:pt x="90" y="90"/>
                        </a:cubicBezTo>
                        <a:cubicBezTo>
                          <a:pt x="90" y="120"/>
                          <a:pt x="60" y="181"/>
                          <a:pt x="45" y="181"/>
                        </a:cubicBezTo>
                        <a:close/>
                      </a:path>
                    </a:pathLst>
                  </a:custGeom>
                  <a:noFill/>
                  <a:ln w="648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4" name="Freeform 550"/>
                  <p:cNvSpPr/>
                  <p:nvPr/>
                </p:nvSpPr>
                <p:spPr>
                  <a:xfrm flipH="1" rot="3816000">
                    <a:off x="4326840" y="3335760"/>
                    <a:ext cx="9720" cy="24480"/>
                  </a:xfrm>
                  <a:custGeom>
                    <a:avLst/>
                    <a:gdLst>
                      <a:gd name="textAreaLeft" fmla="*/ -360 w 9720"/>
                      <a:gd name="textAreaRight" fmla="*/ 9720 w 97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90" h="181">
                        <a:moveTo>
                          <a:pt x="45" y="181"/>
                        </a:moveTo>
                        <a:cubicBezTo>
                          <a:pt x="30" y="181"/>
                          <a:pt x="0" y="120"/>
                          <a:pt x="0" y="90"/>
                        </a:cubicBezTo>
                        <a:cubicBezTo>
                          <a:pt x="0" y="60"/>
                          <a:pt x="30" y="0"/>
                          <a:pt x="45" y="0"/>
                        </a:cubicBezTo>
                        <a:cubicBezTo>
                          <a:pt x="60" y="0"/>
                          <a:pt x="90" y="60"/>
                          <a:pt x="90" y="90"/>
                        </a:cubicBezTo>
                        <a:cubicBezTo>
                          <a:pt x="90" y="120"/>
                          <a:pt x="60" y="181"/>
                          <a:pt x="45" y="181"/>
                        </a:cubicBezTo>
                        <a:close/>
                      </a:path>
                    </a:pathLst>
                  </a:custGeom>
                  <a:noFill/>
                  <a:ln w="648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5" name="Freeform 551"/>
                  <p:cNvSpPr/>
                  <p:nvPr/>
                </p:nvSpPr>
                <p:spPr>
                  <a:xfrm flipH="1" rot="2560200">
                    <a:off x="4323960" y="3333240"/>
                    <a:ext cx="10440" cy="23040"/>
                  </a:xfrm>
                  <a:custGeom>
                    <a:avLst/>
                    <a:gdLst>
                      <a:gd name="textAreaLeft" fmla="*/ -360 w 10440"/>
                      <a:gd name="textAreaRight" fmla="*/ 10440 w 1044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90" h="181">
                        <a:moveTo>
                          <a:pt x="45" y="181"/>
                        </a:moveTo>
                        <a:cubicBezTo>
                          <a:pt x="30" y="181"/>
                          <a:pt x="0" y="120"/>
                          <a:pt x="0" y="90"/>
                        </a:cubicBezTo>
                        <a:cubicBezTo>
                          <a:pt x="0" y="60"/>
                          <a:pt x="30" y="0"/>
                          <a:pt x="45" y="0"/>
                        </a:cubicBezTo>
                        <a:cubicBezTo>
                          <a:pt x="60" y="0"/>
                          <a:pt x="90" y="60"/>
                          <a:pt x="90" y="90"/>
                        </a:cubicBezTo>
                        <a:cubicBezTo>
                          <a:pt x="90" y="120"/>
                          <a:pt x="60" y="181"/>
                          <a:pt x="45" y="181"/>
                        </a:cubicBezTo>
                        <a:close/>
                      </a:path>
                    </a:pathLst>
                  </a:custGeom>
                  <a:noFill/>
                  <a:ln w="648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6" name="Freeform 552"/>
                  <p:cNvSpPr/>
                  <p:nvPr/>
                </p:nvSpPr>
                <p:spPr>
                  <a:xfrm>
                    <a:off x="4311360" y="3406680"/>
                    <a:ext cx="8640" cy="15840"/>
                  </a:xfrm>
                  <a:custGeom>
                    <a:avLst/>
                    <a:gdLst>
                      <a:gd name="textAreaLeft" fmla="*/ 0 w 8640"/>
                      <a:gd name="textAreaRight" fmla="*/ 9000 w 8640"/>
                      <a:gd name="textAreaTop" fmla="*/ 0 h 15840"/>
                      <a:gd name="textAreaBottom" fmla="*/ 16200 h 15840"/>
                    </a:gdLst>
                    <a:ahLst/>
                    <a:rect l="textAreaLeft" t="textAreaTop" r="textAreaRight" b="textAreaBottom"/>
                    <a:pathLst>
                      <a:path w="36" h="68">
                        <a:moveTo>
                          <a:pt x="9" y="0"/>
                        </a:moveTo>
                        <a:cubicBezTo>
                          <a:pt x="10" y="0"/>
                          <a:pt x="30" y="5"/>
                          <a:pt x="24" y="12"/>
                        </a:cubicBezTo>
                        <a:cubicBezTo>
                          <a:pt x="20" y="17"/>
                          <a:pt x="6" y="18"/>
                          <a:pt x="6" y="18"/>
                        </a:cubicBezTo>
                        <a:cubicBezTo>
                          <a:pt x="8" y="21"/>
                          <a:pt x="9" y="25"/>
                          <a:pt x="12" y="27"/>
                        </a:cubicBezTo>
                        <a:cubicBezTo>
                          <a:pt x="22" y="35"/>
                          <a:pt x="32" y="35"/>
                          <a:pt x="6" y="42"/>
                        </a:cubicBezTo>
                        <a:cubicBezTo>
                          <a:pt x="36" y="52"/>
                          <a:pt x="23" y="55"/>
                          <a:pt x="0" y="60"/>
                        </a:cubicBezTo>
                        <a:cubicBezTo>
                          <a:pt x="13" y="68"/>
                          <a:pt x="8" y="63"/>
                          <a:pt x="21" y="63"/>
                        </a:cubicBezTo>
                      </a:path>
                    </a:pathLst>
                  </a:custGeom>
                  <a:solidFill>
                    <a:srgbClr val="663366"/>
                  </a:solidFill>
                  <a:ln w="9360">
                    <a:solidFill>
                      <a:srgbClr val="66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7" name="Freeform 553"/>
                  <p:cNvSpPr/>
                  <p:nvPr/>
                </p:nvSpPr>
                <p:spPr>
                  <a:xfrm>
                    <a:off x="4316760" y="3407040"/>
                    <a:ext cx="8640" cy="15480"/>
                  </a:xfrm>
                  <a:custGeom>
                    <a:avLst/>
                    <a:gdLst>
                      <a:gd name="textAreaLeft" fmla="*/ 0 w 8640"/>
                      <a:gd name="textAreaRight" fmla="*/ 9000 w 864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36" h="68">
                        <a:moveTo>
                          <a:pt x="9" y="0"/>
                        </a:moveTo>
                        <a:cubicBezTo>
                          <a:pt x="10" y="0"/>
                          <a:pt x="30" y="5"/>
                          <a:pt x="24" y="12"/>
                        </a:cubicBezTo>
                        <a:cubicBezTo>
                          <a:pt x="20" y="17"/>
                          <a:pt x="6" y="18"/>
                          <a:pt x="6" y="18"/>
                        </a:cubicBezTo>
                        <a:cubicBezTo>
                          <a:pt x="8" y="21"/>
                          <a:pt x="9" y="25"/>
                          <a:pt x="12" y="27"/>
                        </a:cubicBezTo>
                        <a:cubicBezTo>
                          <a:pt x="22" y="35"/>
                          <a:pt x="32" y="35"/>
                          <a:pt x="6" y="42"/>
                        </a:cubicBezTo>
                        <a:cubicBezTo>
                          <a:pt x="36" y="52"/>
                          <a:pt x="23" y="55"/>
                          <a:pt x="0" y="60"/>
                        </a:cubicBezTo>
                        <a:cubicBezTo>
                          <a:pt x="13" y="68"/>
                          <a:pt x="8" y="63"/>
                          <a:pt x="21" y="63"/>
                        </a:cubicBezTo>
                      </a:path>
                    </a:pathLst>
                  </a:custGeom>
                  <a:solidFill>
                    <a:srgbClr val="663366"/>
                  </a:solidFill>
                  <a:ln w="9360">
                    <a:solidFill>
                      <a:srgbClr val="66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8" name="Oval 554"/>
                  <p:cNvSpPr/>
                  <p:nvPr/>
                </p:nvSpPr>
                <p:spPr>
                  <a:xfrm>
                    <a:off x="4312080" y="3422520"/>
                    <a:ext cx="5400" cy="10440"/>
                  </a:xfrm>
                  <a:prstGeom prst="ellipse">
                    <a:avLst/>
                  </a:prstGeom>
                  <a:solidFill>
                    <a:srgbClr val="663366"/>
                  </a:solidFill>
                  <a:ln w="9360">
                    <a:solidFill>
                      <a:srgbClr val="66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9" name="Oval 555"/>
                  <p:cNvSpPr/>
                  <p:nvPr/>
                </p:nvSpPr>
                <p:spPr>
                  <a:xfrm>
                    <a:off x="4317120" y="3422880"/>
                    <a:ext cx="5400" cy="10440"/>
                  </a:xfrm>
                  <a:prstGeom prst="ellipse">
                    <a:avLst/>
                  </a:prstGeom>
                  <a:solidFill>
                    <a:srgbClr val="663366"/>
                  </a:solidFill>
                  <a:ln w="9360">
                    <a:solidFill>
                      <a:srgbClr val="66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0" name="Oval 556"/>
                  <p:cNvSpPr/>
                  <p:nvPr/>
                </p:nvSpPr>
                <p:spPr>
                  <a:xfrm rot="3348000">
                    <a:off x="4408920" y="3407040"/>
                    <a:ext cx="41760" cy="56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66699"/>
                      </a:gs>
                      <a:gs pos="100000">
                        <a:srgbClr val="424267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1" name="AutoShape 557"/>
                  <p:cNvSpPr/>
                  <p:nvPr/>
                </p:nvSpPr>
                <p:spPr>
                  <a:xfrm flipH="1" rot="3348000">
                    <a:off x="4407840" y="3409920"/>
                    <a:ext cx="19800" cy="19440"/>
                  </a:xfrm>
                  <a:custGeom>
                    <a:avLst/>
                    <a:gdLst>
                      <a:gd name="textAreaLeft" fmla="*/ 12240 w 19800"/>
                      <a:gd name="textAreaRight" fmla="*/ 12600 w 19800"/>
                      <a:gd name="textAreaTop" fmla="*/ 720 h 19440"/>
                      <a:gd name="textAreaBottom" fmla="*/ 18720 h 19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7719" y="2482"/>
                          <a:pt x="13837" y="5080"/>
                          <a:pt x="13837" y="10800"/>
                        </a:cubicBezTo>
                        <a:cubicBezTo>
                          <a:pt x="13837" y="16520"/>
                          <a:pt x="17719" y="19118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2" name="AutoShape 558"/>
                  <p:cNvSpPr/>
                  <p:nvPr/>
                </p:nvSpPr>
                <p:spPr>
                  <a:xfrm rot="3348000">
                    <a:off x="4430880" y="3441240"/>
                    <a:ext cx="19440" cy="19440"/>
                  </a:xfrm>
                  <a:custGeom>
                    <a:avLst/>
                    <a:gdLst>
                      <a:gd name="textAreaLeft" fmla="*/ 11880 w 19440"/>
                      <a:gd name="textAreaRight" fmla="*/ 12600 w 19440"/>
                      <a:gd name="textAreaTop" fmla="*/ 720 h 19440"/>
                      <a:gd name="textAreaBottom" fmla="*/ 18720 h 19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7719" y="2482"/>
                          <a:pt x="13837" y="5080"/>
                          <a:pt x="13837" y="10800"/>
                        </a:cubicBezTo>
                        <a:cubicBezTo>
                          <a:pt x="13837" y="16520"/>
                          <a:pt x="17719" y="19118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3" name="Freeform 559"/>
                  <p:cNvSpPr/>
                  <p:nvPr/>
                </p:nvSpPr>
                <p:spPr>
                  <a:xfrm rot="20025600">
                    <a:off x="4438440" y="3393720"/>
                    <a:ext cx="10800" cy="23040"/>
                  </a:xfrm>
                  <a:custGeom>
                    <a:avLst/>
                    <a:gdLst>
                      <a:gd name="textAreaLeft" fmla="*/ 0 w 10800"/>
                      <a:gd name="textAreaRight" fmla="*/ 11160 w 108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90" h="181">
                        <a:moveTo>
                          <a:pt x="45" y="181"/>
                        </a:moveTo>
                        <a:cubicBezTo>
                          <a:pt x="30" y="181"/>
                          <a:pt x="0" y="120"/>
                          <a:pt x="0" y="90"/>
                        </a:cubicBezTo>
                        <a:cubicBezTo>
                          <a:pt x="0" y="60"/>
                          <a:pt x="30" y="0"/>
                          <a:pt x="45" y="0"/>
                        </a:cubicBezTo>
                        <a:cubicBezTo>
                          <a:pt x="60" y="0"/>
                          <a:pt x="90" y="60"/>
                          <a:pt x="90" y="90"/>
                        </a:cubicBezTo>
                        <a:cubicBezTo>
                          <a:pt x="90" y="120"/>
                          <a:pt x="60" y="181"/>
                          <a:pt x="45" y="181"/>
                        </a:cubicBezTo>
                        <a:close/>
                      </a:path>
                    </a:pathLst>
                  </a:custGeom>
                  <a:noFill/>
                  <a:ln w="648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4" name="Freeform 560"/>
                  <p:cNvSpPr/>
                  <p:nvPr/>
                </p:nvSpPr>
                <p:spPr>
                  <a:xfrm rot="21131400">
                    <a:off x="4442040" y="3392640"/>
                    <a:ext cx="10440" cy="23400"/>
                  </a:xfrm>
                  <a:custGeom>
                    <a:avLst/>
                    <a:gdLst>
                      <a:gd name="textAreaLeft" fmla="*/ 0 w 10440"/>
                      <a:gd name="textAreaRight" fmla="*/ 10800 w 10440"/>
                      <a:gd name="textAreaTop" fmla="*/ 0 h 23400"/>
                      <a:gd name="textAreaBottom" fmla="*/ 23760 h 23400"/>
                    </a:gdLst>
                    <a:ahLst/>
                    <a:rect l="textAreaLeft" t="textAreaTop" r="textAreaRight" b="textAreaBottom"/>
                    <a:pathLst>
                      <a:path w="90" h="181">
                        <a:moveTo>
                          <a:pt x="45" y="181"/>
                        </a:moveTo>
                        <a:cubicBezTo>
                          <a:pt x="30" y="181"/>
                          <a:pt x="0" y="120"/>
                          <a:pt x="0" y="90"/>
                        </a:cubicBezTo>
                        <a:cubicBezTo>
                          <a:pt x="0" y="60"/>
                          <a:pt x="30" y="0"/>
                          <a:pt x="45" y="0"/>
                        </a:cubicBezTo>
                        <a:cubicBezTo>
                          <a:pt x="60" y="0"/>
                          <a:pt x="90" y="60"/>
                          <a:pt x="90" y="90"/>
                        </a:cubicBezTo>
                        <a:cubicBezTo>
                          <a:pt x="90" y="120"/>
                          <a:pt x="60" y="181"/>
                          <a:pt x="45" y="181"/>
                        </a:cubicBezTo>
                        <a:close/>
                      </a:path>
                    </a:pathLst>
                  </a:custGeom>
                  <a:noFill/>
                  <a:ln w="648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5" name="Freeform 561"/>
                  <p:cNvSpPr/>
                  <p:nvPr/>
                </p:nvSpPr>
                <p:spPr>
                  <a:xfrm rot="787800">
                    <a:off x="4445640" y="3393000"/>
                    <a:ext cx="10800" cy="22680"/>
                  </a:xfrm>
                  <a:custGeom>
                    <a:avLst/>
                    <a:gdLst>
                      <a:gd name="textAreaLeft" fmla="*/ 0 w 10800"/>
                      <a:gd name="textAreaRight" fmla="*/ 11160 w 10800"/>
                      <a:gd name="textAreaTop" fmla="*/ 0 h 22680"/>
                      <a:gd name="textAreaBottom" fmla="*/ 23040 h 22680"/>
                    </a:gdLst>
                    <a:ahLst/>
                    <a:rect l="textAreaLeft" t="textAreaTop" r="textAreaRight" b="textAreaBottom"/>
                    <a:pathLst>
                      <a:path w="90" h="181">
                        <a:moveTo>
                          <a:pt x="45" y="181"/>
                        </a:moveTo>
                        <a:cubicBezTo>
                          <a:pt x="30" y="181"/>
                          <a:pt x="0" y="120"/>
                          <a:pt x="0" y="90"/>
                        </a:cubicBezTo>
                        <a:cubicBezTo>
                          <a:pt x="0" y="60"/>
                          <a:pt x="30" y="0"/>
                          <a:pt x="45" y="0"/>
                        </a:cubicBezTo>
                        <a:cubicBezTo>
                          <a:pt x="60" y="0"/>
                          <a:pt x="90" y="60"/>
                          <a:pt x="90" y="90"/>
                        </a:cubicBezTo>
                        <a:cubicBezTo>
                          <a:pt x="90" y="120"/>
                          <a:pt x="60" y="181"/>
                          <a:pt x="45" y="181"/>
                        </a:cubicBezTo>
                        <a:close/>
                      </a:path>
                    </a:pathLst>
                  </a:custGeom>
                  <a:noFill/>
                  <a:ln w="648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6" name="Freeform 562"/>
                  <p:cNvSpPr/>
                  <p:nvPr/>
                </p:nvSpPr>
                <p:spPr>
                  <a:xfrm flipH="1" rot="8269800">
                    <a:off x="4458240" y="3420720"/>
                    <a:ext cx="10800" cy="23040"/>
                  </a:xfrm>
                  <a:custGeom>
                    <a:avLst/>
                    <a:gdLst>
                      <a:gd name="textAreaLeft" fmla="*/ 360 w 10800"/>
                      <a:gd name="textAreaRight" fmla="*/ 11520 w 108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90" h="181">
                        <a:moveTo>
                          <a:pt x="45" y="181"/>
                        </a:moveTo>
                        <a:cubicBezTo>
                          <a:pt x="30" y="181"/>
                          <a:pt x="0" y="120"/>
                          <a:pt x="0" y="90"/>
                        </a:cubicBezTo>
                        <a:cubicBezTo>
                          <a:pt x="0" y="60"/>
                          <a:pt x="30" y="0"/>
                          <a:pt x="45" y="0"/>
                        </a:cubicBezTo>
                        <a:cubicBezTo>
                          <a:pt x="60" y="0"/>
                          <a:pt x="90" y="60"/>
                          <a:pt x="90" y="90"/>
                        </a:cubicBezTo>
                        <a:cubicBezTo>
                          <a:pt x="90" y="120"/>
                          <a:pt x="60" y="181"/>
                          <a:pt x="45" y="181"/>
                        </a:cubicBezTo>
                        <a:close/>
                      </a:path>
                    </a:pathLst>
                  </a:custGeom>
                  <a:noFill/>
                  <a:ln w="648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7" name="Freeform 563"/>
                  <p:cNvSpPr/>
                  <p:nvPr/>
                </p:nvSpPr>
                <p:spPr>
                  <a:xfrm flipH="1" rot="7163400">
                    <a:off x="4461120" y="3417480"/>
                    <a:ext cx="9720" cy="25200"/>
                  </a:xfrm>
                  <a:custGeom>
                    <a:avLst/>
                    <a:gdLst>
                      <a:gd name="textAreaLeft" fmla="*/ -360 w 9720"/>
                      <a:gd name="textAreaRight" fmla="*/ 9720 w 9720"/>
                      <a:gd name="textAreaTop" fmla="*/ 0 h 25200"/>
                      <a:gd name="textAreaBottom" fmla="*/ 25560 h 25200"/>
                    </a:gdLst>
                    <a:ahLst/>
                    <a:rect l="textAreaLeft" t="textAreaTop" r="textAreaRight" b="textAreaBottom"/>
                    <a:pathLst>
                      <a:path w="90" h="181">
                        <a:moveTo>
                          <a:pt x="45" y="181"/>
                        </a:moveTo>
                        <a:cubicBezTo>
                          <a:pt x="30" y="181"/>
                          <a:pt x="0" y="120"/>
                          <a:pt x="0" y="90"/>
                        </a:cubicBezTo>
                        <a:cubicBezTo>
                          <a:pt x="0" y="60"/>
                          <a:pt x="30" y="0"/>
                          <a:pt x="45" y="0"/>
                        </a:cubicBezTo>
                        <a:cubicBezTo>
                          <a:pt x="60" y="0"/>
                          <a:pt x="90" y="60"/>
                          <a:pt x="90" y="90"/>
                        </a:cubicBezTo>
                        <a:cubicBezTo>
                          <a:pt x="90" y="120"/>
                          <a:pt x="60" y="181"/>
                          <a:pt x="45" y="181"/>
                        </a:cubicBezTo>
                        <a:close/>
                      </a:path>
                    </a:pathLst>
                  </a:custGeom>
                  <a:noFill/>
                  <a:ln w="648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8" name="Freeform 564"/>
                  <p:cNvSpPr/>
                  <p:nvPr/>
                </p:nvSpPr>
                <p:spPr>
                  <a:xfrm flipH="1" rot="5907600">
                    <a:off x="4461120" y="3413880"/>
                    <a:ext cx="10080" cy="24480"/>
                  </a:xfrm>
                  <a:custGeom>
                    <a:avLst/>
                    <a:gdLst>
                      <a:gd name="textAreaLeft" fmla="*/ 360 w 10080"/>
                      <a:gd name="textAreaRight" fmla="*/ 10800 w 1008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90" h="181">
                        <a:moveTo>
                          <a:pt x="45" y="181"/>
                        </a:moveTo>
                        <a:cubicBezTo>
                          <a:pt x="30" y="181"/>
                          <a:pt x="0" y="120"/>
                          <a:pt x="0" y="90"/>
                        </a:cubicBezTo>
                        <a:cubicBezTo>
                          <a:pt x="0" y="60"/>
                          <a:pt x="30" y="0"/>
                          <a:pt x="45" y="0"/>
                        </a:cubicBezTo>
                        <a:cubicBezTo>
                          <a:pt x="60" y="0"/>
                          <a:pt x="90" y="60"/>
                          <a:pt x="90" y="90"/>
                        </a:cubicBezTo>
                        <a:cubicBezTo>
                          <a:pt x="90" y="120"/>
                          <a:pt x="60" y="181"/>
                          <a:pt x="45" y="181"/>
                        </a:cubicBezTo>
                        <a:close/>
                      </a:path>
                    </a:pathLst>
                  </a:custGeom>
                  <a:noFill/>
                  <a:ln w="648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9" name="Freeform 565"/>
                  <p:cNvSpPr/>
                  <p:nvPr/>
                </p:nvSpPr>
                <p:spPr>
                  <a:xfrm rot="3348000">
                    <a:off x="4393800" y="3445560"/>
                    <a:ext cx="8280" cy="16560"/>
                  </a:xfrm>
                  <a:custGeom>
                    <a:avLst/>
                    <a:gdLst>
                      <a:gd name="textAreaLeft" fmla="*/ 0 w 8280"/>
                      <a:gd name="textAreaRight" fmla="*/ 8640 w 8280"/>
                      <a:gd name="textAreaTop" fmla="*/ 0 h 16560"/>
                      <a:gd name="textAreaBottom" fmla="*/ 16920 h 16560"/>
                    </a:gdLst>
                    <a:ahLst/>
                    <a:rect l="textAreaLeft" t="textAreaTop" r="textAreaRight" b="textAreaBottom"/>
                    <a:pathLst>
                      <a:path w="36" h="68">
                        <a:moveTo>
                          <a:pt x="9" y="0"/>
                        </a:moveTo>
                        <a:cubicBezTo>
                          <a:pt x="10" y="0"/>
                          <a:pt x="30" y="5"/>
                          <a:pt x="24" y="12"/>
                        </a:cubicBezTo>
                        <a:cubicBezTo>
                          <a:pt x="20" y="17"/>
                          <a:pt x="6" y="18"/>
                          <a:pt x="6" y="18"/>
                        </a:cubicBezTo>
                        <a:cubicBezTo>
                          <a:pt x="8" y="21"/>
                          <a:pt x="9" y="25"/>
                          <a:pt x="12" y="27"/>
                        </a:cubicBezTo>
                        <a:cubicBezTo>
                          <a:pt x="22" y="35"/>
                          <a:pt x="32" y="35"/>
                          <a:pt x="6" y="42"/>
                        </a:cubicBezTo>
                        <a:cubicBezTo>
                          <a:pt x="36" y="52"/>
                          <a:pt x="23" y="55"/>
                          <a:pt x="0" y="60"/>
                        </a:cubicBezTo>
                        <a:cubicBezTo>
                          <a:pt x="13" y="68"/>
                          <a:pt x="8" y="63"/>
                          <a:pt x="21" y="63"/>
                        </a:cubicBezTo>
                      </a:path>
                    </a:pathLst>
                  </a:custGeom>
                  <a:solidFill>
                    <a:srgbClr val="663366"/>
                  </a:solidFill>
                  <a:ln w="9360">
                    <a:solidFill>
                      <a:srgbClr val="66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0" name="Freeform 566"/>
                  <p:cNvSpPr/>
                  <p:nvPr/>
                </p:nvSpPr>
                <p:spPr>
                  <a:xfrm rot="3348000">
                    <a:off x="4397040" y="3450600"/>
                    <a:ext cx="7920" cy="16560"/>
                  </a:xfrm>
                  <a:custGeom>
                    <a:avLst/>
                    <a:gdLst>
                      <a:gd name="textAreaLeft" fmla="*/ 0 w 7920"/>
                      <a:gd name="textAreaRight" fmla="*/ 8280 w 7920"/>
                      <a:gd name="textAreaTop" fmla="*/ 0 h 16560"/>
                      <a:gd name="textAreaBottom" fmla="*/ 16920 h 16560"/>
                    </a:gdLst>
                    <a:ahLst/>
                    <a:rect l="textAreaLeft" t="textAreaTop" r="textAreaRight" b="textAreaBottom"/>
                    <a:pathLst>
                      <a:path w="36" h="68">
                        <a:moveTo>
                          <a:pt x="9" y="0"/>
                        </a:moveTo>
                        <a:cubicBezTo>
                          <a:pt x="10" y="0"/>
                          <a:pt x="30" y="5"/>
                          <a:pt x="24" y="12"/>
                        </a:cubicBezTo>
                        <a:cubicBezTo>
                          <a:pt x="20" y="17"/>
                          <a:pt x="6" y="18"/>
                          <a:pt x="6" y="18"/>
                        </a:cubicBezTo>
                        <a:cubicBezTo>
                          <a:pt x="8" y="21"/>
                          <a:pt x="9" y="25"/>
                          <a:pt x="12" y="27"/>
                        </a:cubicBezTo>
                        <a:cubicBezTo>
                          <a:pt x="22" y="35"/>
                          <a:pt x="32" y="35"/>
                          <a:pt x="6" y="42"/>
                        </a:cubicBezTo>
                        <a:cubicBezTo>
                          <a:pt x="36" y="52"/>
                          <a:pt x="23" y="55"/>
                          <a:pt x="0" y="60"/>
                        </a:cubicBezTo>
                        <a:cubicBezTo>
                          <a:pt x="13" y="68"/>
                          <a:pt x="8" y="63"/>
                          <a:pt x="21" y="63"/>
                        </a:cubicBezTo>
                      </a:path>
                    </a:pathLst>
                  </a:custGeom>
                  <a:solidFill>
                    <a:srgbClr val="663366"/>
                  </a:solidFill>
                  <a:ln w="9360">
                    <a:solidFill>
                      <a:srgbClr val="66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1" name="Oval 567"/>
                  <p:cNvSpPr/>
                  <p:nvPr/>
                </p:nvSpPr>
                <p:spPr>
                  <a:xfrm rot="3348000">
                    <a:off x="4383000" y="3455280"/>
                    <a:ext cx="5040" cy="11160"/>
                  </a:xfrm>
                  <a:prstGeom prst="ellipse">
                    <a:avLst/>
                  </a:prstGeom>
                  <a:solidFill>
                    <a:srgbClr val="663366"/>
                  </a:solidFill>
                  <a:ln w="9360">
                    <a:solidFill>
                      <a:srgbClr val="66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2" name="Oval 568"/>
                  <p:cNvSpPr/>
                  <p:nvPr/>
                </p:nvSpPr>
                <p:spPr>
                  <a:xfrm rot="3348000">
                    <a:off x="4385880" y="3459600"/>
                    <a:ext cx="5040" cy="11160"/>
                  </a:xfrm>
                  <a:prstGeom prst="ellipse">
                    <a:avLst/>
                  </a:prstGeom>
                  <a:solidFill>
                    <a:srgbClr val="663366"/>
                  </a:solidFill>
                  <a:ln w="9360">
                    <a:solidFill>
                      <a:srgbClr val="66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3" name="Oval 569"/>
                  <p:cNvSpPr/>
                  <p:nvPr/>
                </p:nvSpPr>
                <p:spPr>
                  <a:xfrm flipH="1" rot="18252000">
                    <a:off x="4181760" y="3403080"/>
                    <a:ext cx="42120" cy="56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66699"/>
                      </a:gs>
                      <a:gs pos="100000">
                        <a:srgbClr val="424267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4" name="AutoShape 570"/>
                  <p:cNvSpPr/>
                  <p:nvPr/>
                </p:nvSpPr>
                <p:spPr>
                  <a:xfrm rot="18252000">
                    <a:off x="4205520" y="3405600"/>
                    <a:ext cx="19440" cy="19440"/>
                  </a:xfrm>
                  <a:custGeom>
                    <a:avLst/>
                    <a:gdLst>
                      <a:gd name="textAreaLeft" fmla="*/ 11880 w 19440"/>
                      <a:gd name="textAreaRight" fmla="*/ 12600 w 19440"/>
                      <a:gd name="textAreaTop" fmla="*/ 720 h 19440"/>
                      <a:gd name="textAreaBottom" fmla="*/ 18720 h 19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7719" y="2482"/>
                          <a:pt x="13837" y="5080"/>
                          <a:pt x="13837" y="10800"/>
                        </a:cubicBezTo>
                        <a:cubicBezTo>
                          <a:pt x="13837" y="16520"/>
                          <a:pt x="17719" y="19118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5" name="AutoShape 571"/>
                  <p:cNvSpPr/>
                  <p:nvPr/>
                </p:nvSpPr>
                <p:spPr>
                  <a:xfrm flipH="1" rot="18252000">
                    <a:off x="4181760" y="3437280"/>
                    <a:ext cx="19440" cy="19080"/>
                  </a:xfrm>
                  <a:custGeom>
                    <a:avLst/>
                    <a:gdLst>
                      <a:gd name="textAreaLeft" fmla="*/ 11880 w 19440"/>
                      <a:gd name="textAreaRight" fmla="*/ 12600 w 19440"/>
                      <a:gd name="textAreaTop" fmla="*/ 720 h 19080"/>
                      <a:gd name="textAreaBottom" fmla="*/ 18360 h 190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7719" y="2482"/>
                          <a:pt x="13837" y="5080"/>
                          <a:pt x="13837" y="10800"/>
                        </a:cubicBezTo>
                        <a:cubicBezTo>
                          <a:pt x="13837" y="16520"/>
                          <a:pt x="17719" y="19118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6" name="Freeform 572"/>
                  <p:cNvSpPr/>
                  <p:nvPr/>
                </p:nvSpPr>
                <p:spPr>
                  <a:xfrm flipH="1" rot="1574400">
                    <a:off x="4182480" y="3389400"/>
                    <a:ext cx="10800" cy="23040"/>
                  </a:xfrm>
                  <a:custGeom>
                    <a:avLst/>
                    <a:gdLst>
                      <a:gd name="textAreaLeft" fmla="*/ 360 w 10800"/>
                      <a:gd name="textAreaRight" fmla="*/ 11520 w 108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90" h="181">
                        <a:moveTo>
                          <a:pt x="45" y="181"/>
                        </a:moveTo>
                        <a:cubicBezTo>
                          <a:pt x="30" y="181"/>
                          <a:pt x="0" y="120"/>
                          <a:pt x="0" y="90"/>
                        </a:cubicBezTo>
                        <a:cubicBezTo>
                          <a:pt x="0" y="60"/>
                          <a:pt x="30" y="0"/>
                          <a:pt x="45" y="0"/>
                        </a:cubicBezTo>
                        <a:cubicBezTo>
                          <a:pt x="60" y="0"/>
                          <a:pt x="90" y="60"/>
                          <a:pt x="90" y="90"/>
                        </a:cubicBezTo>
                        <a:cubicBezTo>
                          <a:pt x="90" y="120"/>
                          <a:pt x="60" y="181"/>
                          <a:pt x="45" y="181"/>
                        </a:cubicBezTo>
                        <a:close/>
                      </a:path>
                    </a:pathLst>
                  </a:custGeom>
                  <a:noFill/>
                  <a:ln w="648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7" name="Freeform 573"/>
                  <p:cNvSpPr/>
                  <p:nvPr/>
                </p:nvSpPr>
                <p:spPr>
                  <a:xfrm flipH="1" rot="468600">
                    <a:off x="4180320" y="3388320"/>
                    <a:ext cx="10440" cy="23040"/>
                  </a:xfrm>
                  <a:custGeom>
                    <a:avLst/>
                    <a:gdLst>
                      <a:gd name="textAreaLeft" fmla="*/ -360 w 10440"/>
                      <a:gd name="textAreaRight" fmla="*/ 10440 w 1044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90" h="181">
                        <a:moveTo>
                          <a:pt x="45" y="181"/>
                        </a:moveTo>
                        <a:cubicBezTo>
                          <a:pt x="30" y="181"/>
                          <a:pt x="0" y="120"/>
                          <a:pt x="0" y="90"/>
                        </a:cubicBezTo>
                        <a:cubicBezTo>
                          <a:pt x="0" y="60"/>
                          <a:pt x="30" y="0"/>
                          <a:pt x="45" y="0"/>
                        </a:cubicBezTo>
                        <a:cubicBezTo>
                          <a:pt x="60" y="0"/>
                          <a:pt x="90" y="60"/>
                          <a:pt x="90" y="90"/>
                        </a:cubicBezTo>
                        <a:cubicBezTo>
                          <a:pt x="90" y="120"/>
                          <a:pt x="60" y="181"/>
                          <a:pt x="45" y="181"/>
                        </a:cubicBezTo>
                        <a:close/>
                      </a:path>
                    </a:pathLst>
                  </a:custGeom>
                  <a:noFill/>
                  <a:ln w="648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8" name="Freeform 574"/>
                  <p:cNvSpPr/>
                  <p:nvPr/>
                </p:nvSpPr>
                <p:spPr>
                  <a:xfrm flipH="1" rot="20812200">
                    <a:off x="4176360" y="3388680"/>
                    <a:ext cx="10800" cy="22680"/>
                  </a:xfrm>
                  <a:custGeom>
                    <a:avLst/>
                    <a:gdLst>
                      <a:gd name="textAreaLeft" fmla="*/ 360 w 10800"/>
                      <a:gd name="textAreaRight" fmla="*/ 11520 w 10800"/>
                      <a:gd name="textAreaTop" fmla="*/ 0 h 22680"/>
                      <a:gd name="textAreaBottom" fmla="*/ 23040 h 22680"/>
                    </a:gdLst>
                    <a:ahLst/>
                    <a:rect l="textAreaLeft" t="textAreaTop" r="textAreaRight" b="textAreaBottom"/>
                    <a:pathLst>
                      <a:path w="90" h="181">
                        <a:moveTo>
                          <a:pt x="45" y="181"/>
                        </a:moveTo>
                        <a:cubicBezTo>
                          <a:pt x="30" y="181"/>
                          <a:pt x="0" y="120"/>
                          <a:pt x="0" y="90"/>
                        </a:cubicBezTo>
                        <a:cubicBezTo>
                          <a:pt x="0" y="60"/>
                          <a:pt x="30" y="0"/>
                          <a:pt x="45" y="0"/>
                        </a:cubicBezTo>
                        <a:cubicBezTo>
                          <a:pt x="60" y="0"/>
                          <a:pt x="90" y="60"/>
                          <a:pt x="90" y="90"/>
                        </a:cubicBezTo>
                        <a:cubicBezTo>
                          <a:pt x="90" y="120"/>
                          <a:pt x="60" y="181"/>
                          <a:pt x="45" y="181"/>
                        </a:cubicBezTo>
                        <a:close/>
                      </a:path>
                    </a:pathLst>
                  </a:custGeom>
                  <a:noFill/>
                  <a:ln w="648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9" name="Freeform 575"/>
                  <p:cNvSpPr/>
                  <p:nvPr/>
                </p:nvSpPr>
                <p:spPr>
                  <a:xfrm rot="13330200">
                    <a:off x="4164120" y="3416400"/>
                    <a:ext cx="10800" cy="23040"/>
                  </a:xfrm>
                  <a:custGeom>
                    <a:avLst/>
                    <a:gdLst>
                      <a:gd name="textAreaLeft" fmla="*/ 0 w 10800"/>
                      <a:gd name="textAreaRight" fmla="*/ 11160 w 108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90" h="181">
                        <a:moveTo>
                          <a:pt x="45" y="181"/>
                        </a:moveTo>
                        <a:cubicBezTo>
                          <a:pt x="30" y="181"/>
                          <a:pt x="0" y="120"/>
                          <a:pt x="0" y="90"/>
                        </a:cubicBezTo>
                        <a:cubicBezTo>
                          <a:pt x="0" y="60"/>
                          <a:pt x="30" y="0"/>
                          <a:pt x="45" y="0"/>
                        </a:cubicBezTo>
                        <a:cubicBezTo>
                          <a:pt x="60" y="0"/>
                          <a:pt x="90" y="60"/>
                          <a:pt x="90" y="90"/>
                        </a:cubicBezTo>
                        <a:cubicBezTo>
                          <a:pt x="90" y="120"/>
                          <a:pt x="60" y="181"/>
                          <a:pt x="45" y="181"/>
                        </a:cubicBezTo>
                        <a:close/>
                      </a:path>
                    </a:pathLst>
                  </a:custGeom>
                  <a:noFill/>
                  <a:ln w="648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0" name="Freeform 576"/>
                  <p:cNvSpPr/>
                  <p:nvPr/>
                </p:nvSpPr>
                <p:spPr>
                  <a:xfrm rot="14436600">
                    <a:off x="4162320" y="3413160"/>
                    <a:ext cx="9720" cy="25200"/>
                  </a:xfrm>
                  <a:custGeom>
                    <a:avLst/>
                    <a:gdLst>
                      <a:gd name="textAreaLeft" fmla="*/ 0 w 9720"/>
                      <a:gd name="textAreaRight" fmla="*/ 10080 w 9720"/>
                      <a:gd name="textAreaTop" fmla="*/ 0 h 25200"/>
                      <a:gd name="textAreaBottom" fmla="*/ 25560 h 25200"/>
                    </a:gdLst>
                    <a:ahLst/>
                    <a:rect l="textAreaLeft" t="textAreaTop" r="textAreaRight" b="textAreaBottom"/>
                    <a:pathLst>
                      <a:path w="90" h="181">
                        <a:moveTo>
                          <a:pt x="45" y="181"/>
                        </a:moveTo>
                        <a:cubicBezTo>
                          <a:pt x="30" y="181"/>
                          <a:pt x="0" y="120"/>
                          <a:pt x="0" y="90"/>
                        </a:cubicBezTo>
                        <a:cubicBezTo>
                          <a:pt x="0" y="60"/>
                          <a:pt x="30" y="0"/>
                          <a:pt x="45" y="0"/>
                        </a:cubicBezTo>
                        <a:cubicBezTo>
                          <a:pt x="60" y="0"/>
                          <a:pt x="90" y="60"/>
                          <a:pt x="90" y="90"/>
                        </a:cubicBezTo>
                        <a:cubicBezTo>
                          <a:pt x="90" y="120"/>
                          <a:pt x="60" y="181"/>
                          <a:pt x="45" y="181"/>
                        </a:cubicBezTo>
                        <a:close/>
                      </a:path>
                    </a:pathLst>
                  </a:custGeom>
                  <a:noFill/>
                  <a:ln w="648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1" name="Freeform 577"/>
                  <p:cNvSpPr/>
                  <p:nvPr/>
                </p:nvSpPr>
                <p:spPr>
                  <a:xfrm rot="15692400">
                    <a:off x="4160880" y="3409920"/>
                    <a:ext cx="10080" cy="2448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90" h="181">
                        <a:moveTo>
                          <a:pt x="45" y="181"/>
                        </a:moveTo>
                        <a:cubicBezTo>
                          <a:pt x="30" y="181"/>
                          <a:pt x="0" y="120"/>
                          <a:pt x="0" y="90"/>
                        </a:cubicBezTo>
                        <a:cubicBezTo>
                          <a:pt x="0" y="60"/>
                          <a:pt x="30" y="0"/>
                          <a:pt x="45" y="0"/>
                        </a:cubicBezTo>
                        <a:cubicBezTo>
                          <a:pt x="60" y="0"/>
                          <a:pt x="90" y="60"/>
                          <a:pt x="90" y="90"/>
                        </a:cubicBezTo>
                        <a:cubicBezTo>
                          <a:pt x="90" y="120"/>
                          <a:pt x="60" y="181"/>
                          <a:pt x="45" y="181"/>
                        </a:cubicBezTo>
                        <a:close/>
                      </a:path>
                    </a:pathLst>
                  </a:custGeom>
                  <a:noFill/>
                  <a:ln w="648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2" name="Freeform 578"/>
                  <p:cNvSpPr/>
                  <p:nvPr/>
                </p:nvSpPr>
                <p:spPr>
                  <a:xfrm flipH="1" rot="18252000">
                    <a:off x="4231440" y="3441600"/>
                    <a:ext cx="8280" cy="16560"/>
                  </a:xfrm>
                  <a:custGeom>
                    <a:avLst/>
                    <a:gdLst>
                      <a:gd name="textAreaLeft" fmla="*/ -360 w 8280"/>
                      <a:gd name="textAreaRight" fmla="*/ 8280 w 8280"/>
                      <a:gd name="textAreaTop" fmla="*/ 0 h 16560"/>
                      <a:gd name="textAreaBottom" fmla="*/ 16920 h 16560"/>
                    </a:gdLst>
                    <a:ahLst/>
                    <a:rect l="textAreaLeft" t="textAreaTop" r="textAreaRight" b="textAreaBottom"/>
                    <a:pathLst>
                      <a:path w="36" h="68">
                        <a:moveTo>
                          <a:pt x="9" y="0"/>
                        </a:moveTo>
                        <a:cubicBezTo>
                          <a:pt x="10" y="0"/>
                          <a:pt x="30" y="5"/>
                          <a:pt x="24" y="12"/>
                        </a:cubicBezTo>
                        <a:cubicBezTo>
                          <a:pt x="20" y="17"/>
                          <a:pt x="6" y="18"/>
                          <a:pt x="6" y="18"/>
                        </a:cubicBezTo>
                        <a:cubicBezTo>
                          <a:pt x="8" y="21"/>
                          <a:pt x="9" y="25"/>
                          <a:pt x="12" y="27"/>
                        </a:cubicBezTo>
                        <a:cubicBezTo>
                          <a:pt x="22" y="35"/>
                          <a:pt x="32" y="35"/>
                          <a:pt x="6" y="42"/>
                        </a:cubicBezTo>
                        <a:cubicBezTo>
                          <a:pt x="36" y="52"/>
                          <a:pt x="23" y="55"/>
                          <a:pt x="0" y="60"/>
                        </a:cubicBezTo>
                        <a:cubicBezTo>
                          <a:pt x="13" y="68"/>
                          <a:pt x="8" y="63"/>
                          <a:pt x="21" y="63"/>
                        </a:cubicBezTo>
                      </a:path>
                    </a:pathLst>
                  </a:custGeom>
                  <a:solidFill>
                    <a:srgbClr val="663366"/>
                  </a:solidFill>
                  <a:ln w="9360">
                    <a:solidFill>
                      <a:srgbClr val="66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3" name="Freeform 579"/>
                  <p:cNvSpPr/>
                  <p:nvPr/>
                </p:nvSpPr>
                <p:spPr>
                  <a:xfrm flipH="1" rot="18252000">
                    <a:off x="4228560" y="3445920"/>
                    <a:ext cx="8280" cy="16560"/>
                  </a:xfrm>
                  <a:custGeom>
                    <a:avLst/>
                    <a:gdLst>
                      <a:gd name="textAreaLeft" fmla="*/ -360 w 8280"/>
                      <a:gd name="textAreaRight" fmla="*/ 8280 w 8280"/>
                      <a:gd name="textAreaTop" fmla="*/ 0 h 16560"/>
                      <a:gd name="textAreaBottom" fmla="*/ 16920 h 16560"/>
                    </a:gdLst>
                    <a:ahLst/>
                    <a:rect l="textAreaLeft" t="textAreaTop" r="textAreaRight" b="textAreaBottom"/>
                    <a:pathLst>
                      <a:path w="36" h="68">
                        <a:moveTo>
                          <a:pt x="9" y="0"/>
                        </a:moveTo>
                        <a:cubicBezTo>
                          <a:pt x="10" y="0"/>
                          <a:pt x="30" y="5"/>
                          <a:pt x="24" y="12"/>
                        </a:cubicBezTo>
                        <a:cubicBezTo>
                          <a:pt x="20" y="17"/>
                          <a:pt x="6" y="18"/>
                          <a:pt x="6" y="18"/>
                        </a:cubicBezTo>
                        <a:cubicBezTo>
                          <a:pt x="8" y="21"/>
                          <a:pt x="9" y="25"/>
                          <a:pt x="12" y="27"/>
                        </a:cubicBezTo>
                        <a:cubicBezTo>
                          <a:pt x="22" y="35"/>
                          <a:pt x="32" y="35"/>
                          <a:pt x="6" y="42"/>
                        </a:cubicBezTo>
                        <a:cubicBezTo>
                          <a:pt x="36" y="52"/>
                          <a:pt x="23" y="55"/>
                          <a:pt x="0" y="60"/>
                        </a:cubicBezTo>
                        <a:cubicBezTo>
                          <a:pt x="13" y="68"/>
                          <a:pt x="8" y="63"/>
                          <a:pt x="21" y="63"/>
                        </a:cubicBezTo>
                      </a:path>
                    </a:pathLst>
                  </a:custGeom>
                  <a:solidFill>
                    <a:srgbClr val="663366"/>
                  </a:solidFill>
                  <a:ln w="9360">
                    <a:solidFill>
                      <a:srgbClr val="66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4" name="Oval 580"/>
                  <p:cNvSpPr/>
                  <p:nvPr/>
                </p:nvSpPr>
                <p:spPr>
                  <a:xfrm flipH="1" rot="18252000">
                    <a:off x="4245120" y="3450600"/>
                    <a:ext cx="5040" cy="11160"/>
                  </a:xfrm>
                  <a:prstGeom prst="ellipse">
                    <a:avLst/>
                  </a:prstGeom>
                  <a:solidFill>
                    <a:srgbClr val="663366"/>
                  </a:solidFill>
                  <a:ln w="9360">
                    <a:solidFill>
                      <a:srgbClr val="66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5" name="Oval 581"/>
                  <p:cNvSpPr/>
                  <p:nvPr/>
                </p:nvSpPr>
                <p:spPr>
                  <a:xfrm flipH="1" rot="18252000">
                    <a:off x="4241880" y="3454920"/>
                    <a:ext cx="5040" cy="11160"/>
                  </a:xfrm>
                  <a:prstGeom prst="ellipse">
                    <a:avLst/>
                  </a:prstGeom>
                  <a:solidFill>
                    <a:srgbClr val="663366"/>
                  </a:solidFill>
                  <a:ln w="9360">
                    <a:solidFill>
                      <a:srgbClr val="66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6" name="Oval 582"/>
                  <p:cNvSpPr/>
                  <p:nvPr/>
                </p:nvSpPr>
                <p:spPr>
                  <a:xfrm flipV="1" rot="18252000">
                    <a:off x="4407480" y="3551040"/>
                    <a:ext cx="42120" cy="56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66699"/>
                      </a:gs>
                      <a:gs pos="100000">
                        <a:srgbClr val="424267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7" name="AutoShape 583"/>
                  <p:cNvSpPr/>
                  <p:nvPr/>
                </p:nvSpPr>
                <p:spPr>
                  <a:xfrm flipH="1" flipV="1" rot="18252000">
                    <a:off x="4406400" y="3585600"/>
                    <a:ext cx="19440" cy="19080"/>
                  </a:xfrm>
                  <a:custGeom>
                    <a:avLst/>
                    <a:gdLst>
                      <a:gd name="textAreaLeft" fmla="*/ 11880 w 19440"/>
                      <a:gd name="textAreaRight" fmla="*/ 12600 w 19440"/>
                      <a:gd name="textAreaTop" fmla="*/ 720 h 19080"/>
                      <a:gd name="textAreaBottom" fmla="*/ 18360 h 190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7719" y="2482"/>
                          <a:pt x="13837" y="5080"/>
                          <a:pt x="13837" y="10800"/>
                        </a:cubicBezTo>
                        <a:cubicBezTo>
                          <a:pt x="13837" y="16520"/>
                          <a:pt x="17719" y="19118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8" name="AutoShape 584"/>
                  <p:cNvSpPr/>
                  <p:nvPr/>
                </p:nvSpPr>
                <p:spPr>
                  <a:xfrm flipV="1" rot="18252000">
                    <a:off x="4429440" y="3554280"/>
                    <a:ext cx="19440" cy="18720"/>
                  </a:xfrm>
                  <a:custGeom>
                    <a:avLst/>
                    <a:gdLst>
                      <a:gd name="textAreaLeft" fmla="*/ 11880 w 19440"/>
                      <a:gd name="textAreaRight" fmla="*/ 12600 w 19440"/>
                      <a:gd name="textAreaTop" fmla="*/ 720 h 18720"/>
                      <a:gd name="textAreaBottom" fmla="*/ 18000 h 187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7719" y="2482"/>
                          <a:pt x="13837" y="5080"/>
                          <a:pt x="13837" y="10800"/>
                        </a:cubicBezTo>
                        <a:cubicBezTo>
                          <a:pt x="13837" y="16520"/>
                          <a:pt x="17719" y="19118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9" name="Freeform 585"/>
                  <p:cNvSpPr/>
                  <p:nvPr/>
                </p:nvSpPr>
                <p:spPr>
                  <a:xfrm flipV="1" rot="1574400">
                    <a:off x="4437000" y="3597480"/>
                    <a:ext cx="10800" cy="23400"/>
                  </a:xfrm>
                  <a:custGeom>
                    <a:avLst/>
                    <a:gdLst>
                      <a:gd name="textAreaLeft" fmla="*/ 0 w 10800"/>
                      <a:gd name="textAreaRight" fmla="*/ 11160 w 10800"/>
                      <a:gd name="textAreaTop" fmla="*/ -360 h 23400"/>
                      <a:gd name="textAreaBottom" fmla="*/ 23400 h 23400"/>
                    </a:gdLst>
                    <a:ahLst/>
                    <a:rect l="textAreaLeft" t="textAreaTop" r="textAreaRight" b="textAreaBottom"/>
                    <a:pathLst>
                      <a:path w="90" h="181">
                        <a:moveTo>
                          <a:pt x="45" y="181"/>
                        </a:moveTo>
                        <a:cubicBezTo>
                          <a:pt x="30" y="181"/>
                          <a:pt x="0" y="120"/>
                          <a:pt x="0" y="90"/>
                        </a:cubicBezTo>
                        <a:cubicBezTo>
                          <a:pt x="0" y="60"/>
                          <a:pt x="30" y="0"/>
                          <a:pt x="45" y="0"/>
                        </a:cubicBezTo>
                        <a:cubicBezTo>
                          <a:pt x="60" y="0"/>
                          <a:pt x="90" y="60"/>
                          <a:pt x="90" y="90"/>
                        </a:cubicBezTo>
                        <a:cubicBezTo>
                          <a:pt x="90" y="120"/>
                          <a:pt x="60" y="181"/>
                          <a:pt x="45" y="181"/>
                        </a:cubicBezTo>
                        <a:close/>
                      </a:path>
                    </a:pathLst>
                  </a:custGeom>
                  <a:noFill/>
                  <a:ln w="648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0" name="Freeform 586"/>
                  <p:cNvSpPr/>
                  <p:nvPr/>
                </p:nvSpPr>
                <p:spPr>
                  <a:xfrm flipV="1" rot="468600">
                    <a:off x="4440240" y="3597840"/>
                    <a:ext cx="10440" cy="23040"/>
                  </a:xfrm>
                  <a:custGeom>
                    <a:avLst/>
                    <a:gdLst>
                      <a:gd name="textAreaLeft" fmla="*/ 0 w 10440"/>
                      <a:gd name="textAreaRight" fmla="*/ 10800 w 10440"/>
                      <a:gd name="textAreaTop" fmla="*/ 360 h 23040"/>
                      <a:gd name="textAreaBottom" fmla="*/ 23760 h 23040"/>
                    </a:gdLst>
                    <a:ahLst/>
                    <a:rect l="textAreaLeft" t="textAreaTop" r="textAreaRight" b="textAreaBottom"/>
                    <a:pathLst>
                      <a:path w="90" h="181">
                        <a:moveTo>
                          <a:pt x="45" y="181"/>
                        </a:moveTo>
                        <a:cubicBezTo>
                          <a:pt x="30" y="181"/>
                          <a:pt x="0" y="120"/>
                          <a:pt x="0" y="90"/>
                        </a:cubicBezTo>
                        <a:cubicBezTo>
                          <a:pt x="0" y="60"/>
                          <a:pt x="30" y="0"/>
                          <a:pt x="45" y="0"/>
                        </a:cubicBezTo>
                        <a:cubicBezTo>
                          <a:pt x="60" y="0"/>
                          <a:pt x="90" y="60"/>
                          <a:pt x="90" y="90"/>
                        </a:cubicBezTo>
                        <a:cubicBezTo>
                          <a:pt x="90" y="120"/>
                          <a:pt x="60" y="181"/>
                          <a:pt x="45" y="181"/>
                        </a:cubicBezTo>
                        <a:close/>
                      </a:path>
                    </a:pathLst>
                  </a:custGeom>
                  <a:noFill/>
                  <a:ln w="648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1" name="Freeform 587"/>
                  <p:cNvSpPr/>
                  <p:nvPr/>
                </p:nvSpPr>
                <p:spPr>
                  <a:xfrm flipV="1" rot="20812200">
                    <a:off x="4444200" y="3598560"/>
                    <a:ext cx="10800" cy="22680"/>
                  </a:xfrm>
                  <a:custGeom>
                    <a:avLst/>
                    <a:gdLst>
                      <a:gd name="textAreaLeft" fmla="*/ 0 w 10800"/>
                      <a:gd name="textAreaRight" fmla="*/ 11160 w 10800"/>
                      <a:gd name="textAreaTop" fmla="*/ -360 h 22680"/>
                      <a:gd name="textAreaBottom" fmla="*/ 22680 h 22680"/>
                    </a:gdLst>
                    <a:ahLst/>
                    <a:rect l="textAreaLeft" t="textAreaTop" r="textAreaRight" b="textAreaBottom"/>
                    <a:pathLst>
                      <a:path w="90" h="181">
                        <a:moveTo>
                          <a:pt x="45" y="181"/>
                        </a:moveTo>
                        <a:cubicBezTo>
                          <a:pt x="30" y="181"/>
                          <a:pt x="0" y="120"/>
                          <a:pt x="0" y="90"/>
                        </a:cubicBezTo>
                        <a:cubicBezTo>
                          <a:pt x="0" y="60"/>
                          <a:pt x="30" y="0"/>
                          <a:pt x="45" y="0"/>
                        </a:cubicBezTo>
                        <a:cubicBezTo>
                          <a:pt x="60" y="0"/>
                          <a:pt x="90" y="60"/>
                          <a:pt x="90" y="90"/>
                        </a:cubicBezTo>
                        <a:cubicBezTo>
                          <a:pt x="90" y="120"/>
                          <a:pt x="60" y="181"/>
                          <a:pt x="45" y="181"/>
                        </a:cubicBezTo>
                        <a:close/>
                      </a:path>
                    </a:pathLst>
                  </a:custGeom>
                  <a:noFill/>
                  <a:ln w="648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2" name="Freeform 588"/>
                  <p:cNvSpPr/>
                  <p:nvPr/>
                </p:nvSpPr>
                <p:spPr>
                  <a:xfrm flipH="1" flipV="1" rot="13330200">
                    <a:off x="4457520" y="3570480"/>
                    <a:ext cx="10080" cy="23040"/>
                  </a:xfrm>
                  <a:custGeom>
                    <a:avLst/>
                    <a:gdLst>
                      <a:gd name="textAreaLeft" fmla="*/ 360 w 10080"/>
                      <a:gd name="textAreaRight" fmla="*/ 10800 w 10080"/>
                      <a:gd name="textAreaTop" fmla="*/ 360 h 23040"/>
                      <a:gd name="textAreaBottom" fmla="*/ 23760 h 23040"/>
                    </a:gdLst>
                    <a:ahLst/>
                    <a:rect l="textAreaLeft" t="textAreaTop" r="textAreaRight" b="textAreaBottom"/>
                    <a:pathLst>
                      <a:path w="90" h="181">
                        <a:moveTo>
                          <a:pt x="45" y="181"/>
                        </a:moveTo>
                        <a:cubicBezTo>
                          <a:pt x="30" y="181"/>
                          <a:pt x="0" y="120"/>
                          <a:pt x="0" y="90"/>
                        </a:cubicBezTo>
                        <a:cubicBezTo>
                          <a:pt x="0" y="60"/>
                          <a:pt x="30" y="0"/>
                          <a:pt x="45" y="0"/>
                        </a:cubicBezTo>
                        <a:cubicBezTo>
                          <a:pt x="60" y="0"/>
                          <a:pt x="90" y="60"/>
                          <a:pt x="90" y="90"/>
                        </a:cubicBezTo>
                        <a:cubicBezTo>
                          <a:pt x="90" y="120"/>
                          <a:pt x="60" y="181"/>
                          <a:pt x="45" y="181"/>
                        </a:cubicBezTo>
                        <a:close/>
                      </a:path>
                    </a:pathLst>
                  </a:custGeom>
                  <a:noFill/>
                  <a:ln w="648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3" name="Freeform 589"/>
                  <p:cNvSpPr/>
                  <p:nvPr/>
                </p:nvSpPr>
                <p:spPr>
                  <a:xfrm flipH="1" flipV="1" rot="14436600">
                    <a:off x="4458600" y="3571920"/>
                    <a:ext cx="9720" cy="25200"/>
                  </a:xfrm>
                  <a:custGeom>
                    <a:avLst/>
                    <a:gdLst>
                      <a:gd name="textAreaLeft" fmla="*/ -360 w 9720"/>
                      <a:gd name="textAreaRight" fmla="*/ 9720 w 9720"/>
                      <a:gd name="textAreaTop" fmla="*/ 360 h 25200"/>
                      <a:gd name="textAreaBottom" fmla="*/ 25920 h 25200"/>
                    </a:gdLst>
                    <a:ahLst/>
                    <a:rect l="textAreaLeft" t="textAreaTop" r="textAreaRight" b="textAreaBottom"/>
                    <a:pathLst>
                      <a:path w="90" h="181">
                        <a:moveTo>
                          <a:pt x="45" y="181"/>
                        </a:moveTo>
                        <a:cubicBezTo>
                          <a:pt x="30" y="181"/>
                          <a:pt x="0" y="120"/>
                          <a:pt x="0" y="90"/>
                        </a:cubicBezTo>
                        <a:cubicBezTo>
                          <a:pt x="0" y="60"/>
                          <a:pt x="30" y="0"/>
                          <a:pt x="45" y="0"/>
                        </a:cubicBezTo>
                        <a:cubicBezTo>
                          <a:pt x="60" y="0"/>
                          <a:pt x="90" y="60"/>
                          <a:pt x="90" y="90"/>
                        </a:cubicBezTo>
                        <a:cubicBezTo>
                          <a:pt x="90" y="120"/>
                          <a:pt x="60" y="181"/>
                          <a:pt x="45" y="181"/>
                        </a:cubicBezTo>
                        <a:close/>
                      </a:path>
                    </a:pathLst>
                  </a:custGeom>
                  <a:noFill/>
                  <a:ln w="648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4" name="Freeform 590"/>
                  <p:cNvSpPr/>
                  <p:nvPr/>
                </p:nvSpPr>
                <p:spPr>
                  <a:xfrm flipH="1" flipV="1" rot="15692400">
                    <a:off x="4460040" y="3575520"/>
                    <a:ext cx="9720" cy="24480"/>
                  </a:xfrm>
                  <a:custGeom>
                    <a:avLst/>
                    <a:gdLst>
                      <a:gd name="textAreaLeft" fmla="*/ -360 w 9720"/>
                      <a:gd name="textAreaRight" fmla="*/ 9720 w 9720"/>
                      <a:gd name="textAreaTop" fmla="*/ 360 h 24480"/>
                      <a:gd name="textAreaBottom" fmla="*/ 25200 h 24480"/>
                    </a:gdLst>
                    <a:ahLst/>
                    <a:rect l="textAreaLeft" t="textAreaTop" r="textAreaRight" b="textAreaBottom"/>
                    <a:pathLst>
                      <a:path w="90" h="181">
                        <a:moveTo>
                          <a:pt x="45" y="181"/>
                        </a:moveTo>
                        <a:cubicBezTo>
                          <a:pt x="30" y="181"/>
                          <a:pt x="0" y="120"/>
                          <a:pt x="0" y="90"/>
                        </a:cubicBezTo>
                        <a:cubicBezTo>
                          <a:pt x="0" y="60"/>
                          <a:pt x="30" y="0"/>
                          <a:pt x="45" y="0"/>
                        </a:cubicBezTo>
                        <a:cubicBezTo>
                          <a:pt x="60" y="0"/>
                          <a:pt x="90" y="60"/>
                          <a:pt x="90" y="90"/>
                        </a:cubicBezTo>
                        <a:cubicBezTo>
                          <a:pt x="90" y="120"/>
                          <a:pt x="60" y="181"/>
                          <a:pt x="45" y="181"/>
                        </a:cubicBezTo>
                        <a:close/>
                      </a:path>
                    </a:pathLst>
                  </a:custGeom>
                  <a:noFill/>
                  <a:ln w="648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5" name="Freeform 591"/>
                  <p:cNvSpPr/>
                  <p:nvPr/>
                </p:nvSpPr>
                <p:spPr>
                  <a:xfrm flipV="1" rot="18252000">
                    <a:off x="4392000" y="3552840"/>
                    <a:ext cx="8640" cy="16560"/>
                  </a:xfrm>
                  <a:custGeom>
                    <a:avLst/>
                    <a:gdLst>
                      <a:gd name="textAreaLeft" fmla="*/ 0 w 8640"/>
                      <a:gd name="textAreaRight" fmla="*/ 9000 w 8640"/>
                      <a:gd name="textAreaTop" fmla="*/ 360 h 16560"/>
                      <a:gd name="textAreaBottom" fmla="*/ 17280 h 16560"/>
                    </a:gdLst>
                    <a:ahLst/>
                    <a:rect l="textAreaLeft" t="textAreaTop" r="textAreaRight" b="textAreaBottom"/>
                    <a:pathLst>
                      <a:path w="36" h="68">
                        <a:moveTo>
                          <a:pt x="9" y="0"/>
                        </a:moveTo>
                        <a:cubicBezTo>
                          <a:pt x="10" y="0"/>
                          <a:pt x="30" y="5"/>
                          <a:pt x="24" y="12"/>
                        </a:cubicBezTo>
                        <a:cubicBezTo>
                          <a:pt x="20" y="17"/>
                          <a:pt x="6" y="18"/>
                          <a:pt x="6" y="18"/>
                        </a:cubicBezTo>
                        <a:cubicBezTo>
                          <a:pt x="8" y="21"/>
                          <a:pt x="9" y="25"/>
                          <a:pt x="12" y="27"/>
                        </a:cubicBezTo>
                        <a:cubicBezTo>
                          <a:pt x="22" y="35"/>
                          <a:pt x="32" y="35"/>
                          <a:pt x="6" y="42"/>
                        </a:cubicBezTo>
                        <a:cubicBezTo>
                          <a:pt x="36" y="52"/>
                          <a:pt x="23" y="55"/>
                          <a:pt x="0" y="60"/>
                        </a:cubicBezTo>
                        <a:cubicBezTo>
                          <a:pt x="13" y="68"/>
                          <a:pt x="8" y="63"/>
                          <a:pt x="21" y="63"/>
                        </a:cubicBezTo>
                      </a:path>
                    </a:pathLst>
                  </a:custGeom>
                  <a:solidFill>
                    <a:srgbClr val="663366"/>
                  </a:solidFill>
                  <a:ln w="9360">
                    <a:solidFill>
                      <a:srgbClr val="66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6" name="Freeform 592"/>
                  <p:cNvSpPr/>
                  <p:nvPr/>
                </p:nvSpPr>
                <p:spPr>
                  <a:xfrm flipV="1" rot="18252000">
                    <a:off x="4395600" y="3548160"/>
                    <a:ext cx="8280" cy="16560"/>
                  </a:xfrm>
                  <a:custGeom>
                    <a:avLst/>
                    <a:gdLst>
                      <a:gd name="textAreaLeft" fmla="*/ 0 w 8280"/>
                      <a:gd name="textAreaRight" fmla="*/ 8640 w 8280"/>
                      <a:gd name="textAreaTop" fmla="*/ 360 h 16560"/>
                      <a:gd name="textAreaBottom" fmla="*/ 17280 h 16560"/>
                    </a:gdLst>
                    <a:ahLst/>
                    <a:rect l="textAreaLeft" t="textAreaTop" r="textAreaRight" b="textAreaBottom"/>
                    <a:pathLst>
                      <a:path w="36" h="68">
                        <a:moveTo>
                          <a:pt x="9" y="0"/>
                        </a:moveTo>
                        <a:cubicBezTo>
                          <a:pt x="10" y="0"/>
                          <a:pt x="30" y="5"/>
                          <a:pt x="24" y="12"/>
                        </a:cubicBezTo>
                        <a:cubicBezTo>
                          <a:pt x="20" y="17"/>
                          <a:pt x="6" y="18"/>
                          <a:pt x="6" y="18"/>
                        </a:cubicBezTo>
                        <a:cubicBezTo>
                          <a:pt x="8" y="21"/>
                          <a:pt x="9" y="25"/>
                          <a:pt x="12" y="27"/>
                        </a:cubicBezTo>
                        <a:cubicBezTo>
                          <a:pt x="22" y="35"/>
                          <a:pt x="32" y="35"/>
                          <a:pt x="6" y="42"/>
                        </a:cubicBezTo>
                        <a:cubicBezTo>
                          <a:pt x="36" y="52"/>
                          <a:pt x="23" y="55"/>
                          <a:pt x="0" y="60"/>
                        </a:cubicBezTo>
                        <a:cubicBezTo>
                          <a:pt x="13" y="68"/>
                          <a:pt x="8" y="63"/>
                          <a:pt x="21" y="63"/>
                        </a:cubicBezTo>
                      </a:path>
                    </a:pathLst>
                  </a:custGeom>
                  <a:solidFill>
                    <a:srgbClr val="663366"/>
                  </a:solidFill>
                  <a:ln w="9360">
                    <a:solidFill>
                      <a:srgbClr val="66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7" name="Oval 593"/>
                  <p:cNvSpPr/>
                  <p:nvPr/>
                </p:nvSpPr>
                <p:spPr>
                  <a:xfrm flipV="1" rot="18252000">
                    <a:off x="4381200" y="3548160"/>
                    <a:ext cx="5040" cy="11160"/>
                  </a:xfrm>
                  <a:prstGeom prst="ellipse">
                    <a:avLst/>
                  </a:prstGeom>
                  <a:solidFill>
                    <a:srgbClr val="663366"/>
                  </a:solidFill>
                  <a:ln w="9360">
                    <a:solidFill>
                      <a:srgbClr val="66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8" name="Oval 594"/>
                  <p:cNvSpPr/>
                  <p:nvPr/>
                </p:nvSpPr>
                <p:spPr>
                  <a:xfrm flipV="1" rot="18252000">
                    <a:off x="4383720" y="3544560"/>
                    <a:ext cx="5040" cy="11160"/>
                  </a:xfrm>
                  <a:prstGeom prst="ellipse">
                    <a:avLst/>
                  </a:prstGeom>
                  <a:solidFill>
                    <a:srgbClr val="663366"/>
                  </a:solidFill>
                  <a:ln w="9360">
                    <a:solidFill>
                      <a:srgbClr val="66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9" name="Oval 595"/>
                  <p:cNvSpPr/>
                  <p:nvPr/>
                </p:nvSpPr>
                <p:spPr>
                  <a:xfrm flipH="1" flipV="1" rot="3727800">
                    <a:off x="4171680" y="3528000"/>
                    <a:ext cx="41760" cy="56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66699"/>
                      </a:gs>
                      <a:gs pos="100000">
                        <a:srgbClr val="424267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0" name="AutoShape 596"/>
                  <p:cNvSpPr/>
                  <p:nvPr/>
                </p:nvSpPr>
                <p:spPr>
                  <a:xfrm flipV="1" rot="3728400">
                    <a:off x="4193280" y="3562920"/>
                    <a:ext cx="19440" cy="19440"/>
                  </a:xfrm>
                  <a:custGeom>
                    <a:avLst/>
                    <a:gdLst>
                      <a:gd name="textAreaLeft" fmla="*/ 11880 w 19440"/>
                      <a:gd name="textAreaRight" fmla="*/ 12600 w 19440"/>
                      <a:gd name="textAreaTop" fmla="*/ 720 h 19440"/>
                      <a:gd name="textAreaBottom" fmla="*/ 18720 h 19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7719" y="2482"/>
                          <a:pt x="13837" y="5080"/>
                          <a:pt x="13837" y="10800"/>
                        </a:cubicBezTo>
                        <a:cubicBezTo>
                          <a:pt x="13837" y="16520"/>
                          <a:pt x="17719" y="19118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1" name="AutoShape 597"/>
                  <p:cNvSpPr/>
                  <p:nvPr/>
                </p:nvSpPr>
                <p:spPr>
                  <a:xfrm flipH="1" flipV="1" rot="3727800">
                    <a:off x="4172760" y="3529800"/>
                    <a:ext cx="19440" cy="19440"/>
                  </a:xfrm>
                  <a:custGeom>
                    <a:avLst/>
                    <a:gdLst>
                      <a:gd name="textAreaLeft" fmla="*/ 11880 w 19440"/>
                      <a:gd name="textAreaRight" fmla="*/ 12600 w 19440"/>
                      <a:gd name="textAreaTop" fmla="*/ 720 h 19440"/>
                      <a:gd name="textAreaBottom" fmla="*/ 18720 h 19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7719" y="2482"/>
                          <a:pt x="13837" y="5080"/>
                          <a:pt x="13837" y="10800"/>
                        </a:cubicBezTo>
                        <a:cubicBezTo>
                          <a:pt x="13837" y="16520"/>
                          <a:pt x="17719" y="19118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2" name="Freeform 598"/>
                  <p:cNvSpPr/>
                  <p:nvPr/>
                </p:nvSpPr>
                <p:spPr>
                  <a:xfrm flipH="1" flipV="1" rot="20406600">
                    <a:off x="4169520" y="3573000"/>
                    <a:ext cx="10800" cy="23400"/>
                  </a:xfrm>
                  <a:custGeom>
                    <a:avLst/>
                    <a:gdLst>
                      <a:gd name="textAreaLeft" fmla="*/ 360 w 10800"/>
                      <a:gd name="textAreaRight" fmla="*/ 11520 w 10800"/>
                      <a:gd name="textAreaTop" fmla="*/ -360 h 23400"/>
                      <a:gd name="textAreaBottom" fmla="*/ 23400 h 23400"/>
                    </a:gdLst>
                    <a:ahLst/>
                    <a:rect l="textAreaLeft" t="textAreaTop" r="textAreaRight" b="textAreaBottom"/>
                    <a:pathLst>
                      <a:path w="90" h="181">
                        <a:moveTo>
                          <a:pt x="45" y="181"/>
                        </a:moveTo>
                        <a:cubicBezTo>
                          <a:pt x="30" y="181"/>
                          <a:pt x="0" y="120"/>
                          <a:pt x="0" y="90"/>
                        </a:cubicBezTo>
                        <a:cubicBezTo>
                          <a:pt x="0" y="60"/>
                          <a:pt x="30" y="0"/>
                          <a:pt x="45" y="0"/>
                        </a:cubicBezTo>
                        <a:cubicBezTo>
                          <a:pt x="60" y="0"/>
                          <a:pt x="90" y="60"/>
                          <a:pt x="90" y="90"/>
                        </a:cubicBezTo>
                        <a:cubicBezTo>
                          <a:pt x="90" y="120"/>
                          <a:pt x="60" y="181"/>
                          <a:pt x="45" y="181"/>
                        </a:cubicBezTo>
                        <a:close/>
                      </a:path>
                    </a:pathLst>
                  </a:custGeom>
                  <a:noFill/>
                  <a:ln w="648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3" name="Freeform 599"/>
                  <p:cNvSpPr/>
                  <p:nvPr/>
                </p:nvSpPr>
                <p:spPr>
                  <a:xfrm flipH="1" flipV="1" rot="21512400">
                    <a:off x="4167000" y="3573000"/>
                    <a:ext cx="10800" cy="23040"/>
                  </a:xfrm>
                  <a:custGeom>
                    <a:avLst/>
                    <a:gdLst>
                      <a:gd name="textAreaLeft" fmla="*/ 360 w 10800"/>
                      <a:gd name="textAreaRight" fmla="*/ 11520 w 10800"/>
                      <a:gd name="textAreaTop" fmla="*/ 360 h 23040"/>
                      <a:gd name="textAreaBottom" fmla="*/ 23760 h 23040"/>
                    </a:gdLst>
                    <a:ahLst/>
                    <a:rect l="textAreaLeft" t="textAreaTop" r="textAreaRight" b="textAreaBottom"/>
                    <a:pathLst>
                      <a:path w="90" h="181">
                        <a:moveTo>
                          <a:pt x="45" y="181"/>
                        </a:moveTo>
                        <a:cubicBezTo>
                          <a:pt x="30" y="181"/>
                          <a:pt x="0" y="120"/>
                          <a:pt x="0" y="90"/>
                        </a:cubicBezTo>
                        <a:cubicBezTo>
                          <a:pt x="0" y="60"/>
                          <a:pt x="30" y="0"/>
                          <a:pt x="45" y="0"/>
                        </a:cubicBezTo>
                        <a:cubicBezTo>
                          <a:pt x="60" y="0"/>
                          <a:pt x="90" y="60"/>
                          <a:pt x="90" y="90"/>
                        </a:cubicBezTo>
                        <a:cubicBezTo>
                          <a:pt x="90" y="120"/>
                          <a:pt x="60" y="181"/>
                          <a:pt x="45" y="181"/>
                        </a:cubicBezTo>
                        <a:close/>
                      </a:path>
                    </a:pathLst>
                  </a:custGeom>
                  <a:noFill/>
                  <a:ln w="648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4" name="Freeform 600"/>
                  <p:cNvSpPr/>
                  <p:nvPr/>
                </p:nvSpPr>
                <p:spPr>
                  <a:xfrm flipH="1" flipV="1" rot="1168200">
                    <a:off x="4162320" y="3573720"/>
                    <a:ext cx="10800" cy="23040"/>
                  </a:xfrm>
                  <a:custGeom>
                    <a:avLst/>
                    <a:gdLst>
                      <a:gd name="textAreaLeft" fmla="*/ 360 w 10800"/>
                      <a:gd name="textAreaRight" fmla="*/ 11520 w 10800"/>
                      <a:gd name="textAreaTop" fmla="*/ 360 h 23040"/>
                      <a:gd name="textAreaBottom" fmla="*/ 23760 h 23040"/>
                    </a:gdLst>
                    <a:ahLst/>
                    <a:rect l="textAreaLeft" t="textAreaTop" r="textAreaRight" b="textAreaBottom"/>
                    <a:pathLst>
                      <a:path w="90" h="181">
                        <a:moveTo>
                          <a:pt x="45" y="181"/>
                        </a:moveTo>
                        <a:cubicBezTo>
                          <a:pt x="30" y="181"/>
                          <a:pt x="0" y="120"/>
                          <a:pt x="0" y="90"/>
                        </a:cubicBezTo>
                        <a:cubicBezTo>
                          <a:pt x="0" y="60"/>
                          <a:pt x="30" y="0"/>
                          <a:pt x="45" y="0"/>
                        </a:cubicBezTo>
                        <a:cubicBezTo>
                          <a:pt x="60" y="0"/>
                          <a:pt x="90" y="60"/>
                          <a:pt x="90" y="90"/>
                        </a:cubicBezTo>
                        <a:cubicBezTo>
                          <a:pt x="90" y="120"/>
                          <a:pt x="60" y="181"/>
                          <a:pt x="45" y="181"/>
                        </a:cubicBezTo>
                        <a:close/>
                      </a:path>
                    </a:pathLst>
                  </a:custGeom>
                  <a:noFill/>
                  <a:ln w="648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5" name="Freeform 601"/>
                  <p:cNvSpPr/>
                  <p:nvPr/>
                </p:nvSpPr>
                <p:spPr>
                  <a:xfrm flipV="1" rot="8649600">
                    <a:off x="4152960" y="3544560"/>
                    <a:ext cx="10800" cy="23040"/>
                  </a:xfrm>
                  <a:custGeom>
                    <a:avLst/>
                    <a:gdLst>
                      <a:gd name="textAreaLeft" fmla="*/ 0 w 10800"/>
                      <a:gd name="textAreaRight" fmla="*/ 11160 w 10800"/>
                      <a:gd name="textAreaTop" fmla="*/ 360 h 23040"/>
                      <a:gd name="textAreaBottom" fmla="*/ 23760 h 23040"/>
                    </a:gdLst>
                    <a:ahLst/>
                    <a:rect l="textAreaLeft" t="textAreaTop" r="textAreaRight" b="textAreaBottom"/>
                    <a:pathLst>
                      <a:path w="90" h="181">
                        <a:moveTo>
                          <a:pt x="45" y="181"/>
                        </a:moveTo>
                        <a:cubicBezTo>
                          <a:pt x="30" y="181"/>
                          <a:pt x="0" y="120"/>
                          <a:pt x="0" y="90"/>
                        </a:cubicBezTo>
                        <a:cubicBezTo>
                          <a:pt x="0" y="60"/>
                          <a:pt x="30" y="0"/>
                          <a:pt x="45" y="0"/>
                        </a:cubicBezTo>
                        <a:cubicBezTo>
                          <a:pt x="60" y="0"/>
                          <a:pt x="90" y="60"/>
                          <a:pt x="90" y="90"/>
                        </a:cubicBezTo>
                        <a:cubicBezTo>
                          <a:pt x="90" y="120"/>
                          <a:pt x="60" y="181"/>
                          <a:pt x="45" y="181"/>
                        </a:cubicBezTo>
                        <a:close/>
                      </a:path>
                    </a:pathLst>
                  </a:custGeom>
                  <a:noFill/>
                  <a:ln w="648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6" name="Freeform 602"/>
                  <p:cNvSpPr/>
                  <p:nvPr/>
                </p:nvSpPr>
                <p:spPr>
                  <a:xfrm flipV="1" rot="7544400">
                    <a:off x="4151160" y="3545640"/>
                    <a:ext cx="9720" cy="24840"/>
                  </a:xfrm>
                  <a:custGeom>
                    <a:avLst/>
                    <a:gdLst>
                      <a:gd name="textAreaLeft" fmla="*/ 0 w 9720"/>
                      <a:gd name="textAreaRight" fmla="*/ 10080 w 9720"/>
                      <a:gd name="textAreaTop" fmla="*/ -360 h 24840"/>
                      <a:gd name="textAreaBottom" fmla="*/ 24840 h 24840"/>
                    </a:gdLst>
                    <a:ahLst/>
                    <a:rect l="textAreaLeft" t="textAreaTop" r="textAreaRight" b="textAreaBottom"/>
                    <a:pathLst>
                      <a:path w="90" h="181">
                        <a:moveTo>
                          <a:pt x="45" y="181"/>
                        </a:moveTo>
                        <a:cubicBezTo>
                          <a:pt x="30" y="181"/>
                          <a:pt x="0" y="120"/>
                          <a:pt x="0" y="90"/>
                        </a:cubicBezTo>
                        <a:cubicBezTo>
                          <a:pt x="0" y="60"/>
                          <a:pt x="30" y="0"/>
                          <a:pt x="45" y="0"/>
                        </a:cubicBezTo>
                        <a:cubicBezTo>
                          <a:pt x="60" y="0"/>
                          <a:pt x="90" y="60"/>
                          <a:pt x="90" y="90"/>
                        </a:cubicBezTo>
                        <a:cubicBezTo>
                          <a:pt x="90" y="120"/>
                          <a:pt x="60" y="181"/>
                          <a:pt x="45" y="181"/>
                        </a:cubicBezTo>
                        <a:close/>
                      </a:path>
                    </a:pathLst>
                  </a:custGeom>
                  <a:noFill/>
                  <a:ln w="648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7" name="Freeform 603"/>
                  <p:cNvSpPr/>
                  <p:nvPr/>
                </p:nvSpPr>
                <p:spPr>
                  <a:xfrm flipV="1" rot="6288000">
                    <a:off x="4149360" y="3549600"/>
                    <a:ext cx="9720" cy="24480"/>
                  </a:xfrm>
                  <a:custGeom>
                    <a:avLst/>
                    <a:gdLst>
                      <a:gd name="textAreaLeft" fmla="*/ 0 w 9720"/>
                      <a:gd name="textAreaRight" fmla="*/ 10080 w 9720"/>
                      <a:gd name="textAreaTop" fmla="*/ 360 h 24480"/>
                      <a:gd name="textAreaBottom" fmla="*/ 25200 h 24480"/>
                    </a:gdLst>
                    <a:ahLst/>
                    <a:rect l="textAreaLeft" t="textAreaTop" r="textAreaRight" b="textAreaBottom"/>
                    <a:pathLst>
                      <a:path w="90" h="181">
                        <a:moveTo>
                          <a:pt x="45" y="181"/>
                        </a:moveTo>
                        <a:cubicBezTo>
                          <a:pt x="30" y="181"/>
                          <a:pt x="0" y="120"/>
                          <a:pt x="0" y="90"/>
                        </a:cubicBezTo>
                        <a:cubicBezTo>
                          <a:pt x="0" y="60"/>
                          <a:pt x="30" y="0"/>
                          <a:pt x="45" y="0"/>
                        </a:cubicBezTo>
                        <a:cubicBezTo>
                          <a:pt x="60" y="0"/>
                          <a:pt x="90" y="60"/>
                          <a:pt x="90" y="90"/>
                        </a:cubicBezTo>
                        <a:cubicBezTo>
                          <a:pt x="90" y="120"/>
                          <a:pt x="60" y="181"/>
                          <a:pt x="45" y="181"/>
                        </a:cubicBezTo>
                        <a:close/>
                      </a:path>
                    </a:pathLst>
                  </a:custGeom>
                  <a:noFill/>
                  <a:ln w="648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8" name="Freeform 604"/>
                  <p:cNvSpPr/>
                  <p:nvPr/>
                </p:nvSpPr>
                <p:spPr>
                  <a:xfrm flipH="1" flipV="1" rot="3727800">
                    <a:off x="4223160" y="3532680"/>
                    <a:ext cx="8280" cy="16920"/>
                  </a:xfrm>
                  <a:custGeom>
                    <a:avLst/>
                    <a:gdLst>
                      <a:gd name="textAreaLeft" fmla="*/ -360 w 8280"/>
                      <a:gd name="textAreaRight" fmla="*/ 8280 w 8280"/>
                      <a:gd name="textAreaTop" fmla="*/ -360 h 16920"/>
                      <a:gd name="textAreaBottom" fmla="*/ 16920 h 16920"/>
                    </a:gdLst>
                    <a:ahLst/>
                    <a:rect l="textAreaLeft" t="textAreaTop" r="textAreaRight" b="textAreaBottom"/>
                    <a:pathLst>
                      <a:path w="36" h="68">
                        <a:moveTo>
                          <a:pt x="9" y="0"/>
                        </a:moveTo>
                        <a:cubicBezTo>
                          <a:pt x="10" y="0"/>
                          <a:pt x="30" y="5"/>
                          <a:pt x="24" y="12"/>
                        </a:cubicBezTo>
                        <a:cubicBezTo>
                          <a:pt x="20" y="17"/>
                          <a:pt x="6" y="18"/>
                          <a:pt x="6" y="18"/>
                        </a:cubicBezTo>
                        <a:cubicBezTo>
                          <a:pt x="8" y="21"/>
                          <a:pt x="9" y="25"/>
                          <a:pt x="12" y="27"/>
                        </a:cubicBezTo>
                        <a:cubicBezTo>
                          <a:pt x="22" y="35"/>
                          <a:pt x="32" y="35"/>
                          <a:pt x="6" y="42"/>
                        </a:cubicBezTo>
                        <a:cubicBezTo>
                          <a:pt x="36" y="52"/>
                          <a:pt x="23" y="55"/>
                          <a:pt x="0" y="60"/>
                        </a:cubicBezTo>
                        <a:cubicBezTo>
                          <a:pt x="13" y="68"/>
                          <a:pt x="8" y="63"/>
                          <a:pt x="21" y="63"/>
                        </a:cubicBezTo>
                      </a:path>
                    </a:pathLst>
                  </a:custGeom>
                  <a:solidFill>
                    <a:srgbClr val="663366"/>
                  </a:solidFill>
                  <a:ln w="9360">
                    <a:solidFill>
                      <a:srgbClr val="66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9" name="Freeform 605"/>
                  <p:cNvSpPr/>
                  <p:nvPr/>
                </p:nvSpPr>
                <p:spPr>
                  <a:xfrm flipH="1" flipV="1" rot="3727800">
                    <a:off x="4220280" y="3529080"/>
                    <a:ext cx="7560" cy="16560"/>
                  </a:xfrm>
                  <a:custGeom>
                    <a:avLst/>
                    <a:gdLst>
                      <a:gd name="textAreaLeft" fmla="*/ -360 w 7560"/>
                      <a:gd name="textAreaRight" fmla="*/ 7560 w 7560"/>
                      <a:gd name="textAreaTop" fmla="*/ 360 h 16560"/>
                      <a:gd name="textAreaBottom" fmla="*/ 17280 h 16560"/>
                    </a:gdLst>
                    <a:ahLst/>
                    <a:rect l="textAreaLeft" t="textAreaTop" r="textAreaRight" b="textAreaBottom"/>
                    <a:pathLst>
                      <a:path w="36" h="68">
                        <a:moveTo>
                          <a:pt x="9" y="0"/>
                        </a:moveTo>
                        <a:cubicBezTo>
                          <a:pt x="10" y="0"/>
                          <a:pt x="30" y="5"/>
                          <a:pt x="24" y="12"/>
                        </a:cubicBezTo>
                        <a:cubicBezTo>
                          <a:pt x="20" y="17"/>
                          <a:pt x="6" y="18"/>
                          <a:pt x="6" y="18"/>
                        </a:cubicBezTo>
                        <a:cubicBezTo>
                          <a:pt x="8" y="21"/>
                          <a:pt x="9" y="25"/>
                          <a:pt x="12" y="27"/>
                        </a:cubicBezTo>
                        <a:cubicBezTo>
                          <a:pt x="22" y="35"/>
                          <a:pt x="32" y="35"/>
                          <a:pt x="6" y="42"/>
                        </a:cubicBezTo>
                        <a:cubicBezTo>
                          <a:pt x="36" y="52"/>
                          <a:pt x="23" y="55"/>
                          <a:pt x="0" y="60"/>
                        </a:cubicBezTo>
                        <a:cubicBezTo>
                          <a:pt x="13" y="68"/>
                          <a:pt x="8" y="63"/>
                          <a:pt x="21" y="63"/>
                        </a:cubicBezTo>
                      </a:path>
                    </a:pathLst>
                  </a:custGeom>
                  <a:solidFill>
                    <a:srgbClr val="663366"/>
                  </a:solidFill>
                  <a:ln w="9360">
                    <a:solidFill>
                      <a:srgbClr val="66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0" name="Oval 606"/>
                  <p:cNvSpPr/>
                  <p:nvPr/>
                </p:nvSpPr>
                <p:spPr>
                  <a:xfrm flipH="1" flipV="1" rot="3727800">
                    <a:off x="4237560" y="3531240"/>
                    <a:ext cx="5040" cy="11520"/>
                  </a:xfrm>
                  <a:prstGeom prst="ellipse">
                    <a:avLst/>
                  </a:prstGeom>
                  <a:solidFill>
                    <a:srgbClr val="663366"/>
                  </a:solidFill>
                  <a:ln w="9360">
                    <a:solidFill>
                      <a:srgbClr val="66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1" name="Oval 607"/>
                  <p:cNvSpPr/>
                  <p:nvPr/>
                </p:nvSpPr>
                <p:spPr>
                  <a:xfrm flipH="1" flipV="1" rot="3727800">
                    <a:off x="4234320" y="3526560"/>
                    <a:ext cx="5400" cy="10800"/>
                  </a:xfrm>
                  <a:prstGeom prst="ellipse">
                    <a:avLst/>
                  </a:prstGeom>
                  <a:solidFill>
                    <a:srgbClr val="663366"/>
                  </a:solidFill>
                  <a:ln w="9360">
                    <a:solidFill>
                      <a:srgbClr val="66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2" name="AutoShape 608"/>
                  <p:cNvSpPr/>
                  <p:nvPr/>
                </p:nvSpPr>
                <p:spPr>
                  <a:xfrm flipH="1" flipV="1">
                    <a:off x="4454280" y="3593520"/>
                    <a:ext cx="20520" cy="18360"/>
                  </a:xfrm>
                  <a:custGeom>
                    <a:avLst/>
                    <a:gdLst>
                      <a:gd name="textAreaLeft" fmla="*/ 12240 w 20520"/>
                      <a:gd name="textAreaRight" fmla="*/ 12960 w 20520"/>
                      <a:gd name="textAreaTop" fmla="*/ 720 h 18360"/>
                      <a:gd name="textAreaBottom" fmla="*/ 17640 h 18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7719" y="2482"/>
                          <a:pt x="13837" y="5080"/>
                          <a:pt x="13837" y="10800"/>
                        </a:cubicBezTo>
                        <a:cubicBezTo>
                          <a:pt x="13837" y="16520"/>
                          <a:pt x="17719" y="19118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3" name="Freeform 609"/>
                  <p:cNvSpPr/>
                  <p:nvPr/>
                </p:nvSpPr>
                <p:spPr>
                  <a:xfrm rot="444000">
                    <a:off x="4282560" y="3452760"/>
                    <a:ext cx="71280" cy="115560"/>
                  </a:xfrm>
                  <a:custGeom>
                    <a:avLst/>
                    <a:gdLst>
                      <a:gd name="textAreaLeft" fmla="*/ 0 w 71280"/>
                      <a:gd name="textAreaRight" fmla="*/ 71640 w 71280"/>
                      <a:gd name="textAreaTop" fmla="*/ 0 h 115560"/>
                      <a:gd name="textAreaBottom" fmla="*/ 115920 h 115560"/>
                    </a:gdLst>
                    <a:ahLst/>
                    <a:rect l="textAreaLeft" t="textAreaTop" r="textAreaRight" b="textAreaBottom"/>
                    <a:pathLst>
                      <a:path w="196" h="430">
                        <a:moveTo>
                          <a:pt x="15" y="60"/>
                        </a:moveTo>
                        <a:cubicBezTo>
                          <a:pt x="30" y="0"/>
                          <a:pt x="76" y="7"/>
                          <a:pt x="106" y="14"/>
                        </a:cubicBezTo>
                        <a:cubicBezTo>
                          <a:pt x="136" y="21"/>
                          <a:pt x="196" y="45"/>
                          <a:pt x="196" y="105"/>
                        </a:cubicBezTo>
                        <a:cubicBezTo>
                          <a:pt x="196" y="165"/>
                          <a:pt x="136" y="332"/>
                          <a:pt x="106" y="377"/>
                        </a:cubicBezTo>
                        <a:cubicBezTo>
                          <a:pt x="76" y="422"/>
                          <a:pt x="30" y="430"/>
                          <a:pt x="15" y="377"/>
                        </a:cubicBezTo>
                        <a:cubicBezTo>
                          <a:pt x="0" y="324"/>
                          <a:pt x="0" y="120"/>
                          <a:pt x="15" y="60"/>
                        </a:cubicBezTo>
                        <a:close/>
                      </a:path>
                    </a:pathLst>
                  </a:cu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84" name="Group 526"/>
              <p:cNvGrpSpPr/>
              <p:nvPr/>
            </p:nvGrpSpPr>
            <p:grpSpPr>
              <a:xfrm>
                <a:off x="4032720" y="2808720"/>
                <a:ext cx="338040" cy="352080"/>
                <a:chOff x="4032720" y="2808720"/>
                <a:chExt cx="338040" cy="352080"/>
              </a:xfrm>
            </p:grpSpPr>
            <p:sp>
              <p:nvSpPr>
                <p:cNvPr id="1585" name="Oval 527"/>
                <p:cNvSpPr/>
                <p:nvPr/>
              </p:nvSpPr>
              <p:spPr>
                <a:xfrm flipV="1" rot="21360000">
                  <a:off x="4183200" y="3085200"/>
                  <a:ext cx="45360" cy="52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424267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6" name="AutoShape 528"/>
                <p:cNvSpPr/>
                <p:nvPr/>
              </p:nvSpPr>
              <p:spPr>
                <a:xfrm flipV="1" rot="21360000">
                  <a:off x="4215960" y="3099240"/>
                  <a:ext cx="21240" cy="18360"/>
                </a:xfrm>
                <a:custGeom>
                  <a:avLst/>
                  <a:gdLst>
                    <a:gd name="textAreaLeft" fmla="*/ 12960 w 21240"/>
                    <a:gd name="textAreaRight" fmla="*/ 13680 w 21240"/>
                    <a:gd name="textAreaTop" fmla="*/ 720 h 18360"/>
                    <a:gd name="textAreaBottom" fmla="*/ 17640 h 18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7719" y="2482"/>
                        <a:pt x="13837" y="5080"/>
                        <a:pt x="13837" y="10800"/>
                      </a:cubicBezTo>
                      <a:cubicBezTo>
                        <a:pt x="13837" y="16520"/>
                        <a:pt x="17719" y="1911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7" name="Freeform 529"/>
                <p:cNvSpPr/>
                <p:nvPr/>
              </p:nvSpPr>
              <p:spPr>
                <a:xfrm flipV="1" rot="297000">
                  <a:off x="4196880" y="3135960"/>
                  <a:ext cx="10440" cy="23040"/>
                </a:xfrm>
                <a:custGeom>
                  <a:avLst/>
                  <a:gdLst>
                    <a:gd name="textAreaLeft" fmla="*/ 0 w 10440"/>
                    <a:gd name="textAreaRight" fmla="*/ 10800 w 10440"/>
                    <a:gd name="textAreaTop" fmla="*/ 360 h 23040"/>
                    <a:gd name="textAreaBottom" fmla="*/ 23760 h 2304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8" name="Freeform 530"/>
                <p:cNvSpPr/>
                <p:nvPr/>
              </p:nvSpPr>
              <p:spPr>
                <a:xfrm flipV="1" rot="20640600">
                  <a:off x="4200480" y="3135600"/>
                  <a:ext cx="10800" cy="23400"/>
                </a:xfrm>
                <a:custGeom>
                  <a:avLst/>
                  <a:gdLst>
                    <a:gd name="textAreaLeft" fmla="*/ 0 w 10800"/>
                    <a:gd name="textAreaRight" fmla="*/ 11160 w 10800"/>
                    <a:gd name="textAreaTop" fmla="*/ -360 h 23400"/>
                    <a:gd name="textAreaBottom" fmla="*/ 23400 h 2340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9" name="Freeform 531"/>
                <p:cNvSpPr/>
                <p:nvPr/>
              </p:nvSpPr>
              <p:spPr>
                <a:xfrm flipH="1" flipV="1" rot="16437600">
                  <a:off x="4218480" y="3125160"/>
                  <a:ext cx="9720" cy="24840"/>
                </a:xfrm>
                <a:custGeom>
                  <a:avLst/>
                  <a:gdLst>
                    <a:gd name="textAreaLeft" fmla="*/ -360 w 9720"/>
                    <a:gd name="textAreaRight" fmla="*/ 9720 w 9720"/>
                    <a:gd name="textAreaTop" fmla="*/ -360 h 24840"/>
                    <a:gd name="textAreaBottom" fmla="*/ 24840 h 2484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0" name="Freeform 532"/>
                <p:cNvSpPr/>
                <p:nvPr/>
              </p:nvSpPr>
              <p:spPr>
                <a:xfrm flipH="1" flipV="1" rot="17543400">
                  <a:off x="4219200" y="3126960"/>
                  <a:ext cx="9720" cy="24840"/>
                </a:xfrm>
                <a:custGeom>
                  <a:avLst/>
                  <a:gdLst>
                    <a:gd name="textAreaLeft" fmla="*/ -360 w 9720"/>
                    <a:gd name="textAreaRight" fmla="*/ 9720 w 9720"/>
                    <a:gd name="textAreaTop" fmla="*/ -360 h 24840"/>
                    <a:gd name="textAreaBottom" fmla="*/ 24840 h 2484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1" name="Freeform 533"/>
                <p:cNvSpPr/>
                <p:nvPr/>
              </p:nvSpPr>
              <p:spPr>
                <a:xfrm flipH="1" flipV="1" rot="18799800">
                  <a:off x="4215600" y="3131280"/>
                  <a:ext cx="10080" cy="24840"/>
                </a:xfrm>
                <a:custGeom>
                  <a:avLst/>
                  <a:gdLst>
                    <a:gd name="textAreaLeft" fmla="*/ 360 w 10080"/>
                    <a:gd name="textAreaRight" fmla="*/ 10800 w 10080"/>
                    <a:gd name="textAreaTop" fmla="*/ -360 h 24840"/>
                    <a:gd name="textAreaBottom" fmla="*/ 24840 h 2484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2" name="Freeform 534"/>
                <p:cNvSpPr/>
                <p:nvPr/>
              </p:nvSpPr>
              <p:spPr>
                <a:xfrm flipV="1" rot="21360000">
                  <a:off x="4197240" y="3067560"/>
                  <a:ext cx="9000" cy="15480"/>
                </a:xfrm>
                <a:custGeom>
                  <a:avLst/>
                  <a:gdLst>
                    <a:gd name="textAreaLeft" fmla="*/ 0 w 9000"/>
                    <a:gd name="textAreaRight" fmla="*/ 9360 w 9000"/>
                    <a:gd name="textAreaTop" fmla="*/ -360 h 15480"/>
                    <a:gd name="textAreaBottom" fmla="*/ 15480 h 15480"/>
                  </a:gdLst>
                  <a:ahLst/>
                  <a:rect l="textAreaLeft" t="textAreaTop" r="textAreaRight" b="textAreaBottom"/>
                  <a:pathLst>
                    <a:path w="36" h="68">
                      <a:moveTo>
                        <a:pt x="9" y="0"/>
                      </a:moveTo>
                      <a:cubicBezTo>
                        <a:pt x="10" y="0"/>
                        <a:pt x="30" y="5"/>
                        <a:pt x="24" y="12"/>
                      </a:cubicBezTo>
                      <a:cubicBezTo>
                        <a:pt x="20" y="17"/>
                        <a:pt x="6" y="18"/>
                        <a:pt x="6" y="18"/>
                      </a:cubicBezTo>
                      <a:cubicBezTo>
                        <a:pt x="8" y="21"/>
                        <a:pt x="9" y="25"/>
                        <a:pt x="12" y="27"/>
                      </a:cubicBezTo>
                      <a:cubicBezTo>
                        <a:pt x="22" y="35"/>
                        <a:pt x="32" y="35"/>
                        <a:pt x="6" y="42"/>
                      </a:cubicBezTo>
                      <a:cubicBezTo>
                        <a:pt x="36" y="52"/>
                        <a:pt x="23" y="55"/>
                        <a:pt x="0" y="60"/>
                      </a:cubicBezTo>
                      <a:cubicBezTo>
                        <a:pt x="13" y="68"/>
                        <a:pt x="8" y="63"/>
                        <a:pt x="21" y="63"/>
                      </a:cubicBezTo>
                    </a:path>
                  </a:pathLst>
                </a:custGeom>
                <a:noFill/>
                <a:ln w="9360">
                  <a:solidFill>
                    <a:srgbClr val="66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3" name="Freeform 535"/>
                <p:cNvSpPr/>
                <p:nvPr/>
              </p:nvSpPr>
              <p:spPr>
                <a:xfrm flipV="1" rot="21360000">
                  <a:off x="4202640" y="3066840"/>
                  <a:ext cx="9000" cy="15480"/>
                </a:xfrm>
                <a:custGeom>
                  <a:avLst/>
                  <a:gdLst>
                    <a:gd name="textAreaLeft" fmla="*/ 0 w 9000"/>
                    <a:gd name="textAreaRight" fmla="*/ 9360 w 9000"/>
                    <a:gd name="textAreaTop" fmla="*/ -360 h 15480"/>
                    <a:gd name="textAreaBottom" fmla="*/ 15480 h 15480"/>
                  </a:gdLst>
                  <a:ahLst/>
                  <a:rect l="textAreaLeft" t="textAreaTop" r="textAreaRight" b="textAreaBottom"/>
                  <a:pathLst>
                    <a:path w="36" h="68">
                      <a:moveTo>
                        <a:pt x="9" y="0"/>
                      </a:moveTo>
                      <a:cubicBezTo>
                        <a:pt x="10" y="0"/>
                        <a:pt x="30" y="5"/>
                        <a:pt x="24" y="12"/>
                      </a:cubicBezTo>
                      <a:cubicBezTo>
                        <a:pt x="20" y="17"/>
                        <a:pt x="6" y="18"/>
                        <a:pt x="6" y="18"/>
                      </a:cubicBezTo>
                      <a:cubicBezTo>
                        <a:pt x="8" y="21"/>
                        <a:pt x="9" y="25"/>
                        <a:pt x="12" y="27"/>
                      </a:cubicBezTo>
                      <a:cubicBezTo>
                        <a:pt x="22" y="35"/>
                        <a:pt x="32" y="35"/>
                        <a:pt x="6" y="42"/>
                      </a:cubicBezTo>
                      <a:cubicBezTo>
                        <a:pt x="36" y="52"/>
                        <a:pt x="23" y="55"/>
                        <a:pt x="0" y="60"/>
                      </a:cubicBezTo>
                      <a:cubicBezTo>
                        <a:pt x="13" y="68"/>
                        <a:pt x="8" y="63"/>
                        <a:pt x="21" y="63"/>
                      </a:cubicBezTo>
                    </a:path>
                  </a:pathLst>
                </a:custGeom>
                <a:noFill/>
                <a:ln w="9360">
                  <a:solidFill>
                    <a:srgbClr val="66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4" name="Oval 536"/>
                <p:cNvSpPr/>
                <p:nvPr/>
              </p:nvSpPr>
              <p:spPr>
                <a:xfrm flipV="1" rot="21360000">
                  <a:off x="4197240" y="3058200"/>
                  <a:ext cx="5400" cy="10440"/>
                </a:xfrm>
                <a:prstGeom prst="ellipse">
                  <a:avLst/>
                </a:prstGeom>
                <a:solidFill>
                  <a:srgbClr val="663366"/>
                </a:solidFill>
                <a:ln w="9360">
                  <a:solidFill>
                    <a:srgbClr val="66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5" name="Oval 537"/>
                <p:cNvSpPr/>
                <p:nvPr/>
              </p:nvSpPr>
              <p:spPr>
                <a:xfrm flipV="1" rot="21360000">
                  <a:off x="4202280" y="3057120"/>
                  <a:ext cx="5760" cy="10440"/>
                </a:xfrm>
                <a:prstGeom prst="ellipse">
                  <a:avLst/>
                </a:prstGeom>
                <a:solidFill>
                  <a:srgbClr val="663366"/>
                </a:solidFill>
                <a:ln w="9360">
                  <a:solidFill>
                    <a:srgbClr val="66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6" name="Freeform 538"/>
                <p:cNvSpPr/>
                <p:nvPr/>
              </p:nvSpPr>
              <p:spPr>
                <a:xfrm flipV="1" rot="1402800">
                  <a:off x="4194000" y="3135960"/>
                  <a:ext cx="10800" cy="23040"/>
                </a:xfrm>
                <a:custGeom>
                  <a:avLst/>
                  <a:gdLst>
                    <a:gd name="textAreaLeft" fmla="*/ 0 w 10800"/>
                    <a:gd name="textAreaRight" fmla="*/ 11160 w 10800"/>
                    <a:gd name="textAreaTop" fmla="*/ 360 h 23040"/>
                    <a:gd name="textAreaBottom" fmla="*/ 23760 h 23040"/>
                  </a:gdLst>
                  <a:ahLst/>
                  <a:rect l="textAreaLeft" t="textAreaTop" r="textAreaRight" b="textAreaBottom"/>
                  <a:pathLst>
                    <a:path w="90" h="181">
                      <a:moveTo>
                        <a:pt x="45" y="181"/>
                      </a:moveTo>
                      <a:cubicBezTo>
                        <a:pt x="30" y="181"/>
                        <a:pt x="0" y="120"/>
                        <a:pt x="0" y="90"/>
                      </a:cubicBezTo>
                      <a:cubicBezTo>
                        <a:pt x="0" y="60"/>
                        <a:pt x="30" y="0"/>
                        <a:pt x="45" y="0"/>
                      </a:cubicBezTo>
                      <a:cubicBezTo>
                        <a:pt x="60" y="0"/>
                        <a:pt x="90" y="60"/>
                        <a:pt x="90" y="90"/>
                      </a:cubicBezTo>
                      <a:cubicBezTo>
                        <a:pt x="90" y="120"/>
                        <a:pt x="60" y="181"/>
                        <a:pt x="45" y="181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7" name="Oval 539"/>
                <p:cNvSpPr/>
                <p:nvPr/>
              </p:nvSpPr>
              <p:spPr>
                <a:xfrm rot="720000">
                  <a:off x="4179600" y="3104280"/>
                  <a:ext cx="16560" cy="15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98" name="Group 540"/>
                <p:cNvGrpSpPr/>
                <p:nvPr/>
              </p:nvGrpSpPr>
              <p:grpSpPr>
                <a:xfrm>
                  <a:off x="4032720" y="2808720"/>
                  <a:ext cx="338040" cy="289440"/>
                  <a:chOff x="4032720" y="2808720"/>
                  <a:chExt cx="338040" cy="289440"/>
                </a:xfrm>
              </p:grpSpPr>
              <p:sp>
                <p:nvSpPr>
                  <p:cNvPr id="1599" name="Oval 541"/>
                  <p:cNvSpPr/>
                  <p:nvPr/>
                </p:nvSpPr>
                <p:spPr>
                  <a:xfrm>
                    <a:off x="4101120" y="2881440"/>
                    <a:ext cx="216000" cy="201240"/>
                  </a:xfrm>
                  <a:prstGeom prst="ellipse">
                    <a:avLst/>
                  </a:prstGeom>
                  <a:solidFill>
                    <a:srgbClr val="666699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Oval 542"/>
                  <p:cNvSpPr/>
                  <p:nvPr/>
                </p:nvSpPr>
                <p:spPr>
                  <a:xfrm>
                    <a:off x="4119120" y="2898000"/>
                    <a:ext cx="180000" cy="167760"/>
                  </a:xfrm>
                  <a:prstGeom prst="ellipse">
                    <a:avLst/>
                  </a:prstGeom>
                  <a:solidFill>
                    <a:srgbClr val="666699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1" name="Oval 543"/>
                  <p:cNvSpPr/>
                  <p:nvPr/>
                </p:nvSpPr>
                <p:spPr>
                  <a:xfrm>
                    <a:off x="4186080" y="2828880"/>
                    <a:ext cx="45000" cy="52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66699"/>
                      </a:gs>
                      <a:gs pos="100000">
                        <a:srgbClr val="424267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2" name="AutoShape 544"/>
                  <p:cNvSpPr/>
                  <p:nvPr/>
                </p:nvSpPr>
                <p:spPr>
                  <a:xfrm flipH="1">
                    <a:off x="4177800" y="2846160"/>
                    <a:ext cx="20880" cy="18360"/>
                  </a:xfrm>
                  <a:custGeom>
                    <a:avLst/>
                    <a:gdLst>
                      <a:gd name="textAreaLeft" fmla="*/ 13320 w 20880"/>
                      <a:gd name="textAreaRight" fmla="*/ 13680 w 20880"/>
                      <a:gd name="textAreaTop" fmla="*/ 720 h 18360"/>
                      <a:gd name="textAreaBottom" fmla="*/ 17640 h 18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7719" y="2482"/>
                          <a:pt x="13837" y="5080"/>
                          <a:pt x="13837" y="10800"/>
                        </a:cubicBezTo>
                        <a:cubicBezTo>
                          <a:pt x="13837" y="16520"/>
                          <a:pt x="17719" y="19118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AutoShape 545"/>
                  <p:cNvSpPr/>
                  <p:nvPr/>
                </p:nvSpPr>
                <p:spPr>
                  <a:xfrm>
                    <a:off x="4218480" y="2846160"/>
                    <a:ext cx="20880" cy="18360"/>
                  </a:xfrm>
                  <a:custGeom>
                    <a:avLst/>
                    <a:gdLst>
                      <a:gd name="textAreaLeft" fmla="*/ 12960 w 20880"/>
                      <a:gd name="textAreaRight" fmla="*/ 13320 w 20880"/>
                      <a:gd name="textAreaTop" fmla="*/ 720 h 18360"/>
                      <a:gd name="textAreaBottom" fmla="*/ 17640 h 18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7719" y="2482"/>
                          <a:pt x="13837" y="5080"/>
                          <a:pt x="13837" y="10800"/>
                        </a:cubicBezTo>
                        <a:cubicBezTo>
                          <a:pt x="13837" y="16520"/>
                          <a:pt x="17719" y="19118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Freeform 546"/>
                  <p:cNvSpPr/>
                  <p:nvPr/>
                </p:nvSpPr>
                <p:spPr>
                  <a:xfrm rot="16677600">
                    <a:off x="4184640" y="2813760"/>
                    <a:ext cx="10440" cy="24840"/>
                  </a:xfrm>
                  <a:custGeom>
                    <a:avLst/>
                    <a:gdLst>
                      <a:gd name="textAreaLeft" fmla="*/ 0 w 10440"/>
                      <a:gd name="textAreaRight" fmla="*/ 10800 w 10440"/>
                      <a:gd name="textAreaTop" fmla="*/ 0 h 24840"/>
                      <a:gd name="textAreaBottom" fmla="*/ 25200 h 24840"/>
                    </a:gdLst>
                    <a:ahLst/>
                    <a:rect l="textAreaLeft" t="textAreaTop" r="textAreaRight" b="textAreaBottom"/>
                    <a:pathLst>
                      <a:path w="90" h="181">
                        <a:moveTo>
                          <a:pt x="45" y="181"/>
                        </a:moveTo>
                        <a:cubicBezTo>
                          <a:pt x="30" y="181"/>
                          <a:pt x="0" y="120"/>
                          <a:pt x="0" y="90"/>
                        </a:cubicBezTo>
                        <a:cubicBezTo>
                          <a:pt x="0" y="60"/>
                          <a:pt x="30" y="0"/>
                          <a:pt x="45" y="0"/>
                        </a:cubicBezTo>
                        <a:cubicBezTo>
                          <a:pt x="60" y="0"/>
                          <a:pt x="90" y="60"/>
                          <a:pt x="90" y="90"/>
                        </a:cubicBezTo>
                        <a:cubicBezTo>
                          <a:pt x="90" y="120"/>
                          <a:pt x="60" y="181"/>
                          <a:pt x="45" y="181"/>
                        </a:cubicBezTo>
                        <a:close/>
                      </a:path>
                    </a:pathLst>
                  </a:custGeom>
                  <a:noFill/>
                  <a:ln w="648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Freeform 547"/>
                  <p:cNvSpPr/>
                  <p:nvPr/>
                </p:nvSpPr>
                <p:spPr>
                  <a:xfrm rot="17784000">
                    <a:off x="4186080" y="2811240"/>
                    <a:ext cx="9720" cy="24840"/>
                  </a:xfrm>
                  <a:custGeom>
                    <a:avLst/>
                    <a:gdLst>
                      <a:gd name="textAreaLeft" fmla="*/ 0 w 9720"/>
                      <a:gd name="textAreaRight" fmla="*/ 10080 w 9720"/>
                      <a:gd name="textAreaTop" fmla="*/ 0 h 24840"/>
                      <a:gd name="textAreaBottom" fmla="*/ 25200 h 24840"/>
                    </a:gdLst>
                    <a:ahLst/>
                    <a:rect l="textAreaLeft" t="textAreaTop" r="textAreaRight" b="textAreaBottom"/>
                    <a:pathLst>
                      <a:path w="90" h="181">
                        <a:moveTo>
                          <a:pt x="45" y="181"/>
                        </a:moveTo>
                        <a:cubicBezTo>
                          <a:pt x="30" y="181"/>
                          <a:pt x="0" y="120"/>
                          <a:pt x="0" y="90"/>
                        </a:cubicBezTo>
                        <a:cubicBezTo>
                          <a:pt x="0" y="60"/>
                          <a:pt x="30" y="0"/>
                          <a:pt x="45" y="0"/>
                        </a:cubicBezTo>
                        <a:cubicBezTo>
                          <a:pt x="60" y="0"/>
                          <a:pt x="90" y="60"/>
                          <a:pt x="90" y="90"/>
                        </a:cubicBezTo>
                        <a:cubicBezTo>
                          <a:pt x="90" y="120"/>
                          <a:pt x="60" y="181"/>
                          <a:pt x="45" y="181"/>
                        </a:cubicBezTo>
                        <a:close/>
                      </a:path>
                    </a:pathLst>
                  </a:custGeom>
                  <a:noFill/>
                  <a:ln w="648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6" name="Freeform 548"/>
                  <p:cNvSpPr/>
                  <p:nvPr/>
                </p:nvSpPr>
                <p:spPr>
                  <a:xfrm rot="19039800">
                    <a:off x="4187880" y="2809440"/>
                    <a:ext cx="10800" cy="23040"/>
                  </a:xfrm>
                  <a:custGeom>
                    <a:avLst/>
                    <a:gdLst>
                      <a:gd name="textAreaLeft" fmla="*/ 0 w 10800"/>
                      <a:gd name="textAreaRight" fmla="*/ 11160 w 108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90" h="181">
                        <a:moveTo>
                          <a:pt x="45" y="181"/>
                        </a:moveTo>
                        <a:cubicBezTo>
                          <a:pt x="30" y="181"/>
                          <a:pt x="0" y="120"/>
                          <a:pt x="0" y="90"/>
                        </a:cubicBezTo>
                        <a:cubicBezTo>
                          <a:pt x="0" y="60"/>
                          <a:pt x="30" y="0"/>
                          <a:pt x="45" y="0"/>
                        </a:cubicBezTo>
                        <a:cubicBezTo>
                          <a:pt x="60" y="0"/>
                          <a:pt x="90" y="60"/>
                          <a:pt x="90" y="90"/>
                        </a:cubicBezTo>
                        <a:cubicBezTo>
                          <a:pt x="90" y="120"/>
                          <a:pt x="60" y="181"/>
                          <a:pt x="45" y="181"/>
                        </a:cubicBezTo>
                        <a:close/>
                      </a:path>
                    </a:pathLst>
                  </a:custGeom>
                  <a:noFill/>
                  <a:ln w="648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7" name="Freeform 549"/>
                  <p:cNvSpPr/>
                  <p:nvPr/>
                </p:nvSpPr>
                <p:spPr>
                  <a:xfrm flipH="1" rot="4922400">
                    <a:off x="4218480" y="2814120"/>
                    <a:ext cx="10440" cy="24480"/>
                  </a:xfrm>
                  <a:custGeom>
                    <a:avLst/>
                    <a:gdLst>
                      <a:gd name="textAreaLeft" fmla="*/ -360 w 10440"/>
                      <a:gd name="textAreaRight" fmla="*/ 10440 w 1044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90" h="181">
                        <a:moveTo>
                          <a:pt x="45" y="181"/>
                        </a:moveTo>
                        <a:cubicBezTo>
                          <a:pt x="30" y="181"/>
                          <a:pt x="0" y="120"/>
                          <a:pt x="0" y="90"/>
                        </a:cubicBezTo>
                        <a:cubicBezTo>
                          <a:pt x="0" y="60"/>
                          <a:pt x="30" y="0"/>
                          <a:pt x="45" y="0"/>
                        </a:cubicBezTo>
                        <a:cubicBezTo>
                          <a:pt x="60" y="0"/>
                          <a:pt x="90" y="60"/>
                          <a:pt x="90" y="90"/>
                        </a:cubicBezTo>
                        <a:cubicBezTo>
                          <a:pt x="90" y="120"/>
                          <a:pt x="60" y="181"/>
                          <a:pt x="45" y="181"/>
                        </a:cubicBezTo>
                        <a:close/>
                      </a:path>
                    </a:pathLst>
                  </a:custGeom>
                  <a:noFill/>
                  <a:ln w="648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8" name="Freeform 550"/>
                  <p:cNvSpPr/>
                  <p:nvPr/>
                </p:nvSpPr>
                <p:spPr>
                  <a:xfrm flipH="1" rot="3816000">
                    <a:off x="4218120" y="2811600"/>
                    <a:ext cx="9720" cy="24480"/>
                  </a:xfrm>
                  <a:custGeom>
                    <a:avLst/>
                    <a:gdLst>
                      <a:gd name="textAreaLeft" fmla="*/ -360 w 9720"/>
                      <a:gd name="textAreaRight" fmla="*/ 9720 w 97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90" h="181">
                        <a:moveTo>
                          <a:pt x="45" y="181"/>
                        </a:moveTo>
                        <a:cubicBezTo>
                          <a:pt x="30" y="181"/>
                          <a:pt x="0" y="120"/>
                          <a:pt x="0" y="90"/>
                        </a:cubicBezTo>
                        <a:cubicBezTo>
                          <a:pt x="0" y="60"/>
                          <a:pt x="30" y="0"/>
                          <a:pt x="45" y="0"/>
                        </a:cubicBezTo>
                        <a:cubicBezTo>
                          <a:pt x="60" y="0"/>
                          <a:pt x="90" y="60"/>
                          <a:pt x="90" y="90"/>
                        </a:cubicBezTo>
                        <a:cubicBezTo>
                          <a:pt x="90" y="120"/>
                          <a:pt x="60" y="181"/>
                          <a:pt x="45" y="181"/>
                        </a:cubicBezTo>
                        <a:close/>
                      </a:path>
                    </a:pathLst>
                  </a:custGeom>
                  <a:noFill/>
                  <a:ln w="648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9" name="Freeform 551"/>
                  <p:cNvSpPr/>
                  <p:nvPr/>
                </p:nvSpPr>
                <p:spPr>
                  <a:xfrm flipH="1" rot="2560200">
                    <a:off x="4215240" y="2809080"/>
                    <a:ext cx="10440" cy="23040"/>
                  </a:xfrm>
                  <a:custGeom>
                    <a:avLst/>
                    <a:gdLst>
                      <a:gd name="textAreaLeft" fmla="*/ -360 w 10440"/>
                      <a:gd name="textAreaRight" fmla="*/ 10440 w 1044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90" h="181">
                        <a:moveTo>
                          <a:pt x="45" y="181"/>
                        </a:moveTo>
                        <a:cubicBezTo>
                          <a:pt x="30" y="181"/>
                          <a:pt x="0" y="120"/>
                          <a:pt x="0" y="90"/>
                        </a:cubicBezTo>
                        <a:cubicBezTo>
                          <a:pt x="0" y="60"/>
                          <a:pt x="30" y="0"/>
                          <a:pt x="45" y="0"/>
                        </a:cubicBezTo>
                        <a:cubicBezTo>
                          <a:pt x="60" y="0"/>
                          <a:pt x="90" y="60"/>
                          <a:pt x="90" y="90"/>
                        </a:cubicBezTo>
                        <a:cubicBezTo>
                          <a:pt x="90" y="120"/>
                          <a:pt x="60" y="181"/>
                          <a:pt x="45" y="181"/>
                        </a:cubicBezTo>
                        <a:close/>
                      </a:path>
                    </a:pathLst>
                  </a:custGeom>
                  <a:noFill/>
                  <a:ln w="648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0" name="Freeform 552"/>
                  <p:cNvSpPr/>
                  <p:nvPr/>
                </p:nvSpPr>
                <p:spPr>
                  <a:xfrm>
                    <a:off x="4202640" y="2882520"/>
                    <a:ext cx="8640" cy="15840"/>
                  </a:xfrm>
                  <a:custGeom>
                    <a:avLst/>
                    <a:gdLst>
                      <a:gd name="textAreaLeft" fmla="*/ 0 w 8640"/>
                      <a:gd name="textAreaRight" fmla="*/ 9000 w 8640"/>
                      <a:gd name="textAreaTop" fmla="*/ 0 h 15840"/>
                      <a:gd name="textAreaBottom" fmla="*/ 16200 h 15840"/>
                    </a:gdLst>
                    <a:ahLst/>
                    <a:rect l="textAreaLeft" t="textAreaTop" r="textAreaRight" b="textAreaBottom"/>
                    <a:pathLst>
                      <a:path w="36" h="68">
                        <a:moveTo>
                          <a:pt x="9" y="0"/>
                        </a:moveTo>
                        <a:cubicBezTo>
                          <a:pt x="10" y="0"/>
                          <a:pt x="30" y="5"/>
                          <a:pt x="24" y="12"/>
                        </a:cubicBezTo>
                        <a:cubicBezTo>
                          <a:pt x="20" y="17"/>
                          <a:pt x="6" y="18"/>
                          <a:pt x="6" y="18"/>
                        </a:cubicBezTo>
                        <a:cubicBezTo>
                          <a:pt x="8" y="21"/>
                          <a:pt x="9" y="25"/>
                          <a:pt x="12" y="27"/>
                        </a:cubicBezTo>
                        <a:cubicBezTo>
                          <a:pt x="22" y="35"/>
                          <a:pt x="32" y="35"/>
                          <a:pt x="6" y="42"/>
                        </a:cubicBezTo>
                        <a:cubicBezTo>
                          <a:pt x="36" y="52"/>
                          <a:pt x="23" y="55"/>
                          <a:pt x="0" y="60"/>
                        </a:cubicBezTo>
                        <a:cubicBezTo>
                          <a:pt x="13" y="68"/>
                          <a:pt x="8" y="63"/>
                          <a:pt x="21" y="63"/>
                        </a:cubicBezTo>
                      </a:path>
                    </a:pathLst>
                  </a:custGeom>
                  <a:solidFill>
                    <a:srgbClr val="663366"/>
                  </a:solidFill>
                  <a:ln w="9360">
                    <a:solidFill>
                      <a:srgbClr val="66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1" name="Freeform 553"/>
                  <p:cNvSpPr/>
                  <p:nvPr/>
                </p:nvSpPr>
                <p:spPr>
                  <a:xfrm>
                    <a:off x="4208040" y="2882880"/>
                    <a:ext cx="8640" cy="15480"/>
                  </a:xfrm>
                  <a:custGeom>
                    <a:avLst/>
                    <a:gdLst>
                      <a:gd name="textAreaLeft" fmla="*/ 0 w 8640"/>
                      <a:gd name="textAreaRight" fmla="*/ 9000 w 864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36" h="68">
                        <a:moveTo>
                          <a:pt x="9" y="0"/>
                        </a:moveTo>
                        <a:cubicBezTo>
                          <a:pt x="10" y="0"/>
                          <a:pt x="30" y="5"/>
                          <a:pt x="24" y="12"/>
                        </a:cubicBezTo>
                        <a:cubicBezTo>
                          <a:pt x="20" y="17"/>
                          <a:pt x="6" y="18"/>
                          <a:pt x="6" y="18"/>
                        </a:cubicBezTo>
                        <a:cubicBezTo>
                          <a:pt x="8" y="21"/>
                          <a:pt x="9" y="25"/>
                          <a:pt x="12" y="27"/>
                        </a:cubicBezTo>
                        <a:cubicBezTo>
                          <a:pt x="22" y="35"/>
                          <a:pt x="32" y="35"/>
                          <a:pt x="6" y="42"/>
                        </a:cubicBezTo>
                        <a:cubicBezTo>
                          <a:pt x="36" y="52"/>
                          <a:pt x="23" y="55"/>
                          <a:pt x="0" y="60"/>
                        </a:cubicBezTo>
                        <a:cubicBezTo>
                          <a:pt x="13" y="68"/>
                          <a:pt x="8" y="63"/>
                          <a:pt x="21" y="63"/>
                        </a:cubicBezTo>
                      </a:path>
                    </a:pathLst>
                  </a:custGeom>
                  <a:solidFill>
                    <a:srgbClr val="663366"/>
                  </a:solidFill>
                  <a:ln w="9360">
                    <a:solidFill>
                      <a:srgbClr val="66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2" name="Oval 554"/>
                  <p:cNvSpPr/>
                  <p:nvPr/>
                </p:nvSpPr>
                <p:spPr>
                  <a:xfrm>
                    <a:off x="4203360" y="2898360"/>
                    <a:ext cx="5400" cy="10440"/>
                  </a:xfrm>
                  <a:prstGeom prst="ellipse">
                    <a:avLst/>
                  </a:prstGeom>
                  <a:solidFill>
                    <a:srgbClr val="663366"/>
                  </a:solidFill>
                  <a:ln w="9360">
                    <a:solidFill>
                      <a:srgbClr val="66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3" name="Oval 555"/>
                  <p:cNvSpPr/>
                  <p:nvPr/>
                </p:nvSpPr>
                <p:spPr>
                  <a:xfrm>
                    <a:off x="4208400" y="2898720"/>
                    <a:ext cx="5400" cy="10440"/>
                  </a:xfrm>
                  <a:prstGeom prst="ellipse">
                    <a:avLst/>
                  </a:prstGeom>
                  <a:solidFill>
                    <a:srgbClr val="663366"/>
                  </a:solidFill>
                  <a:ln w="9360">
                    <a:solidFill>
                      <a:srgbClr val="66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4" name="Oval 556"/>
                  <p:cNvSpPr/>
                  <p:nvPr/>
                </p:nvSpPr>
                <p:spPr>
                  <a:xfrm rot="3348000">
                    <a:off x="4300200" y="2882880"/>
                    <a:ext cx="41760" cy="56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66699"/>
                      </a:gs>
                      <a:gs pos="100000">
                        <a:srgbClr val="424267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5" name="AutoShape 557"/>
                  <p:cNvSpPr/>
                  <p:nvPr/>
                </p:nvSpPr>
                <p:spPr>
                  <a:xfrm flipH="1" rot="3348000">
                    <a:off x="4299120" y="2885760"/>
                    <a:ext cx="19800" cy="19440"/>
                  </a:xfrm>
                  <a:custGeom>
                    <a:avLst/>
                    <a:gdLst>
                      <a:gd name="textAreaLeft" fmla="*/ 12240 w 19800"/>
                      <a:gd name="textAreaRight" fmla="*/ 12600 w 19800"/>
                      <a:gd name="textAreaTop" fmla="*/ 720 h 19440"/>
                      <a:gd name="textAreaBottom" fmla="*/ 18720 h 19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7719" y="2482"/>
                          <a:pt x="13837" y="5080"/>
                          <a:pt x="13837" y="10800"/>
                        </a:cubicBezTo>
                        <a:cubicBezTo>
                          <a:pt x="13837" y="16520"/>
                          <a:pt x="17719" y="19118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6" name="AutoShape 558"/>
                  <p:cNvSpPr/>
                  <p:nvPr/>
                </p:nvSpPr>
                <p:spPr>
                  <a:xfrm rot="3348000">
                    <a:off x="4322160" y="2917080"/>
                    <a:ext cx="19440" cy="19440"/>
                  </a:xfrm>
                  <a:custGeom>
                    <a:avLst/>
                    <a:gdLst>
                      <a:gd name="textAreaLeft" fmla="*/ 11880 w 19440"/>
                      <a:gd name="textAreaRight" fmla="*/ 12600 w 19440"/>
                      <a:gd name="textAreaTop" fmla="*/ 720 h 19440"/>
                      <a:gd name="textAreaBottom" fmla="*/ 18720 h 19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7719" y="2482"/>
                          <a:pt x="13837" y="5080"/>
                          <a:pt x="13837" y="10800"/>
                        </a:cubicBezTo>
                        <a:cubicBezTo>
                          <a:pt x="13837" y="16520"/>
                          <a:pt x="17719" y="19118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7" name="Freeform 559"/>
                  <p:cNvSpPr/>
                  <p:nvPr/>
                </p:nvSpPr>
                <p:spPr>
                  <a:xfrm rot="20025600">
                    <a:off x="4329720" y="2869560"/>
                    <a:ext cx="10800" cy="23040"/>
                  </a:xfrm>
                  <a:custGeom>
                    <a:avLst/>
                    <a:gdLst>
                      <a:gd name="textAreaLeft" fmla="*/ 0 w 10800"/>
                      <a:gd name="textAreaRight" fmla="*/ 11160 w 108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90" h="181">
                        <a:moveTo>
                          <a:pt x="45" y="181"/>
                        </a:moveTo>
                        <a:cubicBezTo>
                          <a:pt x="30" y="181"/>
                          <a:pt x="0" y="120"/>
                          <a:pt x="0" y="90"/>
                        </a:cubicBezTo>
                        <a:cubicBezTo>
                          <a:pt x="0" y="60"/>
                          <a:pt x="30" y="0"/>
                          <a:pt x="45" y="0"/>
                        </a:cubicBezTo>
                        <a:cubicBezTo>
                          <a:pt x="60" y="0"/>
                          <a:pt x="90" y="60"/>
                          <a:pt x="90" y="90"/>
                        </a:cubicBezTo>
                        <a:cubicBezTo>
                          <a:pt x="90" y="120"/>
                          <a:pt x="60" y="181"/>
                          <a:pt x="45" y="181"/>
                        </a:cubicBezTo>
                        <a:close/>
                      </a:path>
                    </a:pathLst>
                  </a:custGeom>
                  <a:noFill/>
                  <a:ln w="648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8" name="Freeform 560"/>
                  <p:cNvSpPr/>
                  <p:nvPr/>
                </p:nvSpPr>
                <p:spPr>
                  <a:xfrm rot="21131400">
                    <a:off x="4333320" y="2868480"/>
                    <a:ext cx="10440" cy="23400"/>
                  </a:xfrm>
                  <a:custGeom>
                    <a:avLst/>
                    <a:gdLst>
                      <a:gd name="textAreaLeft" fmla="*/ 0 w 10440"/>
                      <a:gd name="textAreaRight" fmla="*/ 10800 w 10440"/>
                      <a:gd name="textAreaTop" fmla="*/ 0 h 23400"/>
                      <a:gd name="textAreaBottom" fmla="*/ 23760 h 23400"/>
                    </a:gdLst>
                    <a:ahLst/>
                    <a:rect l="textAreaLeft" t="textAreaTop" r="textAreaRight" b="textAreaBottom"/>
                    <a:pathLst>
                      <a:path w="90" h="181">
                        <a:moveTo>
                          <a:pt x="45" y="181"/>
                        </a:moveTo>
                        <a:cubicBezTo>
                          <a:pt x="30" y="181"/>
                          <a:pt x="0" y="120"/>
                          <a:pt x="0" y="90"/>
                        </a:cubicBezTo>
                        <a:cubicBezTo>
                          <a:pt x="0" y="60"/>
                          <a:pt x="30" y="0"/>
                          <a:pt x="45" y="0"/>
                        </a:cubicBezTo>
                        <a:cubicBezTo>
                          <a:pt x="60" y="0"/>
                          <a:pt x="90" y="60"/>
                          <a:pt x="90" y="90"/>
                        </a:cubicBezTo>
                        <a:cubicBezTo>
                          <a:pt x="90" y="120"/>
                          <a:pt x="60" y="181"/>
                          <a:pt x="45" y="181"/>
                        </a:cubicBezTo>
                        <a:close/>
                      </a:path>
                    </a:pathLst>
                  </a:custGeom>
                  <a:noFill/>
                  <a:ln w="648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9" name="Freeform 561"/>
                  <p:cNvSpPr/>
                  <p:nvPr/>
                </p:nvSpPr>
                <p:spPr>
                  <a:xfrm rot="787800">
                    <a:off x="4336920" y="2868840"/>
                    <a:ext cx="10800" cy="22680"/>
                  </a:xfrm>
                  <a:custGeom>
                    <a:avLst/>
                    <a:gdLst>
                      <a:gd name="textAreaLeft" fmla="*/ 0 w 10800"/>
                      <a:gd name="textAreaRight" fmla="*/ 11160 w 10800"/>
                      <a:gd name="textAreaTop" fmla="*/ 0 h 22680"/>
                      <a:gd name="textAreaBottom" fmla="*/ 23040 h 22680"/>
                    </a:gdLst>
                    <a:ahLst/>
                    <a:rect l="textAreaLeft" t="textAreaTop" r="textAreaRight" b="textAreaBottom"/>
                    <a:pathLst>
                      <a:path w="90" h="181">
                        <a:moveTo>
                          <a:pt x="45" y="181"/>
                        </a:moveTo>
                        <a:cubicBezTo>
                          <a:pt x="30" y="181"/>
                          <a:pt x="0" y="120"/>
                          <a:pt x="0" y="90"/>
                        </a:cubicBezTo>
                        <a:cubicBezTo>
                          <a:pt x="0" y="60"/>
                          <a:pt x="30" y="0"/>
                          <a:pt x="45" y="0"/>
                        </a:cubicBezTo>
                        <a:cubicBezTo>
                          <a:pt x="60" y="0"/>
                          <a:pt x="90" y="60"/>
                          <a:pt x="90" y="90"/>
                        </a:cubicBezTo>
                        <a:cubicBezTo>
                          <a:pt x="90" y="120"/>
                          <a:pt x="60" y="181"/>
                          <a:pt x="45" y="181"/>
                        </a:cubicBezTo>
                        <a:close/>
                      </a:path>
                    </a:pathLst>
                  </a:custGeom>
                  <a:noFill/>
                  <a:ln w="648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0" name="Freeform 562"/>
                  <p:cNvSpPr/>
                  <p:nvPr/>
                </p:nvSpPr>
                <p:spPr>
                  <a:xfrm flipH="1" rot="8269800">
                    <a:off x="4349520" y="2896560"/>
                    <a:ext cx="10800" cy="23040"/>
                  </a:xfrm>
                  <a:custGeom>
                    <a:avLst/>
                    <a:gdLst>
                      <a:gd name="textAreaLeft" fmla="*/ 360 w 10800"/>
                      <a:gd name="textAreaRight" fmla="*/ 11520 w 108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90" h="181">
                        <a:moveTo>
                          <a:pt x="45" y="181"/>
                        </a:moveTo>
                        <a:cubicBezTo>
                          <a:pt x="30" y="181"/>
                          <a:pt x="0" y="120"/>
                          <a:pt x="0" y="90"/>
                        </a:cubicBezTo>
                        <a:cubicBezTo>
                          <a:pt x="0" y="60"/>
                          <a:pt x="30" y="0"/>
                          <a:pt x="45" y="0"/>
                        </a:cubicBezTo>
                        <a:cubicBezTo>
                          <a:pt x="60" y="0"/>
                          <a:pt x="90" y="60"/>
                          <a:pt x="90" y="90"/>
                        </a:cubicBezTo>
                        <a:cubicBezTo>
                          <a:pt x="90" y="120"/>
                          <a:pt x="60" y="181"/>
                          <a:pt x="45" y="181"/>
                        </a:cubicBezTo>
                        <a:close/>
                      </a:path>
                    </a:pathLst>
                  </a:custGeom>
                  <a:noFill/>
                  <a:ln w="648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1" name="Freeform 563"/>
                  <p:cNvSpPr/>
                  <p:nvPr/>
                </p:nvSpPr>
                <p:spPr>
                  <a:xfrm flipH="1" rot="7163400">
                    <a:off x="4352400" y="2893320"/>
                    <a:ext cx="9720" cy="25200"/>
                  </a:xfrm>
                  <a:custGeom>
                    <a:avLst/>
                    <a:gdLst>
                      <a:gd name="textAreaLeft" fmla="*/ -360 w 9720"/>
                      <a:gd name="textAreaRight" fmla="*/ 9720 w 9720"/>
                      <a:gd name="textAreaTop" fmla="*/ 0 h 25200"/>
                      <a:gd name="textAreaBottom" fmla="*/ 25560 h 25200"/>
                    </a:gdLst>
                    <a:ahLst/>
                    <a:rect l="textAreaLeft" t="textAreaTop" r="textAreaRight" b="textAreaBottom"/>
                    <a:pathLst>
                      <a:path w="90" h="181">
                        <a:moveTo>
                          <a:pt x="45" y="181"/>
                        </a:moveTo>
                        <a:cubicBezTo>
                          <a:pt x="30" y="181"/>
                          <a:pt x="0" y="120"/>
                          <a:pt x="0" y="90"/>
                        </a:cubicBezTo>
                        <a:cubicBezTo>
                          <a:pt x="0" y="60"/>
                          <a:pt x="30" y="0"/>
                          <a:pt x="45" y="0"/>
                        </a:cubicBezTo>
                        <a:cubicBezTo>
                          <a:pt x="60" y="0"/>
                          <a:pt x="90" y="60"/>
                          <a:pt x="90" y="90"/>
                        </a:cubicBezTo>
                        <a:cubicBezTo>
                          <a:pt x="90" y="120"/>
                          <a:pt x="60" y="181"/>
                          <a:pt x="45" y="181"/>
                        </a:cubicBezTo>
                        <a:close/>
                      </a:path>
                    </a:pathLst>
                  </a:custGeom>
                  <a:noFill/>
                  <a:ln w="648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2" name="Freeform 564"/>
                  <p:cNvSpPr/>
                  <p:nvPr/>
                </p:nvSpPr>
                <p:spPr>
                  <a:xfrm flipH="1" rot="5907600">
                    <a:off x="4352400" y="2889720"/>
                    <a:ext cx="10080" cy="24480"/>
                  </a:xfrm>
                  <a:custGeom>
                    <a:avLst/>
                    <a:gdLst>
                      <a:gd name="textAreaLeft" fmla="*/ 360 w 10080"/>
                      <a:gd name="textAreaRight" fmla="*/ 10800 w 1008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90" h="181">
                        <a:moveTo>
                          <a:pt x="45" y="181"/>
                        </a:moveTo>
                        <a:cubicBezTo>
                          <a:pt x="30" y="181"/>
                          <a:pt x="0" y="120"/>
                          <a:pt x="0" y="90"/>
                        </a:cubicBezTo>
                        <a:cubicBezTo>
                          <a:pt x="0" y="60"/>
                          <a:pt x="30" y="0"/>
                          <a:pt x="45" y="0"/>
                        </a:cubicBezTo>
                        <a:cubicBezTo>
                          <a:pt x="60" y="0"/>
                          <a:pt x="90" y="60"/>
                          <a:pt x="90" y="90"/>
                        </a:cubicBezTo>
                        <a:cubicBezTo>
                          <a:pt x="90" y="120"/>
                          <a:pt x="60" y="181"/>
                          <a:pt x="45" y="181"/>
                        </a:cubicBezTo>
                        <a:close/>
                      </a:path>
                    </a:pathLst>
                  </a:custGeom>
                  <a:noFill/>
                  <a:ln w="648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3" name="Freeform 565"/>
                  <p:cNvSpPr/>
                  <p:nvPr/>
                </p:nvSpPr>
                <p:spPr>
                  <a:xfrm rot="3348000">
                    <a:off x="4285080" y="2921400"/>
                    <a:ext cx="8280" cy="16560"/>
                  </a:xfrm>
                  <a:custGeom>
                    <a:avLst/>
                    <a:gdLst>
                      <a:gd name="textAreaLeft" fmla="*/ 0 w 8280"/>
                      <a:gd name="textAreaRight" fmla="*/ 8640 w 8280"/>
                      <a:gd name="textAreaTop" fmla="*/ 0 h 16560"/>
                      <a:gd name="textAreaBottom" fmla="*/ 16920 h 16560"/>
                    </a:gdLst>
                    <a:ahLst/>
                    <a:rect l="textAreaLeft" t="textAreaTop" r="textAreaRight" b="textAreaBottom"/>
                    <a:pathLst>
                      <a:path w="36" h="68">
                        <a:moveTo>
                          <a:pt x="9" y="0"/>
                        </a:moveTo>
                        <a:cubicBezTo>
                          <a:pt x="10" y="0"/>
                          <a:pt x="30" y="5"/>
                          <a:pt x="24" y="12"/>
                        </a:cubicBezTo>
                        <a:cubicBezTo>
                          <a:pt x="20" y="17"/>
                          <a:pt x="6" y="18"/>
                          <a:pt x="6" y="18"/>
                        </a:cubicBezTo>
                        <a:cubicBezTo>
                          <a:pt x="8" y="21"/>
                          <a:pt x="9" y="25"/>
                          <a:pt x="12" y="27"/>
                        </a:cubicBezTo>
                        <a:cubicBezTo>
                          <a:pt x="22" y="35"/>
                          <a:pt x="32" y="35"/>
                          <a:pt x="6" y="42"/>
                        </a:cubicBezTo>
                        <a:cubicBezTo>
                          <a:pt x="36" y="52"/>
                          <a:pt x="23" y="55"/>
                          <a:pt x="0" y="60"/>
                        </a:cubicBezTo>
                        <a:cubicBezTo>
                          <a:pt x="13" y="68"/>
                          <a:pt x="8" y="63"/>
                          <a:pt x="21" y="63"/>
                        </a:cubicBezTo>
                      </a:path>
                    </a:pathLst>
                  </a:custGeom>
                  <a:solidFill>
                    <a:srgbClr val="663366"/>
                  </a:solidFill>
                  <a:ln w="9360">
                    <a:solidFill>
                      <a:srgbClr val="66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4" name="Freeform 566"/>
                  <p:cNvSpPr/>
                  <p:nvPr/>
                </p:nvSpPr>
                <p:spPr>
                  <a:xfrm rot="3348000">
                    <a:off x="4288320" y="2926440"/>
                    <a:ext cx="7920" cy="16560"/>
                  </a:xfrm>
                  <a:custGeom>
                    <a:avLst/>
                    <a:gdLst>
                      <a:gd name="textAreaLeft" fmla="*/ 0 w 7920"/>
                      <a:gd name="textAreaRight" fmla="*/ 8280 w 7920"/>
                      <a:gd name="textAreaTop" fmla="*/ 0 h 16560"/>
                      <a:gd name="textAreaBottom" fmla="*/ 16920 h 16560"/>
                    </a:gdLst>
                    <a:ahLst/>
                    <a:rect l="textAreaLeft" t="textAreaTop" r="textAreaRight" b="textAreaBottom"/>
                    <a:pathLst>
                      <a:path w="36" h="68">
                        <a:moveTo>
                          <a:pt x="9" y="0"/>
                        </a:moveTo>
                        <a:cubicBezTo>
                          <a:pt x="10" y="0"/>
                          <a:pt x="30" y="5"/>
                          <a:pt x="24" y="12"/>
                        </a:cubicBezTo>
                        <a:cubicBezTo>
                          <a:pt x="20" y="17"/>
                          <a:pt x="6" y="18"/>
                          <a:pt x="6" y="18"/>
                        </a:cubicBezTo>
                        <a:cubicBezTo>
                          <a:pt x="8" y="21"/>
                          <a:pt x="9" y="25"/>
                          <a:pt x="12" y="27"/>
                        </a:cubicBezTo>
                        <a:cubicBezTo>
                          <a:pt x="22" y="35"/>
                          <a:pt x="32" y="35"/>
                          <a:pt x="6" y="42"/>
                        </a:cubicBezTo>
                        <a:cubicBezTo>
                          <a:pt x="36" y="52"/>
                          <a:pt x="23" y="55"/>
                          <a:pt x="0" y="60"/>
                        </a:cubicBezTo>
                        <a:cubicBezTo>
                          <a:pt x="13" y="68"/>
                          <a:pt x="8" y="63"/>
                          <a:pt x="21" y="63"/>
                        </a:cubicBezTo>
                      </a:path>
                    </a:pathLst>
                  </a:custGeom>
                  <a:solidFill>
                    <a:srgbClr val="663366"/>
                  </a:solidFill>
                  <a:ln w="9360">
                    <a:solidFill>
                      <a:srgbClr val="66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5" name="Oval 567"/>
                  <p:cNvSpPr/>
                  <p:nvPr/>
                </p:nvSpPr>
                <p:spPr>
                  <a:xfrm rot="3348000">
                    <a:off x="4274280" y="2931120"/>
                    <a:ext cx="5040" cy="11160"/>
                  </a:xfrm>
                  <a:prstGeom prst="ellipse">
                    <a:avLst/>
                  </a:prstGeom>
                  <a:solidFill>
                    <a:srgbClr val="663366"/>
                  </a:solidFill>
                  <a:ln w="9360">
                    <a:solidFill>
                      <a:srgbClr val="66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6" name="Oval 568"/>
                  <p:cNvSpPr/>
                  <p:nvPr/>
                </p:nvSpPr>
                <p:spPr>
                  <a:xfrm rot="3348000">
                    <a:off x="4277160" y="2935440"/>
                    <a:ext cx="5040" cy="11160"/>
                  </a:xfrm>
                  <a:prstGeom prst="ellipse">
                    <a:avLst/>
                  </a:prstGeom>
                  <a:solidFill>
                    <a:srgbClr val="663366"/>
                  </a:solidFill>
                  <a:ln w="9360">
                    <a:solidFill>
                      <a:srgbClr val="66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7" name="Oval 569"/>
                  <p:cNvSpPr/>
                  <p:nvPr/>
                </p:nvSpPr>
                <p:spPr>
                  <a:xfrm flipH="1" rot="18252000">
                    <a:off x="4073040" y="2878920"/>
                    <a:ext cx="42120" cy="56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66699"/>
                      </a:gs>
                      <a:gs pos="100000">
                        <a:srgbClr val="424267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8" name="AutoShape 570"/>
                  <p:cNvSpPr/>
                  <p:nvPr/>
                </p:nvSpPr>
                <p:spPr>
                  <a:xfrm rot="18252000">
                    <a:off x="4096800" y="2881440"/>
                    <a:ext cx="19440" cy="19440"/>
                  </a:xfrm>
                  <a:custGeom>
                    <a:avLst/>
                    <a:gdLst>
                      <a:gd name="textAreaLeft" fmla="*/ 11880 w 19440"/>
                      <a:gd name="textAreaRight" fmla="*/ 12600 w 19440"/>
                      <a:gd name="textAreaTop" fmla="*/ 720 h 19440"/>
                      <a:gd name="textAreaBottom" fmla="*/ 18720 h 19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7719" y="2482"/>
                          <a:pt x="13837" y="5080"/>
                          <a:pt x="13837" y="10800"/>
                        </a:cubicBezTo>
                        <a:cubicBezTo>
                          <a:pt x="13837" y="16520"/>
                          <a:pt x="17719" y="19118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9" name="AutoShape 571"/>
                  <p:cNvSpPr/>
                  <p:nvPr/>
                </p:nvSpPr>
                <p:spPr>
                  <a:xfrm flipH="1" rot="18252000">
                    <a:off x="4073040" y="2913120"/>
                    <a:ext cx="19440" cy="19080"/>
                  </a:xfrm>
                  <a:custGeom>
                    <a:avLst/>
                    <a:gdLst>
                      <a:gd name="textAreaLeft" fmla="*/ 11880 w 19440"/>
                      <a:gd name="textAreaRight" fmla="*/ 12600 w 19440"/>
                      <a:gd name="textAreaTop" fmla="*/ 720 h 19080"/>
                      <a:gd name="textAreaBottom" fmla="*/ 18360 h 190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7719" y="2482"/>
                          <a:pt x="13837" y="5080"/>
                          <a:pt x="13837" y="10800"/>
                        </a:cubicBezTo>
                        <a:cubicBezTo>
                          <a:pt x="13837" y="16520"/>
                          <a:pt x="17719" y="19118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0" name="Freeform 572"/>
                  <p:cNvSpPr/>
                  <p:nvPr/>
                </p:nvSpPr>
                <p:spPr>
                  <a:xfrm flipH="1" rot="1574400">
                    <a:off x="4073760" y="2865240"/>
                    <a:ext cx="10800" cy="23040"/>
                  </a:xfrm>
                  <a:custGeom>
                    <a:avLst/>
                    <a:gdLst>
                      <a:gd name="textAreaLeft" fmla="*/ 360 w 10800"/>
                      <a:gd name="textAreaRight" fmla="*/ 11520 w 108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90" h="181">
                        <a:moveTo>
                          <a:pt x="45" y="181"/>
                        </a:moveTo>
                        <a:cubicBezTo>
                          <a:pt x="30" y="181"/>
                          <a:pt x="0" y="120"/>
                          <a:pt x="0" y="90"/>
                        </a:cubicBezTo>
                        <a:cubicBezTo>
                          <a:pt x="0" y="60"/>
                          <a:pt x="30" y="0"/>
                          <a:pt x="45" y="0"/>
                        </a:cubicBezTo>
                        <a:cubicBezTo>
                          <a:pt x="60" y="0"/>
                          <a:pt x="90" y="60"/>
                          <a:pt x="90" y="90"/>
                        </a:cubicBezTo>
                        <a:cubicBezTo>
                          <a:pt x="90" y="120"/>
                          <a:pt x="60" y="181"/>
                          <a:pt x="45" y="181"/>
                        </a:cubicBezTo>
                        <a:close/>
                      </a:path>
                    </a:pathLst>
                  </a:custGeom>
                  <a:noFill/>
                  <a:ln w="648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1" name="Freeform 573"/>
                  <p:cNvSpPr/>
                  <p:nvPr/>
                </p:nvSpPr>
                <p:spPr>
                  <a:xfrm flipH="1" rot="468600">
                    <a:off x="4071600" y="2864160"/>
                    <a:ext cx="10440" cy="23040"/>
                  </a:xfrm>
                  <a:custGeom>
                    <a:avLst/>
                    <a:gdLst>
                      <a:gd name="textAreaLeft" fmla="*/ -360 w 10440"/>
                      <a:gd name="textAreaRight" fmla="*/ 10440 w 1044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90" h="181">
                        <a:moveTo>
                          <a:pt x="45" y="181"/>
                        </a:moveTo>
                        <a:cubicBezTo>
                          <a:pt x="30" y="181"/>
                          <a:pt x="0" y="120"/>
                          <a:pt x="0" y="90"/>
                        </a:cubicBezTo>
                        <a:cubicBezTo>
                          <a:pt x="0" y="60"/>
                          <a:pt x="30" y="0"/>
                          <a:pt x="45" y="0"/>
                        </a:cubicBezTo>
                        <a:cubicBezTo>
                          <a:pt x="60" y="0"/>
                          <a:pt x="90" y="60"/>
                          <a:pt x="90" y="90"/>
                        </a:cubicBezTo>
                        <a:cubicBezTo>
                          <a:pt x="90" y="120"/>
                          <a:pt x="60" y="181"/>
                          <a:pt x="45" y="181"/>
                        </a:cubicBezTo>
                        <a:close/>
                      </a:path>
                    </a:pathLst>
                  </a:custGeom>
                  <a:noFill/>
                  <a:ln w="648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2" name="Freeform 574"/>
                  <p:cNvSpPr/>
                  <p:nvPr/>
                </p:nvSpPr>
                <p:spPr>
                  <a:xfrm flipH="1" rot="20812200">
                    <a:off x="4067640" y="2864520"/>
                    <a:ext cx="10800" cy="22680"/>
                  </a:xfrm>
                  <a:custGeom>
                    <a:avLst/>
                    <a:gdLst>
                      <a:gd name="textAreaLeft" fmla="*/ 360 w 10800"/>
                      <a:gd name="textAreaRight" fmla="*/ 11520 w 10800"/>
                      <a:gd name="textAreaTop" fmla="*/ 0 h 22680"/>
                      <a:gd name="textAreaBottom" fmla="*/ 23040 h 22680"/>
                    </a:gdLst>
                    <a:ahLst/>
                    <a:rect l="textAreaLeft" t="textAreaTop" r="textAreaRight" b="textAreaBottom"/>
                    <a:pathLst>
                      <a:path w="90" h="181">
                        <a:moveTo>
                          <a:pt x="45" y="181"/>
                        </a:moveTo>
                        <a:cubicBezTo>
                          <a:pt x="30" y="181"/>
                          <a:pt x="0" y="120"/>
                          <a:pt x="0" y="90"/>
                        </a:cubicBezTo>
                        <a:cubicBezTo>
                          <a:pt x="0" y="60"/>
                          <a:pt x="30" y="0"/>
                          <a:pt x="45" y="0"/>
                        </a:cubicBezTo>
                        <a:cubicBezTo>
                          <a:pt x="60" y="0"/>
                          <a:pt x="90" y="60"/>
                          <a:pt x="90" y="90"/>
                        </a:cubicBezTo>
                        <a:cubicBezTo>
                          <a:pt x="90" y="120"/>
                          <a:pt x="60" y="181"/>
                          <a:pt x="45" y="181"/>
                        </a:cubicBezTo>
                        <a:close/>
                      </a:path>
                    </a:pathLst>
                  </a:custGeom>
                  <a:noFill/>
                  <a:ln w="648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3" name="Freeform 575"/>
                  <p:cNvSpPr/>
                  <p:nvPr/>
                </p:nvSpPr>
                <p:spPr>
                  <a:xfrm rot="13330200">
                    <a:off x="4055400" y="2892240"/>
                    <a:ext cx="10800" cy="23040"/>
                  </a:xfrm>
                  <a:custGeom>
                    <a:avLst/>
                    <a:gdLst>
                      <a:gd name="textAreaLeft" fmla="*/ 0 w 10800"/>
                      <a:gd name="textAreaRight" fmla="*/ 11160 w 108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90" h="181">
                        <a:moveTo>
                          <a:pt x="45" y="181"/>
                        </a:moveTo>
                        <a:cubicBezTo>
                          <a:pt x="30" y="181"/>
                          <a:pt x="0" y="120"/>
                          <a:pt x="0" y="90"/>
                        </a:cubicBezTo>
                        <a:cubicBezTo>
                          <a:pt x="0" y="60"/>
                          <a:pt x="30" y="0"/>
                          <a:pt x="45" y="0"/>
                        </a:cubicBezTo>
                        <a:cubicBezTo>
                          <a:pt x="60" y="0"/>
                          <a:pt x="90" y="60"/>
                          <a:pt x="90" y="90"/>
                        </a:cubicBezTo>
                        <a:cubicBezTo>
                          <a:pt x="90" y="120"/>
                          <a:pt x="60" y="181"/>
                          <a:pt x="45" y="181"/>
                        </a:cubicBezTo>
                        <a:close/>
                      </a:path>
                    </a:pathLst>
                  </a:custGeom>
                  <a:noFill/>
                  <a:ln w="648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4" name="Freeform 576"/>
                  <p:cNvSpPr/>
                  <p:nvPr/>
                </p:nvSpPr>
                <p:spPr>
                  <a:xfrm rot="14436600">
                    <a:off x="4053600" y="2889000"/>
                    <a:ext cx="9720" cy="25200"/>
                  </a:xfrm>
                  <a:custGeom>
                    <a:avLst/>
                    <a:gdLst>
                      <a:gd name="textAreaLeft" fmla="*/ 0 w 9720"/>
                      <a:gd name="textAreaRight" fmla="*/ 10080 w 9720"/>
                      <a:gd name="textAreaTop" fmla="*/ 0 h 25200"/>
                      <a:gd name="textAreaBottom" fmla="*/ 25560 h 25200"/>
                    </a:gdLst>
                    <a:ahLst/>
                    <a:rect l="textAreaLeft" t="textAreaTop" r="textAreaRight" b="textAreaBottom"/>
                    <a:pathLst>
                      <a:path w="90" h="181">
                        <a:moveTo>
                          <a:pt x="45" y="181"/>
                        </a:moveTo>
                        <a:cubicBezTo>
                          <a:pt x="30" y="181"/>
                          <a:pt x="0" y="120"/>
                          <a:pt x="0" y="90"/>
                        </a:cubicBezTo>
                        <a:cubicBezTo>
                          <a:pt x="0" y="60"/>
                          <a:pt x="30" y="0"/>
                          <a:pt x="45" y="0"/>
                        </a:cubicBezTo>
                        <a:cubicBezTo>
                          <a:pt x="60" y="0"/>
                          <a:pt x="90" y="60"/>
                          <a:pt x="90" y="90"/>
                        </a:cubicBezTo>
                        <a:cubicBezTo>
                          <a:pt x="90" y="120"/>
                          <a:pt x="60" y="181"/>
                          <a:pt x="45" y="181"/>
                        </a:cubicBezTo>
                        <a:close/>
                      </a:path>
                    </a:pathLst>
                  </a:custGeom>
                  <a:noFill/>
                  <a:ln w="648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5" name="Freeform 577"/>
                  <p:cNvSpPr/>
                  <p:nvPr/>
                </p:nvSpPr>
                <p:spPr>
                  <a:xfrm rot="15692400">
                    <a:off x="4052160" y="2885760"/>
                    <a:ext cx="10080" cy="2448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90" h="181">
                        <a:moveTo>
                          <a:pt x="45" y="181"/>
                        </a:moveTo>
                        <a:cubicBezTo>
                          <a:pt x="30" y="181"/>
                          <a:pt x="0" y="120"/>
                          <a:pt x="0" y="90"/>
                        </a:cubicBezTo>
                        <a:cubicBezTo>
                          <a:pt x="0" y="60"/>
                          <a:pt x="30" y="0"/>
                          <a:pt x="45" y="0"/>
                        </a:cubicBezTo>
                        <a:cubicBezTo>
                          <a:pt x="60" y="0"/>
                          <a:pt x="90" y="60"/>
                          <a:pt x="90" y="90"/>
                        </a:cubicBezTo>
                        <a:cubicBezTo>
                          <a:pt x="90" y="120"/>
                          <a:pt x="60" y="181"/>
                          <a:pt x="45" y="181"/>
                        </a:cubicBezTo>
                        <a:close/>
                      </a:path>
                    </a:pathLst>
                  </a:custGeom>
                  <a:noFill/>
                  <a:ln w="648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6" name="Freeform 578"/>
                  <p:cNvSpPr/>
                  <p:nvPr/>
                </p:nvSpPr>
                <p:spPr>
                  <a:xfrm flipH="1" rot="18252000">
                    <a:off x="4122720" y="2917440"/>
                    <a:ext cx="8280" cy="16560"/>
                  </a:xfrm>
                  <a:custGeom>
                    <a:avLst/>
                    <a:gdLst>
                      <a:gd name="textAreaLeft" fmla="*/ -360 w 8280"/>
                      <a:gd name="textAreaRight" fmla="*/ 8280 w 8280"/>
                      <a:gd name="textAreaTop" fmla="*/ 0 h 16560"/>
                      <a:gd name="textAreaBottom" fmla="*/ 16920 h 16560"/>
                    </a:gdLst>
                    <a:ahLst/>
                    <a:rect l="textAreaLeft" t="textAreaTop" r="textAreaRight" b="textAreaBottom"/>
                    <a:pathLst>
                      <a:path w="36" h="68">
                        <a:moveTo>
                          <a:pt x="9" y="0"/>
                        </a:moveTo>
                        <a:cubicBezTo>
                          <a:pt x="10" y="0"/>
                          <a:pt x="30" y="5"/>
                          <a:pt x="24" y="12"/>
                        </a:cubicBezTo>
                        <a:cubicBezTo>
                          <a:pt x="20" y="17"/>
                          <a:pt x="6" y="18"/>
                          <a:pt x="6" y="18"/>
                        </a:cubicBezTo>
                        <a:cubicBezTo>
                          <a:pt x="8" y="21"/>
                          <a:pt x="9" y="25"/>
                          <a:pt x="12" y="27"/>
                        </a:cubicBezTo>
                        <a:cubicBezTo>
                          <a:pt x="22" y="35"/>
                          <a:pt x="32" y="35"/>
                          <a:pt x="6" y="42"/>
                        </a:cubicBezTo>
                        <a:cubicBezTo>
                          <a:pt x="36" y="52"/>
                          <a:pt x="23" y="55"/>
                          <a:pt x="0" y="60"/>
                        </a:cubicBezTo>
                        <a:cubicBezTo>
                          <a:pt x="13" y="68"/>
                          <a:pt x="8" y="63"/>
                          <a:pt x="21" y="63"/>
                        </a:cubicBezTo>
                      </a:path>
                    </a:pathLst>
                  </a:custGeom>
                  <a:solidFill>
                    <a:srgbClr val="663366"/>
                  </a:solidFill>
                  <a:ln w="9360">
                    <a:solidFill>
                      <a:srgbClr val="66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7" name="Freeform 579"/>
                  <p:cNvSpPr/>
                  <p:nvPr/>
                </p:nvSpPr>
                <p:spPr>
                  <a:xfrm flipH="1" rot="18252000">
                    <a:off x="4119840" y="2921760"/>
                    <a:ext cx="8280" cy="16560"/>
                  </a:xfrm>
                  <a:custGeom>
                    <a:avLst/>
                    <a:gdLst>
                      <a:gd name="textAreaLeft" fmla="*/ -360 w 8280"/>
                      <a:gd name="textAreaRight" fmla="*/ 8280 w 8280"/>
                      <a:gd name="textAreaTop" fmla="*/ 0 h 16560"/>
                      <a:gd name="textAreaBottom" fmla="*/ 16920 h 16560"/>
                    </a:gdLst>
                    <a:ahLst/>
                    <a:rect l="textAreaLeft" t="textAreaTop" r="textAreaRight" b="textAreaBottom"/>
                    <a:pathLst>
                      <a:path w="36" h="68">
                        <a:moveTo>
                          <a:pt x="9" y="0"/>
                        </a:moveTo>
                        <a:cubicBezTo>
                          <a:pt x="10" y="0"/>
                          <a:pt x="30" y="5"/>
                          <a:pt x="24" y="12"/>
                        </a:cubicBezTo>
                        <a:cubicBezTo>
                          <a:pt x="20" y="17"/>
                          <a:pt x="6" y="18"/>
                          <a:pt x="6" y="18"/>
                        </a:cubicBezTo>
                        <a:cubicBezTo>
                          <a:pt x="8" y="21"/>
                          <a:pt x="9" y="25"/>
                          <a:pt x="12" y="27"/>
                        </a:cubicBezTo>
                        <a:cubicBezTo>
                          <a:pt x="22" y="35"/>
                          <a:pt x="32" y="35"/>
                          <a:pt x="6" y="42"/>
                        </a:cubicBezTo>
                        <a:cubicBezTo>
                          <a:pt x="36" y="52"/>
                          <a:pt x="23" y="55"/>
                          <a:pt x="0" y="60"/>
                        </a:cubicBezTo>
                        <a:cubicBezTo>
                          <a:pt x="13" y="68"/>
                          <a:pt x="8" y="63"/>
                          <a:pt x="21" y="63"/>
                        </a:cubicBezTo>
                      </a:path>
                    </a:pathLst>
                  </a:custGeom>
                  <a:solidFill>
                    <a:srgbClr val="663366"/>
                  </a:solidFill>
                  <a:ln w="9360">
                    <a:solidFill>
                      <a:srgbClr val="66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8" name="Oval 580"/>
                  <p:cNvSpPr/>
                  <p:nvPr/>
                </p:nvSpPr>
                <p:spPr>
                  <a:xfrm flipH="1" rot="18252000">
                    <a:off x="4136400" y="2926440"/>
                    <a:ext cx="5040" cy="11160"/>
                  </a:xfrm>
                  <a:prstGeom prst="ellipse">
                    <a:avLst/>
                  </a:prstGeom>
                  <a:solidFill>
                    <a:srgbClr val="663366"/>
                  </a:solidFill>
                  <a:ln w="9360">
                    <a:solidFill>
                      <a:srgbClr val="66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9" name="Oval 581"/>
                  <p:cNvSpPr/>
                  <p:nvPr/>
                </p:nvSpPr>
                <p:spPr>
                  <a:xfrm flipH="1" rot="18252000">
                    <a:off x="4133160" y="2930760"/>
                    <a:ext cx="5040" cy="11160"/>
                  </a:xfrm>
                  <a:prstGeom prst="ellipse">
                    <a:avLst/>
                  </a:prstGeom>
                  <a:solidFill>
                    <a:srgbClr val="663366"/>
                  </a:solidFill>
                  <a:ln w="9360">
                    <a:solidFill>
                      <a:srgbClr val="66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0" name="Oval 582"/>
                  <p:cNvSpPr/>
                  <p:nvPr/>
                </p:nvSpPr>
                <p:spPr>
                  <a:xfrm flipV="1" rot="18252000">
                    <a:off x="4298760" y="3026880"/>
                    <a:ext cx="42120" cy="56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66699"/>
                      </a:gs>
                      <a:gs pos="100000">
                        <a:srgbClr val="424267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1" name="AutoShape 583"/>
                  <p:cNvSpPr/>
                  <p:nvPr/>
                </p:nvSpPr>
                <p:spPr>
                  <a:xfrm flipH="1" flipV="1" rot="18252000">
                    <a:off x="4297680" y="3061440"/>
                    <a:ext cx="19440" cy="19080"/>
                  </a:xfrm>
                  <a:custGeom>
                    <a:avLst/>
                    <a:gdLst>
                      <a:gd name="textAreaLeft" fmla="*/ 11880 w 19440"/>
                      <a:gd name="textAreaRight" fmla="*/ 12600 w 19440"/>
                      <a:gd name="textAreaTop" fmla="*/ 720 h 19080"/>
                      <a:gd name="textAreaBottom" fmla="*/ 18360 h 190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7719" y="2482"/>
                          <a:pt x="13837" y="5080"/>
                          <a:pt x="13837" y="10800"/>
                        </a:cubicBezTo>
                        <a:cubicBezTo>
                          <a:pt x="13837" y="16520"/>
                          <a:pt x="17719" y="19118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2" name="AutoShape 584"/>
                  <p:cNvSpPr/>
                  <p:nvPr/>
                </p:nvSpPr>
                <p:spPr>
                  <a:xfrm flipV="1" rot="18252000">
                    <a:off x="4320720" y="3030120"/>
                    <a:ext cx="19440" cy="18720"/>
                  </a:xfrm>
                  <a:custGeom>
                    <a:avLst/>
                    <a:gdLst>
                      <a:gd name="textAreaLeft" fmla="*/ 11880 w 19440"/>
                      <a:gd name="textAreaRight" fmla="*/ 12600 w 19440"/>
                      <a:gd name="textAreaTop" fmla="*/ 720 h 18720"/>
                      <a:gd name="textAreaBottom" fmla="*/ 18000 h 187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7719" y="2482"/>
                          <a:pt x="13837" y="5080"/>
                          <a:pt x="13837" y="10800"/>
                        </a:cubicBezTo>
                        <a:cubicBezTo>
                          <a:pt x="13837" y="16520"/>
                          <a:pt x="17719" y="19118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3" name="Freeform 585"/>
                  <p:cNvSpPr/>
                  <p:nvPr/>
                </p:nvSpPr>
                <p:spPr>
                  <a:xfrm flipV="1" rot="1574400">
                    <a:off x="4328280" y="3073320"/>
                    <a:ext cx="10800" cy="23400"/>
                  </a:xfrm>
                  <a:custGeom>
                    <a:avLst/>
                    <a:gdLst>
                      <a:gd name="textAreaLeft" fmla="*/ 0 w 10800"/>
                      <a:gd name="textAreaRight" fmla="*/ 11160 w 10800"/>
                      <a:gd name="textAreaTop" fmla="*/ -360 h 23400"/>
                      <a:gd name="textAreaBottom" fmla="*/ 23400 h 23400"/>
                    </a:gdLst>
                    <a:ahLst/>
                    <a:rect l="textAreaLeft" t="textAreaTop" r="textAreaRight" b="textAreaBottom"/>
                    <a:pathLst>
                      <a:path w="90" h="181">
                        <a:moveTo>
                          <a:pt x="45" y="181"/>
                        </a:moveTo>
                        <a:cubicBezTo>
                          <a:pt x="30" y="181"/>
                          <a:pt x="0" y="120"/>
                          <a:pt x="0" y="90"/>
                        </a:cubicBezTo>
                        <a:cubicBezTo>
                          <a:pt x="0" y="60"/>
                          <a:pt x="30" y="0"/>
                          <a:pt x="45" y="0"/>
                        </a:cubicBezTo>
                        <a:cubicBezTo>
                          <a:pt x="60" y="0"/>
                          <a:pt x="90" y="60"/>
                          <a:pt x="90" y="90"/>
                        </a:cubicBezTo>
                        <a:cubicBezTo>
                          <a:pt x="90" y="120"/>
                          <a:pt x="60" y="181"/>
                          <a:pt x="45" y="181"/>
                        </a:cubicBezTo>
                        <a:close/>
                      </a:path>
                    </a:pathLst>
                  </a:custGeom>
                  <a:noFill/>
                  <a:ln w="648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4" name="Freeform 586"/>
                  <p:cNvSpPr/>
                  <p:nvPr/>
                </p:nvSpPr>
                <p:spPr>
                  <a:xfrm flipV="1" rot="468600">
                    <a:off x="4331520" y="3073680"/>
                    <a:ext cx="10440" cy="23040"/>
                  </a:xfrm>
                  <a:custGeom>
                    <a:avLst/>
                    <a:gdLst>
                      <a:gd name="textAreaLeft" fmla="*/ 0 w 10440"/>
                      <a:gd name="textAreaRight" fmla="*/ 10800 w 10440"/>
                      <a:gd name="textAreaTop" fmla="*/ 360 h 23040"/>
                      <a:gd name="textAreaBottom" fmla="*/ 23760 h 23040"/>
                    </a:gdLst>
                    <a:ahLst/>
                    <a:rect l="textAreaLeft" t="textAreaTop" r="textAreaRight" b="textAreaBottom"/>
                    <a:pathLst>
                      <a:path w="90" h="181">
                        <a:moveTo>
                          <a:pt x="45" y="181"/>
                        </a:moveTo>
                        <a:cubicBezTo>
                          <a:pt x="30" y="181"/>
                          <a:pt x="0" y="120"/>
                          <a:pt x="0" y="90"/>
                        </a:cubicBezTo>
                        <a:cubicBezTo>
                          <a:pt x="0" y="60"/>
                          <a:pt x="30" y="0"/>
                          <a:pt x="45" y="0"/>
                        </a:cubicBezTo>
                        <a:cubicBezTo>
                          <a:pt x="60" y="0"/>
                          <a:pt x="90" y="60"/>
                          <a:pt x="90" y="90"/>
                        </a:cubicBezTo>
                        <a:cubicBezTo>
                          <a:pt x="90" y="120"/>
                          <a:pt x="60" y="181"/>
                          <a:pt x="45" y="181"/>
                        </a:cubicBezTo>
                        <a:close/>
                      </a:path>
                    </a:pathLst>
                  </a:custGeom>
                  <a:noFill/>
                  <a:ln w="648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5" name="Freeform 587"/>
                  <p:cNvSpPr/>
                  <p:nvPr/>
                </p:nvSpPr>
                <p:spPr>
                  <a:xfrm flipV="1" rot="20812200">
                    <a:off x="4335480" y="3074400"/>
                    <a:ext cx="10800" cy="22680"/>
                  </a:xfrm>
                  <a:custGeom>
                    <a:avLst/>
                    <a:gdLst>
                      <a:gd name="textAreaLeft" fmla="*/ 0 w 10800"/>
                      <a:gd name="textAreaRight" fmla="*/ 11160 w 10800"/>
                      <a:gd name="textAreaTop" fmla="*/ -360 h 22680"/>
                      <a:gd name="textAreaBottom" fmla="*/ 22680 h 22680"/>
                    </a:gdLst>
                    <a:ahLst/>
                    <a:rect l="textAreaLeft" t="textAreaTop" r="textAreaRight" b="textAreaBottom"/>
                    <a:pathLst>
                      <a:path w="90" h="181">
                        <a:moveTo>
                          <a:pt x="45" y="181"/>
                        </a:moveTo>
                        <a:cubicBezTo>
                          <a:pt x="30" y="181"/>
                          <a:pt x="0" y="120"/>
                          <a:pt x="0" y="90"/>
                        </a:cubicBezTo>
                        <a:cubicBezTo>
                          <a:pt x="0" y="60"/>
                          <a:pt x="30" y="0"/>
                          <a:pt x="45" y="0"/>
                        </a:cubicBezTo>
                        <a:cubicBezTo>
                          <a:pt x="60" y="0"/>
                          <a:pt x="90" y="60"/>
                          <a:pt x="90" y="90"/>
                        </a:cubicBezTo>
                        <a:cubicBezTo>
                          <a:pt x="90" y="120"/>
                          <a:pt x="60" y="181"/>
                          <a:pt x="45" y="181"/>
                        </a:cubicBezTo>
                        <a:close/>
                      </a:path>
                    </a:pathLst>
                  </a:custGeom>
                  <a:noFill/>
                  <a:ln w="648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6" name="Freeform 588"/>
                  <p:cNvSpPr/>
                  <p:nvPr/>
                </p:nvSpPr>
                <p:spPr>
                  <a:xfrm flipH="1" flipV="1" rot="13330200">
                    <a:off x="4348800" y="3046320"/>
                    <a:ext cx="10080" cy="23040"/>
                  </a:xfrm>
                  <a:custGeom>
                    <a:avLst/>
                    <a:gdLst>
                      <a:gd name="textAreaLeft" fmla="*/ 360 w 10080"/>
                      <a:gd name="textAreaRight" fmla="*/ 10800 w 10080"/>
                      <a:gd name="textAreaTop" fmla="*/ 360 h 23040"/>
                      <a:gd name="textAreaBottom" fmla="*/ 23760 h 23040"/>
                    </a:gdLst>
                    <a:ahLst/>
                    <a:rect l="textAreaLeft" t="textAreaTop" r="textAreaRight" b="textAreaBottom"/>
                    <a:pathLst>
                      <a:path w="90" h="181">
                        <a:moveTo>
                          <a:pt x="45" y="181"/>
                        </a:moveTo>
                        <a:cubicBezTo>
                          <a:pt x="30" y="181"/>
                          <a:pt x="0" y="120"/>
                          <a:pt x="0" y="90"/>
                        </a:cubicBezTo>
                        <a:cubicBezTo>
                          <a:pt x="0" y="60"/>
                          <a:pt x="30" y="0"/>
                          <a:pt x="45" y="0"/>
                        </a:cubicBezTo>
                        <a:cubicBezTo>
                          <a:pt x="60" y="0"/>
                          <a:pt x="90" y="60"/>
                          <a:pt x="90" y="90"/>
                        </a:cubicBezTo>
                        <a:cubicBezTo>
                          <a:pt x="90" y="120"/>
                          <a:pt x="60" y="181"/>
                          <a:pt x="45" y="181"/>
                        </a:cubicBezTo>
                        <a:close/>
                      </a:path>
                    </a:pathLst>
                  </a:custGeom>
                  <a:noFill/>
                  <a:ln w="648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7" name="Freeform 589"/>
                  <p:cNvSpPr/>
                  <p:nvPr/>
                </p:nvSpPr>
                <p:spPr>
                  <a:xfrm flipH="1" flipV="1" rot="14436600">
                    <a:off x="4349880" y="3047760"/>
                    <a:ext cx="9720" cy="25200"/>
                  </a:xfrm>
                  <a:custGeom>
                    <a:avLst/>
                    <a:gdLst>
                      <a:gd name="textAreaLeft" fmla="*/ -360 w 9720"/>
                      <a:gd name="textAreaRight" fmla="*/ 9720 w 9720"/>
                      <a:gd name="textAreaTop" fmla="*/ 360 h 25200"/>
                      <a:gd name="textAreaBottom" fmla="*/ 25920 h 25200"/>
                    </a:gdLst>
                    <a:ahLst/>
                    <a:rect l="textAreaLeft" t="textAreaTop" r="textAreaRight" b="textAreaBottom"/>
                    <a:pathLst>
                      <a:path w="90" h="181">
                        <a:moveTo>
                          <a:pt x="45" y="181"/>
                        </a:moveTo>
                        <a:cubicBezTo>
                          <a:pt x="30" y="181"/>
                          <a:pt x="0" y="120"/>
                          <a:pt x="0" y="90"/>
                        </a:cubicBezTo>
                        <a:cubicBezTo>
                          <a:pt x="0" y="60"/>
                          <a:pt x="30" y="0"/>
                          <a:pt x="45" y="0"/>
                        </a:cubicBezTo>
                        <a:cubicBezTo>
                          <a:pt x="60" y="0"/>
                          <a:pt x="90" y="60"/>
                          <a:pt x="90" y="90"/>
                        </a:cubicBezTo>
                        <a:cubicBezTo>
                          <a:pt x="90" y="120"/>
                          <a:pt x="60" y="181"/>
                          <a:pt x="45" y="181"/>
                        </a:cubicBezTo>
                        <a:close/>
                      </a:path>
                    </a:pathLst>
                  </a:custGeom>
                  <a:noFill/>
                  <a:ln w="648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8" name="Freeform 590"/>
                  <p:cNvSpPr/>
                  <p:nvPr/>
                </p:nvSpPr>
                <p:spPr>
                  <a:xfrm flipH="1" flipV="1" rot="15692400">
                    <a:off x="4351320" y="3051360"/>
                    <a:ext cx="9720" cy="24480"/>
                  </a:xfrm>
                  <a:custGeom>
                    <a:avLst/>
                    <a:gdLst>
                      <a:gd name="textAreaLeft" fmla="*/ -360 w 9720"/>
                      <a:gd name="textAreaRight" fmla="*/ 9720 w 9720"/>
                      <a:gd name="textAreaTop" fmla="*/ 360 h 24480"/>
                      <a:gd name="textAreaBottom" fmla="*/ 25200 h 24480"/>
                    </a:gdLst>
                    <a:ahLst/>
                    <a:rect l="textAreaLeft" t="textAreaTop" r="textAreaRight" b="textAreaBottom"/>
                    <a:pathLst>
                      <a:path w="90" h="181">
                        <a:moveTo>
                          <a:pt x="45" y="181"/>
                        </a:moveTo>
                        <a:cubicBezTo>
                          <a:pt x="30" y="181"/>
                          <a:pt x="0" y="120"/>
                          <a:pt x="0" y="90"/>
                        </a:cubicBezTo>
                        <a:cubicBezTo>
                          <a:pt x="0" y="60"/>
                          <a:pt x="30" y="0"/>
                          <a:pt x="45" y="0"/>
                        </a:cubicBezTo>
                        <a:cubicBezTo>
                          <a:pt x="60" y="0"/>
                          <a:pt x="90" y="60"/>
                          <a:pt x="90" y="90"/>
                        </a:cubicBezTo>
                        <a:cubicBezTo>
                          <a:pt x="90" y="120"/>
                          <a:pt x="60" y="181"/>
                          <a:pt x="45" y="181"/>
                        </a:cubicBezTo>
                        <a:close/>
                      </a:path>
                    </a:pathLst>
                  </a:custGeom>
                  <a:noFill/>
                  <a:ln w="648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9" name="Freeform 591"/>
                  <p:cNvSpPr/>
                  <p:nvPr/>
                </p:nvSpPr>
                <p:spPr>
                  <a:xfrm flipV="1" rot="18252000">
                    <a:off x="4283280" y="3028680"/>
                    <a:ext cx="8640" cy="16560"/>
                  </a:xfrm>
                  <a:custGeom>
                    <a:avLst/>
                    <a:gdLst>
                      <a:gd name="textAreaLeft" fmla="*/ 0 w 8640"/>
                      <a:gd name="textAreaRight" fmla="*/ 9000 w 8640"/>
                      <a:gd name="textAreaTop" fmla="*/ 360 h 16560"/>
                      <a:gd name="textAreaBottom" fmla="*/ 17280 h 16560"/>
                    </a:gdLst>
                    <a:ahLst/>
                    <a:rect l="textAreaLeft" t="textAreaTop" r="textAreaRight" b="textAreaBottom"/>
                    <a:pathLst>
                      <a:path w="36" h="68">
                        <a:moveTo>
                          <a:pt x="9" y="0"/>
                        </a:moveTo>
                        <a:cubicBezTo>
                          <a:pt x="10" y="0"/>
                          <a:pt x="30" y="5"/>
                          <a:pt x="24" y="12"/>
                        </a:cubicBezTo>
                        <a:cubicBezTo>
                          <a:pt x="20" y="17"/>
                          <a:pt x="6" y="18"/>
                          <a:pt x="6" y="18"/>
                        </a:cubicBezTo>
                        <a:cubicBezTo>
                          <a:pt x="8" y="21"/>
                          <a:pt x="9" y="25"/>
                          <a:pt x="12" y="27"/>
                        </a:cubicBezTo>
                        <a:cubicBezTo>
                          <a:pt x="22" y="35"/>
                          <a:pt x="32" y="35"/>
                          <a:pt x="6" y="42"/>
                        </a:cubicBezTo>
                        <a:cubicBezTo>
                          <a:pt x="36" y="52"/>
                          <a:pt x="23" y="55"/>
                          <a:pt x="0" y="60"/>
                        </a:cubicBezTo>
                        <a:cubicBezTo>
                          <a:pt x="13" y="68"/>
                          <a:pt x="8" y="63"/>
                          <a:pt x="21" y="63"/>
                        </a:cubicBezTo>
                      </a:path>
                    </a:pathLst>
                  </a:custGeom>
                  <a:solidFill>
                    <a:srgbClr val="663366"/>
                  </a:solidFill>
                  <a:ln w="9360">
                    <a:solidFill>
                      <a:srgbClr val="66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0" name="Freeform 592"/>
                  <p:cNvSpPr/>
                  <p:nvPr/>
                </p:nvSpPr>
                <p:spPr>
                  <a:xfrm flipV="1" rot="18252000">
                    <a:off x="4286880" y="3024000"/>
                    <a:ext cx="8280" cy="16560"/>
                  </a:xfrm>
                  <a:custGeom>
                    <a:avLst/>
                    <a:gdLst>
                      <a:gd name="textAreaLeft" fmla="*/ 0 w 8280"/>
                      <a:gd name="textAreaRight" fmla="*/ 8640 w 8280"/>
                      <a:gd name="textAreaTop" fmla="*/ 360 h 16560"/>
                      <a:gd name="textAreaBottom" fmla="*/ 17280 h 16560"/>
                    </a:gdLst>
                    <a:ahLst/>
                    <a:rect l="textAreaLeft" t="textAreaTop" r="textAreaRight" b="textAreaBottom"/>
                    <a:pathLst>
                      <a:path w="36" h="68">
                        <a:moveTo>
                          <a:pt x="9" y="0"/>
                        </a:moveTo>
                        <a:cubicBezTo>
                          <a:pt x="10" y="0"/>
                          <a:pt x="30" y="5"/>
                          <a:pt x="24" y="12"/>
                        </a:cubicBezTo>
                        <a:cubicBezTo>
                          <a:pt x="20" y="17"/>
                          <a:pt x="6" y="18"/>
                          <a:pt x="6" y="18"/>
                        </a:cubicBezTo>
                        <a:cubicBezTo>
                          <a:pt x="8" y="21"/>
                          <a:pt x="9" y="25"/>
                          <a:pt x="12" y="27"/>
                        </a:cubicBezTo>
                        <a:cubicBezTo>
                          <a:pt x="22" y="35"/>
                          <a:pt x="32" y="35"/>
                          <a:pt x="6" y="42"/>
                        </a:cubicBezTo>
                        <a:cubicBezTo>
                          <a:pt x="36" y="52"/>
                          <a:pt x="23" y="55"/>
                          <a:pt x="0" y="60"/>
                        </a:cubicBezTo>
                        <a:cubicBezTo>
                          <a:pt x="13" y="68"/>
                          <a:pt x="8" y="63"/>
                          <a:pt x="21" y="63"/>
                        </a:cubicBezTo>
                      </a:path>
                    </a:pathLst>
                  </a:custGeom>
                  <a:solidFill>
                    <a:srgbClr val="663366"/>
                  </a:solidFill>
                  <a:ln w="9360">
                    <a:solidFill>
                      <a:srgbClr val="66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1" name="Oval 593"/>
                  <p:cNvSpPr/>
                  <p:nvPr/>
                </p:nvSpPr>
                <p:spPr>
                  <a:xfrm flipV="1" rot="18252000">
                    <a:off x="4272480" y="3024000"/>
                    <a:ext cx="5040" cy="11160"/>
                  </a:xfrm>
                  <a:prstGeom prst="ellipse">
                    <a:avLst/>
                  </a:prstGeom>
                  <a:solidFill>
                    <a:srgbClr val="663366"/>
                  </a:solidFill>
                  <a:ln w="9360">
                    <a:solidFill>
                      <a:srgbClr val="66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2" name="Oval 594"/>
                  <p:cNvSpPr/>
                  <p:nvPr/>
                </p:nvSpPr>
                <p:spPr>
                  <a:xfrm flipV="1" rot="18252000">
                    <a:off x="4275000" y="3020400"/>
                    <a:ext cx="5040" cy="11160"/>
                  </a:xfrm>
                  <a:prstGeom prst="ellipse">
                    <a:avLst/>
                  </a:prstGeom>
                  <a:solidFill>
                    <a:srgbClr val="663366"/>
                  </a:solidFill>
                  <a:ln w="9360">
                    <a:solidFill>
                      <a:srgbClr val="66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3" name="Oval 595"/>
                  <p:cNvSpPr/>
                  <p:nvPr/>
                </p:nvSpPr>
                <p:spPr>
                  <a:xfrm flipH="1" flipV="1" rot="3727800">
                    <a:off x="4062960" y="3003840"/>
                    <a:ext cx="41760" cy="56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66699"/>
                      </a:gs>
                      <a:gs pos="100000">
                        <a:srgbClr val="424267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4" name="AutoShape 596"/>
                  <p:cNvSpPr/>
                  <p:nvPr/>
                </p:nvSpPr>
                <p:spPr>
                  <a:xfrm flipV="1" rot="3728400">
                    <a:off x="4084560" y="3038760"/>
                    <a:ext cx="19440" cy="19440"/>
                  </a:xfrm>
                  <a:custGeom>
                    <a:avLst/>
                    <a:gdLst>
                      <a:gd name="textAreaLeft" fmla="*/ 11880 w 19440"/>
                      <a:gd name="textAreaRight" fmla="*/ 12600 w 19440"/>
                      <a:gd name="textAreaTop" fmla="*/ 720 h 19440"/>
                      <a:gd name="textAreaBottom" fmla="*/ 18720 h 19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7719" y="2482"/>
                          <a:pt x="13837" y="5080"/>
                          <a:pt x="13837" y="10800"/>
                        </a:cubicBezTo>
                        <a:cubicBezTo>
                          <a:pt x="13837" y="16520"/>
                          <a:pt x="17719" y="19118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5" name="AutoShape 597"/>
                  <p:cNvSpPr/>
                  <p:nvPr/>
                </p:nvSpPr>
                <p:spPr>
                  <a:xfrm flipH="1" flipV="1" rot="3727800">
                    <a:off x="4064040" y="3005640"/>
                    <a:ext cx="19440" cy="19440"/>
                  </a:xfrm>
                  <a:custGeom>
                    <a:avLst/>
                    <a:gdLst>
                      <a:gd name="textAreaLeft" fmla="*/ 11880 w 19440"/>
                      <a:gd name="textAreaRight" fmla="*/ 12600 w 19440"/>
                      <a:gd name="textAreaTop" fmla="*/ 720 h 19440"/>
                      <a:gd name="textAreaBottom" fmla="*/ 18720 h 19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7719" y="2482"/>
                          <a:pt x="13837" y="5080"/>
                          <a:pt x="13837" y="10800"/>
                        </a:cubicBezTo>
                        <a:cubicBezTo>
                          <a:pt x="13837" y="16520"/>
                          <a:pt x="17719" y="19118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6" name="Freeform 598"/>
                  <p:cNvSpPr/>
                  <p:nvPr/>
                </p:nvSpPr>
                <p:spPr>
                  <a:xfrm flipH="1" flipV="1" rot="20406600">
                    <a:off x="4060800" y="3048840"/>
                    <a:ext cx="10800" cy="23400"/>
                  </a:xfrm>
                  <a:custGeom>
                    <a:avLst/>
                    <a:gdLst>
                      <a:gd name="textAreaLeft" fmla="*/ 360 w 10800"/>
                      <a:gd name="textAreaRight" fmla="*/ 11520 w 10800"/>
                      <a:gd name="textAreaTop" fmla="*/ -360 h 23400"/>
                      <a:gd name="textAreaBottom" fmla="*/ 23400 h 23400"/>
                    </a:gdLst>
                    <a:ahLst/>
                    <a:rect l="textAreaLeft" t="textAreaTop" r="textAreaRight" b="textAreaBottom"/>
                    <a:pathLst>
                      <a:path w="90" h="181">
                        <a:moveTo>
                          <a:pt x="45" y="181"/>
                        </a:moveTo>
                        <a:cubicBezTo>
                          <a:pt x="30" y="181"/>
                          <a:pt x="0" y="120"/>
                          <a:pt x="0" y="90"/>
                        </a:cubicBezTo>
                        <a:cubicBezTo>
                          <a:pt x="0" y="60"/>
                          <a:pt x="30" y="0"/>
                          <a:pt x="45" y="0"/>
                        </a:cubicBezTo>
                        <a:cubicBezTo>
                          <a:pt x="60" y="0"/>
                          <a:pt x="90" y="60"/>
                          <a:pt x="90" y="90"/>
                        </a:cubicBezTo>
                        <a:cubicBezTo>
                          <a:pt x="90" y="120"/>
                          <a:pt x="60" y="181"/>
                          <a:pt x="45" y="181"/>
                        </a:cubicBezTo>
                        <a:close/>
                      </a:path>
                    </a:pathLst>
                  </a:custGeom>
                  <a:noFill/>
                  <a:ln w="648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7" name="Freeform 599"/>
                  <p:cNvSpPr/>
                  <p:nvPr/>
                </p:nvSpPr>
                <p:spPr>
                  <a:xfrm flipH="1" flipV="1" rot="21512400">
                    <a:off x="4058280" y="3048840"/>
                    <a:ext cx="10800" cy="23040"/>
                  </a:xfrm>
                  <a:custGeom>
                    <a:avLst/>
                    <a:gdLst>
                      <a:gd name="textAreaLeft" fmla="*/ 360 w 10800"/>
                      <a:gd name="textAreaRight" fmla="*/ 11520 w 10800"/>
                      <a:gd name="textAreaTop" fmla="*/ 360 h 23040"/>
                      <a:gd name="textAreaBottom" fmla="*/ 23760 h 23040"/>
                    </a:gdLst>
                    <a:ahLst/>
                    <a:rect l="textAreaLeft" t="textAreaTop" r="textAreaRight" b="textAreaBottom"/>
                    <a:pathLst>
                      <a:path w="90" h="181">
                        <a:moveTo>
                          <a:pt x="45" y="181"/>
                        </a:moveTo>
                        <a:cubicBezTo>
                          <a:pt x="30" y="181"/>
                          <a:pt x="0" y="120"/>
                          <a:pt x="0" y="90"/>
                        </a:cubicBezTo>
                        <a:cubicBezTo>
                          <a:pt x="0" y="60"/>
                          <a:pt x="30" y="0"/>
                          <a:pt x="45" y="0"/>
                        </a:cubicBezTo>
                        <a:cubicBezTo>
                          <a:pt x="60" y="0"/>
                          <a:pt x="90" y="60"/>
                          <a:pt x="90" y="90"/>
                        </a:cubicBezTo>
                        <a:cubicBezTo>
                          <a:pt x="90" y="120"/>
                          <a:pt x="60" y="181"/>
                          <a:pt x="45" y="181"/>
                        </a:cubicBezTo>
                        <a:close/>
                      </a:path>
                    </a:pathLst>
                  </a:custGeom>
                  <a:noFill/>
                  <a:ln w="648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8" name="Freeform 600"/>
                  <p:cNvSpPr/>
                  <p:nvPr/>
                </p:nvSpPr>
                <p:spPr>
                  <a:xfrm flipH="1" flipV="1" rot="1168200">
                    <a:off x="4053600" y="3049560"/>
                    <a:ext cx="10800" cy="23040"/>
                  </a:xfrm>
                  <a:custGeom>
                    <a:avLst/>
                    <a:gdLst>
                      <a:gd name="textAreaLeft" fmla="*/ 360 w 10800"/>
                      <a:gd name="textAreaRight" fmla="*/ 11520 w 10800"/>
                      <a:gd name="textAreaTop" fmla="*/ 360 h 23040"/>
                      <a:gd name="textAreaBottom" fmla="*/ 23760 h 23040"/>
                    </a:gdLst>
                    <a:ahLst/>
                    <a:rect l="textAreaLeft" t="textAreaTop" r="textAreaRight" b="textAreaBottom"/>
                    <a:pathLst>
                      <a:path w="90" h="181">
                        <a:moveTo>
                          <a:pt x="45" y="181"/>
                        </a:moveTo>
                        <a:cubicBezTo>
                          <a:pt x="30" y="181"/>
                          <a:pt x="0" y="120"/>
                          <a:pt x="0" y="90"/>
                        </a:cubicBezTo>
                        <a:cubicBezTo>
                          <a:pt x="0" y="60"/>
                          <a:pt x="30" y="0"/>
                          <a:pt x="45" y="0"/>
                        </a:cubicBezTo>
                        <a:cubicBezTo>
                          <a:pt x="60" y="0"/>
                          <a:pt x="90" y="60"/>
                          <a:pt x="90" y="90"/>
                        </a:cubicBezTo>
                        <a:cubicBezTo>
                          <a:pt x="90" y="120"/>
                          <a:pt x="60" y="181"/>
                          <a:pt x="45" y="181"/>
                        </a:cubicBezTo>
                        <a:close/>
                      </a:path>
                    </a:pathLst>
                  </a:custGeom>
                  <a:noFill/>
                  <a:ln w="648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9" name="Freeform 601"/>
                  <p:cNvSpPr/>
                  <p:nvPr/>
                </p:nvSpPr>
                <p:spPr>
                  <a:xfrm flipV="1" rot="8649600">
                    <a:off x="4044240" y="3020400"/>
                    <a:ext cx="10800" cy="23040"/>
                  </a:xfrm>
                  <a:custGeom>
                    <a:avLst/>
                    <a:gdLst>
                      <a:gd name="textAreaLeft" fmla="*/ 0 w 10800"/>
                      <a:gd name="textAreaRight" fmla="*/ 11160 w 10800"/>
                      <a:gd name="textAreaTop" fmla="*/ 360 h 23040"/>
                      <a:gd name="textAreaBottom" fmla="*/ 23760 h 23040"/>
                    </a:gdLst>
                    <a:ahLst/>
                    <a:rect l="textAreaLeft" t="textAreaTop" r="textAreaRight" b="textAreaBottom"/>
                    <a:pathLst>
                      <a:path w="90" h="181">
                        <a:moveTo>
                          <a:pt x="45" y="181"/>
                        </a:moveTo>
                        <a:cubicBezTo>
                          <a:pt x="30" y="181"/>
                          <a:pt x="0" y="120"/>
                          <a:pt x="0" y="90"/>
                        </a:cubicBezTo>
                        <a:cubicBezTo>
                          <a:pt x="0" y="60"/>
                          <a:pt x="30" y="0"/>
                          <a:pt x="45" y="0"/>
                        </a:cubicBezTo>
                        <a:cubicBezTo>
                          <a:pt x="60" y="0"/>
                          <a:pt x="90" y="60"/>
                          <a:pt x="90" y="90"/>
                        </a:cubicBezTo>
                        <a:cubicBezTo>
                          <a:pt x="90" y="120"/>
                          <a:pt x="60" y="181"/>
                          <a:pt x="45" y="181"/>
                        </a:cubicBezTo>
                        <a:close/>
                      </a:path>
                    </a:pathLst>
                  </a:custGeom>
                  <a:noFill/>
                  <a:ln w="648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0" name="Freeform 602"/>
                  <p:cNvSpPr/>
                  <p:nvPr/>
                </p:nvSpPr>
                <p:spPr>
                  <a:xfrm flipV="1" rot="7544400">
                    <a:off x="4042440" y="3021480"/>
                    <a:ext cx="9720" cy="24840"/>
                  </a:xfrm>
                  <a:custGeom>
                    <a:avLst/>
                    <a:gdLst>
                      <a:gd name="textAreaLeft" fmla="*/ 0 w 9720"/>
                      <a:gd name="textAreaRight" fmla="*/ 10080 w 9720"/>
                      <a:gd name="textAreaTop" fmla="*/ -360 h 24840"/>
                      <a:gd name="textAreaBottom" fmla="*/ 24840 h 24840"/>
                    </a:gdLst>
                    <a:ahLst/>
                    <a:rect l="textAreaLeft" t="textAreaTop" r="textAreaRight" b="textAreaBottom"/>
                    <a:pathLst>
                      <a:path w="90" h="181">
                        <a:moveTo>
                          <a:pt x="45" y="181"/>
                        </a:moveTo>
                        <a:cubicBezTo>
                          <a:pt x="30" y="181"/>
                          <a:pt x="0" y="120"/>
                          <a:pt x="0" y="90"/>
                        </a:cubicBezTo>
                        <a:cubicBezTo>
                          <a:pt x="0" y="60"/>
                          <a:pt x="30" y="0"/>
                          <a:pt x="45" y="0"/>
                        </a:cubicBezTo>
                        <a:cubicBezTo>
                          <a:pt x="60" y="0"/>
                          <a:pt x="90" y="60"/>
                          <a:pt x="90" y="90"/>
                        </a:cubicBezTo>
                        <a:cubicBezTo>
                          <a:pt x="90" y="120"/>
                          <a:pt x="60" y="181"/>
                          <a:pt x="45" y="181"/>
                        </a:cubicBezTo>
                        <a:close/>
                      </a:path>
                    </a:pathLst>
                  </a:custGeom>
                  <a:noFill/>
                  <a:ln w="648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1" name="Freeform 603"/>
                  <p:cNvSpPr/>
                  <p:nvPr/>
                </p:nvSpPr>
                <p:spPr>
                  <a:xfrm flipV="1" rot="6288000">
                    <a:off x="4040640" y="3025440"/>
                    <a:ext cx="9720" cy="24480"/>
                  </a:xfrm>
                  <a:custGeom>
                    <a:avLst/>
                    <a:gdLst>
                      <a:gd name="textAreaLeft" fmla="*/ 0 w 9720"/>
                      <a:gd name="textAreaRight" fmla="*/ 10080 w 9720"/>
                      <a:gd name="textAreaTop" fmla="*/ 360 h 24480"/>
                      <a:gd name="textAreaBottom" fmla="*/ 25200 h 24480"/>
                    </a:gdLst>
                    <a:ahLst/>
                    <a:rect l="textAreaLeft" t="textAreaTop" r="textAreaRight" b="textAreaBottom"/>
                    <a:pathLst>
                      <a:path w="90" h="181">
                        <a:moveTo>
                          <a:pt x="45" y="181"/>
                        </a:moveTo>
                        <a:cubicBezTo>
                          <a:pt x="30" y="181"/>
                          <a:pt x="0" y="120"/>
                          <a:pt x="0" y="90"/>
                        </a:cubicBezTo>
                        <a:cubicBezTo>
                          <a:pt x="0" y="60"/>
                          <a:pt x="30" y="0"/>
                          <a:pt x="45" y="0"/>
                        </a:cubicBezTo>
                        <a:cubicBezTo>
                          <a:pt x="60" y="0"/>
                          <a:pt x="90" y="60"/>
                          <a:pt x="90" y="90"/>
                        </a:cubicBezTo>
                        <a:cubicBezTo>
                          <a:pt x="90" y="120"/>
                          <a:pt x="60" y="181"/>
                          <a:pt x="45" y="181"/>
                        </a:cubicBezTo>
                        <a:close/>
                      </a:path>
                    </a:pathLst>
                  </a:custGeom>
                  <a:noFill/>
                  <a:ln w="648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2" name="Freeform 604"/>
                  <p:cNvSpPr/>
                  <p:nvPr/>
                </p:nvSpPr>
                <p:spPr>
                  <a:xfrm flipH="1" flipV="1" rot="3727800">
                    <a:off x="4114440" y="3008520"/>
                    <a:ext cx="8280" cy="16920"/>
                  </a:xfrm>
                  <a:custGeom>
                    <a:avLst/>
                    <a:gdLst>
                      <a:gd name="textAreaLeft" fmla="*/ -360 w 8280"/>
                      <a:gd name="textAreaRight" fmla="*/ 8280 w 8280"/>
                      <a:gd name="textAreaTop" fmla="*/ -360 h 16920"/>
                      <a:gd name="textAreaBottom" fmla="*/ 16920 h 16920"/>
                    </a:gdLst>
                    <a:ahLst/>
                    <a:rect l="textAreaLeft" t="textAreaTop" r="textAreaRight" b="textAreaBottom"/>
                    <a:pathLst>
                      <a:path w="36" h="68">
                        <a:moveTo>
                          <a:pt x="9" y="0"/>
                        </a:moveTo>
                        <a:cubicBezTo>
                          <a:pt x="10" y="0"/>
                          <a:pt x="30" y="5"/>
                          <a:pt x="24" y="12"/>
                        </a:cubicBezTo>
                        <a:cubicBezTo>
                          <a:pt x="20" y="17"/>
                          <a:pt x="6" y="18"/>
                          <a:pt x="6" y="18"/>
                        </a:cubicBezTo>
                        <a:cubicBezTo>
                          <a:pt x="8" y="21"/>
                          <a:pt x="9" y="25"/>
                          <a:pt x="12" y="27"/>
                        </a:cubicBezTo>
                        <a:cubicBezTo>
                          <a:pt x="22" y="35"/>
                          <a:pt x="32" y="35"/>
                          <a:pt x="6" y="42"/>
                        </a:cubicBezTo>
                        <a:cubicBezTo>
                          <a:pt x="36" y="52"/>
                          <a:pt x="23" y="55"/>
                          <a:pt x="0" y="60"/>
                        </a:cubicBezTo>
                        <a:cubicBezTo>
                          <a:pt x="13" y="68"/>
                          <a:pt x="8" y="63"/>
                          <a:pt x="21" y="63"/>
                        </a:cubicBezTo>
                      </a:path>
                    </a:pathLst>
                  </a:custGeom>
                  <a:solidFill>
                    <a:srgbClr val="663366"/>
                  </a:solidFill>
                  <a:ln w="9360">
                    <a:solidFill>
                      <a:srgbClr val="66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3" name="Freeform 605"/>
                  <p:cNvSpPr/>
                  <p:nvPr/>
                </p:nvSpPr>
                <p:spPr>
                  <a:xfrm flipH="1" flipV="1" rot="3727800">
                    <a:off x="4111560" y="3004920"/>
                    <a:ext cx="7560" cy="16560"/>
                  </a:xfrm>
                  <a:custGeom>
                    <a:avLst/>
                    <a:gdLst>
                      <a:gd name="textAreaLeft" fmla="*/ -360 w 7560"/>
                      <a:gd name="textAreaRight" fmla="*/ 7560 w 7560"/>
                      <a:gd name="textAreaTop" fmla="*/ 360 h 16560"/>
                      <a:gd name="textAreaBottom" fmla="*/ 17280 h 16560"/>
                    </a:gdLst>
                    <a:ahLst/>
                    <a:rect l="textAreaLeft" t="textAreaTop" r="textAreaRight" b="textAreaBottom"/>
                    <a:pathLst>
                      <a:path w="36" h="68">
                        <a:moveTo>
                          <a:pt x="9" y="0"/>
                        </a:moveTo>
                        <a:cubicBezTo>
                          <a:pt x="10" y="0"/>
                          <a:pt x="30" y="5"/>
                          <a:pt x="24" y="12"/>
                        </a:cubicBezTo>
                        <a:cubicBezTo>
                          <a:pt x="20" y="17"/>
                          <a:pt x="6" y="18"/>
                          <a:pt x="6" y="18"/>
                        </a:cubicBezTo>
                        <a:cubicBezTo>
                          <a:pt x="8" y="21"/>
                          <a:pt x="9" y="25"/>
                          <a:pt x="12" y="27"/>
                        </a:cubicBezTo>
                        <a:cubicBezTo>
                          <a:pt x="22" y="35"/>
                          <a:pt x="32" y="35"/>
                          <a:pt x="6" y="42"/>
                        </a:cubicBezTo>
                        <a:cubicBezTo>
                          <a:pt x="36" y="52"/>
                          <a:pt x="23" y="55"/>
                          <a:pt x="0" y="60"/>
                        </a:cubicBezTo>
                        <a:cubicBezTo>
                          <a:pt x="13" y="68"/>
                          <a:pt x="8" y="63"/>
                          <a:pt x="21" y="63"/>
                        </a:cubicBezTo>
                      </a:path>
                    </a:pathLst>
                  </a:custGeom>
                  <a:solidFill>
                    <a:srgbClr val="663366"/>
                  </a:solidFill>
                  <a:ln w="9360">
                    <a:solidFill>
                      <a:srgbClr val="66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4" name="Oval 606"/>
                  <p:cNvSpPr/>
                  <p:nvPr/>
                </p:nvSpPr>
                <p:spPr>
                  <a:xfrm flipH="1" flipV="1" rot="3727800">
                    <a:off x="4128840" y="3007080"/>
                    <a:ext cx="5040" cy="11520"/>
                  </a:xfrm>
                  <a:prstGeom prst="ellipse">
                    <a:avLst/>
                  </a:prstGeom>
                  <a:solidFill>
                    <a:srgbClr val="663366"/>
                  </a:solidFill>
                  <a:ln w="9360">
                    <a:solidFill>
                      <a:srgbClr val="66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5" name="Oval 607"/>
                  <p:cNvSpPr/>
                  <p:nvPr/>
                </p:nvSpPr>
                <p:spPr>
                  <a:xfrm flipH="1" flipV="1" rot="3727800">
                    <a:off x="4125600" y="3002400"/>
                    <a:ext cx="5400" cy="10800"/>
                  </a:xfrm>
                  <a:prstGeom prst="ellipse">
                    <a:avLst/>
                  </a:prstGeom>
                  <a:solidFill>
                    <a:srgbClr val="663366"/>
                  </a:solidFill>
                  <a:ln w="9360">
                    <a:solidFill>
                      <a:srgbClr val="66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6" name="AutoShape 608"/>
                  <p:cNvSpPr/>
                  <p:nvPr/>
                </p:nvSpPr>
                <p:spPr>
                  <a:xfrm flipH="1" flipV="1">
                    <a:off x="4345560" y="3069360"/>
                    <a:ext cx="20520" cy="18360"/>
                  </a:xfrm>
                  <a:custGeom>
                    <a:avLst/>
                    <a:gdLst>
                      <a:gd name="textAreaLeft" fmla="*/ 12240 w 20520"/>
                      <a:gd name="textAreaRight" fmla="*/ 12960 w 20520"/>
                      <a:gd name="textAreaTop" fmla="*/ 720 h 18360"/>
                      <a:gd name="textAreaBottom" fmla="*/ 17640 h 18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7719" y="2482"/>
                          <a:pt x="13837" y="5080"/>
                          <a:pt x="13837" y="10800"/>
                        </a:cubicBezTo>
                        <a:cubicBezTo>
                          <a:pt x="13837" y="16520"/>
                          <a:pt x="17719" y="19118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7" name="Freeform 609"/>
                  <p:cNvSpPr/>
                  <p:nvPr/>
                </p:nvSpPr>
                <p:spPr>
                  <a:xfrm rot="444000">
                    <a:off x="4173840" y="2928600"/>
                    <a:ext cx="71280" cy="115560"/>
                  </a:xfrm>
                  <a:custGeom>
                    <a:avLst/>
                    <a:gdLst>
                      <a:gd name="textAreaLeft" fmla="*/ 0 w 71280"/>
                      <a:gd name="textAreaRight" fmla="*/ 71640 w 71280"/>
                      <a:gd name="textAreaTop" fmla="*/ 0 h 115560"/>
                      <a:gd name="textAreaBottom" fmla="*/ 115920 h 115560"/>
                    </a:gdLst>
                    <a:ahLst/>
                    <a:rect l="textAreaLeft" t="textAreaTop" r="textAreaRight" b="textAreaBottom"/>
                    <a:pathLst>
                      <a:path w="196" h="430">
                        <a:moveTo>
                          <a:pt x="15" y="60"/>
                        </a:moveTo>
                        <a:cubicBezTo>
                          <a:pt x="30" y="0"/>
                          <a:pt x="76" y="7"/>
                          <a:pt x="106" y="14"/>
                        </a:cubicBezTo>
                        <a:cubicBezTo>
                          <a:pt x="136" y="21"/>
                          <a:pt x="196" y="45"/>
                          <a:pt x="196" y="105"/>
                        </a:cubicBezTo>
                        <a:cubicBezTo>
                          <a:pt x="196" y="165"/>
                          <a:pt x="136" y="332"/>
                          <a:pt x="106" y="377"/>
                        </a:cubicBezTo>
                        <a:cubicBezTo>
                          <a:pt x="76" y="422"/>
                          <a:pt x="30" y="430"/>
                          <a:pt x="15" y="377"/>
                        </a:cubicBezTo>
                        <a:cubicBezTo>
                          <a:pt x="0" y="324"/>
                          <a:pt x="0" y="120"/>
                          <a:pt x="15" y="60"/>
                        </a:cubicBezTo>
                        <a:close/>
                      </a:path>
                    </a:pathLst>
                  </a:custGeom>
                  <a:blipFill rotWithShape="0">
                    <a:blip r:embed="rId4"/>
                    <a:srcRect/>
                    <a:tile tx="0" ty="0" sx="100000" sy="100000" algn="ctr"/>
                  </a:blipFill>
                  <a:ln w="936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668" name="Oval 11"/>
              <p:cNvSpPr/>
              <p:nvPr/>
            </p:nvSpPr>
            <p:spPr>
              <a:xfrm>
                <a:off x="3288960" y="3087720"/>
                <a:ext cx="822600" cy="822240"/>
              </a:xfrm>
              <a:prstGeom prst="ellipse">
                <a:avLst/>
              </a:prstGeom>
              <a:solidFill>
                <a:srgbClr val="f41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9" name="Line 2"/>
            <p:cNvSpPr/>
            <p:nvPr/>
          </p:nvSpPr>
          <p:spPr>
            <a:xfrm>
              <a:off x="1481040" y="3468600"/>
              <a:ext cx="1652400" cy="21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Text Box 622"/>
            <p:cNvSpPr/>
            <p:nvPr/>
          </p:nvSpPr>
          <p:spPr>
            <a:xfrm>
              <a:off x="1598400" y="3592440"/>
              <a:ext cx="1319400" cy="2854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400" spc="-1" strike="noStrike">
                  <a:solidFill>
                    <a:srgbClr val="ffffff"/>
                  </a:solidFill>
                  <a:latin typeface="Arial"/>
                </a:rPr>
                <a:t>activ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1" name="Group 328"/>
          <p:cNvGrpSpPr/>
          <p:nvPr/>
        </p:nvGrpSpPr>
        <p:grpSpPr>
          <a:xfrm>
            <a:off x="416160" y="1539360"/>
            <a:ext cx="3249000" cy="1350720"/>
            <a:chOff x="416160" y="1539360"/>
            <a:chExt cx="3249000" cy="1350720"/>
          </a:xfrm>
        </p:grpSpPr>
        <p:grpSp>
          <p:nvGrpSpPr>
            <p:cNvPr id="1672" name="Group 322"/>
            <p:cNvGrpSpPr/>
            <p:nvPr/>
          </p:nvGrpSpPr>
          <p:grpSpPr>
            <a:xfrm>
              <a:off x="1510200" y="1539360"/>
              <a:ext cx="2154960" cy="1350720"/>
              <a:chOff x="1510200" y="1539360"/>
              <a:chExt cx="2154960" cy="1350720"/>
            </a:xfrm>
          </p:grpSpPr>
          <p:grpSp>
            <p:nvGrpSpPr>
              <p:cNvPr id="1673" name="Group 321"/>
              <p:cNvGrpSpPr/>
              <p:nvPr/>
            </p:nvGrpSpPr>
            <p:grpSpPr>
              <a:xfrm>
                <a:off x="1716120" y="1539360"/>
                <a:ext cx="1949040" cy="1218600"/>
                <a:chOff x="1716120" y="1539360"/>
                <a:chExt cx="1949040" cy="1218600"/>
              </a:xfrm>
            </p:grpSpPr>
            <p:pic>
              <p:nvPicPr>
                <p:cNvPr id="1674" name="Group 4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444760" y="2309400"/>
                  <a:ext cx="422280" cy="330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75" name="TextBox 358"/>
                <p:cNvSpPr/>
                <p:nvPr/>
              </p:nvSpPr>
              <p:spPr>
                <a:xfrm>
                  <a:off x="1716120" y="1812600"/>
                  <a:ext cx="770040" cy="30708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400" spc="-1" strike="noStrike">
                      <a:solidFill>
                        <a:srgbClr val="ffffff"/>
                      </a:solidFill>
                      <a:latin typeface="Arial"/>
                    </a:rPr>
                    <a:t>PDL-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76" name="Group 28"/>
                <p:cNvGrpSpPr/>
                <p:nvPr/>
              </p:nvGrpSpPr>
              <p:grpSpPr>
                <a:xfrm>
                  <a:off x="2492280" y="1539360"/>
                  <a:ext cx="1172880" cy="1218600"/>
                  <a:chOff x="2492280" y="1539360"/>
                  <a:chExt cx="1172880" cy="1218600"/>
                </a:xfrm>
              </p:grpSpPr>
              <p:sp>
                <p:nvSpPr>
                  <p:cNvPr id="1677" name="Freeform 29"/>
                  <p:cNvSpPr/>
                  <p:nvPr/>
                </p:nvSpPr>
                <p:spPr>
                  <a:xfrm rot="15496800">
                    <a:off x="2558160" y="1657440"/>
                    <a:ext cx="1040760" cy="982080"/>
                  </a:xfrm>
                  <a:custGeom>
                    <a:avLst/>
                    <a:gdLst>
                      <a:gd name="textAreaLeft" fmla="*/ 0 w 1040760"/>
                      <a:gd name="textAreaRight" fmla="*/ 1040760 w 1040760"/>
                      <a:gd name="textAreaTop" fmla="*/ 0 h 982080"/>
                      <a:gd name="textAreaBottom" fmla="*/ 982440 h 982080"/>
                    </a:gdLst>
                    <a:ahLst/>
                    <a:rect l="textAreaLeft" t="textAreaTop" r="textAreaRight" b="textAreaBottom"/>
                    <a:pathLst>
                      <a:path w="687" h="605">
                        <a:moveTo>
                          <a:pt x="317" y="143"/>
                        </a:moveTo>
                        <a:cubicBezTo>
                          <a:pt x="385" y="120"/>
                          <a:pt x="438" y="0"/>
                          <a:pt x="453" y="7"/>
                        </a:cubicBezTo>
                        <a:cubicBezTo>
                          <a:pt x="468" y="14"/>
                          <a:pt x="370" y="181"/>
                          <a:pt x="408" y="188"/>
                        </a:cubicBezTo>
                        <a:cubicBezTo>
                          <a:pt x="446" y="195"/>
                          <a:pt x="673" y="37"/>
                          <a:pt x="680" y="52"/>
                        </a:cubicBezTo>
                        <a:cubicBezTo>
                          <a:pt x="687" y="67"/>
                          <a:pt x="468" y="203"/>
                          <a:pt x="453" y="279"/>
                        </a:cubicBezTo>
                        <a:cubicBezTo>
                          <a:pt x="438" y="355"/>
                          <a:pt x="604" y="491"/>
                          <a:pt x="589" y="506"/>
                        </a:cubicBezTo>
                        <a:cubicBezTo>
                          <a:pt x="574" y="521"/>
                          <a:pt x="407" y="355"/>
                          <a:pt x="362" y="370"/>
                        </a:cubicBezTo>
                        <a:cubicBezTo>
                          <a:pt x="317" y="385"/>
                          <a:pt x="340" y="605"/>
                          <a:pt x="317" y="597"/>
                        </a:cubicBezTo>
                        <a:cubicBezTo>
                          <a:pt x="294" y="589"/>
                          <a:pt x="279" y="354"/>
                          <a:pt x="226" y="324"/>
                        </a:cubicBezTo>
                        <a:cubicBezTo>
                          <a:pt x="173" y="294"/>
                          <a:pt x="0" y="430"/>
                          <a:pt x="0" y="415"/>
                        </a:cubicBezTo>
                        <a:cubicBezTo>
                          <a:pt x="0" y="400"/>
                          <a:pt x="219" y="279"/>
                          <a:pt x="226" y="234"/>
                        </a:cubicBezTo>
                        <a:cubicBezTo>
                          <a:pt x="233" y="189"/>
                          <a:pt x="30" y="158"/>
                          <a:pt x="45" y="143"/>
                        </a:cubicBezTo>
                        <a:cubicBezTo>
                          <a:pt x="60" y="128"/>
                          <a:pt x="249" y="166"/>
                          <a:pt x="317" y="143"/>
                        </a:cubicBez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8" name="Oval 30"/>
                  <p:cNvSpPr/>
                  <p:nvPr/>
                </p:nvSpPr>
                <p:spPr>
                  <a:xfrm rot="16777200">
                    <a:off x="2891880" y="2084760"/>
                    <a:ext cx="221760" cy="242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9933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79" name="Group 44"/>
              <p:cNvGrpSpPr/>
              <p:nvPr/>
            </p:nvGrpSpPr>
            <p:grpSpPr>
              <a:xfrm>
                <a:off x="1510200" y="2568240"/>
                <a:ext cx="340560" cy="321840"/>
                <a:chOff x="1510200" y="2568240"/>
                <a:chExt cx="340560" cy="321840"/>
              </a:xfrm>
            </p:grpSpPr>
            <p:grpSp>
              <p:nvGrpSpPr>
                <p:cNvPr id="1680" name="Group 45"/>
                <p:cNvGrpSpPr/>
                <p:nvPr/>
              </p:nvGrpSpPr>
              <p:grpSpPr>
                <a:xfrm>
                  <a:off x="1510200" y="2568240"/>
                  <a:ext cx="303480" cy="147960"/>
                  <a:chOff x="1510200" y="2568240"/>
                  <a:chExt cx="303480" cy="147960"/>
                </a:xfrm>
              </p:grpSpPr>
              <p:sp>
                <p:nvSpPr>
                  <p:cNvPr id="1681" name="Rectangle 46"/>
                  <p:cNvSpPr/>
                  <p:nvPr/>
                </p:nvSpPr>
                <p:spPr>
                  <a:xfrm rot="3330600">
                    <a:off x="1715040" y="2559240"/>
                    <a:ext cx="52200" cy="140040"/>
                  </a:xfrm>
                  <a:prstGeom prst="rect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2" name="Rectangle 47"/>
                  <p:cNvSpPr/>
                  <p:nvPr/>
                </p:nvSpPr>
                <p:spPr>
                  <a:xfrm rot="4649400">
                    <a:off x="1587240" y="2602440"/>
                    <a:ext cx="52200" cy="140040"/>
                  </a:xfrm>
                  <a:prstGeom prst="rect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3" name="Rectangle 48"/>
                  <p:cNvSpPr/>
                  <p:nvPr/>
                </p:nvSpPr>
                <p:spPr>
                  <a:xfrm rot="4649400">
                    <a:off x="1518840" y="2642040"/>
                    <a:ext cx="64440" cy="69840"/>
                  </a:xfrm>
                  <a:prstGeom prst="rect">
                    <a:avLst/>
                  </a:prstGeom>
                  <a:solidFill>
                    <a:srgbClr val="99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4" name="Group 49"/>
                <p:cNvGrpSpPr/>
                <p:nvPr/>
              </p:nvGrpSpPr>
              <p:grpSpPr>
                <a:xfrm>
                  <a:off x="1619280" y="2621520"/>
                  <a:ext cx="231480" cy="268560"/>
                  <a:chOff x="1619280" y="2621520"/>
                  <a:chExt cx="231480" cy="268560"/>
                </a:xfrm>
              </p:grpSpPr>
              <p:sp>
                <p:nvSpPr>
                  <p:cNvPr id="1685" name="Rectangle 50"/>
                  <p:cNvSpPr/>
                  <p:nvPr/>
                </p:nvSpPr>
                <p:spPr>
                  <a:xfrm flipH="1" rot="3330000">
                    <a:off x="1751400" y="2612520"/>
                    <a:ext cx="52560" cy="140040"/>
                  </a:xfrm>
                  <a:prstGeom prst="rect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6" name="Rectangle 51"/>
                  <p:cNvSpPr/>
                  <p:nvPr/>
                </p:nvSpPr>
                <p:spPr>
                  <a:xfrm flipH="1" rot="2011200">
                    <a:off x="1665720" y="2716920"/>
                    <a:ext cx="52560" cy="139680"/>
                  </a:xfrm>
                  <a:prstGeom prst="rect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7" name="Rectangle 52"/>
                  <p:cNvSpPr/>
                  <p:nvPr/>
                </p:nvSpPr>
                <p:spPr>
                  <a:xfrm flipH="1" rot="2011200">
                    <a:off x="1632600" y="2808000"/>
                    <a:ext cx="64800" cy="69840"/>
                  </a:xfrm>
                  <a:prstGeom prst="rect">
                    <a:avLst/>
                  </a:prstGeom>
                  <a:solidFill>
                    <a:srgbClr val="99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688" name="Text Box 325"/>
            <p:cNvSpPr/>
            <p:nvPr/>
          </p:nvSpPr>
          <p:spPr>
            <a:xfrm>
              <a:off x="416160" y="2206440"/>
              <a:ext cx="1927080" cy="307080"/>
            </a:xfrm>
            <a:prstGeom prst="rect">
              <a:avLst/>
            </a:prstGeom>
            <a:solidFill>
              <a:srgbClr val="f41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400" spc="-1" strike="noStrike">
                  <a:solidFill>
                    <a:srgbClr val="ffffff"/>
                  </a:solidFill>
                  <a:latin typeface="Arial"/>
                </a:rPr>
                <a:t>Anti-PD-1 blocking A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20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" dur="20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9" name="Picture 2" descr="ChapterPageTemplateRed"/>
          <p:cNvPicPr/>
          <p:nvPr/>
        </p:nvPicPr>
        <p:blipFill>
          <a:blip r:embed="rId1"/>
          <a:stretch/>
        </p:blipFill>
        <p:spPr>
          <a:xfrm>
            <a:off x="-31680" y="0"/>
            <a:ext cx="9175680" cy="6872400"/>
          </a:xfrm>
          <a:prstGeom prst="rect">
            <a:avLst/>
          </a:prstGeom>
          <a:ln w="0">
            <a:noFill/>
          </a:ln>
        </p:spPr>
      </p:pic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AU" sz="4800" spc="-1" strike="noStrike">
                <a:solidFill>
                  <a:srgbClr val="ffffff"/>
                </a:solidFill>
                <a:latin typeface="Arial"/>
              </a:rPr>
              <a:t>eliminating </a:t>
            </a:r>
            <a:r>
              <a:rPr b="1" lang="en-AU" sz="7200" spc="-1" strike="noStrike">
                <a:solidFill>
                  <a:srgbClr val="ffffff"/>
                </a:solidFill>
                <a:latin typeface="Arial"/>
              </a:rPr>
              <a:t>virus replication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Rectangle 29"/>
          <p:cNvSpPr/>
          <p:nvPr/>
        </p:nvSpPr>
        <p:spPr>
          <a:xfrm>
            <a:off x="1476360" y="1373040"/>
            <a:ext cx="4608360" cy="4021200"/>
          </a:xfrm>
          <a:prstGeom prst="rect">
            <a:avLst/>
          </a:prstGeom>
          <a:solidFill>
            <a:srgbClr val="f56c1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Text Box 3"/>
          <p:cNvSpPr/>
          <p:nvPr/>
        </p:nvSpPr>
        <p:spPr>
          <a:xfrm rot="16200000">
            <a:off x="-235080" y="31878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0000"/>
                </a:solidFill>
                <a:latin typeface="Arial"/>
              </a:rPr>
              <a:t>HIV 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Line 4"/>
          <p:cNvSpPr/>
          <p:nvPr/>
        </p:nvSpPr>
        <p:spPr>
          <a:xfrm>
            <a:off x="1235160" y="1373040"/>
            <a:ext cx="0" cy="4042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Text Box 6"/>
          <p:cNvSpPr/>
          <p:nvPr/>
        </p:nvSpPr>
        <p:spPr>
          <a:xfrm>
            <a:off x="3031200" y="565956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Years on c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Line 7"/>
          <p:cNvSpPr/>
          <p:nvPr/>
        </p:nvSpPr>
        <p:spPr>
          <a:xfrm flipH="1">
            <a:off x="1528920" y="539748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Line 9"/>
          <p:cNvSpPr/>
          <p:nvPr/>
        </p:nvSpPr>
        <p:spPr>
          <a:xfrm>
            <a:off x="6060960" y="539748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Text Box 10"/>
          <p:cNvSpPr/>
          <p:nvPr/>
        </p:nvSpPr>
        <p:spPr>
          <a:xfrm>
            <a:off x="1368360" y="54770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Text Box 20"/>
          <p:cNvSpPr/>
          <p:nvPr/>
        </p:nvSpPr>
        <p:spPr>
          <a:xfrm>
            <a:off x="768960" y="4106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Text Box 30"/>
          <p:cNvSpPr/>
          <p:nvPr/>
        </p:nvSpPr>
        <p:spPr>
          <a:xfrm>
            <a:off x="6159960" y="5659560"/>
            <a:ext cx="15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tens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Freeform 39"/>
          <p:cNvSpPr/>
          <p:nvPr/>
        </p:nvSpPr>
        <p:spPr>
          <a:xfrm>
            <a:off x="1512720" y="1698480"/>
            <a:ext cx="935280" cy="3213360"/>
          </a:xfrm>
          <a:custGeom>
            <a:avLst/>
            <a:gdLst/>
            <a:ahLst/>
            <a:rect l="l" t="t" r="r" b="b"/>
            <a:pathLst>
              <a:path w="934616" h="2677886">
                <a:moveTo>
                  <a:pt x="1555" y="0"/>
                </a:moveTo>
                <a:cubicBezTo>
                  <a:pt x="777" y="372447"/>
                  <a:pt x="0" y="744894"/>
                  <a:pt x="10886" y="1054359"/>
                </a:cubicBezTo>
                <a:cubicBezTo>
                  <a:pt x="21772" y="1363824"/>
                  <a:pt x="27992" y="1640633"/>
                  <a:pt x="66869" y="1856792"/>
                </a:cubicBezTo>
                <a:cubicBezTo>
                  <a:pt x="105746" y="2072951"/>
                  <a:pt x="137703" y="2222933"/>
                  <a:pt x="244151" y="2351314"/>
                </a:cubicBezTo>
                <a:cubicBezTo>
                  <a:pt x="350599" y="2479695"/>
                  <a:pt x="538065" y="2617237"/>
                  <a:pt x="934616" y="267788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Freeform 40"/>
          <p:cNvSpPr/>
          <p:nvPr/>
        </p:nvSpPr>
        <p:spPr>
          <a:xfrm>
            <a:off x="2444760" y="4911840"/>
            <a:ext cx="3583080" cy="73080"/>
          </a:xfrm>
          <a:custGeom>
            <a:avLst/>
            <a:gdLst>
              <a:gd name="textAreaLeft" fmla="*/ 0 w 3583080"/>
              <a:gd name="textAreaRight" fmla="*/ 3583440 w 358308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3582955" h="60649">
                <a:moveTo>
                  <a:pt x="0" y="0"/>
                </a:moveTo>
                <a:cubicBezTo>
                  <a:pt x="396551" y="60649"/>
                  <a:pt x="1091682" y="31102"/>
                  <a:pt x="1688841" y="37322"/>
                </a:cubicBezTo>
                <a:lnTo>
                  <a:pt x="3582955" y="37322"/>
                </a:ln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Line 4"/>
          <p:cNvSpPr/>
          <p:nvPr/>
        </p:nvSpPr>
        <p:spPr>
          <a:xfrm>
            <a:off x="7861320" y="1341360"/>
            <a:ext cx="0" cy="40737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Straight Connector 45"/>
          <p:cNvSpPr/>
          <p:nvPr/>
        </p:nvSpPr>
        <p:spPr>
          <a:xfrm flipV="1">
            <a:off x="1235160" y="5394240"/>
            <a:ext cx="6602400" cy="2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Line 20"/>
          <p:cNvSpPr/>
          <p:nvPr/>
        </p:nvSpPr>
        <p:spPr>
          <a:xfrm>
            <a:off x="1258920" y="1698480"/>
            <a:ext cx="288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Line 7"/>
          <p:cNvSpPr/>
          <p:nvPr/>
        </p:nvSpPr>
        <p:spPr>
          <a:xfrm flipH="1">
            <a:off x="1978200" y="539892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Text Box 10"/>
          <p:cNvSpPr/>
          <p:nvPr/>
        </p:nvSpPr>
        <p:spPr>
          <a:xfrm>
            <a:off x="1801800" y="547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ARV intensification: no effect on virus persisten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8" name="Freeform 39"/>
          <p:cNvSpPr/>
          <p:nvPr/>
        </p:nvSpPr>
        <p:spPr>
          <a:xfrm>
            <a:off x="1498680" y="1755720"/>
            <a:ext cx="4529160" cy="2138400"/>
          </a:xfrm>
          <a:custGeom>
            <a:avLst/>
            <a:gdLst>
              <a:gd name="textAreaLeft" fmla="*/ 0 w 4529160"/>
              <a:gd name="textAreaRight" fmla="*/ 4529520 w 4529160"/>
              <a:gd name="textAreaTop" fmla="*/ 0 h 2138400"/>
              <a:gd name="textAreaBottom" fmla="*/ 2138760 h 2138400"/>
            </a:gdLst>
            <a:ahLst/>
            <a:rect l="textAreaLeft" t="textAreaTop" r="textAreaRight" b="textAreaBottom"/>
            <a:pathLst>
              <a:path w="934616" h="2677886">
                <a:moveTo>
                  <a:pt x="1555" y="0"/>
                </a:moveTo>
                <a:cubicBezTo>
                  <a:pt x="777" y="372447"/>
                  <a:pt x="0" y="744894"/>
                  <a:pt x="10886" y="1054359"/>
                </a:cubicBezTo>
                <a:cubicBezTo>
                  <a:pt x="21772" y="1363824"/>
                  <a:pt x="27992" y="1640633"/>
                  <a:pt x="66869" y="1856792"/>
                </a:cubicBezTo>
                <a:cubicBezTo>
                  <a:pt x="105746" y="2072951"/>
                  <a:pt x="137703" y="2222933"/>
                  <a:pt x="244151" y="2351314"/>
                </a:cubicBezTo>
                <a:cubicBezTo>
                  <a:pt x="350599" y="2479695"/>
                  <a:pt x="538065" y="2617237"/>
                  <a:pt x="934616" y="2677886"/>
                </a:cubicBezTo>
              </a:path>
            </a:pathLst>
          </a:cu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Text Box 30"/>
          <p:cNvSpPr/>
          <p:nvPr/>
        </p:nvSpPr>
        <p:spPr>
          <a:xfrm>
            <a:off x="4615200" y="3348000"/>
            <a:ext cx="110736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HIV D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0" name="Group 31"/>
          <p:cNvGrpSpPr/>
          <p:nvPr/>
        </p:nvGrpSpPr>
        <p:grpSpPr>
          <a:xfrm>
            <a:off x="2268000" y="5334120"/>
            <a:ext cx="252360" cy="144360"/>
            <a:chOff x="2268000" y="5334120"/>
            <a:chExt cx="252360" cy="144360"/>
          </a:xfrm>
        </p:grpSpPr>
        <p:sp>
          <p:nvSpPr>
            <p:cNvPr id="1711" name="Line 32"/>
            <p:cNvSpPr/>
            <p:nvPr/>
          </p:nvSpPr>
          <p:spPr>
            <a:xfrm flipH="1">
              <a:off x="2268000" y="5334120"/>
              <a:ext cx="176760" cy="14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Line 33"/>
            <p:cNvSpPr/>
            <p:nvPr/>
          </p:nvSpPr>
          <p:spPr>
            <a:xfrm flipH="1">
              <a:off x="2343600" y="5334120"/>
              <a:ext cx="176760" cy="14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3" name="Rectangle 35"/>
          <p:cNvSpPr/>
          <p:nvPr/>
        </p:nvSpPr>
        <p:spPr>
          <a:xfrm>
            <a:off x="6084720" y="1373040"/>
            <a:ext cx="1752840" cy="4021200"/>
          </a:xfrm>
          <a:prstGeom prst="rect">
            <a:avLst/>
          </a:prstGeom>
          <a:solidFill>
            <a:srgbClr val="f56c11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Straight Connector 47"/>
          <p:cNvSpPr/>
          <p:nvPr/>
        </p:nvSpPr>
        <p:spPr>
          <a:xfrm>
            <a:off x="1204920" y="5118120"/>
            <a:ext cx="6680160" cy="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Text Box 20"/>
          <p:cNvSpPr/>
          <p:nvPr/>
        </p:nvSpPr>
        <p:spPr>
          <a:xfrm>
            <a:off x="851400" y="4938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Line 39"/>
          <p:cNvSpPr/>
          <p:nvPr/>
        </p:nvSpPr>
        <p:spPr>
          <a:xfrm>
            <a:off x="6027840" y="4948200"/>
            <a:ext cx="18334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Line 40"/>
          <p:cNvSpPr/>
          <p:nvPr/>
        </p:nvSpPr>
        <p:spPr>
          <a:xfrm>
            <a:off x="6027840" y="3894120"/>
            <a:ext cx="18334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8" name="Group 44"/>
          <p:cNvGrpSpPr/>
          <p:nvPr/>
        </p:nvGrpSpPr>
        <p:grpSpPr>
          <a:xfrm>
            <a:off x="144360" y="1521000"/>
            <a:ext cx="8856720" cy="5464440"/>
            <a:chOff x="144360" y="1521000"/>
            <a:chExt cx="8856720" cy="5464440"/>
          </a:xfrm>
        </p:grpSpPr>
        <p:sp>
          <p:nvSpPr>
            <p:cNvPr id="1719" name="Text Box 41"/>
            <p:cNvSpPr/>
            <p:nvPr/>
          </p:nvSpPr>
          <p:spPr>
            <a:xfrm>
              <a:off x="144360" y="6039000"/>
              <a:ext cx="88567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400" spc="-1" strike="noStrike">
                  <a:solidFill>
                    <a:srgbClr val="000000"/>
                  </a:solidFill>
                  <a:latin typeface="Arial"/>
                </a:rPr>
                <a:t>Dinoso et al., </a:t>
              </a:r>
              <a:r>
                <a:rPr b="0" i="1" lang="en-AU" sz="1400" spc="-1" strike="noStrike">
                  <a:solidFill>
                    <a:srgbClr val="000000"/>
                  </a:solidFill>
                  <a:latin typeface="Arial"/>
                </a:rPr>
                <a:t>Proc Natl Acad Sci U S A</a:t>
              </a:r>
              <a:r>
                <a:rPr b="0" lang="en-AU" sz="1400" spc="-1" strike="noStrike">
                  <a:solidFill>
                    <a:srgbClr val="000000"/>
                  </a:solidFill>
                  <a:latin typeface="Arial"/>
                </a:rPr>
                <a:t>, 2009. 106(23): 9403; McMahon et al., </a:t>
              </a:r>
              <a:r>
                <a:rPr b="0" i="1" lang="en-AU" sz="1400" spc="-1" strike="noStrike">
                  <a:solidFill>
                    <a:srgbClr val="000000"/>
                  </a:solidFill>
                  <a:latin typeface="Arial"/>
                </a:rPr>
                <a:t>Clin Infect Dis</a:t>
              </a:r>
              <a:r>
                <a:rPr b="0" lang="en-AU" sz="1400" spc="-1" strike="noStrike">
                  <a:solidFill>
                    <a:srgbClr val="000000"/>
                  </a:solidFill>
                  <a:latin typeface="Arial"/>
                </a:rPr>
                <a:t>, 2010. 50: 912; Ghandi et al., </a:t>
              </a:r>
              <a:r>
                <a:rPr b="0" i="1" lang="en-AU" sz="1400" spc="-1" strike="noStrike">
                  <a:solidFill>
                    <a:srgbClr val="000000"/>
                  </a:solidFill>
                  <a:latin typeface="Arial"/>
                </a:rPr>
                <a:t>J Infect Dis</a:t>
              </a:r>
              <a:r>
                <a:rPr b="0" lang="en-AU" sz="1400" spc="-1" strike="noStrike">
                  <a:solidFill>
                    <a:srgbClr val="000000"/>
                  </a:solidFill>
                  <a:latin typeface="Arial"/>
                </a:rPr>
                <a:t>. 2010.201:293; Buzon et al., </a:t>
              </a:r>
              <a:r>
                <a:rPr b="0" i="1" lang="en-AU" sz="1400" spc="-1" strike="noStrike">
                  <a:solidFill>
                    <a:srgbClr val="000000"/>
                  </a:solidFill>
                  <a:latin typeface="Arial"/>
                </a:rPr>
                <a:t>Nat Med</a:t>
              </a:r>
              <a:r>
                <a:rPr b="0" lang="en-AU" sz="1400" spc="-1" strike="noStrike">
                  <a:solidFill>
                    <a:srgbClr val="000000"/>
                  </a:solidFill>
                  <a:latin typeface="Arial"/>
                </a:rPr>
                <a:t>, 2010 16: 460; Ghandi et al., </a:t>
              </a:r>
              <a:r>
                <a:rPr b="0" i="1" lang="en-AU" sz="1400" spc="-1" strike="noStrike">
                  <a:solidFill>
                    <a:srgbClr val="000000"/>
                  </a:solidFill>
                  <a:latin typeface="Arial"/>
                </a:rPr>
                <a:t>Plos Med</a:t>
              </a:r>
              <a:r>
                <a:rPr b="0" lang="en-AU" sz="1400" spc="-1" strike="noStrike">
                  <a:solidFill>
                    <a:srgbClr val="000000"/>
                  </a:solidFill>
                  <a:latin typeface="Arial"/>
                </a:rPr>
                <a:t> 2011;7 Yukl et al., </a:t>
              </a:r>
              <a:r>
                <a:rPr b="0" i="1" lang="en-AU" sz="1400" spc="-1" strike="noStrike">
                  <a:solidFill>
                    <a:srgbClr val="000000"/>
                  </a:solidFill>
                  <a:latin typeface="Arial"/>
                </a:rPr>
                <a:t>AIDS</a:t>
              </a:r>
              <a:r>
                <a:rPr b="0" lang="en-AU" sz="1400" spc="-1" strike="noStrike">
                  <a:solidFill>
                    <a:srgbClr val="000000"/>
                  </a:solidFill>
                  <a:latin typeface="Arial"/>
                </a:rPr>
                <a:t> 2010;16:2451; </a:t>
              </a:r>
              <a:r>
                <a:rPr b="0" lang="en-AU" sz="1400" spc="-1" strike="noStrike">
                  <a:solidFill>
                    <a:srgbClr val="000000"/>
                  </a:solidFill>
                  <a:latin typeface="Arial"/>
                </a:rPr>
                <a:t>Hatano et al., </a:t>
              </a:r>
              <a:r>
                <a:rPr b="0" i="1" lang="en-AU" sz="1400" spc="-1" strike="noStrike">
                  <a:solidFill>
                    <a:srgbClr val="000000"/>
                  </a:solidFill>
                  <a:latin typeface="Arial"/>
                </a:rPr>
                <a:t>J Infect Dis</a:t>
              </a:r>
              <a:r>
                <a:rPr b="0" lang="en-AU" sz="1400" spc="-1" strike="noStrike">
                  <a:solidFill>
                    <a:srgbClr val="000000"/>
                  </a:solidFill>
                  <a:latin typeface="Arial"/>
                </a:rPr>
                <a:t> 2011; 203:960; Gutierrez, Plos One 2011:12:e2786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Text Box 43"/>
            <p:cNvSpPr/>
            <p:nvPr/>
          </p:nvSpPr>
          <p:spPr>
            <a:xfrm>
              <a:off x="6064200" y="1521000"/>
              <a:ext cx="17398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"/>
                </a:rPr>
                <a:t>T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"/>
                </a:rPr>
                <a:t>LPV/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"/>
                </a:rPr>
                <a:t>ATV/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"/>
                </a:rPr>
                <a:t>Raltegravir (x5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"/>
                </a:rPr>
                <a:t>Maraviroc (x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1" name="Straight Connector 47"/>
          <p:cNvSpPr/>
          <p:nvPr/>
        </p:nvSpPr>
        <p:spPr>
          <a:xfrm>
            <a:off x="1204920" y="4290840"/>
            <a:ext cx="6680160" cy="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Raltegravir intensification: evidence of residual virus replic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"/>
          <p:cNvSpPr txBox="1"/>
          <p:nvPr/>
        </p:nvSpPr>
        <p:spPr>
          <a:xfrm>
            <a:off x="4648320" y="1376280"/>
            <a:ext cx="4038480" cy="47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n a subset of patients , raltegravir intensification leads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spcBef>
                <a:spcPts val="700"/>
              </a:spcBef>
              <a:buClr>
                <a:srgbClr val="cc2027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ncrease in 2LTR circles</a:t>
            </a:r>
            <a:r>
              <a:rPr b="0" lang="en-AU" sz="2800" spc="-1" strike="noStrike" baseline="30000">
                <a:solidFill>
                  <a:srgbClr val="000000"/>
                </a:solidFill>
                <a:latin typeface="Arial"/>
              </a:rPr>
              <a:t>1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spcBef>
                <a:spcPts val="700"/>
              </a:spcBef>
              <a:buClr>
                <a:srgbClr val="cc2027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Reduction in HIV RNA in ileum</a:t>
            </a:r>
            <a:r>
              <a:rPr b="0" lang="en-AU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spcBef>
                <a:spcPts val="700"/>
              </a:spcBef>
              <a:buClr>
                <a:srgbClr val="cc2027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Reduction in infectious virus (IUPM)</a:t>
            </a:r>
            <a:r>
              <a:rPr b="0" lang="en-AU" sz="2800" spc="-1" strike="noStrike" baseline="30000">
                <a:solidFill>
                  <a:srgbClr val="000000"/>
                </a:solidFill>
                <a:latin typeface="Arial"/>
              </a:rPr>
              <a:t>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4" name="Picture 2" descr=""/>
          <p:cNvPicPr/>
          <p:nvPr/>
        </p:nvPicPr>
        <p:blipFill>
          <a:blip r:embed="rId1"/>
          <a:stretch/>
        </p:blipFill>
        <p:spPr>
          <a:xfrm>
            <a:off x="1155600" y="1341360"/>
            <a:ext cx="2473560" cy="4749840"/>
          </a:xfrm>
          <a:prstGeom prst="rect">
            <a:avLst/>
          </a:prstGeom>
          <a:ln w="0">
            <a:noFill/>
          </a:ln>
        </p:spPr>
      </p:pic>
      <p:grpSp>
        <p:nvGrpSpPr>
          <p:cNvPr id="1725" name="Group 24"/>
          <p:cNvGrpSpPr/>
          <p:nvPr/>
        </p:nvGrpSpPr>
        <p:grpSpPr>
          <a:xfrm>
            <a:off x="435960" y="5321160"/>
            <a:ext cx="2124360" cy="398880"/>
            <a:chOff x="435960" y="5321160"/>
            <a:chExt cx="2124360" cy="398880"/>
          </a:xfrm>
        </p:grpSpPr>
        <p:sp>
          <p:nvSpPr>
            <p:cNvPr id="1726" name="Text Box 25"/>
            <p:cNvSpPr/>
            <p:nvPr/>
          </p:nvSpPr>
          <p:spPr>
            <a:xfrm>
              <a:off x="435960" y="5321160"/>
              <a:ext cx="1413720" cy="398880"/>
            </a:xfrm>
            <a:prstGeom prst="rect">
              <a:avLst/>
            </a:prstGeom>
            <a:solidFill>
              <a:srgbClr val="f41700"/>
            </a:solidFill>
            <a:ln w="9360">
              <a:solidFill>
                <a:srgbClr val="f41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000" spc="-1" strike="noStrike">
                  <a:solidFill>
                    <a:srgbClr val="ffffff"/>
                  </a:solidFill>
                  <a:latin typeface="Arial"/>
                </a:rPr>
                <a:t>Raltegrav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Line 26"/>
            <p:cNvSpPr/>
            <p:nvPr/>
          </p:nvSpPr>
          <p:spPr>
            <a:xfrm flipH="1" flipV="1">
              <a:off x="2178720" y="5520240"/>
              <a:ext cx="381600" cy="28800"/>
            </a:xfrm>
            <a:prstGeom prst="line">
              <a:avLst/>
            </a:prstGeom>
            <a:ln w="57240">
              <a:solidFill>
                <a:srgbClr val="f41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8" name="Group 27"/>
          <p:cNvGrpSpPr/>
          <p:nvPr/>
        </p:nvGrpSpPr>
        <p:grpSpPr>
          <a:xfrm>
            <a:off x="3146400" y="5124600"/>
            <a:ext cx="533160" cy="966240"/>
            <a:chOff x="3146400" y="5124600"/>
            <a:chExt cx="533160" cy="966240"/>
          </a:xfrm>
        </p:grpSpPr>
        <p:grpSp>
          <p:nvGrpSpPr>
            <p:cNvPr id="1729" name="Group 28"/>
            <p:cNvGrpSpPr/>
            <p:nvPr/>
          </p:nvGrpSpPr>
          <p:grpSpPr>
            <a:xfrm>
              <a:off x="3146400" y="5599080"/>
              <a:ext cx="266400" cy="266400"/>
              <a:chOff x="3146400" y="5599080"/>
              <a:chExt cx="266400" cy="266400"/>
            </a:xfrm>
          </p:grpSpPr>
          <p:sp>
            <p:nvSpPr>
              <p:cNvPr id="1730" name="Rectangle 29"/>
              <p:cNvSpPr/>
              <p:nvPr/>
            </p:nvSpPr>
            <p:spPr>
              <a:xfrm>
                <a:off x="3215880" y="5599080"/>
                <a:ext cx="42840" cy="47520"/>
              </a:xfrm>
              <a:prstGeom prst="rect">
                <a:avLst/>
              </a:prstGeom>
              <a:solidFill>
                <a:srgbClr val="000000"/>
              </a:solidFill>
              <a:ln w="38160">
                <a:solidFill>
                  <a:srgbClr val="f41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Oval 30"/>
              <p:cNvSpPr/>
              <p:nvPr/>
            </p:nvSpPr>
            <p:spPr>
              <a:xfrm>
                <a:off x="3146400" y="5622840"/>
                <a:ext cx="266400" cy="242640"/>
              </a:xfrm>
              <a:prstGeom prst="ellipse">
                <a:avLst/>
              </a:prstGeom>
              <a:noFill/>
              <a:ln w="38160">
                <a:solidFill>
                  <a:srgbClr val="f41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Rectangle 31"/>
              <p:cNvSpPr/>
              <p:nvPr/>
            </p:nvSpPr>
            <p:spPr>
              <a:xfrm>
                <a:off x="3293640" y="5600160"/>
                <a:ext cx="42480" cy="47520"/>
              </a:xfrm>
              <a:prstGeom prst="rect">
                <a:avLst/>
              </a:prstGeom>
              <a:solidFill>
                <a:srgbClr val="000000"/>
              </a:solidFill>
              <a:ln w="38160">
                <a:solidFill>
                  <a:srgbClr val="f41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3" name="Group 32"/>
            <p:cNvGrpSpPr/>
            <p:nvPr/>
          </p:nvGrpSpPr>
          <p:grpSpPr>
            <a:xfrm>
              <a:off x="3238200" y="5124600"/>
              <a:ext cx="266760" cy="266040"/>
              <a:chOff x="3238200" y="5124600"/>
              <a:chExt cx="266760" cy="266040"/>
            </a:xfrm>
          </p:grpSpPr>
          <p:sp>
            <p:nvSpPr>
              <p:cNvPr id="1734" name="Rectangle 33"/>
              <p:cNvSpPr/>
              <p:nvPr/>
            </p:nvSpPr>
            <p:spPr>
              <a:xfrm>
                <a:off x="3307680" y="5124600"/>
                <a:ext cx="42840" cy="47520"/>
              </a:xfrm>
              <a:prstGeom prst="rect">
                <a:avLst/>
              </a:prstGeom>
              <a:solidFill>
                <a:srgbClr val="000000"/>
              </a:solidFill>
              <a:ln w="38160">
                <a:solidFill>
                  <a:srgbClr val="f41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Oval 34"/>
              <p:cNvSpPr/>
              <p:nvPr/>
            </p:nvSpPr>
            <p:spPr>
              <a:xfrm>
                <a:off x="3238200" y="5148360"/>
                <a:ext cx="266760" cy="242280"/>
              </a:xfrm>
              <a:prstGeom prst="ellipse">
                <a:avLst/>
              </a:prstGeom>
              <a:noFill/>
              <a:ln w="38160">
                <a:solidFill>
                  <a:srgbClr val="f41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Rectangle 35"/>
              <p:cNvSpPr/>
              <p:nvPr/>
            </p:nvSpPr>
            <p:spPr>
              <a:xfrm>
                <a:off x="3385800" y="5125680"/>
                <a:ext cx="42840" cy="47520"/>
              </a:xfrm>
              <a:prstGeom prst="rect">
                <a:avLst/>
              </a:prstGeom>
              <a:solidFill>
                <a:srgbClr val="000000"/>
              </a:solidFill>
              <a:ln w="38160">
                <a:solidFill>
                  <a:srgbClr val="f41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7" name="Group 36"/>
            <p:cNvGrpSpPr/>
            <p:nvPr/>
          </p:nvGrpSpPr>
          <p:grpSpPr>
            <a:xfrm>
              <a:off x="3412800" y="5421240"/>
              <a:ext cx="266760" cy="266400"/>
              <a:chOff x="3412800" y="5421240"/>
              <a:chExt cx="266760" cy="266400"/>
            </a:xfrm>
          </p:grpSpPr>
          <p:sp>
            <p:nvSpPr>
              <p:cNvPr id="1738" name="Rectangle 37"/>
              <p:cNvSpPr/>
              <p:nvPr/>
            </p:nvSpPr>
            <p:spPr>
              <a:xfrm>
                <a:off x="3482280" y="5421240"/>
                <a:ext cx="42840" cy="47520"/>
              </a:xfrm>
              <a:prstGeom prst="rect">
                <a:avLst/>
              </a:prstGeom>
              <a:solidFill>
                <a:srgbClr val="000000"/>
              </a:solidFill>
              <a:ln w="38160">
                <a:solidFill>
                  <a:srgbClr val="f41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Oval 38"/>
              <p:cNvSpPr/>
              <p:nvPr/>
            </p:nvSpPr>
            <p:spPr>
              <a:xfrm>
                <a:off x="3412800" y="5445000"/>
                <a:ext cx="266760" cy="242640"/>
              </a:xfrm>
              <a:prstGeom prst="ellipse">
                <a:avLst/>
              </a:prstGeom>
              <a:noFill/>
              <a:ln w="38160">
                <a:solidFill>
                  <a:srgbClr val="f41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Rectangle 39"/>
              <p:cNvSpPr/>
              <p:nvPr/>
            </p:nvSpPr>
            <p:spPr>
              <a:xfrm>
                <a:off x="3560400" y="5422320"/>
                <a:ext cx="42840" cy="47520"/>
              </a:xfrm>
              <a:prstGeom prst="rect">
                <a:avLst/>
              </a:prstGeom>
              <a:solidFill>
                <a:srgbClr val="000000"/>
              </a:solidFill>
              <a:ln w="38160">
                <a:solidFill>
                  <a:srgbClr val="f41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1" name="Group 40"/>
            <p:cNvGrpSpPr/>
            <p:nvPr/>
          </p:nvGrpSpPr>
          <p:grpSpPr>
            <a:xfrm>
              <a:off x="3392280" y="5824440"/>
              <a:ext cx="266760" cy="266400"/>
              <a:chOff x="3392280" y="5824440"/>
              <a:chExt cx="266760" cy="266400"/>
            </a:xfrm>
          </p:grpSpPr>
          <p:sp>
            <p:nvSpPr>
              <p:cNvPr id="1742" name="Rectangle 41"/>
              <p:cNvSpPr/>
              <p:nvPr/>
            </p:nvSpPr>
            <p:spPr>
              <a:xfrm>
                <a:off x="3461760" y="5824440"/>
                <a:ext cx="42840" cy="47520"/>
              </a:xfrm>
              <a:prstGeom prst="rect">
                <a:avLst/>
              </a:prstGeom>
              <a:solidFill>
                <a:srgbClr val="000000"/>
              </a:solidFill>
              <a:ln w="38160">
                <a:solidFill>
                  <a:srgbClr val="f41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Oval 42"/>
              <p:cNvSpPr/>
              <p:nvPr/>
            </p:nvSpPr>
            <p:spPr>
              <a:xfrm>
                <a:off x="3392280" y="5848200"/>
                <a:ext cx="266760" cy="242640"/>
              </a:xfrm>
              <a:prstGeom prst="ellipse">
                <a:avLst/>
              </a:prstGeom>
              <a:noFill/>
              <a:ln w="38160">
                <a:solidFill>
                  <a:srgbClr val="f41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Rectangle 43"/>
              <p:cNvSpPr/>
              <p:nvPr/>
            </p:nvSpPr>
            <p:spPr>
              <a:xfrm>
                <a:off x="3539880" y="5825520"/>
                <a:ext cx="42840" cy="47520"/>
              </a:xfrm>
              <a:prstGeom prst="rect">
                <a:avLst/>
              </a:prstGeom>
              <a:solidFill>
                <a:srgbClr val="000000"/>
              </a:solidFill>
              <a:ln w="38160">
                <a:solidFill>
                  <a:srgbClr val="f41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45" name="TextBox 31"/>
          <p:cNvSpPr/>
          <p:nvPr/>
        </p:nvSpPr>
        <p:spPr>
          <a:xfrm>
            <a:off x="174960" y="6273720"/>
            <a:ext cx="8921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Buzon et al., </a:t>
            </a:r>
            <a:r>
              <a:rPr b="0" i="1" lang="en-AU" sz="1400" spc="-1" strike="noStrike">
                <a:solidFill>
                  <a:srgbClr val="000000"/>
                </a:solidFill>
                <a:latin typeface="Arial"/>
              </a:rPr>
              <a:t>Nature Med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2010; 16: 460; </a:t>
            </a:r>
            <a:r>
              <a:rPr b="0" lang="en-AU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Hatano et al., </a:t>
            </a:r>
            <a:r>
              <a:rPr b="0" i="1" lang="en-AU" sz="1400" spc="-1" strike="noStrike">
                <a:solidFill>
                  <a:srgbClr val="000000"/>
                </a:solidFill>
                <a:latin typeface="Arial"/>
              </a:rPr>
              <a:t>Strategies towards a cure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, Washington DC, Nov 201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Yukl et al., </a:t>
            </a:r>
            <a:r>
              <a:rPr b="0" i="1" lang="en-AU" sz="1400" spc="-1" strike="noStrike">
                <a:solidFill>
                  <a:srgbClr val="000000"/>
                </a:solidFill>
                <a:latin typeface="Arial"/>
              </a:rPr>
              <a:t>AIDS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2010; 24(16):2451-60; </a:t>
            </a:r>
            <a:r>
              <a:rPr b="0" lang="en-AU" sz="1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Vallejo et al </a:t>
            </a:r>
            <a:r>
              <a:rPr b="0" i="1" lang="en-AU" sz="1400" spc="-1" strike="noStrike">
                <a:solidFill>
                  <a:srgbClr val="000000"/>
                </a:solidFill>
                <a:latin typeface="Arial"/>
              </a:rPr>
              <a:t>AIDS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2012; 26(15):1885-9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Arial"/>
              </a:rPr>
              <a:t>Eliminating viral replication: </a:t>
            </a:r>
            <a:br>
              <a:rPr sz="3600"/>
            </a:br>
            <a:r>
              <a:rPr b="0" lang="en-AU" sz="3600" spc="-1" strike="noStrike">
                <a:solidFill>
                  <a:srgbClr val="ffffff"/>
                </a:solidFill>
                <a:latin typeface="Arial"/>
              </a:rPr>
              <a:t>the need to go beyond cAR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8229600" cy="47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2027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Reduce immune activation</a:t>
            </a:r>
            <a:r>
              <a:rPr b="0" lang="en-AU" sz="2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esalamine (UC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ifaximin (ACT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CE inhibitors (lisinopril; UCSF/amf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ethotrexate (ACT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2027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Enhance tissue/cell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Nanoparticles</a:t>
            </a:r>
            <a:r>
              <a:rPr b="0" lang="en-A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ro-drugs eg., GS-7340</a:t>
            </a:r>
            <a:r>
              <a:rPr b="0" lang="en-A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2027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arget cells of the myeloid line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Text Box 4"/>
          <p:cNvSpPr/>
          <p:nvPr/>
        </p:nvSpPr>
        <p:spPr>
          <a:xfrm>
            <a:off x="268920" y="6364440"/>
            <a:ext cx="828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Clinical trials.gov; </a:t>
            </a:r>
            <a:r>
              <a:rPr b="0" lang="en-AU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Kovochich et al., Plos One 2011; 6: e18270; </a:t>
            </a:r>
            <a:r>
              <a:rPr b="0" lang="en-AU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Ruane et al., 19</a:t>
            </a:r>
            <a:r>
              <a:rPr b="0" lang="en-AU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CROI Seattle #1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9" name="Picture 2" descr="ChapterPageTemplateRed"/>
          <p:cNvPicPr/>
          <p:nvPr/>
        </p:nvPicPr>
        <p:blipFill>
          <a:blip r:embed="rId1"/>
          <a:stretch/>
        </p:blipFill>
        <p:spPr>
          <a:xfrm>
            <a:off x="-31680" y="0"/>
            <a:ext cx="9175680" cy="6872400"/>
          </a:xfrm>
          <a:prstGeom prst="rect">
            <a:avLst/>
          </a:prstGeom>
          <a:ln w="0">
            <a:noFill/>
          </a:ln>
        </p:spPr>
      </p:pic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AU" sz="4800" spc="-1" strike="noStrike">
                <a:solidFill>
                  <a:srgbClr val="ffffff"/>
                </a:solidFill>
                <a:latin typeface="Arial"/>
              </a:rPr>
              <a:t>making </a:t>
            </a:r>
            <a:r>
              <a:rPr b="1" lang="en-AU" sz="7200" spc="-1" strike="noStrike">
                <a:solidFill>
                  <a:srgbClr val="ffffff"/>
                </a:solidFill>
                <a:latin typeface="Arial"/>
              </a:rPr>
              <a:t>cells resistant to HIV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8229600" cy="47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71760" indent="-671760">
              <a:spcBef>
                <a:spcPts val="901"/>
              </a:spcBef>
              <a:buClr>
                <a:srgbClr val="cc2027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Is HIV cure possibl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39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71760" indent="-671760">
              <a:spcBef>
                <a:spcPts val="901"/>
              </a:spcBef>
              <a:buClr>
                <a:srgbClr val="cc2027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What are the major barriers to cu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39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71760" indent="-671760">
              <a:spcBef>
                <a:spcPts val="901"/>
              </a:spcBef>
              <a:buClr>
                <a:srgbClr val="cc2027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Current clinical trials aimed at c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39168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Eliminating lat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168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Eliminating residual virus re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168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aking cells resistant to H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Making cells resistant to HIV: gene therap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"/>
          <p:cNvSpPr txBox="1"/>
          <p:nvPr/>
        </p:nvSpPr>
        <p:spPr>
          <a:xfrm>
            <a:off x="457200" y="1376280"/>
            <a:ext cx="8229600" cy="47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cc2027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Block the action of an HIV prote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NA inter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901"/>
              </a:spcBef>
              <a:buClr>
                <a:srgbClr val="cc2027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Express an anti-viral fa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Mutant APOBEC 3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901"/>
              </a:spcBef>
              <a:buClr>
                <a:srgbClr val="cc2027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Remove an essential host prote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CR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901"/>
              </a:spcBef>
              <a:buClr>
                <a:srgbClr val="cc2027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Eliminate integrated HI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LT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3" name="Picture 3" descr=""/>
          <p:cNvPicPr/>
          <p:nvPr/>
        </p:nvPicPr>
        <p:blipFill>
          <a:blip r:embed="rId1"/>
          <a:stretch/>
        </p:blipFill>
        <p:spPr>
          <a:xfrm>
            <a:off x="6300720" y="4473720"/>
            <a:ext cx="238608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Gene therapy to eliminate CCR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5" name="Oval 3"/>
          <p:cNvSpPr/>
          <p:nvPr/>
        </p:nvSpPr>
        <p:spPr>
          <a:xfrm>
            <a:off x="2270160" y="2087640"/>
            <a:ext cx="2895480" cy="3504960"/>
          </a:xfrm>
          <a:prstGeom prst="ellipse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6" name="Picture 2" descr="http://www.wfcc.nig.ac.jp/tis/images/tis13.gif"/>
          <p:cNvPicPr/>
          <p:nvPr/>
        </p:nvPicPr>
        <p:blipFill>
          <a:blip r:embed="rId1"/>
          <a:stretch/>
        </p:blipFill>
        <p:spPr>
          <a:xfrm>
            <a:off x="4489560" y="3382920"/>
            <a:ext cx="1371600" cy="914400"/>
          </a:xfrm>
          <a:prstGeom prst="rect">
            <a:avLst/>
          </a:prstGeom>
          <a:ln w="0">
            <a:noFill/>
          </a:ln>
        </p:spPr>
      </p:pic>
      <p:sp>
        <p:nvSpPr>
          <p:cNvPr id="1757" name="Rectangle 5"/>
          <p:cNvSpPr/>
          <p:nvPr/>
        </p:nvSpPr>
        <p:spPr>
          <a:xfrm>
            <a:off x="1889280" y="4525920"/>
            <a:ext cx="6858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Isosceles Triangle 6"/>
          <p:cNvSpPr/>
          <p:nvPr/>
        </p:nvSpPr>
        <p:spPr>
          <a:xfrm rot="9600600">
            <a:off x="5041440" y="325872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TextBox 177"/>
          <p:cNvSpPr/>
          <p:nvPr/>
        </p:nvSpPr>
        <p:spPr>
          <a:xfrm>
            <a:off x="2444760" y="1147680"/>
            <a:ext cx="244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eukaphare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D4+ T-cell iso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Rectangle 152"/>
          <p:cNvSpPr/>
          <p:nvPr/>
        </p:nvSpPr>
        <p:spPr>
          <a:xfrm>
            <a:off x="5745600" y="3560760"/>
            <a:ext cx="301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FN modification of CC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Freeform 10"/>
          <p:cNvSpPr/>
          <p:nvPr/>
        </p:nvSpPr>
        <p:spPr>
          <a:xfrm>
            <a:off x="1789200" y="2392200"/>
            <a:ext cx="838080" cy="3049920"/>
          </a:xfrm>
          <a:custGeom>
            <a:avLst/>
            <a:gdLst/>
            <a:ahLst/>
            <a:rect l="l" t="t" r="r" b="b"/>
            <a:pathLst>
              <a:path w="1352" h="3895">
                <a:moveTo>
                  <a:pt x="645" y="3"/>
                </a:moveTo>
                <a:cubicBezTo>
                  <a:pt x="682" y="0"/>
                  <a:pt x="715" y="1"/>
                  <a:pt x="748" y="17"/>
                </a:cubicBezTo>
                <a:cubicBezTo>
                  <a:pt x="781" y="33"/>
                  <a:pt x="826" y="59"/>
                  <a:pt x="844" y="99"/>
                </a:cubicBezTo>
                <a:cubicBezTo>
                  <a:pt x="862" y="139"/>
                  <a:pt x="850" y="231"/>
                  <a:pt x="856" y="259"/>
                </a:cubicBezTo>
                <a:cubicBezTo>
                  <a:pt x="862" y="287"/>
                  <a:pt x="881" y="257"/>
                  <a:pt x="882" y="269"/>
                </a:cubicBezTo>
                <a:cubicBezTo>
                  <a:pt x="883" y="281"/>
                  <a:pt x="869" y="310"/>
                  <a:pt x="863" y="330"/>
                </a:cubicBezTo>
                <a:cubicBezTo>
                  <a:pt x="857" y="350"/>
                  <a:pt x="850" y="382"/>
                  <a:pt x="844" y="387"/>
                </a:cubicBezTo>
                <a:cubicBezTo>
                  <a:pt x="838" y="392"/>
                  <a:pt x="833" y="353"/>
                  <a:pt x="824" y="362"/>
                </a:cubicBezTo>
                <a:cubicBezTo>
                  <a:pt x="815" y="371"/>
                  <a:pt x="795" y="403"/>
                  <a:pt x="792" y="439"/>
                </a:cubicBezTo>
                <a:cubicBezTo>
                  <a:pt x="789" y="475"/>
                  <a:pt x="783" y="540"/>
                  <a:pt x="805" y="579"/>
                </a:cubicBezTo>
                <a:cubicBezTo>
                  <a:pt x="827" y="618"/>
                  <a:pt x="880" y="649"/>
                  <a:pt x="927" y="675"/>
                </a:cubicBezTo>
                <a:cubicBezTo>
                  <a:pt x="974" y="701"/>
                  <a:pt x="1038" y="709"/>
                  <a:pt x="1084" y="737"/>
                </a:cubicBezTo>
                <a:cubicBezTo>
                  <a:pt x="1130" y="765"/>
                  <a:pt x="1173" y="801"/>
                  <a:pt x="1201" y="845"/>
                </a:cubicBezTo>
                <a:cubicBezTo>
                  <a:pt x="1229" y="889"/>
                  <a:pt x="1246" y="951"/>
                  <a:pt x="1254" y="1003"/>
                </a:cubicBezTo>
                <a:cubicBezTo>
                  <a:pt x="1262" y="1055"/>
                  <a:pt x="1245" y="1091"/>
                  <a:pt x="1247" y="1155"/>
                </a:cubicBezTo>
                <a:cubicBezTo>
                  <a:pt x="1249" y="1219"/>
                  <a:pt x="1260" y="1329"/>
                  <a:pt x="1268" y="1385"/>
                </a:cubicBezTo>
                <a:cubicBezTo>
                  <a:pt x="1276" y="1441"/>
                  <a:pt x="1285" y="1449"/>
                  <a:pt x="1296" y="1490"/>
                </a:cubicBezTo>
                <a:cubicBezTo>
                  <a:pt x="1307" y="1531"/>
                  <a:pt x="1325" y="1587"/>
                  <a:pt x="1332" y="1631"/>
                </a:cubicBezTo>
                <a:cubicBezTo>
                  <a:pt x="1339" y="1675"/>
                  <a:pt x="1340" y="1705"/>
                  <a:pt x="1339" y="1757"/>
                </a:cubicBezTo>
                <a:cubicBezTo>
                  <a:pt x="1338" y="1809"/>
                  <a:pt x="1328" y="1903"/>
                  <a:pt x="1325" y="1946"/>
                </a:cubicBezTo>
                <a:cubicBezTo>
                  <a:pt x="1322" y="1989"/>
                  <a:pt x="1319" y="1994"/>
                  <a:pt x="1318" y="2016"/>
                </a:cubicBezTo>
                <a:cubicBezTo>
                  <a:pt x="1317" y="2038"/>
                  <a:pt x="1315" y="2049"/>
                  <a:pt x="1318" y="2079"/>
                </a:cubicBezTo>
                <a:cubicBezTo>
                  <a:pt x="1321" y="2109"/>
                  <a:pt x="1352" y="2151"/>
                  <a:pt x="1339" y="2199"/>
                </a:cubicBezTo>
                <a:cubicBezTo>
                  <a:pt x="1326" y="2247"/>
                  <a:pt x="1262" y="2343"/>
                  <a:pt x="1240" y="2368"/>
                </a:cubicBezTo>
                <a:cubicBezTo>
                  <a:pt x="1218" y="2393"/>
                  <a:pt x="1200" y="2370"/>
                  <a:pt x="1205" y="2347"/>
                </a:cubicBezTo>
                <a:cubicBezTo>
                  <a:pt x="1210" y="2324"/>
                  <a:pt x="1261" y="2259"/>
                  <a:pt x="1268" y="2227"/>
                </a:cubicBezTo>
                <a:lnTo>
                  <a:pt x="1248" y="2157"/>
                </a:lnTo>
                <a:cubicBezTo>
                  <a:pt x="1236" y="2161"/>
                  <a:pt x="1211" y="2237"/>
                  <a:pt x="1198" y="2249"/>
                </a:cubicBezTo>
                <a:cubicBezTo>
                  <a:pt x="1185" y="2261"/>
                  <a:pt x="1169" y="2249"/>
                  <a:pt x="1170" y="2228"/>
                </a:cubicBezTo>
                <a:cubicBezTo>
                  <a:pt x="1171" y="2207"/>
                  <a:pt x="1200" y="2148"/>
                  <a:pt x="1205" y="2122"/>
                </a:cubicBezTo>
                <a:cubicBezTo>
                  <a:pt x="1210" y="2096"/>
                  <a:pt x="1196" y="2094"/>
                  <a:pt x="1198" y="2073"/>
                </a:cubicBezTo>
                <a:cubicBezTo>
                  <a:pt x="1200" y="2052"/>
                  <a:pt x="1222" y="2032"/>
                  <a:pt x="1219" y="1996"/>
                </a:cubicBezTo>
                <a:cubicBezTo>
                  <a:pt x="1216" y="1960"/>
                  <a:pt x="1191" y="1903"/>
                  <a:pt x="1177" y="1855"/>
                </a:cubicBezTo>
                <a:cubicBezTo>
                  <a:pt x="1163" y="1807"/>
                  <a:pt x="1143" y="1752"/>
                  <a:pt x="1135" y="1708"/>
                </a:cubicBezTo>
                <a:cubicBezTo>
                  <a:pt x="1127" y="1664"/>
                  <a:pt x="1134" y="1628"/>
                  <a:pt x="1128" y="1588"/>
                </a:cubicBezTo>
                <a:cubicBezTo>
                  <a:pt x="1122" y="1548"/>
                  <a:pt x="1104" y="1509"/>
                  <a:pt x="1098" y="1469"/>
                </a:cubicBezTo>
                <a:cubicBezTo>
                  <a:pt x="1092" y="1429"/>
                  <a:pt x="1100" y="1397"/>
                  <a:pt x="1091" y="1350"/>
                </a:cubicBezTo>
                <a:cubicBezTo>
                  <a:pt x="1082" y="1303"/>
                  <a:pt x="1050" y="1225"/>
                  <a:pt x="1042" y="1187"/>
                </a:cubicBezTo>
                <a:cubicBezTo>
                  <a:pt x="1034" y="1149"/>
                  <a:pt x="1044" y="1115"/>
                  <a:pt x="1044" y="1124"/>
                </a:cubicBezTo>
                <a:cubicBezTo>
                  <a:pt x="1044" y="1133"/>
                  <a:pt x="1049" y="1203"/>
                  <a:pt x="1044" y="1244"/>
                </a:cubicBezTo>
                <a:cubicBezTo>
                  <a:pt x="1039" y="1285"/>
                  <a:pt x="1024" y="1314"/>
                  <a:pt x="1014" y="1371"/>
                </a:cubicBezTo>
                <a:cubicBezTo>
                  <a:pt x="1004" y="1428"/>
                  <a:pt x="984" y="1526"/>
                  <a:pt x="986" y="1588"/>
                </a:cubicBezTo>
                <a:cubicBezTo>
                  <a:pt x="988" y="1650"/>
                  <a:pt x="1015" y="1690"/>
                  <a:pt x="1029" y="1744"/>
                </a:cubicBezTo>
                <a:cubicBezTo>
                  <a:pt x="1043" y="1798"/>
                  <a:pt x="1060" y="1834"/>
                  <a:pt x="1068" y="1911"/>
                </a:cubicBezTo>
                <a:cubicBezTo>
                  <a:pt x="1076" y="1988"/>
                  <a:pt x="1085" y="2109"/>
                  <a:pt x="1080" y="2205"/>
                </a:cubicBezTo>
                <a:cubicBezTo>
                  <a:pt x="1075" y="2301"/>
                  <a:pt x="1057" y="2412"/>
                  <a:pt x="1040" y="2489"/>
                </a:cubicBezTo>
                <a:cubicBezTo>
                  <a:pt x="1023" y="2566"/>
                  <a:pt x="995" y="2608"/>
                  <a:pt x="978" y="2666"/>
                </a:cubicBezTo>
                <a:cubicBezTo>
                  <a:pt x="961" y="2724"/>
                  <a:pt x="943" y="2801"/>
                  <a:pt x="937" y="2837"/>
                </a:cubicBezTo>
                <a:cubicBezTo>
                  <a:pt x="931" y="2873"/>
                  <a:pt x="940" y="2865"/>
                  <a:pt x="940" y="2883"/>
                </a:cubicBezTo>
                <a:cubicBezTo>
                  <a:pt x="940" y="2901"/>
                  <a:pt x="935" y="2922"/>
                  <a:pt x="940" y="2947"/>
                </a:cubicBezTo>
                <a:cubicBezTo>
                  <a:pt x="945" y="2972"/>
                  <a:pt x="966" y="2990"/>
                  <a:pt x="971" y="3036"/>
                </a:cubicBezTo>
                <a:cubicBezTo>
                  <a:pt x="976" y="3082"/>
                  <a:pt x="980" y="3159"/>
                  <a:pt x="971" y="3226"/>
                </a:cubicBezTo>
                <a:cubicBezTo>
                  <a:pt x="962" y="3293"/>
                  <a:pt x="929" y="3373"/>
                  <a:pt x="914" y="3440"/>
                </a:cubicBezTo>
                <a:cubicBezTo>
                  <a:pt x="899" y="3507"/>
                  <a:pt x="888" y="3581"/>
                  <a:pt x="882" y="3631"/>
                </a:cubicBezTo>
                <a:cubicBezTo>
                  <a:pt x="876" y="3681"/>
                  <a:pt x="867" y="3708"/>
                  <a:pt x="880" y="3739"/>
                </a:cubicBezTo>
                <a:cubicBezTo>
                  <a:pt x="893" y="3770"/>
                  <a:pt x="948" y="3797"/>
                  <a:pt x="959" y="3818"/>
                </a:cubicBezTo>
                <a:cubicBezTo>
                  <a:pt x="970" y="3839"/>
                  <a:pt x="956" y="3854"/>
                  <a:pt x="946" y="3863"/>
                </a:cubicBezTo>
                <a:cubicBezTo>
                  <a:pt x="936" y="3872"/>
                  <a:pt x="916" y="3871"/>
                  <a:pt x="899" y="3874"/>
                </a:cubicBezTo>
                <a:cubicBezTo>
                  <a:pt x="882" y="3877"/>
                  <a:pt x="859" y="3877"/>
                  <a:pt x="841" y="3879"/>
                </a:cubicBezTo>
                <a:cubicBezTo>
                  <a:pt x="823" y="3881"/>
                  <a:pt x="812" y="3895"/>
                  <a:pt x="792" y="3888"/>
                </a:cubicBezTo>
                <a:cubicBezTo>
                  <a:pt x="772" y="3881"/>
                  <a:pt x="735" y="3852"/>
                  <a:pt x="722" y="3837"/>
                </a:cubicBezTo>
                <a:cubicBezTo>
                  <a:pt x="709" y="3822"/>
                  <a:pt x="714" y="3816"/>
                  <a:pt x="716" y="3799"/>
                </a:cubicBezTo>
                <a:cubicBezTo>
                  <a:pt x="718" y="3782"/>
                  <a:pt x="731" y="3752"/>
                  <a:pt x="733" y="3732"/>
                </a:cubicBezTo>
                <a:cubicBezTo>
                  <a:pt x="735" y="3712"/>
                  <a:pt x="726" y="3694"/>
                  <a:pt x="728" y="3677"/>
                </a:cubicBezTo>
                <a:cubicBezTo>
                  <a:pt x="730" y="3660"/>
                  <a:pt x="740" y="3644"/>
                  <a:pt x="745" y="3627"/>
                </a:cubicBezTo>
                <a:cubicBezTo>
                  <a:pt x="750" y="3610"/>
                  <a:pt x="760" y="3605"/>
                  <a:pt x="760" y="3575"/>
                </a:cubicBezTo>
                <a:cubicBezTo>
                  <a:pt x="760" y="3545"/>
                  <a:pt x="754" y="3498"/>
                  <a:pt x="748" y="3449"/>
                </a:cubicBezTo>
                <a:cubicBezTo>
                  <a:pt x="742" y="3400"/>
                  <a:pt x="730" y="3327"/>
                  <a:pt x="721" y="3281"/>
                </a:cubicBezTo>
                <a:cubicBezTo>
                  <a:pt x="712" y="3235"/>
                  <a:pt x="694" y="3221"/>
                  <a:pt x="695" y="3175"/>
                </a:cubicBezTo>
                <a:cubicBezTo>
                  <a:pt x="696" y="3129"/>
                  <a:pt x="723" y="3051"/>
                  <a:pt x="728" y="3005"/>
                </a:cubicBezTo>
                <a:cubicBezTo>
                  <a:pt x="733" y="2959"/>
                  <a:pt x="733" y="2933"/>
                  <a:pt x="728" y="2896"/>
                </a:cubicBezTo>
                <a:cubicBezTo>
                  <a:pt x="723" y="2859"/>
                  <a:pt x="698" y="2847"/>
                  <a:pt x="695" y="2782"/>
                </a:cubicBezTo>
                <a:cubicBezTo>
                  <a:pt x="692" y="2717"/>
                  <a:pt x="708" y="2569"/>
                  <a:pt x="709" y="2508"/>
                </a:cubicBezTo>
                <a:cubicBezTo>
                  <a:pt x="710" y="2447"/>
                  <a:pt x="708" y="2463"/>
                  <a:pt x="703" y="2416"/>
                </a:cubicBezTo>
                <a:cubicBezTo>
                  <a:pt x="698" y="2369"/>
                  <a:pt x="684" y="2289"/>
                  <a:pt x="679" y="2227"/>
                </a:cubicBezTo>
                <a:cubicBezTo>
                  <a:pt x="674" y="2165"/>
                  <a:pt x="677" y="2044"/>
                  <a:pt x="672" y="2044"/>
                </a:cubicBezTo>
                <a:cubicBezTo>
                  <a:pt x="667" y="2044"/>
                  <a:pt x="659" y="2151"/>
                  <a:pt x="650" y="2227"/>
                </a:cubicBezTo>
                <a:cubicBezTo>
                  <a:pt x="641" y="2303"/>
                  <a:pt x="621" y="2409"/>
                  <a:pt x="616" y="2499"/>
                </a:cubicBezTo>
                <a:cubicBezTo>
                  <a:pt x="611" y="2589"/>
                  <a:pt x="627" y="2701"/>
                  <a:pt x="620" y="2768"/>
                </a:cubicBezTo>
                <a:cubicBezTo>
                  <a:pt x="613" y="2835"/>
                  <a:pt x="580" y="2864"/>
                  <a:pt x="575" y="2903"/>
                </a:cubicBezTo>
                <a:cubicBezTo>
                  <a:pt x="570" y="2942"/>
                  <a:pt x="580" y="2958"/>
                  <a:pt x="587" y="3005"/>
                </a:cubicBezTo>
                <a:cubicBezTo>
                  <a:pt x="594" y="3052"/>
                  <a:pt x="620" y="3139"/>
                  <a:pt x="620" y="3187"/>
                </a:cubicBezTo>
                <a:cubicBezTo>
                  <a:pt x="620" y="3235"/>
                  <a:pt x="603" y="3237"/>
                  <a:pt x="588" y="3293"/>
                </a:cubicBezTo>
                <a:cubicBezTo>
                  <a:pt x="573" y="3349"/>
                  <a:pt x="533" y="3463"/>
                  <a:pt x="530" y="3523"/>
                </a:cubicBezTo>
                <a:cubicBezTo>
                  <a:pt x="527" y="3583"/>
                  <a:pt x="562" y="3620"/>
                  <a:pt x="568" y="3651"/>
                </a:cubicBezTo>
                <a:cubicBezTo>
                  <a:pt x="574" y="3682"/>
                  <a:pt x="565" y="3686"/>
                  <a:pt x="568" y="3709"/>
                </a:cubicBezTo>
                <a:cubicBezTo>
                  <a:pt x="571" y="3732"/>
                  <a:pt x="585" y="3765"/>
                  <a:pt x="589" y="3787"/>
                </a:cubicBezTo>
                <a:cubicBezTo>
                  <a:pt x="593" y="3809"/>
                  <a:pt x="595" y="3831"/>
                  <a:pt x="592" y="3843"/>
                </a:cubicBezTo>
                <a:cubicBezTo>
                  <a:pt x="589" y="3855"/>
                  <a:pt x="580" y="3853"/>
                  <a:pt x="568" y="3859"/>
                </a:cubicBezTo>
                <a:cubicBezTo>
                  <a:pt x="556" y="3865"/>
                  <a:pt x="533" y="3878"/>
                  <a:pt x="517" y="3881"/>
                </a:cubicBezTo>
                <a:cubicBezTo>
                  <a:pt x="501" y="3884"/>
                  <a:pt x="490" y="3880"/>
                  <a:pt x="474" y="3879"/>
                </a:cubicBezTo>
                <a:cubicBezTo>
                  <a:pt x="458" y="3878"/>
                  <a:pt x="439" y="3876"/>
                  <a:pt x="421" y="3874"/>
                </a:cubicBezTo>
                <a:cubicBezTo>
                  <a:pt x="403" y="3872"/>
                  <a:pt x="375" y="3879"/>
                  <a:pt x="364" y="3869"/>
                </a:cubicBezTo>
                <a:cubicBezTo>
                  <a:pt x="353" y="3859"/>
                  <a:pt x="344" y="3833"/>
                  <a:pt x="354" y="3811"/>
                </a:cubicBezTo>
                <a:cubicBezTo>
                  <a:pt x="364" y="3789"/>
                  <a:pt x="413" y="3772"/>
                  <a:pt x="424" y="3739"/>
                </a:cubicBezTo>
                <a:cubicBezTo>
                  <a:pt x="435" y="3706"/>
                  <a:pt x="432" y="3699"/>
                  <a:pt x="421" y="3615"/>
                </a:cubicBezTo>
                <a:cubicBezTo>
                  <a:pt x="410" y="3531"/>
                  <a:pt x="371" y="3319"/>
                  <a:pt x="357" y="3235"/>
                </a:cubicBezTo>
                <a:cubicBezTo>
                  <a:pt x="343" y="3151"/>
                  <a:pt x="334" y="3166"/>
                  <a:pt x="337" y="3111"/>
                </a:cubicBezTo>
                <a:cubicBezTo>
                  <a:pt x="340" y="3056"/>
                  <a:pt x="370" y="2963"/>
                  <a:pt x="373" y="2907"/>
                </a:cubicBezTo>
                <a:cubicBezTo>
                  <a:pt x="376" y="2851"/>
                  <a:pt x="360" y="2809"/>
                  <a:pt x="354" y="2772"/>
                </a:cubicBezTo>
                <a:cubicBezTo>
                  <a:pt x="348" y="2735"/>
                  <a:pt x="355" y="2748"/>
                  <a:pt x="338" y="2685"/>
                </a:cubicBezTo>
                <a:cubicBezTo>
                  <a:pt x="321" y="2622"/>
                  <a:pt x="269" y="2503"/>
                  <a:pt x="253" y="2395"/>
                </a:cubicBezTo>
                <a:cubicBezTo>
                  <a:pt x="237" y="2287"/>
                  <a:pt x="233" y="2147"/>
                  <a:pt x="244" y="2040"/>
                </a:cubicBezTo>
                <a:cubicBezTo>
                  <a:pt x="255" y="1933"/>
                  <a:pt x="303" y="1822"/>
                  <a:pt x="319" y="1750"/>
                </a:cubicBezTo>
                <a:cubicBezTo>
                  <a:pt x="335" y="1678"/>
                  <a:pt x="337" y="1655"/>
                  <a:pt x="340" y="1610"/>
                </a:cubicBezTo>
                <a:cubicBezTo>
                  <a:pt x="343" y="1565"/>
                  <a:pt x="341" y="1521"/>
                  <a:pt x="335" y="1479"/>
                </a:cubicBezTo>
                <a:cubicBezTo>
                  <a:pt x="329" y="1437"/>
                  <a:pt x="314" y="1391"/>
                  <a:pt x="305" y="1357"/>
                </a:cubicBezTo>
                <a:cubicBezTo>
                  <a:pt x="296" y="1323"/>
                  <a:pt x="281" y="1311"/>
                  <a:pt x="278" y="1272"/>
                </a:cubicBezTo>
                <a:cubicBezTo>
                  <a:pt x="275" y="1233"/>
                  <a:pt x="285" y="1135"/>
                  <a:pt x="285" y="1124"/>
                </a:cubicBezTo>
                <a:cubicBezTo>
                  <a:pt x="285" y="1113"/>
                  <a:pt x="286" y="1154"/>
                  <a:pt x="278" y="1208"/>
                </a:cubicBezTo>
                <a:cubicBezTo>
                  <a:pt x="270" y="1262"/>
                  <a:pt x="241" y="1390"/>
                  <a:pt x="234" y="1448"/>
                </a:cubicBezTo>
                <a:cubicBezTo>
                  <a:pt x="227" y="1506"/>
                  <a:pt x="237" y="1519"/>
                  <a:pt x="234" y="1553"/>
                </a:cubicBezTo>
                <a:cubicBezTo>
                  <a:pt x="231" y="1587"/>
                  <a:pt x="221" y="1610"/>
                  <a:pt x="213" y="1652"/>
                </a:cubicBezTo>
                <a:cubicBezTo>
                  <a:pt x="205" y="1694"/>
                  <a:pt x="199" y="1755"/>
                  <a:pt x="185" y="1806"/>
                </a:cubicBezTo>
                <a:cubicBezTo>
                  <a:pt x="171" y="1857"/>
                  <a:pt x="139" y="1924"/>
                  <a:pt x="129" y="1961"/>
                </a:cubicBezTo>
                <a:cubicBezTo>
                  <a:pt x="119" y="1998"/>
                  <a:pt x="117" y="2009"/>
                  <a:pt x="122" y="2031"/>
                </a:cubicBezTo>
                <a:cubicBezTo>
                  <a:pt x="127" y="2053"/>
                  <a:pt x="151" y="2075"/>
                  <a:pt x="157" y="2094"/>
                </a:cubicBezTo>
                <a:cubicBezTo>
                  <a:pt x="163" y="2113"/>
                  <a:pt x="154" y="2121"/>
                  <a:pt x="157" y="2143"/>
                </a:cubicBezTo>
                <a:cubicBezTo>
                  <a:pt x="160" y="2165"/>
                  <a:pt x="178" y="2209"/>
                  <a:pt x="178" y="2228"/>
                </a:cubicBezTo>
                <a:cubicBezTo>
                  <a:pt x="178" y="2247"/>
                  <a:pt x="170" y="2265"/>
                  <a:pt x="157" y="2256"/>
                </a:cubicBezTo>
                <a:cubicBezTo>
                  <a:pt x="144" y="2247"/>
                  <a:pt x="115" y="2177"/>
                  <a:pt x="101" y="2171"/>
                </a:cubicBezTo>
                <a:lnTo>
                  <a:pt x="72" y="2221"/>
                </a:lnTo>
                <a:cubicBezTo>
                  <a:pt x="79" y="2255"/>
                  <a:pt x="136" y="2347"/>
                  <a:pt x="143" y="2375"/>
                </a:cubicBezTo>
                <a:cubicBezTo>
                  <a:pt x="150" y="2403"/>
                  <a:pt x="136" y="2415"/>
                  <a:pt x="115" y="2389"/>
                </a:cubicBezTo>
                <a:cubicBezTo>
                  <a:pt x="94" y="2363"/>
                  <a:pt x="32" y="2270"/>
                  <a:pt x="16" y="2221"/>
                </a:cubicBezTo>
                <a:cubicBezTo>
                  <a:pt x="0" y="2172"/>
                  <a:pt x="17" y="2129"/>
                  <a:pt x="18" y="2093"/>
                </a:cubicBezTo>
                <a:cubicBezTo>
                  <a:pt x="19" y="2057"/>
                  <a:pt x="24" y="2039"/>
                  <a:pt x="25" y="2002"/>
                </a:cubicBezTo>
                <a:cubicBezTo>
                  <a:pt x="26" y="1965"/>
                  <a:pt x="24" y="1913"/>
                  <a:pt x="23" y="1869"/>
                </a:cubicBezTo>
                <a:cubicBezTo>
                  <a:pt x="22" y="1825"/>
                  <a:pt x="15" y="1785"/>
                  <a:pt x="16" y="1736"/>
                </a:cubicBezTo>
                <a:cubicBezTo>
                  <a:pt x="17" y="1687"/>
                  <a:pt x="21" y="1628"/>
                  <a:pt x="30" y="1574"/>
                </a:cubicBezTo>
                <a:cubicBezTo>
                  <a:pt x="39" y="1520"/>
                  <a:pt x="64" y="1487"/>
                  <a:pt x="73" y="1413"/>
                </a:cubicBezTo>
                <a:cubicBezTo>
                  <a:pt x="82" y="1339"/>
                  <a:pt x="82" y="1206"/>
                  <a:pt x="82" y="1130"/>
                </a:cubicBezTo>
                <a:cubicBezTo>
                  <a:pt x="82" y="1054"/>
                  <a:pt x="62" y="1017"/>
                  <a:pt x="76" y="958"/>
                </a:cubicBezTo>
                <a:cubicBezTo>
                  <a:pt x="90" y="899"/>
                  <a:pt x="121" y="821"/>
                  <a:pt x="167" y="775"/>
                </a:cubicBezTo>
                <a:cubicBezTo>
                  <a:pt x="213" y="729"/>
                  <a:pt x="296" y="716"/>
                  <a:pt x="352" y="682"/>
                </a:cubicBezTo>
                <a:cubicBezTo>
                  <a:pt x="408" y="648"/>
                  <a:pt x="479" y="613"/>
                  <a:pt x="504" y="573"/>
                </a:cubicBezTo>
                <a:cubicBezTo>
                  <a:pt x="529" y="533"/>
                  <a:pt x="507" y="473"/>
                  <a:pt x="504" y="439"/>
                </a:cubicBezTo>
                <a:cubicBezTo>
                  <a:pt x="501" y="405"/>
                  <a:pt x="492" y="374"/>
                  <a:pt x="485" y="368"/>
                </a:cubicBezTo>
                <a:cubicBezTo>
                  <a:pt x="478" y="362"/>
                  <a:pt x="467" y="404"/>
                  <a:pt x="460" y="400"/>
                </a:cubicBezTo>
                <a:cubicBezTo>
                  <a:pt x="453" y="396"/>
                  <a:pt x="445" y="366"/>
                  <a:pt x="440" y="343"/>
                </a:cubicBezTo>
                <a:cubicBezTo>
                  <a:pt x="435" y="320"/>
                  <a:pt x="425" y="273"/>
                  <a:pt x="428" y="259"/>
                </a:cubicBezTo>
                <a:cubicBezTo>
                  <a:pt x="431" y="245"/>
                  <a:pt x="457" y="278"/>
                  <a:pt x="460" y="259"/>
                </a:cubicBezTo>
                <a:cubicBezTo>
                  <a:pt x="463" y="240"/>
                  <a:pt x="436" y="181"/>
                  <a:pt x="447" y="144"/>
                </a:cubicBezTo>
                <a:cubicBezTo>
                  <a:pt x="458" y="107"/>
                  <a:pt x="491" y="57"/>
                  <a:pt x="524" y="34"/>
                </a:cubicBezTo>
                <a:cubicBezTo>
                  <a:pt x="557" y="11"/>
                  <a:pt x="620" y="9"/>
                  <a:pt x="645" y="3"/>
                </a:cubicBezTo>
                <a:close/>
              </a:path>
            </a:pathLst>
          </a:custGeom>
          <a:solidFill>
            <a:srgbClr val="0070c0"/>
          </a:solidFill>
          <a:ln w="324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Isosceles Triangle 10"/>
          <p:cNvSpPr/>
          <p:nvPr/>
        </p:nvSpPr>
        <p:spPr>
          <a:xfrm rot="19810800">
            <a:off x="2451240" y="478260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TextBox 308"/>
          <p:cNvSpPr/>
          <p:nvPr/>
        </p:nvSpPr>
        <p:spPr>
          <a:xfrm>
            <a:off x="3014640" y="5442120"/>
            <a:ext cx="1390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-inf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4" name="Group 12"/>
          <p:cNvGrpSpPr/>
          <p:nvPr/>
        </p:nvGrpSpPr>
        <p:grpSpPr>
          <a:xfrm>
            <a:off x="6384960" y="2648880"/>
            <a:ext cx="1836720" cy="928080"/>
            <a:chOff x="6384960" y="2648880"/>
            <a:chExt cx="1836720" cy="928080"/>
          </a:xfrm>
        </p:grpSpPr>
        <p:pic>
          <p:nvPicPr>
            <p:cNvPr id="1765" name="Picture 83" descr="scissors.jpg"/>
            <p:cNvPicPr/>
            <p:nvPr/>
          </p:nvPicPr>
          <p:blipFill>
            <a:blip r:embed="rId2"/>
            <a:stretch/>
          </p:blipFill>
          <p:spPr>
            <a:xfrm rot="11723400">
              <a:off x="7092720" y="3215880"/>
              <a:ext cx="225360" cy="29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6" name="Oval 14"/>
            <p:cNvSpPr/>
            <p:nvPr/>
          </p:nvSpPr>
          <p:spPr>
            <a:xfrm rot="699000">
              <a:off x="7110360" y="3157200"/>
              <a:ext cx="169560" cy="406440"/>
            </a:xfrm>
            <a:prstGeom prst="ellipse">
              <a:avLst/>
            </a:prstGeom>
            <a:noFill/>
            <a:ln w="1260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67" name="Picture 83" descr="scissors.jpg"/>
            <p:cNvPicPr/>
            <p:nvPr/>
          </p:nvPicPr>
          <p:blipFill>
            <a:blip r:embed="rId3"/>
            <a:stretch/>
          </p:blipFill>
          <p:spPr>
            <a:xfrm rot="923400">
              <a:off x="7178760" y="2715840"/>
              <a:ext cx="225360" cy="29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8" name="Oval 16"/>
            <p:cNvSpPr/>
            <p:nvPr/>
          </p:nvSpPr>
          <p:spPr>
            <a:xfrm rot="11499000">
              <a:off x="7216560" y="2661840"/>
              <a:ext cx="169560" cy="405000"/>
            </a:xfrm>
            <a:prstGeom prst="ellipse">
              <a:avLst/>
            </a:prstGeom>
            <a:noFill/>
            <a:ln w="1260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Rectangle 13"/>
            <p:cNvSpPr/>
            <p:nvPr/>
          </p:nvSpPr>
          <p:spPr>
            <a:xfrm>
              <a:off x="7388640" y="2878200"/>
              <a:ext cx="68040" cy="1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0" name="Group 1"/>
            <p:cNvGrpSpPr/>
            <p:nvPr/>
          </p:nvGrpSpPr>
          <p:grpSpPr>
            <a:xfrm>
              <a:off x="6384960" y="3079800"/>
              <a:ext cx="1836720" cy="62280"/>
              <a:chOff x="6384960" y="3079800"/>
              <a:chExt cx="1836720" cy="62280"/>
            </a:xfrm>
          </p:grpSpPr>
          <p:sp>
            <p:nvSpPr>
              <p:cNvPr id="1771" name="Straight Connector 22"/>
              <p:cNvSpPr/>
              <p:nvPr/>
            </p:nvSpPr>
            <p:spPr>
              <a:xfrm>
                <a:off x="6384960" y="3142080"/>
                <a:ext cx="18352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Straight Connector 23"/>
              <p:cNvSpPr/>
              <p:nvPr/>
            </p:nvSpPr>
            <p:spPr>
              <a:xfrm>
                <a:off x="6386400" y="3079800"/>
                <a:ext cx="18352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3" name="Rectangle 13"/>
            <p:cNvSpPr/>
            <p:nvPr/>
          </p:nvSpPr>
          <p:spPr>
            <a:xfrm>
              <a:off x="6746040" y="3222360"/>
              <a:ext cx="68040" cy="1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74" name="Picture 2" descr=""/>
            <p:cNvPicPr/>
            <p:nvPr/>
          </p:nvPicPr>
          <p:blipFill>
            <a:blip r:embed="rId4"/>
            <a:stretch/>
          </p:blipFill>
          <p:spPr>
            <a:xfrm flipH="1" rot="10800000">
              <a:off x="6622920" y="3181320"/>
              <a:ext cx="488520" cy="28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5" name="Picture 2" descr=""/>
            <p:cNvPicPr/>
            <p:nvPr/>
          </p:nvPicPr>
          <p:blipFill>
            <a:blip r:embed="rId5"/>
            <a:stretch/>
          </p:blipFill>
          <p:spPr>
            <a:xfrm>
              <a:off x="7410960" y="2761920"/>
              <a:ext cx="488520" cy="286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76" name="Picture 4" descr=""/>
          <p:cNvPicPr/>
          <p:nvPr/>
        </p:nvPicPr>
        <p:blipFill>
          <a:blip r:embed="rId6"/>
          <a:srcRect l="35531" t="72629" r="27472" b="0"/>
          <a:stretch/>
        </p:blipFill>
        <p:spPr>
          <a:xfrm>
            <a:off x="6394320" y="3917880"/>
            <a:ext cx="2065320" cy="1500120"/>
          </a:xfrm>
          <a:prstGeom prst="rect">
            <a:avLst/>
          </a:prstGeom>
          <a:ln w="0">
            <a:noFill/>
          </a:ln>
        </p:spPr>
      </p:pic>
      <p:sp>
        <p:nvSpPr>
          <p:cNvPr id="1777" name="TextBox 26"/>
          <p:cNvSpPr/>
          <p:nvPr/>
        </p:nvSpPr>
        <p:spPr>
          <a:xfrm>
            <a:off x="229680" y="5648400"/>
            <a:ext cx="29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afe and well tol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CR5 modified cells pers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-6% in blood at 24 wee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etected in tiss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Text Box 10"/>
          <p:cNvSpPr/>
          <p:nvPr/>
        </p:nvSpPr>
        <p:spPr>
          <a:xfrm>
            <a:off x="5273640" y="6541920"/>
            <a:ext cx="374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Lalezari et al., 18th CROI, Boston,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9" name="Group 29"/>
          <p:cNvGrpSpPr/>
          <p:nvPr/>
        </p:nvGrpSpPr>
        <p:grpSpPr>
          <a:xfrm>
            <a:off x="4746600" y="1281240"/>
            <a:ext cx="1609920" cy="1331640"/>
            <a:chOff x="4746600" y="1281240"/>
            <a:chExt cx="1609920" cy="1331640"/>
          </a:xfrm>
        </p:grpSpPr>
        <p:pic>
          <p:nvPicPr>
            <p:cNvPr id="1780" name="Picture 4" descr=""/>
            <p:cNvPicPr/>
            <p:nvPr/>
          </p:nvPicPr>
          <p:blipFill>
            <a:blip r:embed="rId7"/>
            <a:srcRect l="52759" t="7051" r="22953" b="72821"/>
            <a:stretch/>
          </p:blipFill>
          <p:spPr>
            <a:xfrm>
              <a:off x="4746600" y="1281240"/>
              <a:ext cx="1355400" cy="11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1" name="Rectangle 28"/>
            <p:cNvSpPr/>
            <p:nvPr/>
          </p:nvSpPr>
          <p:spPr>
            <a:xfrm>
              <a:off x="5832720" y="2347920"/>
              <a:ext cx="523800" cy="264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"/>
          <p:cNvSpPr txBox="1"/>
          <p:nvPr/>
        </p:nvSpPr>
        <p:spPr>
          <a:xfrm>
            <a:off x="457200" y="1376280"/>
            <a:ext cx="8229600" cy="47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cc2027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ultiple examples of “cure” have been reported giving hope that finding a cure might be achiev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77680">
              <a:spcBef>
                <a:spcPts val="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cc2027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ajor barrier to cure is long lived latently infected cells. Latency is maintained by multiple mechanisms that are potential future targets for interven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77680"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cc2027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ctivating HIV latency is possible in vitro and in vivo but unclear if this alone will eliminate latently infected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77680"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cc2027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ome evidence of residual virus replication in a subset of patients. Important for activation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77680"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cc2027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Gene therapy is an emerging and promising approach to cure but cost and access will be significant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4" name="Picture 8" descr="G:\Cure Consortium\NIH\AWARDED\contact info\111027 DARE logo.JPG"/>
          <p:cNvPicPr/>
          <p:nvPr/>
        </p:nvPicPr>
        <p:blipFill>
          <a:blip r:embed="rId1"/>
          <a:stretch/>
        </p:blipFill>
        <p:spPr>
          <a:xfrm>
            <a:off x="2556000" y="5862600"/>
            <a:ext cx="2052360" cy="905040"/>
          </a:xfrm>
          <a:prstGeom prst="rect">
            <a:avLst/>
          </a:prstGeom>
          <a:ln w="0">
            <a:noFill/>
          </a:ln>
        </p:spPr>
      </p:pic>
      <p:pic>
        <p:nvPicPr>
          <p:cNvPr id="1785" name="Picture 11" descr="merck logo"/>
          <p:cNvPicPr/>
          <p:nvPr/>
        </p:nvPicPr>
        <p:blipFill>
          <a:blip r:embed="rId2"/>
          <a:stretch/>
        </p:blipFill>
        <p:spPr>
          <a:xfrm>
            <a:off x="4894200" y="6056280"/>
            <a:ext cx="1765440" cy="717480"/>
          </a:xfrm>
          <a:prstGeom prst="rect">
            <a:avLst/>
          </a:prstGeom>
          <a:ln w="0">
            <a:noFill/>
          </a:ln>
        </p:spPr>
      </p:pic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Acknowledgem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4038480" cy="47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cc2027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The Alfred Hospi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Julian Elliot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James McMa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Jennifer Ho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Janine Ron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ichelle Bogli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Gregor Br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2027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Monash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Fiona Wight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Ajantha Solom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ush Veladyuh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Miranda Smi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egan Cr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aul Came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PlaceHolder 3"/>
          <p:cNvSpPr>
            <a:spLocks noGrp="1"/>
          </p:cNvSpPr>
          <p:nvPr>
            <p:ph/>
          </p:nvPr>
        </p:nvSpPr>
        <p:spPr>
          <a:xfrm>
            <a:off x="4284720" y="1376280"/>
            <a:ext cx="4402080" cy="47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00"/>
              </a:spcBef>
              <a:buClr>
                <a:srgbClr val="cc2027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Peter Macallum Cancer Instit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iles Pri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00"/>
              </a:spcBef>
              <a:buClr>
                <a:srgbClr val="cc2027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National Association of People living with HI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Jo Wat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Bill Whitta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00"/>
              </a:spcBef>
              <a:buClr>
                <a:srgbClr val="cc2027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Burnet Instit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im Spel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00"/>
              </a:spcBef>
              <a:buClr>
                <a:srgbClr val="cc2027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Karolinska Institute, Stockhol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arah Pal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Lina Josefs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00"/>
              </a:spcBef>
              <a:buClr>
                <a:srgbClr val="cc2027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UCSF, San Francis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teve Dee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Elizabeth Sincla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Hiroyu Hat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00"/>
              </a:spcBef>
              <a:buClr>
                <a:srgbClr val="cc2027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aula Cann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an Kuritz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9" name="Picture 5" descr="nhmrc"/>
          <p:cNvPicPr/>
          <p:nvPr/>
        </p:nvPicPr>
        <p:blipFill>
          <a:blip r:embed="rId3"/>
          <a:srcRect l="0" t="38988" r="0" b="0"/>
          <a:stretch/>
        </p:blipFill>
        <p:spPr>
          <a:xfrm>
            <a:off x="6902280" y="5475240"/>
            <a:ext cx="1810080" cy="1157400"/>
          </a:xfrm>
          <a:prstGeom prst="rect">
            <a:avLst/>
          </a:prstGeom>
          <a:ln w="0">
            <a:noFill/>
          </a:ln>
        </p:spPr>
      </p:pic>
      <p:pic>
        <p:nvPicPr>
          <p:cNvPr id="1790" name="Picture 10" descr="120201 amfarCMYKword"/>
          <p:cNvPicPr/>
          <p:nvPr/>
        </p:nvPicPr>
        <p:blipFill>
          <a:blip r:embed="rId4"/>
          <a:stretch/>
        </p:blipFill>
        <p:spPr>
          <a:xfrm>
            <a:off x="250920" y="5864400"/>
            <a:ext cx="2206440" cy="841320"/>
          </a:xfrm>
          <a:prstGeom prst="rect">
            <a:avLst/>
          </a:prstGeom>
          <a:ln w="0">
            <a:noFill/>
          </a:ln>
        </p:spPr>
      </p:pic>
      <p:pic>
        <p:nvPicPr>
          <p:cNvPr id="1791" name="Picture 8" descr=""/>
          <p:cNvPicPr/>
          <p:nvPr/>
        </p:nvPicPr>
        <p:blipFill>
          <a:blip r:embed="rId5"/>
          <a:stretch/>
        </p:blipFill>
        <p:spPr>
          <a:xfrm>
            <a:off x="3024360" y="4437000"/>
            <a:ext cx="128556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Rectangle 2"/>
          <p:cNvSpPr/>
          <p:nvPr/>
        </p:nvSpPr>
        <p:spPr>
          <a:xfrm>
            <a:off x="0" y="5921280"/>
            <a:ext cx="9144000" cy="936720"/>
          </a:xfrm>
          <a:prstGeom prst="rect">
            <a:avLst/>
          </a:prstGeom>
          <a:solidFill>
            <a:srgbClr val="c00000"/>
          </a:solidFill>
          <a:ln w="25560">
            <a:solidFill>
              <a:srgbClr val="df64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3" name="Picture 7" descr="MCEC Melbourne skyline_landscape_ext.jpg"/>
          <p:cNvPicPr/>
          <p:nvPr/>
        </p:nvPicPr>
        <p:blipFill>
          <a:blip r:embed="rId1"/>
          <a:srcRect l="3206" t="1271" r="19872" b="0"/>
          <a:stretch/>
        </p:blipFill>
        <p:spPr>
          <a:xfrm>
            <a:off x="0" y="0"/>
            <a:ext cx="9144000" cy="5921280"/>
          </a:xfrm>
          <a:prstGeom prst="rect">
            <a:avLst/>
          </a:prstGeom>
          <a:ln w="0">
            <a:noFill/>
          </a:ln>
        </p:spPr>
      </p:pic>
      <p:sp>
        <p:nvSpPr>
          <p:cNvPr id="1794" name="Rectangle 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df64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5" name="Picture 10" descr=""/>
          <p:cNvPicPr/>
          <p:nvPr/>
        </p:nvPicPr>
        <p:blipFill>
          <a:blip r:embed="rId2"/>
          <a:stretch/>
        </p:blipFill>
        <p:spPr>
          <a:xfrm>
            <a:off x="304920" y="457200"/>
            <a:ext cx="2076480" cy="2303640"/>
          </a:xfrm>
          <a:prstGeom prst="rect">
            <a:avLst/>
          </a:prstGeom>
          <a:ln w="0">
            <a:noFill/>
          </a:ln>
        </p:spPr>
      </p:pic>
      <p:sp>
        <p:nvSpPr>
          <p:cNvPr id="1796" name="TextBox 1"/>
          <p:cNvSpPr/>
          <p:nvPr/>
        </p:nvSpPr>
        <p:spPr>
          <a:xfrm>
            <a:off x="2161800" y="6033960"/>
            <a:ext cx="460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Franklin Gothic Demi Cond"/>
                <a:ea typeface="Calibri"/>
              </a:rPr>
              <a:t>www.aids2014.or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hapterPageTemplateRed"/>
          <p:cNvPicPr/>
          <p:nvPr/>
        </p:nvPicPr>
        <p:blipFill>
          <a:blip r:embed="rId1"/>
          <a:stretch/>
        </p:blipFill>
        <p:spPr>
          <a:xfrm>
            <a:off x="-31680" y="0"/>
            <a:ext cx="9175680" cy="68724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AU" sz="4800" spc="-1" strike="noStrike">
                <a:solidFill>
                  <a:srgbClr val="ffffff"/>
                </a:solidFill>
                <a:latin typeface="Arial"/>
              </a:rPr>
              <a:t>is HIV cure </a:t>
            </a:r>
            <a:r>
              <a:rPr b="1" lang="en-AU" sz="7200" spc="-1" strike="noStrike">
                <a:solidFill>
                  <a:srgbClr val="ffffff"/>
                </a:solidFill>
                <a:latin typeface="Arial"/>
              </a:rPr>
              <a:t>possible?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HIV eradication: cure or remiss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692360"/>
          <a:ext cx="8229600" cy="4400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66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cc2027"/>
                      </a:solidFill>
                    </a:lnT>
                    <a:lnB w="9360">
                      <a:solidFill>
                        <a:srgbClr val="cc2027"/>
                      </a:solidFill>
                    </a:lnB>
                    <a:solidFill>
                      <a:srgbClr val="f56c1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missio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cc2027"/>
                      </a:solidFill>
                    </a:lnT>
                    <a:lnB w="9360">
                      <a:solidFill>
                        <a:srgbClr val="cc2027"/>
                      </a:solidFill>
                    </a:lnB>
                    <a:solidFill>
                      <a:srgbClr val="f56c11"/>
                    </a:solidFill>
                  </a:tcPr>
                </a:tc>
              </a:tr>
              <a:tr h="889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ectious Diseases mod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cc2027"/>
                      </a:solidFill>
                    </a:lnT>
                    <a:lnB w="9360">
                      <a:solidFill>
                        <a:srgbClr val="cc202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cer mod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cc2027"/>
                      </a:solidFill>
                    </a:lnT>
                    <a:lnB w="9360">
                      <a:solidFill>
                        <a:srgbClr val="cc202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88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imination of all HIV-infected ce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cc2027"/>
                      </a:solidFill>
                    </a:lnT>
                    <a:lnB w="9360">
                      <a:solidFill>
                        <a:srgbClr val="cc202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ng term health in absence of cA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cc2027"/>
                      </a:solidFill>
                    </a:lnT>
                    <a:lnB w="9360">
                      <a:solidFill>
                        <a:srgbClr val="cc202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90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V RNA &lt; 1 copy/m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cc2027"/>
                      </a:solidFill>
                    </a:lnT>
                    <a:lnB w="9360">
                      <a:solidFill>
                        <a:srgbClr val="cc202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V RNA &lt; 50 copies/m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cc2027"/>
                      </a:solidFill>
                    </a:lnT>
                    <a:lnB w="9360">
                      <a:solidFill>
                        <a:srgbClr val="cc202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65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rilising c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cc2027"/>
                      </a:solidFill>
                    </a:lnT>
                    <a:lnB w="9360">
                      <a:solidFill>
                        <a:srgbClr val="cc202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tional c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cc2027"/>
                      </a:solidFill>
                    </a:lnT>
                    <a:lnB w="9360">
                      <a:solidFill>
                        <a:srgbClr val="cc202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0" name="Rectangle 34"/>
          <p:cNvSpPr/>
          <p:nvPr/>
        </p:nvSpPr>
        <p:spPr>
          <a:xfrm>
            <a:off x="4572000" y="1341360"/>
            <a:ext cx="4284720" cy="5516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84"/>
          <p:cNvSpPr/>
          <p:nvPr/>
        </p:nvSpPr>
        <p:spPr>
          <a:xfrm>
            <a:off x="1023840" y="5170320"/>
            <a:ext cx="7796160" cy="195480"/>
          </a:xfrm>
          <a:prstGeom prst="rect">
            <a:avLst/>
          </a:prstGeom>
          <a:solidFill>
            <a:srgbClr val="eca2ab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84"/>
          <p:cNvSpPr/>
          <p:nvPr/>
        </p:nvSpPr>
        <p:spPr>
          <a:xfrm>
            <a:off x="6443640" y="4210200"/>
            <a:ext cx="0" cy="903240"/>
          </a:xfrm>
          <a:prstGeom prst="line">
            <a:avLst/>
          </a:prstGeom>
          <a:ln w="57240">
            <a:solidFill>
              <a:srgbClr val="f417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Sterilising cure: the Berlin pati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188280" y="6259680"/>
            <a:ext cx="677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Hutter et al., </a:t>
            </a:r>
            <a:r>
              <a:rPr b="0" i="1" lang="en-AU" sz="1400" spc="-1" strike="noStrike">
                <a:solidFill>
                  <a:srgbClr val="000000"/>
                </a:solidFill>
                <a:latin typeface="Arial"/>
              </a:rPr>
              <a:t>N Engl J Med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, 2009; 360:692; Allers et al., Blood. 2010 117(10):2791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1023840" y="2816280"/>
            <a:ext cx="549360" cy="2549520"/>
          </a:xfrm>
          <a:prstGeom prst="rect">
            <a:avLst/>
          </a:prstGeom>
          <a:solidFill>
            <a:srgbClr val="f56c1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1943280" y="2816280"/>
            <a:ext cx="2171520" cy="2549520"/>
          </a:xfrm>
          <a:prstGeom prst="rect">
            <a:avLst/>
          </a:prstGeom>
          <a:solidFill>
            <a:srgbClr val="f56c1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654480" y="4552920"/>
            <a:ext cx="275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  <a:ea typeface="MS PGothic"/>
              </a:rPr>
              <a:t>10</a:t>
            </a:r>
            <a:r>
              <a:rPr b="0" lang="de-DE" sz="1500" spc="-1" strike="noStrike" baseline="30000">
                <a:solidFill>
                  <a:srgbClr val="000000"/>
                </a:solidFill>
                <a:latin typeface="Arial"/>
                <a:ea typeface="MS PGothic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1211400" y="5278320"/>
            <a:ext cx="48960" cy="46080"/>
          </a:xfrm>
          <a:prstGeom prst="rect">
            <a:avLst/>
          </a:prstGeom>
          <a:solidFill>
            <a:srgbClr val="f41700"/>
          </a:solidFill>
          <a:ln w="38160">
            <a:solidFill>
              <a:srgbClr val="f41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654480" y="4210200"/>
            <a:ext cx="275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  <a:ea typeface="MS PGothic"/>
              </a:rPr>
              <a:t>10</a:t>
            </a:r>
            <a:r>
              <a:rPr b="0" lang="de-DE" sz="1500" spc="-1" strike="noStrike" baseline="30000">
                <a:solidFill>
                  <a:srgbClr val="000000"/>
                </a:solidFill>
                <a:latin typeface="Arial"/>
                <a:ea typeface="MS PGothic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1"/>
          <p:cNvSpPr/>
          <p:nvPr/>
        </p:nvSpPr>
        <p:spPr>
          <a:xfrm>
            <a:off x="657720" y="3879720"/>
            <a:ext cx="275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  <a:ea typeface="MS PGothic"/>
              </a:rPr>
              <a:t>10</a:t>
            </a:r>
            <a:r>
              <a:rPr b="0" lang="de-DE" sz="1500" spc="-1" strike="noStrike" baseline="30000">
                <a:solidFill>
                  <a:srgbClr val="000000"/>
                </a:solidFill>
                <a:latin typeface="Arial"/>
                <a:ea typeface="MS PGothic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2"/>
          <p:cNvSpPr/>
          <p:nvPr/>
        </p:nvSpPr>
        <p:spPr>
          <a:xfrm>
            <a:off x="657720" y="3532320"/>
            <a:ext cx="275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  <a:ea typeface="MS PGothic"/>
              </a:rPr>
              <a:t>10</a:t>
            </a:r>
            <a:r>
              <a:rPr b="0" lang="de-DE" sz="1500" spc="-1" strike="noStrike" baseline="30000">
                <a:solidFill>
                  <a:srgbClr val="000000"/>
                </a:solidFill>
                <a:latin typeface="Arial"/>
                <a:ea typeface="MS PGothic"/>
              </a:rPr>
              <a:t>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3"/>
          <p:cNvSpPr/>
          <p:nvPr/>
        </p:nvSpPr>
        <p:spPr>
          <a:xfrm>
            <a:off x="678240" y="3220920"/>
            <a:ext cx="275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  <a:ea typeface="MS PGothic"/>
              </a:rPr>
              <a:t>10</a:t>
            </a:r>
            <a:r>
              <a:rPr b="0" lang="de-DE" sz="1500" spc="-1" strike="noStrike" baseline="30000">
                <a:solidFill>
                  <a:srgbClr val="000000"/>
                </a:solidFill>
                <a:latin typeface="Arial"/>
                <a:ea typeface="MS PGothic"/>
              </a:rPr>
              <a:t>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4"/>
          <p:cNvSpPr/>
          <p:nvPr/>
        </p:nvSpPr>
        <p:spPr>
          <a:xfrm>
            <a:off x="678240" y="2881440"/>
            <a:ext cx="275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  <a:ea typeface="MS PGothic"/>
              </a:rPr>
              <a:t>10</a:t>
            </a:r>
            <a:r>
              <a:rPr b="0" lang="de-DE" sz="1500" spc="-1" strike="noStrike" baseline="30000">
                <a:solidFill>
                  <a:srgbClr val="000000"/>
                </a:solidFill>
                <a:latin typeface="Arial"/>
                <a:ea typeface="MS PGothic"/>
              </a:rPr>
              <a:t>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5"/>
          <p:cNvSpPr/>
          <p:nvPr/>
        </p:nvSpPr>
        <p:spPr>
          <a:xfrm rot="16200000">
            <a:off x="-403920" y="3685680"/>
            <a:ext cx="190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MS PGothic"/>
              </a:rPr>
              <a:t>HIV-1 RNA (copy/m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6"/>
          <p:cNvSpPr/>
          <p:nvPr/>
        </p:nvSpPr>
        <p:spPr>
          <a:xfrm flipV="1">
            <a:off x="998640" y="5338440"/>
            <a:ext cx="782136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7"/>
          <p:cNvSpPr/>
          <p:nvPr/>
        </p:nvSpPr>
        <p:spPr>
          <a:xfrm flipV="1">
            <a:off x="1009800" y="2903400"/>
            <a:ext cx="0" cy="2454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8"/>
          <p:cNvSpPr/>
          <p:nvPr/>
        </p:nvSpPr>
        <p:spPr>
          <a:xfrm>
            <a:off x="1023840" y="2641680"/>
            <a:ext cx="612720" cy="174600"/>
          </a:xfrm>
          <a:prstGeom prst="rect">
            <a:avLst/>
          </a:prstGeom>
          <a:solidFill>
            <a:srgbClr val="f56c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  <a:ea typeface="MS PGothic"/>
              </a:rPr>
              <a:t>c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9"/>
          <p:cNvSpPr/>
          <p:nvPr/>
        </p:nvSpPr>
        <p:spPr>
          <a:xfrm>
            <a:off x="939960" y="4989600"/>
            <a:ext cx="680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0"/>
          <p:cNvSpPr/>
          <p:nvPr/>
        </p:nvSpPr>
        <p:spPr>
          <a:xfrm>
            <a:off x="939960" y="4649760"/>
            <a:ext cx="680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1"/>
          <p:cNvSpPr/>
          <p:nvPr/>
        </p:nvSpPr>
        <p:spPr>
          <a:xfrm>
            <a:off x="934920" y="4308480"/>
            <a:ext cx="669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2"/>
          <p:cNvSpPr/>
          <p:nvPr/>
        </p:nvSpPr>
        <p:spPr>
          <a:xfrm>
            <a:off x="939960" y="3976560"/>
            <a:ext cx="680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3"/>
          <p:cNvSpPr/>
          <p:nvPr/>
        </p:nvSpPr>
        <p:spPr>
          <a:xfrm>
            <a:off x="947880" y="3635280"/>
            <a:ext cx="680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4"/>
          <p:cNvSpPr/>
          <p:nvPr/>
        </p:nvSpPr>
        <p:spPr>
          <a:xfrm>
            <a:off x="946080" y="3325680"/>
            <a:ext cx="684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5"/>
          <p:cNvSpPr/>
          <p:nvPr/>
        </p:nvSpPr>
        <p:spPr>
          <a:xfrm>
            <a:off x="939960" y="2984400"/>
            <a:ext cx="680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6"/>
          <p:cNvSpPr/>
          <p:nvPr/>
        </p:nvSpPr>
        <p:spPr>
          <a:xfrm>
            <a:off x="1506600" y="5278320"/>
            <a:ext cx="49320" cy="46080"/>
          </a:xfrm>
          <a:prstGeom prst="rect">
            <a:avLst/>
          </a:prstGeom>
          <a:solidFill>
            <a:srgbClr val="ff3300"/>
          </a:solidFill>
          <a:ln w="38160">
            <a:solidFill>
              <a:srgbClr val="cc20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8"/>
          <p:cNvSpPr/>
          <p:nvPr/>
        </p:nvSpPr>
        <p:spPr>
          <a:xfrm>
            <a:off x="1806480" y="2984400"/>
            <a:ext cx="50760" cy="46080"/>
          </a:xfrm>
          <a:prstGeom prst="rect">
            <a:avLst/>
          </a:prstGeom>
          <a:solidFill>
            <a:srgbClr val="cc2027"/>
          </a:solidFill>
          <a:ln w="38160">
            <a:solidFill>
              <a:srgbClr val="f41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9"/>
          <p:cNvSpPr/>
          <p:nvPr/>
        </p:nvSpPr>
        <p:spPr>
          <a:xfrm>
            <a:off x="2505240" y="3954600"/>
            <a:ext cx="48960" cy="46080"/>
          </a:xfrm>
          <a:prstGeom prst="rect">
            <a:avLst/>
          </a:prstGeom>
          <a:solidFill>
            <a:srgbClr val="cc2027"/>
          </a:solidFill>
          <a:ln w="38160">
            <a:solidFill>
              <a:srgbClr val="cc20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0"/>
          <p:cNvSpPr/>
          <p:nvPr/>
        </p:nvSpPr>
        <p:spPr>
          <a:xfrm>
            <a:off x="2587680" y="4262400"/>
            <a:ext cx="49320" cy="46080"/>
          </a:xfrm>
          <a:prstGeom prst="rect">
            <a:avLst/>
          </a:prstGeom>
          <a:solidFill>
            <a:srgbClr val="cc2027"/>
          </a:solidFill>
          <a:ln w="38160">
            <a:solidFill>
              <a:srgbClr val="f41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1"/>
          <p:cNvSpPr/>
          <p:nvPr/>
        </p:nvSpPr>
        <p:spPr>
          <a:xfrm>
            <a:off x="3322800" y="5278320"/>
            <a:ext cx="50760" cy="46080"/>
          </a:xfrm>
          <a:prstGeom prst="rect">
            <a:avLst/>
          </a:prstGeom>
          <a:solidFill>
            <a:srgbClr val="cc2027"/>
          </a:solidFill>
          <a:ln w="38160">
            <a:solidFill>
              <a:srgbClr val="cc20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2"/>
          <p:cNvSpPr/>
          <p:nvPr/>
        </p:nvSpPr>
        <p:spPr>
          <a:xfrm>
            <a:off x="2744640" y="4559400"/>
            <a:ext cx="51120" cy="46080"/>
          </a:xfrm>
          <a:prstGeom prst="rect">
            <a:avLst/>
          </a:prstGeom>
          <a:solidFill>
            <a:srgbClr val="cc2027"/>
          </a:solidFill>
          <a:ln w="38160">
            <a:solidFill>
              <a:srgbClr val="f41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3"/>
          <p:cNvSpPr/>
          <p:nvPr/>
        </p:nvSpPr>
        <p:spPr>
          <a:xfrm>
            <a:off x="1015920" y="5300640"/>
            <a:ext cx="561960" cy="0"/>
          </a:xfrm>
          <a:prstGeom prst="line">
            <a:avLst/>
          </a:prstGeom>
          <a:ln w="38160">
            <a:solidFill>
              <a:srgbClr val="f417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4"/>
          <p:cNvSpPr/>
          <p:nvPr/>
        </p:nvSpPr>
        <p:spPr>
          <a:xfrm>
            <a:off x="1806480" y="3016080"/>
            <a:ext cx="716040" cy="960480"/>
          </a:xfrm>
          <a:prstGeom prst="line">
            <a:avLst/>
          </a:prstGeom>
          <a:ln w="38160">
            <a:solidFill>
              <a:srgbClr val="f417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5"/>
          <p:cNvSpPr/>
          <p:nvPr/>
        </p:nvSpPr>
        <p:spPr>
          <a:xfrm>
            <a:off x="1943280" y="2641680"/>
            <a:ext cx="2172960" cy="174600"/>
          </a:xfrm>
          <a:prstGeom prst="rect">
            <a:avLst/>
          </a:prstGeom>
          <a:solidFill>
            <a:srgbClr val="f56c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  <a:ea typeface="MS PGothic"/>
              </a:rPr>
              <a:t>c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36"/>
          <p:cNvSpPr/>
          <p:nvPr/>
        </p:nvSpPr>
        <p:spPr>
          <a:xfrm>
            <a:off x="3333600" y="5295960"/>
            <a:ext cx="65160" cy="61920"/>
          </a:xfrm>
          <a:prstGeom prst="triangle">
            <a:avLst>
              <a:gd name="adj" fmla="val 50000"/>
            </a:avLst>
          </a:prstGeom>
          <a:solidFill>
            <a:srgbClr val="cc2027"/>
          </a:solidFill>
          <a:ln w="38160">
            <a:solidFill>
              <a:srgbClr val="cc20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7"/>
          <p:cNvSpPr/>
          <p:nvPr/>
        </p:nvSpPr>
        <p:spPr>
          <a:xfrm>
            <a:off x="1722600" y="3851280"/>
            <a:ext cx="50760" cy="47520"/>
          </a:xfrm>
          <a:prstGeom prst="rect">
            <a:avLst/>
          </a:prstGeom>
          <a:solidFill>
            <a:srgbClr val="cc2027"/>
          </a:solidFill>
          <a:ln w="38160">
            <a:solidFill>
              <a:srgbClr val="f41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AutoShape 38"/>
          <p:cNvCxnSpPr>
            <a:endCxn id="95" idx="2"/>
          </p:cNvCxnSpPr>
          <p:nvPr/>
        </p:nvCxnSpPr>
        <p:spPr>
          <a:xfrm flipV="1">
            <a:off x="1646280" y="3914280"/>
            <a:ext cx="102240" cy="1386720"/>
          </a:xfrm>
          <a:prstGeom prst="straightConnector1">
            <a:avLst/>
          </a:prstGeom>
          <a:ln w="38160">
            <a:solidFill>
              <a:srgbClr val="f41700"/>
            </a:solidFill>
            <a:prstDash val="dash"/>
            <a:miter/>
          </a:ln>
        </p:spPr>
      </p:cxnSp>
      <p:cxnSp>
        <p:nvCxnSpPr>
          <p:cNvPr id="97" name="AutoShape 39"/>
          <p:cNvCxnSpPr>
            <a:stCxn id="95" idx="0"/>
            <a:endCxn id="86" idx="2"/>
          </p:cNvCxnSpPr>
          <p:nvPr/>
        </p:nvCxnSpPr>
        <p:spPr>
          <a:xfrm flipV="1">
            <a:off x="1747800" y="3045960"/>
            <a:ext cx="84960" cy="789840"/>
          </a:xfrm>
          <a:prstGeom prst="straightConnector1">
            <a:avLst/>
          </a:prstGeom>
          <a:ln w="38160">
            <a:solidFill>
              <a:srgbClr val="f41700"/>
            </a:solidFill>
            <a:prstDash val="dash"/>
            <a:miter/>
          </a:ln>
        </p:spPr>
      </p:cxnSp>
      <p:sp>
        <p:nvSpPr>
          <p:cNvPr id="98" name="Rectangle 40"/>
          <p:cNvSpPr/>
          <p:nvPr/>
        </p:nvSpPr>
        <p:spPr>
          <a:xfrm>
            <a:off x="3103560" y="4735440"/>
            <a:ext cx="50760" cy="46080"/>
          </a:xfrm>
          <a:prstGeom prst="rect">
            <a:avLst/>
          </a:prstGeom>
          <a:solidFill>
            <a:srgbClr val="cc2027"/>
          </a:solidFill>
          <a:ln w="38160">
            <a:solidFill>
              <a:srgbClr val="f41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AutoShape 41"/>
          <p:cNvCxnSpPr>
            <a:stCxn id="87" idx="2"/>
            <a:endCxn id="88" idx="0"/>
          </p:cNvCxnSpPr>
          <p:nvPr/>
        </p:nvCxnSpPr>
        <p:spPr>
          <a:xfrm>
            <a:off x="2530080" y="4019400"/>
            <a:ext cx="83160" cy="224640"/>
          </a:xfrm>
          <a:prstGeom prst="straightConnector1">
            <a:avLst/>
          </a:prstGeom>
          <a:ln w="38160">
            <a:solidFill>
              <a:srgbClr val="cc2027"/>
            </a:solidFill>
            <a:prstDash val="dash"/>
            <a:miter/>
          </a:ln>
        </p:spPr>
      </p:cxnSp>
      <p:cxnSp>
        <p:nvCxnSpPr>
          <p:cNvPr id="100" name="AutoShape 42"/>
          <p:cNvCxnSpPr>
            <a:stCxn id="88" idx="2"/>
            <a:endCxn id="90" idx="0"/>
          </p:cNvCxnSpPr>
          <p:nvPr/>
        </p:nvCxnSpPr>
        <p:spPr>
          <a:xfrm>
            <a:off x="2612520" y="4323960"/>
            <a:ext cx="158040" cy="219960"/>
          </a:xfrm>
          <a:prstGeom prst="straightConnector1">
            <a:avLst/>
          </a:prstGeom>
          <a:ln w="38160">
            <a:solidFill>
              <a:srgbClr val="f41700"/>
            </a:solidFill>
            <a:prstDash val="dash"/>
            <a:miter/>
          </a:ln>
        </p:spPr>
      </p:cxnSp>
      <p:cxnSp>
        <p:nvCxnSpPr>
          <p:cNvPr id="101" name="AutoShape 43"/>
          <p:cNvCxnSpPr>
            <a:stCxn id="98" idx="1"/>
            <a:endCxn id="90" idx="2"/>
          </p:cNvCxnSpPr>
          <p:nvPr/>
        </p:nvCxnSpPr>
        <p:spPr>
          <a:xfrm flipH="1" flipV="1">
            <a:off x="2769840" y="4620600"/>
            <a:ext cx="316800" cy="138600"/>
          </a:xfrm>
          <a:prstGeom prst="straightConnector1">
            <a:avLst/>
          </a:prstGeom>
          <a:ln w="38160">
            <a:solidFill>
              <a:srgbClr val="f41700"/>
            </a:solidFill>
            <a:prstDash val="dash"/>
            <a:miter/>
          </a:ln>
        </p:spPr>
      </p:cxnSp>
      <p:cxnSp>
        <p:nvCxnSpPr>
          <p:cNvPr id="102" name="AutoShape 44"/>
          <p:cNvCxnSpPr>
            <a:stCxn id="98" idx="2"/>
            <a:endCxn id="89" idx="0"/>
          </p:cNvCxnSpPr>
          <p:nvPr/>
        </p:nvCxnSpPr>
        <p:spPr>
          <a:xfrm>
            <a:off x="3129120" y="4798800"/>
            <a:ext cx="219600" cy="462600"/>
          </a:xfrm>
          <a:prstGeom prst="straightConnector1">
            <a:avLst/>
          </a:prstGeom>
          <a:ln w="38160">
            <a:solidFill>
              <a:srgbClr val="f41700"/>
            </a:solidFill>
            <a:prstDash val="dash"/>
            <a:miter/>
          </a:ln>
        </p:spPr>
      </p:cxnSp>
      <p:sp>
        <p:nvSpPr>
          <p:cNvPr id="103" name="Text Box 45"/>
          <p:cNvSpPr/>
          <p:nvPr/>
        </p:nvSpPr>
        <p:spPr>
          <a:xfrm>
            <a:off x="543240" y="2016000"/>
            <a:ext cx="16758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MS PGothic"/>
              </a:rPr>
              <a:t>AML diagn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46"/>
          <p:cNvSpPr/>
          <p:nvPr/>
        </p:nvSpPr>
        <p:spPr>
          <a:xfrm flipV="1">
            <a:off x="838080" y="4878000"/>
            <a:ext cx="357480" cy="11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47"/>
          <p:cNvSpPr/>
          <p:nvPr/>
        </p:nvSpPr>
        <p:spPr>
          <a:xfrm flipV="1">
            <a:off x="808200" y="4818240"/>
            <a:ext cx="357120" cy="11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9"/>
          <p:cNvSpPr/>
          <p:nvPr/>
        </p:nvSpPr>
        <p:spPr>
          <a:xfrm>
            <a:off x="3629160" y="5278320"/>
            <a:ext cx="50760" cy="46080"/>
          </a:xfrm>
          <a:prstGeom prst="rect">
            <a:avLst/>
          </a:prstGeom>
          <a:solidFill>
            <a:srgbClr val="ff3300"/>
          </a:solidFill>
          <a:ln w="38160">
            <a:solidFill>
              <a:srgbClr val="f41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0"/>
          <p:cNvSpPr/>
          <p:nvPr/>
        </p:nvSpPr>
        <p:spPr>
          <a:xfrm>
            <a:off x="4064040" y="5278320"/>
            <a:ext cx="50760" cy="46080"/>
          </a:xfrm>
          <a:prstGeom prst="rect">
            <a:avLst/>
          </a:prstGeom>
          <a:solidFill>
            <a:srgbClr val="ff3300"/>
          </a:solidFill>
          <a:ln w="38160">
            <a:solidFill>
              <a:srgbClr val="f41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1"/>
          <p:cNvSpPr/>
          <p:nvPr/>
        </p:nvSpPr>
        <p:spPr>
          <a:xfrm>
            <a:off x="3798720" y="5278320"/>
            <a:ext cx="49320" cy="46080"/>
          </a:xfrm>
          <a:prstGeom prst="rect">
            <a:avLst/>
          </a:prstGeom>
          <a:solidFill>
            <a:srgbClr val="ff3300"/>
          </a:solidFill>
          <a:ln w="38160">
            <a:solidFill>
              <a:srgbClr val="f41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2"/>
          <p:cNvSpPr/>
          <p:nvPr/>
        </p:nvSpPr>
        <p:spPr>
          <a:xfrm>
            <a:off x="4255920" y="5278320"/>
            <a:ext cx="51120" cy="46080"/>
          </a:xfrm>
          <a:prstGeom prst="rect">
            <a:avLst/>
          </a:prstGeom>
          <a:solidFill>
            <a:srgbClr val="ff3300"/>
          </a:solidFill>
          <a:ln w="38160">
            <a:solidFill>
              <a:srgbClr val="f41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3"/>
          <p:cNvSpPr/>
          <p:nvPr/>
        </p:nvSpPr>
        <p:spPr>
          <a:xfrm>
            <a:off x="4479840" y="5278320"/>
            <a:ext cx="50760" cy="46080"/>
          </a:xfrm>
          <a:prstGeom prst="rect">
            <a:avLst/>
          </a:prstGeom>
          <a:solidFill>
            <a:srgbClr val="ff3300"/>
          </a:solidFill>
          <a:ln w="38160">
            <a:solidFill>
              <a:srgbClr val="f41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4"/>
          <p:cNvSpPr/>
          <p:nvPr/>
        </p:nvSpPr>
        <p:spPr>
          <a:xfrm>
            <a:off x="4608360" y="5278320"/>
            <a:ext cx="51120" cy="46080"/>
          </a:xfrm>
          <a:prstGeom prst="rect">
            <a:avLst/>
          </a:prstGeom>
          <a:solidFill>
            <a:srgbClr val="ff3300"/>
          </a:solidFill>
          <a:ln w="38160">
            <a:solidFill>
              <a:srgbClr val="f41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5"/>
          <p:cNvSpPr/>
          <p:nvPr/>
        </p:nvSpPr>
        <p:spPr>
          <a:xfrm>
            <a:off x="5135400" y="5278320"/>
            <a:ext cx="51120" cy="46080"/>
          </a:xfrm>
          <a:prstGeom prst="rect">
            <a:avLst/>
          </a:prstGeom>
          <a:solidFill>
            <a:srgbClr val="ff3300"/>
          </a:solidFill>
          <a:ln w="38160">
            <a:solidFill>
              <a:srgbClr val="f41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6"/>
          <p:cNvSpPr/>
          <p:nvPr/>
        </p:nvSpPr>
        <p:spPr>
          <a:xfrm>
            <a:off x="4861080" y="5278320"/>
            <a:ext cx="50760" cy="46080"/>
          </a:xfrm>
          <a:prstGeom prst="rect">
            <a:avLst/>
          </a:prstGeom>
          <a:solidFill>
            <a:srgbClr val="ff3300"/>
          </a:solidFill>
          <a:ln w="38160">
            <a:solidFill>
              <a:srgbClr val="f41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7"/>
          <p:cNvSpPr/>
          <p:nvPr/>
        </p:nvSpPr>
        <p:spPr>
          <a:xfrm>
            <a:off x="7758000" y="5292720"/>
            <a:ext cx="49320" cy="46080"/>
          </a:xfrm>
          <a:prstGeom prst="rect">
            <a:avLst/>
          </a:prstGeom>
          <a:solidFill>
            <a:srgbClr val="ff3300"/>
          </a:solidFill>
          <a:ln w="38160">
            <a:solidFill>
              <a:srgbClr val="f41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8"/>
          <p:cNvSpPr/>
          <p:nvPr/>
        </p:nvSpPr>
        <p:spPr>
          <a:xfrm>
            <a:off x="6543720" y="5278320"/>
            <a:ext cx="50760" cy="46080"/>
          </a:xfrm>
          <a:prstGeom prst="rect">
            <a:avLst/>
          </a:prstGeom>
          <a:solidFill>
            <a:srgbClr val="ff3300"/>
          </a:solidFill>
          <a:ln w="38160">
            <a:solidFill>
              <a:srgbClr val="f41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9"/>
          <p:cNvSpPr/>
          <p:nvPr/>
        </p:nvSpPr>
        <p:spPr>
          <a:xfrm>
            <a:off x="6008760" y="5278320"/>
            <a:ext cx="50760" cy="46080"/>
          </a:xfrm>
          <a:prstGeom prst="rect">
            <a:avLst/>
          </a:prstGeom>
          <a:solidFill>
            <a:srgbClr val="ff3300"/>
          </a:solidFill>
          <a:ln w="38160">
            <a:solidFill>
              <a:srgbClr val="f41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0"/>
          <p:cNvSpPr/>
          <p:nvPr/>
        </p:nvSpPr>
        <p:spPr>
          <a:xfrm>
            <a:off x="6281640" y="5278320"/>
            <a:ext cx="50760" cy="46080"/>
          </a:xfrm>
          <a:prstGeom prst="rect">
            <a:avLst/>
          </a:prstGeom>
          <a:solidFill>
            <a:srgbClr val="ff3300"/>
          </a:solidFill>
          <a:ln w="38160">
            <a:solidFill>
              <a:srgbClr val="f41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61"/>
          <p:cNvSpPr/>
          <p:nvPr/>
        </p:nvSpPr>
        <p:spPr>
          <a:xfrm flipV="1">
            <a:off x="3322800" y="5273280"/>
            <a:ext cx="5497200" cy="27000"/>
          </a:xfrm>
          <a:prstGeom prst="line">
            <a:avLst/>
          </a:prstGeom>
          <a:ln w="38160">
            <a:solidFill>
              <a:srgbClr val="f417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2"/>
          <p:cNvSpPr/>
          <p:nvPr/>
        </p:nvSpPr>
        <p:spPr>
          <a:xfrm>
            <a:off x="6986520" y="5278320"/>
            <a:ext cx="50760" cy="46080"/>
          </a:xfrm>
          <a:prstGeom prst="rect">
            <a:avLst/>
          </a:prstGeom>
          <a:solidFill>
            <a:srgbClr val="ff3300"/>
          </a:solidFill>
          <a:ln w="38160">
            <a:solidFill>
              <a:srgbClr val="f41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3"/>
          <p:cNvSpPr/>
          <p:nvPr/>
        </p:nvSpPr>
        <p:spPr>
          <a:xfrm>
            <a:off x="7378560" y="5278320"/>
            <a:ext cx="49320" cy="46080"/>
          </a:xfrm>
          <a:prstGeom prst="rect">
            <a:avLst/>
          </a:prstGeom>
          <a:solidFill>
            <a:srgbClr val="ff3300"/>
          </a:solidFill>
          <a:ln w="38160">
            <a:solidFill>
              <a:srgbClr val="f41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4"/>
          <p:cNvSpPr/>
          <p:nvPr/>
        </p:nvSpPr>
        <p:spPr>
          <a:xfrm>
            <a:off x="8435880" y="5273640"/>
            <a:ext cx="50760" cy="46080"/>
          </a:xfrm>
          <a:prstGeom prst="rect">
            <a:avLst/>
          </a:prstGeom>
          <a:solidFill>
            <a:srgbClr val="ff3300"/>
          </a:solidFill>
          <a:ln w="38160">
            <a:solidFill>
              <a:srgbClr val="f41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65"/>
          <p:cNvSpPr/>
          <p:nvPr/>
        </p:nvSpPr>
        <p:spPr>
          <a:xfrm flipH="1">
            <a:off x="7904160" y="5143680"/>
            <a:ext cx="141120" cy="32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66"/>
          <p:cNvSpPr/>
          <p:nvPr/>
        </p:nvSpPr>
        <p:spPr>
          <a:xfrm flipH="1">
            <a:off x="7975080" y="5143680"/>
            <a:ext cx="141480" cy="32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7"/>
          <p:cNvSpPr/>
          <p:nvPr/>
        </p:nvSpPr>
        <p:spPr>
          <a:xfrm>
            <a:off x="4983120" y="1765440"/>
            <a:ext cx="1847880" cy="64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AU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 bone m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transpla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8"/>
          <p:cNvSpPr/>
          <p:nvPr/>
        </p:nvSpPr>
        <p:spPr>
          <a:xfrm>
            <a:off x="2479680" y="3954600"/>
            <a:ext cx="49320" cy="46080"/>
          </a:xfrm>
          <a:prstGeom prst="rect">
            <a:avLst/>
          </a:prstGeom>
          <a:solidFill>
            <a:srgbClr val="cc2027"/>
          </a:solidFill>
          <a:ln w="38160">
            <a:solidFill>
              <a:srgbClr val="f41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69"/>
          <p:cNvSpPr/>
          <p:nvPr/>
        </p:nvSpPr>
        <p:spPr>
          <a:xfrm>
            <a:off x="1001880" y="2459160"/>
            <a:ext cx="736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70"/>
          <p:cNvSpPr/>
          <p:nvPr/>
        </p:nvSpPr>
        <p:spPr>
          <a:xfrm>
            <a:off x="1262160" y="2459160"/>
            <a:ext cx="0" cy="13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71"/>
          <p:cNvSpPr/>
          <p:nvPr/>
        </p:nvSpPr>
        <p:spPr>
          <a:xfrm>
            <a:off x="3857760" y="2459160"/>
            <a:ext cx="0" cy="13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72"/>
          <p:cNvSpPr/>
          <p:nvPr/>
        </p:nvSpPr>
        <p:spPr>
          <a:xfrm>
            <a:off x="5796000" y="2459160"/>
            <a:ext cx="0" cy="13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3"/>
          <p:cNvSpPr/>
          <p:nvPr/>
        </p:nvSpPr>
        <p:spPr>
          <a:xfrm>
            <a:off x="3067200" y="1765440"/>
            <a:ext cx="1675800" cy="642600"/>
          </a:xfrm>
          <a:prstGeom prst="rect">
            <a:avLst/>
          </a:prstGeom>
          <a:solidFill>
            <a:srgbClr val="333399"/>
          </a:solidFill>
          <a:ln w="9360">
            <a:solidFill>
              <a:srgbClr val="f8dd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Bone m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transpla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74"/>
          <p:cNvSpPr/>
          <p:nvPr/>
        </p:nvSpPr>
        <p:spPr>
          <a:xfrm>
            <a:off x="3030480" y="5365800"/>
            <a:ext cx="0" cy="109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75"/>
          <p:cNvSpPr/>
          <p:nvPr/>
        </p:nvSpPr>
        <p:spPr>
          <a:xfrm>
            <a:off x="6877080" y="5357880"/>
            <a:ext cx="0" cy="117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6"/>
          <p:cNvSpPr/>
          <p:nvPr/>
        </p:nvSpPr>
        <p:spPr>
          <a:xfrm>
            <a:off x="2720520" y="54752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7"/>
          <p:cNvSpPr/>
          <p:nvPr/>
        </p:nvSpPr>
        <p:spPr>
          <a:xfrm>
            <a:off x="4971600" y="54752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8"/>
          <p:cNvSpPr/>
          <p:nvPr/>
        </p:nvSpPr>
        <p:spPr>
          <a:xfrm>
            <a:off x="7797240" y="54752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79"/>
          <p:cNvSpPr/>
          <p:nvPr/>
        </p:nvSpPr>
        <p:spPr>
          <a:xfrm>
            <a:off x="5448240" y="4865760"/>
            <a:ext cx="0" cy="226800"/>
          </a:xfrm>
          <a:prstGeom prst="line">
            <a:avLst/>
          </a:prstGeom>
          <a:ln w="57240">
            <a:solidFill>
              <a:srgbClr val="f417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0"/>
          <p:cNvSpPr/>
          <p:nvPr/>
        </p:nvSpPr>
        <p:spPr>
          <a:xfrm>
            <a:off x="4680000" y="4514760"/>
            <a:ext cx="1511280" cy="337320"/>
          </a:xfrm>
          <a:prstGeom prst="rect">
            <a:avLst/>
          </a:prstGeom>
          <a:solidFill>
            <a:srgbClr val="f41700"/>
          </a:solidFill>
          <a:ln w="9360">
            <a:solidFill>
              <a:srgbClr val="f41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GI tract biops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81"/>
          <p:cNvSpPr/>
          <p:nvPr/>
        </p:nvSpPr>
        <p:spPr>
          <a:xfrm>
            <a:off x="7807320" y="4324320"/>
            <a:ext cx="4680" cy="789120"/>
          </a:xfrm>
          <a:prstGeom prst="line">
            <a:avLst/>
          </a:prstGeom>
          <a:ln w="57240">
            <a:solidFill>
              <a:srgbClr val="f417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83"/>
          <p:cNvSpPr/>
          <p:nvPr/>
        </p:nvSpPr>
        <p:spPr>
          <a:xfrm>
            <a:off x="6103800" y="3924360"/>
            <a:ext cx="586080" cy="337320"/>
          </a:xfrm>
          <a:prstGeom prst="rect">
            <a:avLst/>
          </a:prstGeom>
          <a:solidFill>
            <a:srgbClr val="f41700"/>
          </a:solidFill>
          <a:ln w="9360">
            <a:solidFill>
              <a:srgbClr val="f41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CS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83"/>
          <p:cNvSpPr/>
          <p:nvPr/>
        </p:nvSpPr>
        <p:spPr>
          <a:xfrm>
            <a:off x="1014480" y="5143680"/>
            <a:ext cx="7710480" cy="0"/>
          </a:xfrm>
          <a:prstGeom prst="line">
            <a:avLst/>
          </a:prstGeom>
          <a:ln w="28440">
            <a:solidFill>
              <a:srgbClr val="cc202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3"/>
          <p:cNvSpPr/>
          <p:nvPr/>
        </p:nvSpPr>
        <p:spPr>
          <a:xfrm>
            <a:off x="6585120" y="3414600"/>
            <a:ext cx="1299240" cy="337320"/>
          </a:xfrm>
          <a:prstGeom prst="rect">
            <a:avLst/>
          </a:prstGeom>
          <a:solidFill>
            <a:srgbClr val="f41700"/>
          </a:solidFill>
          <a:ln w="9360">
            <a:solidFill>
              <a:srgbClr val="f41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Brain biops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75"/>
          <p:cNvSpPr/>
          <p:nvPr/>
        </p:nvSpPr>
        <p:spPr>
          <a:xfrm>
            <a:off x="5292720" y="5365800"/>
            <a:ext cx="0" cy="117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7"/>
          <p:cNvSpPr/>
          <p:nvPr/>
        </p:nvSpPr>
        <p:spPr>
          <a:xfrm>
            <a:off x="6546600" y="54738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84"/>
          <p:cNvSpPr/>
          <p:nvPr/>
        </p:nvSpPr>
        <p:spPr>
          <a:xfrm>
            <a:off x="6845400" y="3760920"/>
            <a:ext cx="0" cy="1355760"/>
          </a:xfrm>
          <a:prstGeom prst="line">
            <a:avLst/>
          </a:prstGeom>
          <a:ln w="57240">
            <a:solidFill>
              <a:srgbClr val="f417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0"/>
          <p:cNvSpPr/>
          <p:nvPr/>
        </p:nvSpPr>
        <p:spPr>
          <a:xfrm>
            <a:off x="7020000" y="3960720"/>
            <a:ext cx="1511280" cy="337320"/>
          </a:xfrm>
          <a:prstGeom prst="rect">
            <a:avLst/>
          </a:prstGeom>
          <a:solidFill>
            <a:srgbClr val="f41700"/>
          </a:solidFill>
          <a:ln w="9360">
            <a:solidFill>
              <a:srgbClr val="f41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GI tract biops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93"/>
          <p:cNvGrpSpPr/>
          <p:nvPr/>
        </p:nvGrpSpPr>
        <p:grpSpPr>
          <a:xfrm>
            <a:off x="189000" y="4451400"/>
            <a:ext cx="9034200" cy="2364480"/>
            <a:chOff x="189000" y="4451400"/>
            <a:chExt cx="9034200" cy="2364480"/>
          </a:xfrm>
        </p:grpSpPr>
        <p:sp>
          <p:nvSpPr>
            <p:cNvPr id="147" name="Line 82"/>
            <p:cNvSpPr/>
            <p:nvPr/>
          </p:nvSpPr>
          <p:spPr>
            <a:xfrm>
              <a:off x="8424720" y="4749840"/>
              <a:ext cx="0" cy="226800"/>
            </a:xfrm>
            <a:prstGeom prst="line">
              <a:avLst/>
            </a:prstGeom>
            <a:ln w="57240">
              <a:solidFill>
                <a:srgbClr val="f417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90"/>
            <p:cNvSpPr/>
            <p:nvPr/>
          </p:nvSpPr>
          <p:spPr>
            <a:xfrm>
              <a:off x="8082360" y="4451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400" spc="-1" strike="noStrike">
                  <a:solidFill>
                    <a:srgbClr val="f41700"/>
                  </a:solidFill>
                  <a:latin typeface="Symbol"/>
                  <a:ea typeface="Symbol"/>
                </a:rPr>
                <a:t></a:t>
              </a:r>
              <a:r>
                <a:rPr b="1" lang="en-AU" sz="1400" spc="-1" strike="noStrike">
                  <a:solidFill>
                    <a:srgbClr val="f41700"/>
                  </a:solidFill>
                  <a:latin typeface="Arial"/>
                </a:rPr>
                <a:t>RNA/D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91"/>
            <p:cNvSpPr/>
            <p:nvPr/>
          </p:nvSpPr>
          <p:spPr>
            <a:xfrm>
              <a:off x="189000" y="6508800"/>
              <a:ext cx="710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400" spc="-1" strike="noStrike">
                  <a:solidFill>
                    <a:srgbClr val="000000"/>
                  </a:solidFill>
                  <a:latin typeface="Arial"/>
                </a:rPr>
                <a:t>Yukl et al., International Workshop on HIV and Hepatitis Resistance, Sitges, June 2012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The Boston patients…allogeneic stem cell Tx for lympho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rcRect l="0" t="17259" r="0" b="37261"/>
          <a:stretch/>
        </p:blipFill>
        <p:spPr>
          <a:xfrm>
            <a:off x="368280" y="3789360"/>
            <a:ext cx="8261280" cy="25480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"/>
          <p:cNvPicPr/>
          <p:nvPr/>
        </p:nvPicPr>
        <p:blipFill>
          <a:blip r:embed="rId2"/>
          <a:srcRect l="0" t="19071" r="0" b="38967"/>
          <a:stretch/>
        </p:blipFill>
        <p:spPr>
          <a:xfrm>
            <a:off x="320760" y="1484280"/>
            <a:ext cx="7540560" cy="23414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9"/>
          <p:cNvSpPr/>
          <p:nvPr/>
        </p:nvSpPr>
        <p:spPr>
          <a:xfrm>
            <a:off x="5961240" y="2043000"/>
            <a:ext cx="2819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ral outgrowth assay negative day +65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5"/>
          <p:cNvSpPr/>
          <p:nvPr/>
        </p:nvSpPr>
        <p:spPr>
          <a:xfrm>
            <a:off x="5763240" y="6561000"/>
            <a:ext cx="337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Henrich et al., IAC Washington DC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795"/>
          <p:cNvSpPr/>
          <p:nvPr/>
        </p:nvSpPr>
        <p:spPr>
          <a:xfrm>
            <a:off x="3013200" y="1862280"/>
            <a:ext cx="984240" cy="2806560"/>
          </a:xfrm>
          <a:prstGeom prst="rect">
            <a:avLst/>
          </a:prstGeom>
          <a:solidFill>
            <a:srgbClr val="f56c11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Arial"/>
              </a:rPr>
              <a:t>The Visconti pateints: post treatment controllers (PTC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472680" y="6472080"/>
            <a:ext cx="83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Hocqueloux et al., AIDS 2010; Salgado et al., Retrovirology 2011; 8:97; Saez-Cirion et al (unpublish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457200" y="5391000"/>
            <a:ext cx="8039160" cy="916920"/>
          </a:xfrm>
          <a:prstGeom prst="rect">
            <a:avLst/>
          </a:prstGeom>
          <a:noFill/>
          <a:ln w="38160">
            <a:solidFill>
              <a:srgbClr val="cc20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VISCONTI cohort; n=14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reated in acute infection, median time to ART = 10 wee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edian time on ART =37 mo; median times since stopping ART = 80 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6895"/>
          <p:cNvSpPr/>
          <p:nvPr/>
        </p:nvSpPr>
        <p:spPr>
          <a:xfrm>
            <a:off x="4383720" y="5025960"/>
            <a:ext cx="387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6896"/>
          <p:cNvSpPr/>
          <p:nvPr/>
        </p:nvSpPr>
        <p:spPr>
          <a:xfrm>
            <a:off x="2602080" y="4672080"/>
            <a:ext cx="3900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6897"/>
          <p:cNvSpPr/>
          <p:nvPr/>
        </p:nvSpPr>
        <p:spPr>
          <a:xfrm flipV="1">
            <a:off x="2602080" y="467208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6898"/>
          <p:cNvSpPr/>
          <p:nvPr/>
        </p:nvSpPr>
        <p:spPr>
          <a:xfrm flipV="1">
            <a:off x="3035160" y="467208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6899"/>
          <p:cNvSpPr/>
          <p:nvPr/>
        </p:nvSpPr>
        <p:spPr>
          <a:xfrm flipV="1">
            <a:off x="3465360" y="467208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6900"/>
          <p:cNvSpPr/>
          <p:nvPr/>
        </p:nvSpPr>
        <p:spPr>
          <a:xfrm flipV="1">
            <a:off x="3900600" y="467208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6901"/>
          <p:cNvSpPr/>
          <p:nvPr/>
        </p:nvSpPr>
        <p:spPr>
          <a:xfrm flipV="1">
            <a:off x="4334040" y="467208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6902"/>
          <p:cNvSpPr/>
          <p:nvPr/>
        </p:nvSpPr>
        <p:spPr>
          <a:xfrm flipV="1">
            <a:off x="4767120" y="467208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6903"/>
          <p:cNvSpPr/>
          <p:nvPr/>
        </p:nvSpPr>
        <p:spPr>
          <a:xfrm flipV="1">
            <a:off x="5200560" y="467208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6904"/>
          <p:cNvSpPr/>
          <p:nvPr/>
        </p:nvSpPr>
        <p:spPr>
          <a:xfrm flipV="1">
            <a:off x="5634000" y="467208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6905"/>
          <p:cNvSpPr/>
          <p:nvPr/>
        </p:nvSpPr>
        <p:spPr>
          <a:xfrm flipV="1">
            <a:off x="6068880" y="467208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6906"/>
          <p:cNvSpPr/>
          <p:nvPr/>
        </p:nvSpPr>
        <p:spPr>
          <a:xfrm flipV="1">
            <a:off x="6502320" y="467208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6907"/>
          <p:cNvSpPr/>
          <p:nvPr/>
        </p:nvSpPr>
        <p:spPr>
          <a:xfrm>
            <a:off x="2488680" y="4778280"/>
            <a:ext cx="29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01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6908"/>
          <p:cNvSpPr/>
          <p:nvPr/>
        </p:nvSpPr>
        <p:spPr>
          <a:xfrm>
            <a:off x="2922120" y="4778280"/>
            <a:ext cx="29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02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6909"/>
          <p:cNvSpPr/>
          <p:nvPr/>
        </p:nvSpPr>
        <p:spPr>
          <a:xfrm>
            <a:off x="3353760" y="4778280"/>
            <a:ext cx="29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03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6910"/>
          <p:cNvSpPr/>
          <p:nvPr/>
        </p:nvSpPr>
        <p:spPr>
          <a:xfrm>
            <a:off x="3787200" y="4778280"/>
            <a:ext cx="29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04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6911"/>
          <p:cNvSpPr/>
          <p:nvPr/>
        </p:nvSpPr>
        <p:spPr>
          <a:xfrm>
            <a:off x="4220640" y="4778280"/>
            <a:ext cx="29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05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6912"/>
          <p:cNvSpPr/>
          <p:nvPr/>
        </p:nvSpPr>
        <p:spPr>
          <a:xfrm>
            <a:off x="4654080" y="4778280"/>
            <a:ext cx="29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06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6913"/>
          <p:cNvSpPr/>
          <p:nvPr/>
        </p:nvSpPr>
        <p:spPr>
          <a:xfrm>
            <a:off x="5087520" y="4778280"/>
            <a:ext cx="29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07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6914"/>
          <p:cNvSpPr/>
          <p:nvPr/>
        </p:nvSpPr>
        <p:spPr>
          <a:xfrm>
            <a:off x="5520960" y="4778280"/>
            <a:ext cx="29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08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6915"/>
          <p:cNvSpPr/>
          <p:nvPr/>
        </p:nvSpPr>
        <p:spPr>
          <a:xfrm>
            <a:off x="5955840" y="4778280"/>
            <a:ext cx="29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09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6916"/>
          <p:cNvSpPr/>
          <p:nvPr/>
        </p:nvSpPr>
        <p:spPr>
          <a:xfrm>
            <a:off x="6389280" y="4778280"/>
            <a:ext cx="29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10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6917"/>
          <p:cNvSpPr/>
          <p:nvPr/>
        </p:nvSpPr>
        <p:spPr>
          <a:xfrm>
            <a:off x="2602080" y="1865160"/>
            <a:ext cx="3900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6918"/>
          <p:cNvSpPr/>
          <p:nvPr/>
        </p:nvSpPr>
        <p:spPr>
          <a:xfrm rot="16200000">
            <a:off x="793800" y="3199680"/>
            <a:ext cx="2102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MS PGothic"/>
              </a:rPr>
              <a:t>CD4+ T cells/mm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6919"/>
          <p:cNvSpPr/>
          <p:nvPr/>
        </p:nvSpPr>
        <p:spPr>
          <a:xfrm flipV="1">
            <a:off x="2602080" y="1864800"/>
            <a:ext cx="1440" cy="2806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6920"/>
          <p:cNvSpPr/>
          <p:nvPr/>
        </p:nvSpPr>
        <p:spPr>
          <a:xfrm>
            <a:off x="2562120" y="4672080"/>
            <a:ext cx="39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6921"/>
          <p:cNvSpPr/>
          <p:nvPr/>
        </p:nvSpPr>
        <p:spPr>
          <a:xfrm>
            <a:off x="2562120" y="4035600"/>
            <a:ext cx="39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6922"/>
          <p:cNvSpPr/>
          <p:nvPr/>
        </p:nvSpPr>
        <p:spPr>
          <a:xfrm>
            <a:off x="2562120" y="3397320"/>
            <a:ext cx="39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6923"/>
          <p:cNvSpPr/>
          <p:nvPr/>
        </p:nvSpPr>
        <p:spPr>
          <a:xfrm>
            <a:off x="2562120" y="2759040"/>
            <a:ext cx="39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6924"/>
          <p:cNvSpPr/>
          <p:nvPr/>
        </p:nvSpPr>
        <p:spPr>
          <a:xfrm>
            <a:off x="2562120" y="2120760"/>
            <a:ext cx="39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6925"/>
          <p:cNvSpPr/>
          <p:nvPr/>
        </p:nvSpPr>
        <p:spPr>
          <a:xfrm>
            <a:off x="2422080" y="45975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6926"/>
          <p:cNvSpPr/>
          <p:nvPr/>
        </p:nvSpPr>
        <p:spPr>
          <a:xfrm>
            <a:off x="2245680" y="396072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6927"/>
          <p:cNvSpPr/>
          <p:nvPr/>
        </p:nvSpPr>
        <p:spPr>
          <a:xfrm>
            <a:off x="2171880" y="332280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1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6928"/>
          <p:cNvSpPr/>
          <p:nvPr/>
        </p:nvSpPr>
        <p:spPr>
          <a:xfrm>
            <a:off x="2171880" y="26845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1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6929"/>
          <p:cNvSpPr/>
          <p:nvPr/>
        </p:nvSpPr>
        <p:spPr>
          <a:xfrm>
            <a:off x="2171880" y="204624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16930"/>
          <p:cNvSpPr/>
          <p:nvPr/>
        </p:nvSpPr>
        <p:spPr>
          <a:xfrm flipV="1">
            <a:off x="2979720" y="3325680"/>
            <a:ext cx="3286080" cy="511200"/>
          </a:xfrm>
          <a:custGeom>
            <a:avLst/>
            <a:gdLst>
              <a:gd name="textAreaLeft" fmla="*/ 0 w 3286080"/>
              <a:gd name="textAreaRight" fmla="*/ 3286440 w 3286080"/>
              <a:gd name="textAreaTop" fmla="*/ 360 h 511200"/>
              <a:gd name="textAreaBottom" fmla="*/ 511920 h 511200"/>
            </a:gdLst>
            <a:ahLst/>
            <a:rect l="textAreaLeft" t="textAreaTop" r="textAreaRight" b="textAreaBottom"/>
            <a:pathLst>
              <a:path w="4147" h="646">
                <a:moveTo>
                  <a:pt x="0" y="483"/>
                </a:moveTo>
                <a:lnTo>
                  <a:pt x="79" y="628"/>
                </a:lnTo>
                <a:lnTo>
                  <a:pt x="199" y="482"/>
                </a:lnTo>
                <a:lnTo>
                  <a:pt x="302" y="260"/>
                </a:lnTo>
                <a:lnTo>
                  <a:pt x="470" y="330"/>
                </a:lnTo>
                <a:lnTo>
                  <a:pt x="634" y="166"/>
                </a:lnTo>
                <a:lnTo>
                  <a:pt x="765" y="372"/>
                </a:lnTo>
                <a:lnTo>
                  <a:pt x="1039" y="405"/>
                </a:lnTo>
                <a:lnTo>
                  <a:pt x="1182" y="57"/>
                </a:lnTo>
                <a:lnTo>
                  <a:pt x="1347" y="53"/>
                </a:lnTo>
                <a:lnTo>
                  <a:pt x="1536" y="26"/>
                </a:lnTo>
                <a:lnTo>
                  <a:pt x="1678" y="646"/>
                </a:lnTo>
                <a:lnTo>
                  <a:pt x="1801" y="74"/>
                </a:lnTo>
                <a:lnTo>
                  <a:pt x="1965" y="277"/>
                </a:lnTo>
                <a:lnTo>
                  <a:pt x="2064" y="195"/>
                </a:lnTo>
                <a:lnTo>
                  <a:pt x="2112" y="345"/>
                </a:lnTo>
                <a:lnTo>
                  <a:pt x="2260" y="293"/>
                </a:lnTo>
                <a:lnTo>
                  <a:pt x="2295" y="359"/>
                </a:lnTo>
                <a:lnTo>
                  <a:pt x="2387" y="26"/>
                </a:lnTo>
                <a:lnTo>
                  <a:pt x="2527" y="8"/>
                </a:lnTo>
                <a:lnTo>
                  <a:pt x="2667" y="332"/>
                </a:lnTo>
                <a:lnTo>
                  <a:pt x="2892" y="0"/>
                </a:lnTo>
                <a:lnTo>
                  <a:pt x="3028" y="244"/>
                </a:lnTo>
                <a:lnTo>
                  <a:pt x="3121" y="179"/>
                </a:lnTo>
                <a:lnTo>
                  <a:pt x="3302" y="355"/>
                </a:lnTo>
                <a:lnTo>
                  <a:pt x="3391" y="556"/>
                </a:lnTo>
                <a:lnTo>
                  <a:pt x="3906" y="132"/>
                </a:lnTo>
                <a:lnTo>
                  <a:pt x="4147" y="71"/>
                </a:lnTo>
              </a:path>
            </a:pathLst>
          </a:custGeom>
          <a:noFill/>
          <a:ln w="0">
            <a:solidFill>
              <a:srgbClr val="00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6931"/>
          <p:cNvSpPr/>
          <p:nvPr/>
        </p:nvSpPr>
        <p:spPr>
          <a:xfrm>
            <a:off x="2949480" y="3425760"/>
            <a:ext cx="58680" cy="58680"/>
          </a:xfrm>
          <a:prstGeom prst="rect">
            <a:avLst/>
          </a:prstGeom>
          <a:solidFill>
            <a:srgbClr val="000000"/>
          </a:solidFill>
          <a:ln w="0">
            <a:solidFill>
              <a:srgbClr val="0066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6932"/>
          <p:cNvSpPr/>
          <p:nvPr/>
        </p:nvSpPr>
        <p:spPr>
          <a:xfrm>
            <a:off x="3013200" y="3309840"/>
            <a:ext cx="58680" cy="58680"/>
          </a:xfrm>
          <a:prstGeom prst="rect">
            <a:avLst/>
          </a:prstGeom>
          <a:solidFill>
            <a:srgbClr val="000000"/>
          </a:solidFill>
          <a:ln w="0">
            <a:solidFill>
              <a:srgbClr val="0066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6933"/>
          <p:cNvSpPr/>
          <p:nvPr/>
        </p:nvSpPr>
        <p:spPr>
          <a:xfrm>
            <a:off x="3106800" y="3425760"/>
            <a:ext cx="58680" cy="58680"/>
          </a:xfrm>
          <a:prstGeom prst="rect">
            <a:avLst/>
          </a:prstGeom>
          <a:solidFill>
            <a:srgbClr val="000000"/>
          </a:solidFill>
          <a:ln w="0">
            <a:solidFill>
              <a:srgbClr val="0066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6934"/>
          <p:cNvSpPr/>
          <p:nvPr/>
        </p:nvSpPr>
        <p:spPr>
          <a:xfrm>
            <a:off x="3187800" y="3602160"/>
            <a:ext cx="58680" cy="58680"/>
          </a:xfrm>
          <a:prstGeom prst="rect">
            <a:avLst/>
          </a:prstGeom>
          <a:solidFill>
            <a:srgbClr val="000000"/>
          </a:solidFill>
          <a:ln w="0">
            <a:solidFill>
              <a:srgbClr val="0066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6935"/>
          <p:cNvSpPr/>
          <p:nvPr/>
        </p:nvSpPr>
        <p:spPr>
          <a:xfrm>
            <a:off x="3321000" y="3546360"/>
            <a:ext cx="58680" cy="58680"/>
          </a:xfrm>
          <a:prstGeom prst="rect">
            <a:avLst/>
          </a:prstGeom>
          <a:solidFill>
            <a:srgbClr val="000099"/>
          </a:solidFill>
          <a:ln w="0">
            <a:solidFill>
              <a:srgbClr val="00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6936"/>
          <p:cNvSpPr/>
          <p:nvPr/>
        </p:nvSpPr>
        <p:spPr>
          <a:xfrm>
            <a:off x="3451320" y="3676680"/>
            <a:ext cx="58680" cy="58680"/>
          </a:xfrm>
          <a:prstGeom prst="rect">
            <a:avLst/>
          </a:prstGeom>
          <a:solidFill>
            <a:srgbClr val="000099"/>
          </a:solidFill>
          <a:ln w="0">
            <a:solidFill>
              <a:srgbClr val="00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6937"/>
          <p:cNvSpPr/>
          <p:nvPr/>
        </p:nvSpPr>
        <p:spPr>
          <a:xfrm>
            <a:off x="3554280" y="3513240"/>
            <a:ext cx="59040" cy="58680"/>
          </a:xfrm>
          <a:prstGeom prst="rect">
            <a:avLst/>
          </a:prstGeom>
          <a:solidFill>
            <a:srgbClr val="000099"/>
          </a:solidFill>
          <a:ln w="0">
            <a:solidFill>
              <a:srgbClr val="00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6938"/>
          <p:cNvSpPr/>
          <p:nvPr/>
        </p:nvSpPr>
        <p:spPr>
          <a:xfrm>
            <a:off x="3772080" y="3487680"/>
            <a:ext cx="58680" cy="58680"/>
          </a:xfrm>
          <a:prstGeom prst="rect">
            <a:avLst/>
          </a:prstGeom>
          <a:solidFill>
            <a:srgbClr val="000099"/>
          </a:solidFill>
          <a:ln w="0">
            <a:solidFill>
              <a:srgbClr val="00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6939"/>
          <p:cNvSpPr/>
          <p:nvPr/>
        </p:nvSpPr>
        <p:spPr>
          <a:xfrm>
            <a:off x="3886200" y="3762360"/>
            <a:ext cx="58680" cy="58680"/>
          </a:xfrm>
          <a:prstGeom prst="rect">
            <a:avLst/>
          </a:prstGeom>
          <a:solidFill>
            <a:srgbClr val="000099"/>
          </a:solidFill>
          <a:ln w="0">
            <a:solidFill>
              <a:srgbClr val="00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6940"/>
          <p:cNvSpPr/>
          <p:nvPr/>
        </p:nvSpPr>
        <p:spPr>
          <a:xfrm>
            <a:off x="4016520" y="3765600"/>
            <a:ext cx="58680" cy="58680"/>
          </a:xfrm>
          <a:prstGeom prst="rect">
            <a:avLst/>
          </a:prstGeom>
          <a:solidFill>
            <a:srgbClr val="000099"/>
          </a:solidFill>
          <a:ln w="0">
            <a:solidFill>
              <a:srgbClr val="00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6941"/>
          <p:cNvSpPr/>
          <p:nvPr/>
        </p:nvSpPr>
        <p:spPr>
          <a:xfrm>
            <a:off x="4165560" y="3787920"/>
            <a:ext cx="58680" cy="58680"/>
          </a:xfrm>
          <a:prstGeom prst="rect">
            <a:avLst/>
          </a:prstGeom>
          <a:solidFill>
            <a:srgbClr val="000099"/>
          </a:solidFill>
          <a:ln w="0">
            <a:solidFill>
              <a:srgbClr val="00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6942"/>
          <p:cNvSpPr/>
          <p:nvPr/>
        </p:nvSpPr>
        <p:spPr>
          <a:xfrm>
            <a:off x="4278240" y="3295800"/>
            <a:ext cx="58680" cy="58680"/>
          </a:xfrm>
          <a:prstGeom prst="rect">
            <a:avLst/>
          </a:prstGeom>
          <a:solidFill>
            <a:srgbClr val="000099"/>
          </a:solidFill>
          <a:ln w="0">
            <a:solidFill>
              <a:srgbClr val="00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6943"/>
          <p:cNvSpPr/>
          <p:nvPr/>
        </p:nvSpPr>
        <p:spPr>
          <a:xfrm>
            <a:off x="4376880" y="3749760"/>
            <a:ext cx="58680" cy="58680"/>
          </a:xfrm>
          <a:prstGeom prst="rect">
            <a:avLst/>
          </a:prstGeom>
          <a:solidFill>
            <a:srgbClr val="000099"/>
          </a:solidFill>
          <a:ln w="0">
            <a:solidFill>
              <a:srgbClr val="00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6944"/>
          <p:cNvSpPr/>
          <p:nvPr/>
        </p:nvSpPr>
        <p:spPr>
          <a:xfrm>
            <a:off x="4506840" y="3589200"/>
            <a:ext cx="58680" cy="59040"/>
          </a:xfrm>
          <a:prstGeom prst="rect">
            <a:avLst/>
          </a:prstGeom>
          <a:solidFill>
            <a:srgbClr val="000099"/>
          </a:solidFill>
          <a:ln w="0">
            <a:solidFill>
              <a:srgbClr val="00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6945"/>
          <p:cNvSpPr/>
          <p:nvPr/>
        </p:nvSpPr>
        <p:spPr>
          <a:xfrm>
            <a:off x="4584600" y="3654360"/>
            <a:ext cx="58680" cy="58680"/>
          </a:xfrm>
          <a:prstGeom prst="rect">
            <a:avLst/>
          </a:prstGeom>
          <a:solidFill>
            <a:srgbClr val="000099"/>
          </a:solidFill>
          <a:ln w="0">
            <a:solidFill>
              <a:srgbClr val="00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6946"/>
          <p:cNvSpPr/>
          <p:nvPr/>
        </p:nvSpPr>
        <p:spPr>
          <a:xfrm>
            <a:off x="4622760" y="3535200"/>
            <a:ext cx="58680" cy="59040"/>
          </a:xfrm>
          <a:prstGeom prst="rect">
            <a:avLst/>
          </a:prstGeom>
          <a:solidFill>
            <a:srgbClr val="000099"/>
          </a:solidFill>
          <a:ln w="0">
            <a:solidFill>
              <a:srgbClr val="00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6947"/>
          <p:cNvSpPr/>
          <p:nvPr/>
        </p:nvSpPr>
        <p:spPr>
          <a:xfrm>
            <a:off x="4740120" y="3576600"/>
            <a:ext cx="59040" cy="58680"/>
          </a:xfrm>
          <a:prstGeom prst="rect">
            <a:avLst/>
          </a:prstGeom>
          <a:solidFill>
            <a:srgbClr val="000099"/>
          </a:solidFill>
          <a:ln w="0">
            <a:solidFill>
              <a:srgbClr val="00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6948"/>
          <p:cNvSpPr/>
          <p:nvPr/>
        </p:nvSpPr>
        <p:spPr>
          <a:xfrm>
            <a:off x="4768920" y="3524400"/>
            <a:ext cx="58680" cy="58680"/>
          </a:xfrm>
          <a:prstGeom prst="rect">
            <a:avLst/>
          </a:prstGeom>
          <a:solidFill>
            <a:srgbClr val="000099"/>
          </a:solidFill>
          <a:ln w="0">
            <a:solidFill>
              <a:srgbClr val="00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6949"/>
          <p:cNvSpPr/>
          <p:nvPr/>
        </p:nvSpPr>
        <p:spPr>
          <a:xfrm>
            <a:off x="4842000" y="3787920"/>
            <a:ext cx="56880" cy="58680"/>
          </a:xfrm>
          <a:prstGeom prst="rect">
            <a:avLst/>
          </a:prstGeom>
          <a:solidFill>
            <a:srgbClr val="000099"/>
          </a:solidFill>
          <a:ln w="0">
            <a:solidFill>
              <a:srgbClr val="00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6950"/>
          <p:cNvSpPr/>
          <p:nvPr/>
        </p:nvSpPr>
        <p:spPr>
          <a:xfrm>
            <a:off x="4951440" y="3801960"/>
            <a:ext cx="58680" cy="58680"/>
          </a:xfrm>
          <a:prstGeom prst="rect">
            <a:avLst/>
          </a:prstGeom>
          <a:solidFill>
            <a:srgbClr val="000099"/>
          </a:solidFill>
          <a:ln w="0">
            <a:solidFill>
              <a:srgbClr val="00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6951"/>
          <p:cNvSpPr/>
          <p:nvPr/>
        </p:nvSpPr>
        <p:spPr>
          <a:xfrm>
            <a:off x="5062680" y="3544920"/>
            <a:ext cx="58680" cy="58680"/>
          </a:xfrm>
          <a:prstGeom prst="rect">
            <a:avLst/>
          </a:prstGeom>
          <a:solidFill>
            <a:srgbClr val="000099"/>
          </a:solidFill>
          <a:ln w="0">
            <a:solidFill>
              <a:srgbClr val="00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6952"/>
          <p:cNvSpPr/>
          <p:nvPr/>
        </p:nvSpPr>
        <p:spPr>
          <a:xfrm>
            <a:off x="5241960" y="3808440"/>
            <a:ext cx="58680" cy="58680"/>
          </a:xfrm>
          <a:prstGeom prst="rect">
            <a:avLst/>
          </a:prstGeom>
          <a:solidFill>
            <a:srgbClr val="000099"/>
          </a:solidFill>
          <a:ln w="0">
            <a:solidFill>
              <a:srgbClr val="00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6953"/>
          <p:cNvSpPr/>
          <p:nvPr/>
        </p:nvSpPr>
        <p:spPr>
          <a:xfrm>
            <a:off x="5349960" y="3614760"/>
            <a:ext cx="58680" cy="58680"/>
          </a:xfrm>
          <a:prstGeom prst="rect">
            <a:avLst/>
          </a:prstGeom>
          <a:solidFill>
            <a:srgbClr val="000099"/>
          </a:solidFill>
          <a:ln w="0">
            <a:solidFill>
              <a:srgbClr val="00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6954"/>
          <p:cNvSpPr/>
          <p:nvPr/>
        </p:nvSpPr>
        <p:spPr>
          <a:xfrm>
            <a:off x="5423040" y="3666960"/>
            <a:ext cx="58680" cy="57240"/>
          </a:xfrm>
          <a:prstGeom prst="rect">
            <a:avLst/>
          </a:prstGeom>
          <a:solidFill>
            <a:srgbClr val="000099"/>
          </a:solidFill>
          <a:ln w="0">
            <a:solidFill>
              <a:srgbClr val="00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6955"/>
          <p:cNvSpPr/>
          <p:nvPr/>
        </p:nvSpPr>
        <p:spPr>
          <a:xfrm>
            <a:off x="5567400" y="3527280"/>
            <a:ext cx="58680" cy="59040"/>
          </a:xfrm>
          <a:prstGeom prst="rect">
            <a:avLst/>
          </a:prstGeom>
          <a:solidFill>
            <a:srgbClr val="000099"/>
          </a:solidFill>
          <a:ln w="0">
            <a:solidFill>
              <a:srgbClr val="00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6956"/>
          <p:cNvSpPr/>
          <p:nvPr/>
        </p:nvSpPr>
        <p:spPr>
          <a:xfrm>
            <a:off x="5637240" y="3367080"/>
            <a:ext cx="58680" cy="58680"/>
          </a:xfrm>
          <a:prstGeom prst="rect">
            <a:avLst/>
          </a:prstGeom>
          <a:solidFill>
            <a:srgbClr val="000099"/>
          </a:solidFill>
          <a:ln w="0">
            <a:solidFill>
              <a:srgbClr val="00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6957"/>
          <p:cNvSpPr/>
          <p:nvPr/>
        </p:nvSpPr>
        <p:spPr>
          <a:xfrm>
            <a:off x="6045120" y="3703680"/>
            <a:ext cx="58680" cy="58680"/>
          </a:xfrm>
          <a:prstGeom prst="rect">
            <a:avLst/>
          </a:prstGeom>
          <a:solidFill>
            <a:srgbClr val="000099"/>
          </a:solidFill>
          <a:ln w="0">
            <a:solidFill>
              <a:srgbClr val="00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6958"/>
          <p:cNvSpPr/>
          <p:nvPr/>
        </p:nvSpPr>
        <p:spPr>
          <a:xfrm>
            <a:off x="6237360" y="3751200"/>
            <a:ext cx="58680" cy="58680"/>
          </a:xfrm>
          <a:prstGeom prst="rect">
            <a:avLst/>
          </a:prstGeom>
          <a:solidFill>
            <a:srgbClr val="000099"/>
          </a:solidFill>
          <a:ln w="0">
            <a:solidFill>
              <a:srgbClr val="00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6960"/>
          <p:cNvSpPr/>
          <p:nvPr/>
        </p:nvSpPr>
        <p:spPr>
          <a:xfrm flipV="1">
            <a:off x="6502320" y="1864800"/>
            <a:ext cx="1800" cy="2806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6961"/>
          <p:cNvSpPr/>
          <p:nvPr/>
        </p:nvSpPr>
        <p:spPr>
          <a:xfrm flipH="1">
            <a:off x="6502320" y="4672080"/>
            <a:ext cx="3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6962"/>
          <p:cNvSpPr/>
          <p:nvPr/>
        </p:nvSpPr>
        <p:spPr>
          <a:xfrm flipH="1">
            <a:off x="6502320" y="4322880"/>
            <a:ext cx="3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6963"/>
          <p:cNvSpPr/>
          <p:nvPr/>
        </p:nvSpPr>
        <p:spPr>
          <a:xfrm flipH="1">
            <a:off x="6502320" y="3971880"/>
            <a:ext cx="39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6964"/>
          <p:cNvSpPr/>
          <p:nvPr/>
        </p:nvSpPr>
        <p:spPr>
          <a:xfrm flipH="1">
            <a:off x="6502320" y="3621240"/>
            <a:ext cx="3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6965"/>
          <p:cNvSpPr/>
          <p:nvPr/>
        </p:nvSpPr>
        <p:spPr>
          <a:xfrm flipH="1">
            <a:off x="6502320" y="3268800"/>
            <a:ext cx="3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6966"/>
          <p:cNvSpPr/>
          <p:nvPr/>
        </p:nvSpPr>
        <p:spPr>
          <a:xfrm flipH="1">
            <a:off x="6502320" y="2917800"/>
            <a:ext cx="3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6967"/>
          <p:cNvSpPr/>
          <p:nvPr/>
        </p:nvSpPr>
        <p:spPr>
          <a:xfrm flipH="1">
            <a:off x="6502320" y="2567160"/>
            <a:ext cx="3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6968"/>
          <p:cNvSpPr/>
          <p:nvPr/>
        </p:nvSpPr>
        <p:spPr>
          <a:xfrm flipH="1">
            <a:off x="6502320" y="2214720"/>
            <a:ext cx="3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6969"/>
          <p:cNvSpPr/>
          <p:nvPr/>
        </p:nvSpPr>
        <p:spPr>
          <a:xfrm flipH="1">
            <a:off x="6502320" y="1865160"/>
            <a:ext cx="39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6988"/>
          <p:cNvSpPr/>
          <p:nvPr/>
        </p:nvSpPr>
        <p:spPr>
          <a:xfrm flipV="1">
            <a:off x="2979720" y="2638800"/>
            <a:ext cx="3286080" cy="1925640"/>
          </a:xfrm>
          <a:custGeom>
            <a:avLst/>
            <a:gdLst>
              <a:gd name="textAreaLeft" fmla="*/ 0 w 3286080"/>
              <a:gd name="textAreaRight" fmla="*/ 3286440 w 3286080"/>
              <a:gd name="textAreaTop" fmla="*/ 0 h 1925640"/>
              <a:gd name="textAreaBottom" fmla="*/ 1925640 h 1925640"/>
            </a:gdLst>
            <a:ahLst/>
            <a:rect l="textAreaLeft" t="textAreaTop" r="textAreaRight" b="textAreaBottom"/>
            <a:pathLst>
              <a:path w="4147" h="2431">
                <a:moveTo>
                  <a:pt x="0" y="2431"/>
                </a:moveTo>
                <a:lnTo>
                  <a:pt x="79" y="717"/>
                </a:lnTo>
                <a:lnTo>
                  <a:pt x="199" y="0"/>
                </a:lnTo>
                <a:lnTo>
                  <a:pt x="302" y="0"/>
                </a:lnTo>
                <a:lnTo>
                  <a:pt x="470" y="0"/>
                </a:lnTo>
                <a:lnTo>
                  <a:pt x="634" y="0"/>
                </a:lnTo>
                <a:lnTo>
                  <a:pt x="765" y="0"/>
                </a:lnTo>
                <a:lnTo>
                  <a:pt x="1039" y="443"/>
                </a:lnTo>
                <a:lnTo>
                  <a:pt x="1182" y="0"/>
                </a:lnTo>
                <a:lnTo>
                  <a:pt x="1347" y="0"/>
                </a:lnTo>
                <a:lnTo>
                  <a:pt x="1536" y="0"/>
                </a:lnTo>
                <a:lnTo>
                  <a:pt x="1678" y="0"/>
                </a:lnTo>
                <a:lnTo>
                  <a:pt x="1801" y="176"/>
                </a:lnTo>
                <a:lnTo>
                  <a:pt x="1965" y="0"/>
                </a:lnTo>
                <a:lnTo>
                  <a:pt x="2064" y="0"/>
                </a:lnTo>
                <a:lnTo>
                  <a:pt x="2260" y="0"/>
                </a:lnTo>
                <a:lnTo>
                  <a:pt x="2387" y="0"/>
                </a:lnTo>
                <a:lnTo>
                  <a:pt x="2527" y="0"/>
                </a:lnTo>
                <a:lnTo>
                  <a:pt x="2667" y="254"/>
                </a:lnTo>
                <a:lnTo>
                  <a:pt x="2892" y="0"/>
                </a:lnTo>
                <a:lnTo>
                  <a:pt x="3028" y="0"/>
                </a:lnTo>
                <a:lnTo>
                  <a:pt x="3121" y="0"/>
                </a:lnTo>
                <a:lnTo>
                  <a:pt x="3302" y="0"/>
                </a:lnTo>
                <a:lnTo>
                  <a:pt x="3391" y="0"/>
                </a:lnTo>
                <a:lnTo>
                  <a:pt x="3906" y="0"/>
                </a:lnTo>
                <a:lnTo>
                  <a:pt x="4147" y="0"/>
                </a:lnTo>
              </a:path>
            </a:pathLst>
          </a:custGeom>
          <a:noFill/>
          <a:ln w="0">
            <a:solidFill>
              <a:srgbClr val="f417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6989"/>
          <p:cNvSpPr/>
          <p:nvPr/>
        </p:nvSpPr>
        <p:spPr>
          <a:xfrm>
            <a:off x="2946240" y="2606760"/>
            <a:ext cx="66960" cy="66600"/>
          </a:xfrm>
          <a:prstGeom prst="ellipse">
            <a:avLst/>
          </a:prstGeom>
          <a:solidFill>
            <a:srgbClr val="f41700"/>
          </a:solidFill>
          <a:ln w="0">
            <a:solidFill>
              <a:srgbClr val="f417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16990"/>
          <p:cNvSpPr/>
          <p:nvPr/>
        </p:nvSpPr>
        <p:spPr>
          <a:xfrm>
            <a:off x="3008160" y="3965400"/>
            <a:ext cx="68400" cy="66960"/>
          </a:xfrm>
          <a:prstGeom prst="ellipse">
            <a:avLst/>
          </a:prstGeom>
          <a:solidFill>
            <a:srgbClr val="f41700"/>
          </a:solidFill>
          <a:ln w="0">
            <a:solidFill>
              <a:srgbClr val="f417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16991"/>
          <p:cNvSpPr/>
          <p:nvPr/>
        </p:nvSpPr>
        <p:spPr>
          <a:xfrm>
            <a:off x="3102120" y="4532400"/>
            <a:ext cx="68040" cy="66600"/>
          </a:xfrm>
          <a:prstGeom prst="ellipse">
            <a:avLst/>
          </a:prstGeom>
          <a:solidFill>
            <a:srgbClr val="f41700"/>
          </a:solidFill>
          <a:ln w="0">
            <a:solidFill>
              <a:srgbClr val="f417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16992"/>
          <p:cNvSpPr/>
          <p:nvPr/>
        </p:nvSpPr>
        <p:spPr>
          <a:xfrm>
            <a:off x="3184560" y="4532400"/>
            <a:ext cx="66600" cy="66600"/>
          </a:xfrm>
          <a:prstGeom prst="ellipse">
            <a:avLst/>
          </a:prstGeom>
          <a:solidFill>
            <a:srgbClr val="f41700"/>
          </a:solidFill>
          <a:ln w="0">
            <a:solidFill>
              <a:srgbClr val="f417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16993"/>
          <p:cNvSpPr/>
          <p:nvPr/>
        </p:nvSpPr>
        <p:spPr>
          <a:xfrm>
            <a:off x="3317760" y="4532400"/>
            <a:ext cx="66960" cy="66600"/>
          </a:xfrm>
          <a:prstGeom prst="ellipse">
            <a:avLst/>
          </a:prstGeom>
          <a:solidFill>
            <a:srgbClr val="f41700"/>
          </a:solidFill>
          <a:ln w="0">
            <a:solidFill>
              <a:srgbClr val="f417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16994"/>
          <p:cNvSpPr/>
          <p:nvPr/>
        </p:nvSpPr>
        <p:spPr>
          <a:xfrm>
            <a:off x="3446640" y="4532400"/>
            <a:ext cx="68040" cy="66600"/>
          </a:xfrm>
          <a:prstGeom prst="ellipse">
            <a:avLst/>
          </a:prstGeom>
          <a:solidFill>
            <a:srgbClr val="f41700"/>
          </a:solidFill>
          <a:ln w="0">
            <a:solidFill>
              <a:srgbClr val="f417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16995"/>
          <p:cNvSpPr/>
          <p:nvPr/>
        </p:nvSpPr>
        <p:spPr>
          <a:xfrm>
            <a:off x="3551400" y="4532400"/>
            <a:ext cx="66600" cy="66600"/>
          </a:xfrm>
          <a:prstGeom prst="ellipse">
            <a:avLst/>
          </a:prstGeom>
          <a:solidFill>
            <a:srgbClr val="f41700"/>
          </a:solidFill>
          <a:ln w="0">
            <a:solidFill>
              <a:srgbClr val="f417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16996"/>
          <p:cNvSpPr/>
          <p:nvPr/>
        </p:nvSpPr>
        <p:spPr>
          <a:xfrm>
            <a:off x="3768840" y="4183200"/>
            <a:ext cx="66600" cy="66600"/>
          </a:xfrm>
          <a:prstGeom prst="ellipse">
            <a:avLst/>
          </a:prstGeom>
          <a:solidFill>
            <a:srgbClr val="f41700"/>
          </a:solidFill>
          <a:ln w="0">
            <a:solidFill>
              <a:srgbClr val="f417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16997"/>
          <p:cNvSpPr/>
          <p:nvPr/>
        </p:nvSpPr>
        <p:spPr>
          <a:xfrm>
            <a:off x="3881520" y="4532400"/>
            <a:ext cx="68040" cy="66600"/>
          </a:xfrm>
          <a:prstGeom prst="ellipse">
            <a:avLst/>
          </a:prstGeom>
          <a:solidFill>
            <a:srgbClr val="f41700"/>
          </a:solidFill>
          <a:ln w="0">
            <a:solidFill>
              <a:srgbClr val="f417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16998"/>
          <p:cNvSpPr/>
          <p:nvPr/>
        </p:nvSpPr>
        <p:spPr>
          <a:xfrm>
            <a:off x="4013280" y="4532400"/>
            <a:ext cx="66600" cy="66600"/>
          </a:xfrm>
          <a:prstGeom prst="ellipse">
            <a:avLst/>
          </a:prstGeom>
          <a:solidFill>
            <a:srgbClr val="f41700"/>
          </a:solidFill>
          <a:ln w="0">
            <a:solidFill>
              <a:srgbClr val="f417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16999"/>
          <p:cNvSpPr/>
          <p:nvPr/>
        </p:nvSpPr>
        <p:spPr>
          <a:xfrm>
            <a:off x="4162320" y="4532400"/>
            <a:ext cx="66960" cy="66600"/>
          </a:xfrm>
          <a:prstGeom prst="ellipse">
            <a:avLst/>
          </a:prstGeom>
          <a:solidFill>
            <a:srgbClr val="f41700"/>
          </a:solidFill>
          <a:ln w="0">
            <a:solidFill>
              <a:srgbClr val="f417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17000"/>
          <p:cNvSpPr/>
          <p:nvPr/>
        </p:nvSpPr>
        <p:spPr>
          <a:xfrm>
            <a:off x="4275000" y="4532400"/>
            <a:ext cx="66960" cy="66600"/>
          </a:xfrm>
          <a:prstGeom prst="ellipse">
            <a:avLst/>
          </a:prstGeom>
          <a:solidFill>
            <a:srgbClr val="f41700"/>
          </a:solidFill>
          <a:ln w="0">
            <a:solidFill>
              <a:srgbClr val="f417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17001"/>
          <p:cNvSpPr/>
          <p:nvPr/>
        </p:nvSpPr>
        <p:spPr>
          <a:xfrm>
            <a:off x="4371840" y="4394160"/>
            <a:ext cx="68400" cy="68400"/>
          </a:xfrm>
          <a:prstGeom prst="ellipse">
            <a:avLst/>
          </a:prstGeom>
          <a:solidFill>
            <a:srgbClr val="f41700"/>
          </a:solidFill>
          <a:ln w="0">
            <a:solidFill>
              <a:srgbClr val="f417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17002"/>
          <p:cNvSpPr/>
          <p:nvPr/>
        </p:nvSpPr>
        <p:spPr>
          <a:xfrm>
            <a:off x="4502160" y="4532400"/>
            <a:ext cx="68400" cy="66600"/>
          </a:xfrm>
          <a:prstGeom prst="ellipse">
            <a:avLst/>
          </a:prstGeom>
          <a:solidFill>
            <a:srgbClr val="f41700"/>
          </a:solidFill>
          <a:ln w="0">
            <a:solidFill>
              <a:srgbClr val="f417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17003"/>
          <p:cNvSpPr/>
          <p:nvPr/>
        </p:nvSpPr>
        <p:spPr>
          <a:xfrm>
            <a:off x="4581360" y="4532400"/>
            <a:ext cx="66960" cy="66600"/>
          </a:xfrm>
          <a:prstGeom prst="ellipse">
            <a:avLst/>
          </a:prstGeom>
          <a:solidFill>
            <a:srgbClr val="f41700"/>
          </a:solidFill>
          <a:ln w="0">
            <a:solidFill>
              <a:srgbClr val="f417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17004"/>
          <p:cNvSpPr/>
          <p:nvPr/>
        </p:nvSpPr>
        <p:spPr>
          <a:xfrm>
            <a:off x="4737240" y="4532400"/>
            <a:ext cx="66600" cy="66600"/>
          </a:xfrm>
          <a:prstGeom prst="ellipse">
            <a:avLst/>
          </a:prstGeom>
          <a:solidFill>
            <a:srgbClr val="f41700"/>
          </a:solidFill>
          <a:ln w="0">
            <a:solidFill>
              <a:srgbClr val="f417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17005"/>
          <p:cNvSpPr/>
          <p:nvPr/>
        </p:nvSpPr>
        <p:spPr>
          <a:xfrm>
            <a:off x="4836960" y="4532400"/>
            <a:ext cx="66960" cy="66600"/>
          </a:xfrm>
          <a:prstGeom prst="ellipse">
            <a:avLst/>
          </a:prstGeom>
          <a:solidFill>
            <a:srgbClr val="f41700"/>
          </a:solidFill>
          <a:ln w="0">
            <a:solidFill>
              <a:srgbClr val="f417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17006"/>
          <p:cNvSpPr/>
          <p:nvPr/>
        </p:nvSpPr>
        <p:spPr>
          <a:xfrm>
            <a:off x="4948200" y="4532400"/>
            <a:ext cx="66600" cy="66600"/>
          </a:xfrm>
          <a:prstGeom prst="ellipse">
            <a:avLst/>
          </a:prstGeom>
          <a:solidFill>
            <a:srgbClr val="f41700"/>
          </a:solidFill>
          <a:ln w="0">
            <a:solidFill>
              <a:srgbClr val="f417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17007"/>
          <p:cNvSpPr/>
          <p:nvPr/>
        </p:nvSpPr>
        <p:spPr>
          <a:xfrm>
            <a:off x="5059440" y="4332240"/>
            <a:ext cx="66600" cy="68400"/>
          </a:xfrm>
          <a:prstGeom prst="ellipse">
            <a:avLst/>
          </a:prstGeom>
          <a:solidFill>
            <a:srgbClr val="f41700"/>
          </a:solidFill>
          <a:ln w="0">
            <a:solidFill>
              <a:srgbClr val="f417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17008"/>
          <p:cNvSpPr/>
          <p:nvPr/>
        </p:nvSpPr>
        <p:spPr>
          <a:xfrm>
            <a:off x="5237280" y="4532400"/>
            <a:ext cx="68040" cy="66600"/>
          </a:xfrm>
          <a:prstGeom prst="ellipse">
            <a:avLst/>
          </a:prstGeom>
          <a:solidFill>
            <a:srgbClr val="f41700"/>
          </a:solidFill>
          <a:ln w="0">
            <a:solidFill>
              <a:srgbClr val="f417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7009"/>
          <p:cNvSpPr/>
          <p:nvPr/>
        </p:nvSpPr>
        <p:spPr>
          <a:xfrm>
            <a:off x="5345280" y="4532400"/>
            <a:ext cx="68040" cy="66600"/>
          </a:xfrm>
          <a:prstGeom prst="ellipse">
            <a:avLst/>
          </a:prstGeom>
          <a:solidFill>
            <a:srgbClr val="f41700"/>
          </a:solidFill>
          <a:ln w="0">
            <a:solidFill>
              <a:srgbClr val="f417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17010"/>
          <p:cNvSpPr/>
          <p:nvPr/>
        </p:nvSpPr>
        <p:spPr>
          <a:xfrm>
            <a:off x="5419800" y="4532400"/>
            <a:ext cx="66600" cy="66600"/>
          </a:xfrm>
          <a:prstGeom prst="ellipse">
            <a:avLst/>
          </a:prstGeom>
          <a:solidFill>
            <a:srgbClr val="f41700"/>
          </a:solidFill>
          <a:ln w="0">
            <a:solidFill>
              <a:srgbClr val="f417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17011"/>
          <p:cNvSpPr/>
          <p:nvPr/>
        </p:nvSpPr>
        <p:spPr>
          <a:xfrm>
            <a:off x="5562720" y="4532400"/>
            <a:ext cx="68040" cy="66600"/>
          </a:xfrm>
          <a:prstGeom prst="ellipse">
            <a:avLst/>
          </a:prstGeom>
          <a:solidFill>
            <a:srgbClr val="f41700"/>
          </a:solidFill>
          <a:ln w="0">
            <a:solidFill>
              <a:srgbClr val="f417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17012"/>
          <p:cNvSpPr/>
          <p:nvPr/>
        </p:nvSpPr>
        <p:spPr>
          <a:xfrm>
            <a:off x="5632560" y="4532400"/>
            <a:ext cx="68040" cy="66600"/>
          </a:xfrm>
          <a:prstGeom prst="ellipse">
            <a:avLst/>
          </a:prstGeom>
          <a:solidFill>
            <a:srgbClr val="f41700"/>
          </a:solidFill>
          <a:ln w="0">
            <a:solidFill>
              <a:srgbClr val="f417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17013"/>
          <p:cNvSpPr/>
          <p:nvPr/>
        </p:nvSpPr>
        <p:spPr>
          <a:xfrm>
            <a:off x="6041880" y="4532400"/>
            <a:ext cx="66960" cy="66600"/>
          </a:xfrm>
          <a:prstGeom prst="ellipse">
            <a:avLst/>
          </a:prstGeom>
          <a:solidFill>
            <a:srgbClr val="f41700"/>
          </a:solidFill>
          <a:ln w="0">
            <a:solidFill>
              <a:srgbClr val="f417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7014"/>
          <p:cNvSpPr/>
          <p:nvPr/>
        </p:nvSpPr>
        <p:spPr>
          <a:xfrm>
            <a:off x="6232680" y="4532400"/>
            <a:ext cx="68040" cy="66600"/>
          </a:xfrm>
          <a:prstGeom prst="ellipse">
            <a:avLst/>
          </a:prstGeom>
          <a:solidFill>
            <a:srgbClr val="f41700"/>
          </a:solidFill>
          <a:ln w="0">
            <a:solidFill>
              <a:srgbClr val="f417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6704"/>
          <p:cNvSpPr/>
          <p:nvPr/>
        </p:nvSpPr>
        <p:spPr>
          <a:xfrm rot="16200000">
            <a:off x="6406200" y="3155040"/>
            <a:ext cx="168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1700"/>
                </a:solidFill>
                <a:latin typeface="Arial"/>
                <a:ea typeface="MS PGothic"/>
              </a:rPr>
              <a:t>RNA copies/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6716"/>
          <p:cNvSpPr/>
          <p:nvPr/>
        </p:nvSpPr>
        <p:spPr>
          <a:xfrm>
            <a:off x="6612840" y="45752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6717"/>
          <p:cNvSpPr/>
          <p:nvPr/>
        </p:nvSpPr>
        <p:spPr>
          <a:xfrm>
            <a:off x="6807960" y="45482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6718"/>
          <p:cNvSpPr/>
          <p:nvPr/>
        </p:nvSpPr>
        <p:spPr>
          <a:xfrm>
            <a:off x="6612840" y="42642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6719"/>
          <p:cNvSpPr/>
          <p:nvPr/>
        </p:nvSpPr>
        <p:spPr>
          <a:xfrm>
            <a:off x="6807960" y="4237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6720"/>
          <p:cNvSpPr/>
          <p:nvPr/>
        </p:nvSpPr>
        <p:spPr>
          <a:xfrm>
            <a:off x="6612840" y="39513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6721"/>
          <p:cNvSpPr/>
          <p:nvPr/>
        </p:nvSpPr>
        <p:spPr>
          <a:xfrm>
            <a:off x="6807960" y="39243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6722"/>
          <p:cNvSpPr/>
          <p:nvPr/>
        </p:nvSpPr>
        <p:spPr>
          <a:xfrm>
            <a:off x="6612840" y="36385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6723"/>
          <p:cNvSpPr/>
          <p:nvPr/>
        </p:nvSpPr>
        <p:spPr>
          <a:xfrm>
            <a:off x="6807960" y="36115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6724"/>
          <p:cNvSpPr/>
          <p:nvPr/>
        </p:nvSpPr>
        <p:spPr>
          <a:xfrm>
            <a:off x="6612840" y="332748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6725"/>
          <p:cNvSpPr/>
          <p:nvPr/>
        </p:nvSpPr>
        <p:spPr>
          <a:xfrm>
            <a:off x="6807960" y="33019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6726"/>
          <p:cNvSpPr/>
          <p:nvPr/>
        </p:nvSpPr>
        <p:spPr>
          <a:xfrm>
            <a:off x="6613560" y="301608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6727"/>
          <p:cNvSpPr/>
          <p:nvPr/>
        </p:nvSpPr>
        <p:spPr>
          <a:xfrm>
            <a:off x="6807960" y="29894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6728"/>
          <p:cNvSpPr/>
          <p:nvPr/>
        </p:nvSpPr>
        <p:spPr>
          <a:xfrm>
            <a:off x="6613560" y="27050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6729"/>
          <p:cNvSpPr/>
          <p:nvPr/>
        </p:nvSpPr>
        <p:spPr>
          <a:xfrm>
            <a:off x="6807960" y="26780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6730"/>
          <p:cNvSpPr/>
          <p:nvPr/>
        </p:nvSpPr>
        <p:spPr>
          <a:xfrm>
            <a:off x="6613560" y="23922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6731"/>
          <p:cNvSpPr/>
          <p:nvPr/>
        </p:nvSpPr>
        <p:spPr>
          <a:xfrm>
            <a:off x="6807960" y="2365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6732"/>
          <p:cNvSpPr/>
          <p:nvPr/>
        </p:nvSpPr>
        <p:spPr>
          <a:xfrm>
            <a:off x="6612840" y="20797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6733"/>
          <p:cNvSpPr/>
          <p:nvPr/>
        </p:nvSpPr>
        <p:spPr>
          <a:xfrm>
            <a:off x="6807960" y="20527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6734"/>
          <p:cNvSpPr/>
          <p:nvPr/>
        </p:nvSpPr>
        <p:spPr>
          <a:xfrm>
            <a:off x="6612840" y="17683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6735"/>
          <p:cNvSpPr/>
          <p:nvPr/>
        </p:nvSpPr>
        <p:spPr>
          <a:xfrm>
            <a:off x="6807960" y="17413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ZoneTexte 5112"/>
          <p:cNvSpPr/>
          <p:nvPr/>
        </p:nvSpPr>
        <p:spPr>
          <a:xfrm>
            <a:off x="3881160" y="1413000"/>
            <a:ext cx="13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MS PGothic"/>
              </a:rPr>
              <a:t>VisORA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Line 1811"/>
          <p:cNvSpPr/>
          <p:nvPr/>
        </p:nvSpPr>
        <p:spPr>
          <a:xfrm>
            <a:off x="2004840" y="5308560"/>
            <a:ext cx="5445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812"/>
          <p:cNvSpPr/>
          <p:nvPr/>
        </p:nvSpPr>
        <p:spPr>
          <a:xfrm flipV="1">
            <a:off x="2870280" y="5308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813"/>
          <p:cNvSpPr/>
          <p:nvPr/>
        </p:nvSpPr>
        <p:spPr>
          <a:xfrm flipV="1">
            <a:off x="4108320" y="530856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814"/>
          <p:cNvSpPr/>
          <p:nvPr/>
        </p:nvSpPr>
        <p:spPr>
          <a:xfrm flipV="1">
            <a:off x="5345280" y="5308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816"/>
          <p:cNvSpPr/>
          <p:nvPr/>
        </p:nvSpPr>
        <p:spPr>
          <a:xfrm rot="19506600">
            <a:off x="2052360" y="5769360"/>
            <a:ext cx="1095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Chronic HI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817"/>
          <p:cNvSpPr/>
          <p:nvPr/>
        </p:nvSpPr>
        <p:spPr>
          <a:xfrm rot="19506000">
            <a:off x="3339360" y="5768640"/>
            <a:ext cx="915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Acute HI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818"/>
          <p:cNvSpPr/>
          <p:nvPr/>
        </p:nvSpPr>
        <p:spPr>
          <a:xfrm rot="19510200">
            <a:off x="4145040" y="5769000"/>
            <a:ext cx="139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Elite controll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820"/>
          <p:cNvSpPr/>
          <p:nvPr/>
        </p:nvSpPr>
        <p:spPr>
          <a:xfrm>
            <a:off x="2004840" y="1389240"/>
            <a:ext cx="5445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821"/>
          <p:cNvSpPr/>
          <p:nvPr/>
        </p:nvSpPr>
        <p:spPr>
          <a:xfrm rot="16200000">
            <a:off x="556560" y="3263400"/>
            <a:ext cx="1503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MS PGothic"/>
              </a:rPr>
              <a:t>% of patien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822"/>
          <p:cNvSpPr/>
          <p:nvPr/>
        </p:nvSpPr>
        <p:spPr>
          <a:xfrm flipV="1">
            <a:off x="2004840" y="1388880"/>
            <a:ext cx="1800" cy="391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823"/>
          <p:cNvSpPr/>
          <p:nvPr/>
        </p:nvSpPr>
        <p:spPr>
          <a:xfrm>
            <a:off x="1949400" y="5308560"/>
            <a:ext cx="55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824"/>
          <p:cNvSpPr/>
          <p:nvPr/>
        </p:nvSpPr>
        <p:spPr>
          <a:xfrm>
            <a:off x="1949400" y="4329000"/>
            <a:ext cx="55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1825"/>
          <p:cNvSpPr/>
          <p:nvPr/>
        </p:nvSpPr>
        <p:spPr>
          <a:xfrm>
            <a:off x="1949400" y="3348000"/>
            <a:ext cx="55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826"/>
          <p:cNvSpPr/>
          <p:nvPr/>
        </p:nvSpPr>
        <p:spPr>
          <a:xfrm>
            <a:off x="1949400" y="2368440"/>
            <a:ext cx="55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827"/>
          <p:cNvSpPr/>
          <p:nvPr/>
        </p:nvSpPr>
        <p:spPr>
          <a:xfrm>
            <a:off x="1949400" y="1389240"/>
            <a:ext cx="55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828"/>
          <p:cNvSpPr/>
          <p:nvPr/>
        </p:nvSpPr>
        <p:spPr>
          <a:xfrm>
            <a:off x="1759680" y="518796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MS PGothic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829"/>
          <p:cNvSpPr/>
          <p:nvPr/>
        </p:nvSpPr>
        <p:spPr>
          <a:xfrm>
            <a:off x="1634040" y="420840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MS PGothic"/>
              </a:rPr>
              <a:t>2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830"/>
          <p:cNvSpPr/>
          <p:nvPr/>
        </p:nvSpPr>
        <p:spPr>
          <a:xfrm>
            <a:off x="1634040" y="322740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MS PGothic"/>
              </a:rPr>
              <a:t>4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831"/>
          <p:cNvSpPr/>
          <p:nvPr/>
        </p:nvSpPr>
        <p:spPr>
          <a:xfrm>
            <a:off x="1634040" y="224784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MS PGothic"/>
              </a:rPr>
              <a:t>6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832"/>
          <p:cNvSpPr/>
          <p:nvPr/>
        </p:nvSpPr>
        <p:spPr>
          <a:xfrm>
            <a:off x="1634040" y="126828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MS PGothic"/>
              </a:rPr>
              <a:t>8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1833"/>
          <p:cNvSpPr/>
          <p:nvPr/>
        </p:nvSpPr>
        <p:spPr>
          <a:xfrm flipV="1">
            <a:off x="7450200" y="1388880"/>
            <a:ext cx="1440" cy="391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834"/>
          <p:cNvSpPr/>
          <p:nvPr/>
        </p:nvSpPr>
        <p:spPr>
          <a:xfrm>
            <a:off x="2484360" y="4437000"/>
            <a:ext cx="743040" cy="866880"/>
          </a:xfrm>
          <a:prstGeom prst="rect">
            <a:avLst/>
          </a:prstGeom>
          <a:solidFill>
            <a:srgbClr val="cc20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836"/>
          <p:cNvSpPr/>
          <p:nvPr/>
        </p:nvSpPr>
        <p:spPr>
          <a:xfrm>
            <a:off x="3740040" y="4284720"/>
            <a:ext cx="741600" cy="1019160"/>
          </a:xfrm>
          <a:prstGeom prst="rect">
            <a:avLst/>
          </a:prstGeom>
          <a:solidFill>
            <a:srgbClr val="cc20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838"/>
          <p:cNvSpPr/>
          <p:nvPr/>
        </p:nvSpPr>
        <p:spPr>
          <a:xfrm>
            <a:off x="4981680" y="5195880"/>
            <a:ext cx="741240" cy="108000"/>
          </a:xfrm>
          <a:prstGeom prst="rect">
            <a:avLst/>
          </a:prstGeom>
          <a:solidFill>
            <a:srgbClr val="cc20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842"/>
          <p:cNvSpPr/>
          <p:nvPr/>
        </p:nvSpPr>
        <p:spPr>
          <a:xfrm>
            <a:off x="2484360" y="4064040"/>
            <a:ext cx="743040" cy="372960"/>
          </a:xfrm>
          <a:prstGeom prst="rect">
            <a:avLst/>
          </a:prstGeom>
          <a:solidFill>
            <a:srgbClr val="f56c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844"/>
          <p:cNvSpPr/>
          <p:nvPr/>
        </p:nvSpPr>
        <p:spPr>
          <a:xfrm>
            <a:off x="3740040" y="3965400"/>
            <a:ext cx="741600" cy="319320"/>
          </a:xfrm>
          <a:prstGeom prst="rect">
            <a:avLst/>
          </a:prstGeom>
          <a:solidFill>
            <a:srgbClr val="f56c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46"/>
          <p:cNvSpPr/>
          <p:nvPr/>
        </p:nvSpPr>
        <p:spPr>
          <a:xfrm>
            <a:off x="4981680" y="4305240"/>
            <a:ext cx="741240" cy="890640"/>
          </a:xfrm>
          <a:prstGeom prst="rect">
            <a:avLst/>
          </a:prstGeom>
          <a:solidFill>
            <a:srgbClr val="f56c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850"/>
          <p:cNvSpPr/>
          <p:nvPr/>
        </p:nvSpPr>
        <p:spPr>
          <a:xfrm>
            <a:off x="2484360" y="3794040"/>
            <a:ext cx="743040" cy="270000"/>
          </a:xfrm>
          <a:prstGeom prst="rect">
            <a:avLst/>
          </a:prstGeom>
          <a:solidFill>
            <a:srgbClr val="eca2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852"/>
          <p:cNvSpPr/>
          <p:nvPr/>
        </p:nvSpPr>
        <p:spPr>
          <a:xfrm>
            <a:off x="3740040" y="3740040"/>
            <a:ext cx="741600" cy="225360"/>
          </a:xfrm>
          <a:prstGeom prst="rect">
            <a:avLst/>
          </a:prstGeom>
          <a:solidFill>
            <a:srgbClr val="eca2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854"/>
          <p:cNvSpPr/>
          <p:nvPr/>
        </p:nvSpPr>
        <p:spPr>
          <a:xfrm>
            <a:off x="4981680" y="1633680"/>
            <a:ext cx="741240" cy="2671560"/>
          </a:xfrm>
          <a:prstGeom prst="rect">
            <a:avLst/>
          </a:prstGeom>
          <a:solidFill>
            <a:srgbClr val="eca2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815"/>
          <p:cNvSpPr/>
          <p:nvPr/>
        </p:nvSpPr>
        <p:spPr>
          <a:xfrm flipV="1">
            <a:off x="6583320" y="530856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819"/>
          <p:cNvSpPr/>
          <p:nvPr/>
        </p:nvSpPr>
        <p:spPr>
          <a:xfrm rot="19507200">
            <a:off x="5367960" y="5769000"/>
            <a:ext cx="186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ost ART controll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840"/>
          <p:cNvSpPr/>
          <p:nvPr/>
        </p:nvSpPr>
        <p:spPr>
          <a:xfrm>
            <a:off x="6218280" y="3265560"/>
            <a:ext cx="743040" cy="2038320"/>
          </a:xfrm>
          <a:prstGeom prst="rect">
            <a:avLst/>
          </a:prstGeom>
          <a:solidFill>
            <a:srgbClr val="cc20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848"/>
          <p:cNvSpPr/>
          <p:nvPr/>
        </p:nvSpPr>
        <p:spPr>
          <a:xfrm>
            <a:off x="6218280" y="2900520"/>
            <a:ext cx="743040" cy="365040"/>
          </a:xfrm>
          <a:prstGeom prst="rect">
            <a:avLst/>
          </a:prstGeom>
          <a:solidFill>
            <a:srgbClr val="f56c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856"/>
          <p:cNvSpPr/>
          <p:nvPr/>
        </p:nvSpPr>
        <p:spPr>
          <a:xfrm>
            <a:off x="6218280" y="2500200"/>
            <a:ext cx="743040" cy="392400"/>
          </a:xfrm>
          <a:prstGeom prst="rect">
            <a:avLst/>
          </a:prstGeom>
          <a:solidFill>
            <a:srgbClr val="eca2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1858"/>
          <p:cNvSpPr/>
          <p:nvPr/>
        </p:nvSpPr>
        <p:spPr>
          <a:xfrm>
            <a:off x="2004840" y="5308560"/>
            <a:ext cx="5445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1860"/>
          <p:cNvSpPr/>
          <p:nvPr/>
        </p:nvSpPr>
        <p:spPr>
          <a:xfrm>
            <a:off x="2719440" y="1736640"/>
            <a:ext cx="97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HLA B3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862"/>
          <p:cNvSpPr/>
          <p:nvPr/>
        </p:nvSpPr>
        <p:spPr>
          <a:xfrm>
            <a:off x="2281320" y="1773360"/>
            <a:ext cx="345960" cy="109440"/>
          </a:xfrm>
          <a:prstGeom prst="rect">
            <a:avLst/>
          </a:prstGeom>
          <a:solidFill>
            <a:srgbClr val="cc20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863"/>
          <p:cNvSpPr/>
          <p:nvPr/>
        </p:nvSpPr>
        <p:spPr>
          <a:xfrm>
            <a:off x="2719440" y="2066760"/>
            <a:ext cx="97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HLA B2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864"/>
          <p:cNvSpPr/>
          <p:nvPr/>
        </p:nvSpPr>
        <p:spPr>
          <a:xfrm>
            <a:off x="2281320" y="2114640"/>
            <a:ext cx="345960" cy="110880"/>
          </a:xfrm>
          <a:prstGeom prst="rect">
            <a:avLst/>
          </a:prstGeom>
          <a:solidFill>
            <a:srgbClr val="f56c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866"/>
          <p:cNvSpPr/>
          <p:nvPr/>
        </p:nvSpPr>
        <p:spPr>
          <a:xfrm>
            <a:off x="2719440" y="2398680"/>
            <a:ext cx="97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HLA B5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868"/>
          <p:cNvSpPr/>
          <p:nvPr/>
        </p:nvSpPr>
        <p:spPr>
          <a:xfrm>
            <a:off x="2281320" y="2457360"/>
            <a:ext cx="345960" cy="111240"/>
          </a:xfrm>
          <a:prstGeom prst="rect">
            <a:avLst/>
          </a:prstGeom>
          <a:solidFill>
            <a:srgbClr val="eca2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74"/>
          <p:cNvSpPr/>
          <p:nvPr/>
        </p:nvSpPr>
        <p:spPr>
          <a:xfrm>
            <a:off x="4846320" y="6491160"/>
            <a:ext cx="409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MS PGothic"/>
              </a:rPr>
              <a:t>Saez-Cirion et al,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Plos Pathogens 2013 (in pres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Arial"/>
              </a:rPr>
              <a:t>PTC do not have favorable HLA typ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3T23:37:43Z</dcterms:created>
  <dc:creator>Dept of Medicine</dc:creator>
  <dc:description/>
  <dc:language>en-US</dc:language>
  <cp:lastModifiedBy>Sharon Lewin</cp:lastModifiedBy>
  <dcterms:modified xsi:type="dcterms:W3CDTF">2013-01-10T12:13:36Z</dcterms:modified>
  <cp:revision>452</cp:revision>
  <dc:subject/>
  <dc:title>Slide 1</dc:title>
</cp:coreProperties>
</file>